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5.wmf" ContentType="image/x-wmf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whoosh.wav" ContentType="audio/x-wav"/>
  <Override PartName="/ppt/media/image9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A3F1-97EA-4F0E-851A-0863576FF8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AND ANG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N PU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IX-”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NO 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form a line (sum=180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6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+8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7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+5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+2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+4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+3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+1=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Angles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8 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occupy corresponding pos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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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8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outside parallel lines on opposit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Ex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lie between parallel lines on the same sides of the 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5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+6 =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cutive Interior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 - 1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 that do not inters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      l || m                   AB ||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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 YOU  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ood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ides of windows, des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slots in parking 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aralle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LINE A and LINE B Are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Lines that intersect to form a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: m  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act: 4 right angles are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of Perpendicular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 panes : The Window Pane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NDICULAR to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: a line that intersects two lines at differen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gles that are opposite an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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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= 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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measures of the missing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 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493-7EEC-4D84-BC01-A9620F74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061-5E52-4188-9CF3-105BF627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CA0-EA9F-4730-8C78-9259A6AB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8F4-B684-4BD2-B88A-E30637FC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E845-DABF-4E4D-B8F1-F8C35A36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C685-FB7D-4C08-915B-81358599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A0B2-055B-4032-85D9-F6D08B69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7C14-A2E3-495F-B154-80D8D3BA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8CE9-8505-47B2-B059-E06DEE85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FE4C-9D20-4DA3-BE41-374E6530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4445-B361-4301-A69C-7AB74239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7D8-DCD6-4E9A-BF51-4B37BA9E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924B-5C51-408E-9ED1-9C53AD0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8438-FC3F-4D43-97E5-1143184D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2B66-E603-48C4-AD76-58CB15DF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1288-398E-4A0B-91C3-4F4EC0ED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FDF0-7F19-40AA-8505-50ABA9D0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52A0-7489-4E2F-90A9-571EB407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905D-3498-44B4-8746-128CEC27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F14B-60B8-42BD-8006-65EC6958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8578-BEBF-48A0-AB69-6F4BD2B5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39DAA-9FC9-4CC2-90F3-D91B1FEB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48C-6F6E-48ED-885A-6A2BEB2B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5E74-D9DF-4088-9427-8EDC3A4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F2BAE-04F0-40D8-BAA5-01ED749E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E9B9-20BE-46AE-9B0A-5DD43507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ADDA-2EF9-4F0B-BEA4-604B69DB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917F-1E13-4D4E-AC37-353FCE41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2FE9-54CC-4031-A233-419F11A1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DA3A-2249-4951-ABF6-35C00AAE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A3E0-C32F-451C-9A31-0077EBC4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AF7D-65B8-40C9-A75D-36F0A128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1EE5-5E34-4DCD-8436-9EE0EE9A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B17-50FF-4848-BDBB-039E9D9A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DD29-35CD-4E30-86E8-9EB9FE82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FC53-E183-4C7E-9DEC-AFF34571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D77A2-B255-4FC0-A4EE-6284310D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B8DE4-859B-4E31-BB19-201B14C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0D1B-CE21-43F9-81DA-7E228314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E101-8FD9-4802-AB1B-882E36A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DCD7-F821-414F-9356-D9CDF57A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4B775-1EFA-4310-8080-D69364F6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8474F-10B1-4BA5-81E7-8739A816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A315-14E0-4447-8E34-777B7C9E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1C5-6F73-4FED-B183-DDEBF822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AB84-75E6-45B1-A3DF-DA670B9B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C384-56F0-44F8-8B60-5DD697E0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9A8E0-E41E-4432-81A3-CA09F636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F8B84-4C2E-4C9C-9A9F-E2CA811C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1AAF-73F6-4F26-9A20-3305CD53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157F5-69AB-4876-BEEB-6AE25C03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183B7-9BD9-4CE8-92FA-D29E8B1D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5EB34-E10C-440C-AE7B-0676ADE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34026-0AF3-43CA-BFB6-E67480D0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186FB-DBA4-4C5B-958E-9594268E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2FB-F2A5-4FEB-8478-A31F5FE9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B41D8-5F21-4207-ACA4-7219EA8B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DEBA6-DCC6-4005-BD57-6CD50980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F77B5-E3C6-4642-A50D-5B6103EF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30D71-E922-4A0C-964D-B3AC763C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5C0B4-FD9C-4ACB-B3AA-CD3A82F0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5361-B88B-4758-A5B1-9C4B4815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11B6-E089-429E-AC09-215AEC6F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3D3F3-D08B-435A-9F26-01044BF5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D3558-15D1-49B9-80EA-16C2D894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9417-D7D0-4FD1-A0EE-FD1EE04D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E64-11AD-4CC9-A969-A74798F8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24DA-B55D-4F51-842E-AB020D3C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62795-3855-47DD-90B9-CCCDCED5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6327C-5CCB-4B85-AA96-6B0F8DBB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AA18-F7A9-4D56-9F24-E44EE5F6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6678-72F9-40DB-A272-41572865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D980B-4C90-41C1-B0F3-077C20F0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A9A2-9CF2-445A-9796-1F67C132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613EC-9492-4CCB-85DC-5A0033E3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85D27-17CC-4440-8DBF-DCC03EE1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375EE-45B2-46FD-ACB9-9CD8AE41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A17-342E-43AF-9BD9-012AF5B4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74E5A-0E9F-42E5-B527-AA7E27DC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D6B6E-58E1-452A-8B50-66F7D278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6F56-3086-4EE2-B8E5-11851B05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3CF16-F715-4617-9A20-8BE19D3A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B6A3C-9E6F-4FF7-BCBC-2D764075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1FC-D4E4-429A-8A27-27F95EA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5816-E971-41AD-82CB-635DF2FC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BB1C-F0D7-473C-8615-1C7EFF4036C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52F8-2E36-45BB-BE70-0B64C1594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E1CD-C798-484C-B9E0-21DFE2BEE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0F88-489E-41B7-A3C1-D77CD2734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8010-6C1B-4CF4-AFEA-4DEECCE4BDA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8D0F-F12E-4D8B-855C-10CD17DA3E3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89040" y="549360"/>
            <a:ext cx="8418600" cy="36622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3" descr=""/>
          <p:cNvPicPr/>
          <p:nvPr/>
        </p:nvPicPr>
        <p:blipFill>
          <a:blip r:embed="rId2"/>
          <a:stretch/>
        </p:blipFill>
        <p:spPr>
          <a:xfrm>
            <a:off x="1755720" y="4346640"/>
            <a:ext cx="7473960" cy="274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743040" y="1371600"/>
            <a:ext cx="18669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0"/>
          <p:cNvSpPr/>
          <p:nvPr/>
        </p:nvSpPr>
        <p:spPr>
          <a:xfrm>
            <a:off x="4191120" y="3429000"/>
            <a:ext cx="9903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form 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in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(sum=180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10" name="Group 18"/>
          <p:cNvGrpSpPr/>
          <p:nvPr/>
        </p:nvGrpSpPr>
        <p:grpSpPr>
          <a:xfrm>
            <a:off x="2819520" y="2514600"/>
            <a:ext cx="3276000" cy="3472920"/>
            <a:chOff x="2819520" y="2514600"/>
            <a:chExt cx="3276000" cy="3472920"/>
          </a:xfrm>
        </p:grpSpPr>
        <p:sp>
          <p:nvSpPr>
            <p:cNvPr id="411" name="AutoShape 4"/>
            <p:cNvSpPr/>
            <p:nvPr/>
          </p:nvSpPr>
          <p:spPr>
            <a:xfrm>
              <a:off x="2819520" y="2815920"/>
              <a:ext cx="3200040" cy="31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 flipH="1">
              <a:off x="4241160" y="2815920"/>
              <a:ext cx="639720" cy="3171600"/>
            </a:xfrm>
            <a:prstGeom prst="line">
              <a:avLst/>
            </a:prstGeom>
            <a:ln w="38160">
              <a:solidFill>
                <a:srgbClr val="e4005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2895480" y="38826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4359240" y="3427200"/>
              <a:ext cx="59328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4752720" y="3427200"/>
              <a:ext cx="591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4267080" y="388584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"/>
            <p:cNvSpPr/>
            <p:nvPr/>
          </p:nvSpPr>
          <p:spPr>
            <a:xfrm>
              <a:off x="4647960" y="388260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1"/>
            <p:cNvSpPr/>
            <p:nvPr/>
          </p:nvSpPr>
          <p:spPr>
            <a:xfrm>
              <a:off x="4130640" y="4419360"/>
              <a:ext cx="593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12"/>
            <p:cNvSpPr/>
            <p:nvPr/>
          </p:nvSpPr>
          <p:spPr>
            <a:xfrm>
              <a:off x="4572000" y="4416120"/>
              <a:ext cx="593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13"/>
            <p:cNvSpPr/>
            <p:nvPr/>
          </p:nvSpPr>
          <p:spPr>
            <a:xfrm>
              <a:off x="4038480" y="4873320"/>
              <a:ext cx="5918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4"/>
            <p:cNvSpPr/>
            <p:nvPr/>
          </p:nvSpPr>
          <p:spPr>
            <a:xfrm>
              <a:off x="4435200" y="48733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15"/>
            <p:cNvSpPr/>
            <p:nvPr/>
          </p:nvSpPr>
          <p:spPr>
            <a:xfrm>
              <a:off x="2971800" y="4797000"/>
              <a:ext cx="312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4877640" y="2514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594360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76320" y="2819520"/>
            <a:ext cx="320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=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828800" y="2816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 flipH="1">
            <a:off x="3250800" y="2816280"/>
            <a:ext cx="639720" cy="317160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1905120" y="388296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3368520" y="342756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73392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72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3657600" y="38829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>
            <a:off x="1981080" y="479736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887640" y="2514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3000240" y="350532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3657600" y="3887640"/>
            <a:ext cx="80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08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occupy corresponding posi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914400" y="2924280"/>
            <a:ext cx="32004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295280" y="3124080"/>
            <a:ext cx="1419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>
            <a:off x="457200" y="548640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990720" y="487836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3124080" y="3125880"/>
            <a:ext cx="1419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2847960" y="4911840"/>
            <a:ext cx="1419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op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048120" y="4192560"/>
            <a:ext cx="175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895480" y="5869080"/>
            <a:ext cx="17528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838080" y="4116240"/>
            <a:ext cx="1495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685800" y="5791320"/>
            <a:ext cx="1495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Bottom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bbfd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17bbfd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17bbfd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30"/>
          <p:cNvGrpSpPr/>
          <p:nvPr/>
        </p:nvGrpSpPr>
        <p:grpSpPr>
          <a:xfrm>
            <a:off x="2057400" y="3429000"/>
            <a:ext cx="1430280" cy="2739960"/>
            <a:chOff x="2057400" y="3429000"/>
            <a:chExt cx="1430280" cy="2739960"/>
          </a:xfrm>
        </p:grpSpPr>
        <p:sp>
          <p:nvSpPr>
            <p:cNvPr id="456" name="Text Box 22"/>
            <p:cNvSpPr/>
            <p:nvPr/>
          </p:nvSpPr>
          <p:spPr>
            <a:xfrm>
              <a:off x="2454120" y="3429000"/>
              <a:ext cx="59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3"/>
            <p:cNvSpPr/>
            <p:nvPr/>
          </p:nvSpPr>
          <p:spPr>
            <a:xfrm>
              <a:off x="2895480" y="3430440"/>
              <a:ext cx="5922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2362320" y="3962520"/>
              <a:ext cx="59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25"/>
            <p:cNvSpPr/>
            <p:nvPr/>
          </p:nvSpPr>
          <p:spPr>
            <a:xfrm>
              <a:off x="2835360" y="39625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26"/>
            <p:cNvSpPr/>
            <p:nvPr/>
          </p:nvSpPr>
          <p:spPr>
            <a:xfrm>
              <a:off x="2133720" y="495288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7"/>
            <p:cNvSpPr/>
            <p:nvPr/>
          </p:nvSpPr>
          <p:spPr>
            <a:xfrm>
              <a:off x="2606760" y="4956120"/>
              <a:ext cx="593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8"/>
            <p:cNvSpPr/>
            <p:nvPr/>
          </p:nvSpPr>
          <p:spPr>
            <a:xfrm>
              <a:off x="2057400" y="5562720"/>
              <a:ext cx="59220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9"/>
            <p:cNvSpPr/>
            <p:nvPr/>
          </p:nvSpPr>
          <p:spPr>
            <a:xfrm>
              <a:off x="2530440" y="5562720"/>
              <a:ext cx="5936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2d2d2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Rectangle 31"/>
          <p:cNvSpPr/>
          <p:nvPr/>
        </p:nvSpPr>
        <p:spPr>
          <a:xfrm>
            <a:off x="7393680" y="6324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7" name="AutoShape 23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7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8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9"/>
          <p:cNvSpPr/>
          <p:nvPr/>
        </p:nvSpPr>
        <p:spPr>
          <a:xfrm>
            <a:off x="3809880" y="43434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34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5680" y="35082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358128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5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31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3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7" name="AutoShape 4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9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0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1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2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3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4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6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6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37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38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39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40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657600" y="3962520"/>
            <a:ext cx="990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3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36576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2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0"/>
          <p:cNvSpPr/>
          <p:nvPr/>
        </p:nvSpPr>
        <p:spPr>
          <a:xfrm rot="3000">
            <a:off x="838080" y="5486400"/>
            <a:ext cx="3355920" cy="6858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7920" y="533520"/>
            <a:ext cx="2438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 rot="3000">
            <a:off x="990360" y="2971800"/>
            <a:ext cx="3355920" cy="83808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38862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outside parallel lines on opposit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1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6"/>
          <p:cNvSpPr/>
          <p:nvPr/>
        </p:nvSpPr>
        <p:spPr>
          <a:xfrm rot="14803200">
            <a:off x="1886400" y="527544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7"/>
          <p:cNvSpPr/>
          <p:nvPr/>
        </p:nvSpPr>
        <p:spPr>
          <a:xfrm rot="3543600">
            <a:off x="2426400" y="32882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8"/>
          <p:cNvSpPr/>
          <p:nvPr/>
        </p:nvSpPr>
        <p:spPr>
          <a:xfrm rot="7743600">
            <a:off x="2115360" y="5199840"/>
            <a:ext cx="1009440" cy="820800"/>
          </a:xfrm>
          <a:custGeom>
            <a:avLst/>
            <a:gdLst>
              <a:gd name="textAreaLeft" fmla="*/ 146880 w 1009440"/>
              <a:gd name="textAreaRight" fmla="*/ 862560 w 100944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 rot="18088800">
            <a:off x="2350080" y="3212640"/>
            <a:ext cx="990720" cy="966600"/>
          </a:xfrm>
          <a:custGeom>
            <a:avLst/>
            <a:gdLst>
              <a:gd name="textAreaLeft" fmla="*/ 156960 w 990720"/>
              <a:gd name="textAreaRight" fmla="*/ 833760 w 990720"/>
              <a:gd name="textAreaTop" fmla="*/ 0 h 966600"/>
              <a:gd name="textAreaBottom" fmla="*/ 172800 h 96660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733920" y="350532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267080" y="4803840"/>
            <a:ext cx="59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05320" y="48798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4267080" y="48769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47920" y="1905120"/>
            <a:ext cx="586728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143000" y="533520"/>
            <a:ext cx="3048120" cy="533160"/>
          </a:xfrm>
          <a:prstGeom prst="rect">
            <a:avLst/>
          </a:prstGeom>
          <a:gradFill rotWithShape="0">
            <a:gsLst>
              <a:gs pos="0">
                <a:srgbClr val="ffc5e2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 rot="3000">
            <a:off x="990720" y="3886200"/>
            <a:ext cx="3355920" cy="1600200"/>
          </a:xfrm>
          <a:prstGeom prst="rect">
            <a:avLst/>
          </a:prstGeom>
          <a:solidFill>
            <a:srgbClr val="ffff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4343400" y="533520"/>
            <a:ext cx="1828800" cy="53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4267080" y="14479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Rectangle 7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189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lie between parallel lines on the same sides of the transversa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AutoShape 9"/>
          <p:cNvSpPr/>
          <p:nvPr/>
        </p:nvSpPr>
        <p:spPr>
          <a:xfrm>
            <a:off x="990720" y="289548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0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9480" y="3838680"/>
            <a:ext cx="4114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09480" y="5486400"/>
            <a:ext cx="4038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3068280" y="2438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181480" y="287964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3 +</a:t>
            </a:r>
            <a:r>
              <a:rPr b="0" lang="en-US" sz="4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5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4 +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6 = 18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2454120" y="3429000"/>
            <a:ext cx="59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895480" y="34304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2378160" y="3962520"/>
            <a:ext cx="59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2835360" y="3962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2149560" y="51055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2530440" y="510840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2057400" y="5562720"/>
            <a:ext cx="5922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2"/>
          <p:cNvSpPr/>
          <p:nvPr/>
        </p:nvSpPr>
        <p:spPr>
          <a:xfrm>
            <a:off x="2530440" y="556272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d2d2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5"/>
          <p:cNvSpPr/>
          <p:nvPr/>
        </p:nvSpPr>
        <p:spPr>
          <a:xfrm flipH="1">
            <a:off x="2209320" y="2743200"/>
            <a:ext cx="838440" cy="38862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26"/>
          <p:cNvSpPr/>
          <p:nvPr/>
        </p:nvSpPr>
        <p:spPr>
          <a:xfrm rot="14803200">
            <a:off x="2208600" y="3713400"/>
            <a:ext cx="1009800" cy="82044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440"/>
              <a:gd name="textAreaBottom" fmla="*/ 162360 h 82044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27"/>
          <p:cNvSpPr/>
          <p:nvPr/>
        </p:nvSpPr>
        <p:spPr>
          <a:xfrm rot="3543600">
            <a:off x="1969200" y="488844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28"/>
          <p:cNvSpPr/>
          <p:nvPr/>
        </p:nvSpPr>
        <p:spPr>
          <a:xfrm rot="7743600">
            <a:off x="2284920" y="3713760"/>
            <a:ext cx="1009800" cy="820800"/>
          </a:xfrm>
          <a:custGeom>
            <a:avLst/>
            <a:gdLst>
              <a:gd name="textAreaLeft" fmla="*/ 147240 w 1009800"/>
              <a:gd name="textAreaRight" fmla="*/ 862560 w 1009800"/>
              <a:gd name="textAreaTop" fmla="*/ 0 h 820800"/>
              <a:gd name="textAreaBottom" fmla="*/ 162720 h 820800"/>
            </a:gdLst>
            <a:ahLst/>
            <a:rect l="textAreaLeft" t="textAreaTop" r="textAreaRight" b="textAreaBottom"/>
            <a:pathLst>
              <a:path w="21600" h="21600">
                <a:moveTo>
                  <a:pt x="5676" y="3115"/>
                </a:moveTo>
                <a:cubicBezTo>
                  <a:pt x="7193" y="2103"/>
                  <a:pt x="8976" y="1563"/>
                  <a:pt x="10800" y="1564"/>
                </a:cubicBezTo>
                <a:cubicBezTo>
                  <a:pt x="12623" y="1564"/>
                  <a:pt x="14406" y="2103"/>
                  <a:pt x="15923" y="3115"/>
                </a:cubicBezTo>
                <a:lnTo>
                  <a:pt x="16791" y="1814"/>
                </a:lnTo>
                <a:cubicBezTo>
                  <a:pt x="15017" y="631"/>
                  <a:pt x="12932" y="-1"/>
                  <a:pt x="10799" y="0"/>
                </a:cubicBezTo>
                <a:cubicBezTo>
                  <a:pt x="8667" y="0"/>
                  <a:pt x="6582" y="631"/>
                  <a:pt x="4808" y="1814"/>
                </a:cubicBezTo>
                <a:lnTo>
                  <a:pt x="5676" y="3115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29"/>
          <p:cNvSpPr/>
          <p:nvPr/>
        </p:nvSpPr>
        <p:spPr>
          <a:xfrm rot="18088800">
            <a:off x="2045880" y="4888080"/>
            <a:ext cx="990360" cy="966960"/>
          </a:xfrm>
          <a:custGeom>
            <a:avLst/>
            <a:gdLst>
              <a:gd name="textAreaLeft" fmla="*/ 156960 w 990360"/>
              <a:gd name="textAreaRight" fmla="*/ 833400 w 990360"/>
              <a:gd name="textAreaTop" fmla="*/ 0 h 966960"/>
              <a:gd name="textAreaBottom" fmla="*/ 172800 h 966960"/>
            </a:gdLst>
            <a:ahLst/>
            <a:rect l="textAreaLeft" t="textAreaTop" r="textAreaRight" b="textAreaBottom"/>
            <a:pathLst>
              <a:path w="21600" h="21600">
                <a:moveTo>
                  <a:pt x="5796" y="2735"/>
                </a:moveTo>
                <a:cubicBezTo>
                  <a:pt x="7298" y="1802"/>
                  <a:pt x="9031" y="1308"/>
                  <a:pt x="10800" y="1309"/>
                </a:cubicBezTo>
                <a:cubicBezTo>
                  <a:pt x="12568" y="1309"/>
                  <a:pt x="14301" y="1802"/>
                  <a:pt x="15803" y="2735"/>
                </a:cubicBezTo>
                <a:lnTo>
                  <a:pt x="16493" y="1622"/>
                </a:lnTo>
                <a:cubicBezTo>
                  <a:pt x="14784" y="562"/>
                  <a:pt x="12812" y="-1"/>
                  <a:pt x="10799" y="0"/>
                </a:cubicBezTo>
                <a:cubicBezTo>
                  <a:pt x="8787" y="0"/>
                  <a:pt x="6815" y="562"/>
                  <a:pt x="5106" y="1622"/>
                </a:cubicBezTo>
                <a:lnTo>
                  <a:pt x="5796" y="2735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4282920" y="442260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666880" y="47242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1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4437000" y="3886200"/>
            <a:ext cx="897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343400" y="44197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6"/>
          <p:cNvSpPr/>
          <p:nvPr/>
        </p:nvSpPr>
        <p:spPr>
          <a:xfrm>
            <a:off x="6172200" y="3505320"/>
            <a:ext cx="213372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0059"/>
                </a:solidFill>
                <a:latin typeface="Arial"/>
              </a:rPr>
              <a:t>180 - 13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 that do not intersec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en-US" sz="3000" spc="-1" strike="noStrike">
                <a:solidFill>
                  <a:srgbClr val="e40059"/>
                </a:solidFill>
                <a:latin typeface="Mistral"/>
              </a:rPr>
              <a:t>l 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|| </a:t>
            </a:r>
            <a:r>
              <a:rPr b="0" lang="en-US" sz="2800" spc="-1" strike="noStrike">
                <a:solidFill>
                  <a:srgbClr val="e40059"/>
                </a:solidFill>
                <a:latin typeface="Tempus Sans ITC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1" i="1" lang="en-US" sz="3000" spc="-1" strike="noStrike">
                <a:solidFill>
                  <a:srgbClr val="009900"/>
                </a:solidFill>
                <a:latin typeface="Bradley Hand ITC"/>
              </a:rPr>
              <a:t>AB</a:t>
            </a:r>
            <a:r>
              <a:rPr b="0" lang="en-US" sz="3000" spc="-1" strike="noStrike">
                <a:solidFill>
                  <a:srgbClr val="009900"/>
                </a:solidFill>
                <a:latin typeface="Mistral"/>
              </a:rPr>
              <a:t> </a:t>
            </a:r>
            <a:r>
              <a:rPr b="0" lang="en-US" sz="3000" spc="-1" strike="noStrike">
                <a:solidFill>
                  <a:srgbClr val="009900"/>
                </a:solidFill>
                <a:latin typeface="Century Gothic"/>
              </a:rPr>
              <a:t>|| </a:t>
            </a:r>
            <a:r>
              <a:rPr b="1" lang="en-US" sz="3000" spc="-1" strike="noStrike">
                <a:solidFill>
                  <a:srgbClr val="009900"/>
                </a:solidFill>
                <a:latin typeface="Bradley Hand ITC"/>
              </a:rPr>
              <a:t>C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3" name="Group 33"/>
          <p:cNvGrpSpPr/>
          <p:nvPr/>
        </p:nvGrpSpPr>
        <p:grpSpPr>
          <a:xfrm>
            <a:off x="2041560" y="3459240"/>
            <a:ext cx="2759040" cy="963000"/>
            <a:chOff x="2041560" y="3459240"/>
            <a:chExt cx="2759040" cy="963000"/>
          </a:xfrm>
        </p:grpSpPr>
        <p:grpSp>
          <p:nvGrpSpPr>
            <p:cNvPr id="314" name="Group 12"/>
            <p:cNvGrpSpPr/>
            <p:nvPr/>
          </p:nvGrpSpPr>
          <p:grpSpPr>
            <a:xfrm>
              <a:off x="2438280" y="3733920"/>
              <a:ext cx="2362320" cy="457200"/>
              <a:chOff x="2438280" y="3733920"/>
              <a:chExt cx="2362320" cy="457200"/>
            </a:xfrm>
          </p:grpSpPr>
          <p:sp>
            <p:nvSpPr>
              <p:cNvPr id="315" name="Line 4"/>
              <p:cNvSpPr/>
              <p:nvPr/>
            </p:nvSpPr>
            <p:spPr>
              <a:xfrm>
                <a:off x="2438280" y="37339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5"/>
              <p:cNvSpPr/>
              <p:nvPr/>
            </p:nvSpPr>
            <p:spPr>
              <a:xfrm>
                <a:off x="2438280" y="4191120"/>
                <a:ext cx="2362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Text Box 13"/>
            <p:cNvSpPr/>
            <p:nvPr/>
          </p:nvSpPr>
          <p:spPr>
            <a:xfrm>
              <a:off x="2193840" y="34592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0059"/>
                  </a:solidFill>
                  <a:latin typeface="Mistral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2041560" y="396252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40059"/>
                  </a:solidFill>
                  <a:latin typeface="Tempus Sans ITC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AutoShape 28"/>
            <p:cNvSpPr/>
            <p:nvPr/>
          </p:nvSpPr>
          <p:spPr>
            <a:xfrm rot="5400000">
              <a:off x="4114440" y="36576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AutoShape 29"/>
            <p:cNvSpPr/>
            <p:nvPr/>
          </p:nvSpPr>
          <p:spPr>
            <a:xfrm rot="5400000">
              <a:off x="4114440" y="411480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ff388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34"/>
          <p:cNvGrpSpPr/>
          <p:nvPr/>
        </p:nvGrpSpPr>
        <p:grpSpPr>
          <a:xfrm>
            <a:off x="5943600" y="2527200"/>
            <a:ext cx="2301480" cy="2578320"/>
            <a:chOff x="5943600" y="2527200"/>
            <a:chExt cx="2301480" cy="2578320"/>
          </a:xfrm>
        </p:grpSpPr>
        <p:grpSp>
          <p:nvGrpSpPr>
            <p:cNvPr id="322" name="Group 25"/>
            <p:cNvGrpSpPr/>
            <p:nvPr/>
          </p:nvGrpSpPr>
          <p:grpSpPr>
            <a:xfrm>
              <a:off x="6172200" y="2527200"/>
              <a:ext cx="2072880" cy="2047320"/>
              <a:chOff x="6172200" y="2527200"/>
              <a:chExt cx="2072880" cy="2047320"/>
            </a:xfrm>
          </p:grpSpPr>
          <p:grpSp>
            <p:nvGrpSpPr>
              <p:cNvPr id="323" name="Group 8"/>
              <p:cNvGrpSpPr/>
              <p:nvPr/>
            </p:nvGrpSpPr>
            <p:grpSpPr>
              <a:xfrm>
                <a:off x="6186240" y="2527200"/>
                <a:ext cx="2029320" cy="1956240"/>
                <a:chOff x="6186240" y="2527200"/>
                <a:chExt cx="2029320" cy="1956240"/>
              </a:xfrm>
            </p:grpSpPr>
            <p:sp>
              <p:nvSpPr>
                <p:cNvPr id="324" name="Line 6"/>
                <p:cNvSpPr/>
                <p:nvPr/>
              </p:nvSpPr>
              <p:spPr>
                <a:xfrm flipV="1">
                  <a:off x="6186240" y="252720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7"/>
                <p:cNvSpPr/>
                <p:nvPr/>
              </p:nvSpPr>
              <p:spPr>
                <a:xfrm flipV="1">
                  <a:off x="6500880" y="2859120"/>
                  <a:ext cx="1714680" cy="162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Oval 15"/>
              <p:cNvSpPr/>
              <p:nvPr/>
            </p:nvSpPr>
            <p:spPr>
              <a:xfrm>
                <a:off x="6629400" y="36576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16"/>
              <p:cNvSpPr/>
              <p:nvPr/>
            </p:nvSpPr>
            <p:spPr>
              <a:xfrm>
                <a:off x="7391160" y="28954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8"/>
              <p:cNvSpPr/>
              <p:nvPr/>
            </p:nvSpPr>
            <p:spPr>
              <a:xfrm>
                <a:off x="6858000" y="4114800"/>
                <a:ext cx="7560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9"/>
              <p:cNvSpPr/>
              <p:nvPr/>
            </p:nvSpPr>
            <p:spPr>
              <a:xfrm>
                <a:off x="7619760" y="3352680"/>
                <a:ext cx="75960" cy="76320"/>
              </a:xfrm>
              <a:prstGeom prst="ellipse">
                <a:avLst/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20"/>
              <p:cNvSpPr/>
              <p:nvPr/>
            </p:nvSpPr>
            <p:spPr>
              <a:xfrm>
                <a:off x="6172200" y="335268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Text Box 21"/>
              <p:cNvSpPr/>
              <p:nvPr/>
            </p:nvSpPr>
            <p:spPr>
              <a:xfrm>
                <a:off x="7086600" y="2590920"/>
                <a:ext cx="62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 Box 22"/>
              <p:cNvSpPr/>
              <p:nvPr/>
            </p:nvSpPr>
            <p:spPr>
              <a:xfrm>
                <a:off x="6705360" y="411480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23"/>
              <p:cNvSpPr/>
              <p:nvPr/>
            </p:nvSpPr>
            <p:spPr>
              <a:xfrm>
                <a:off x="7619760" y="3352680"/>
                <a:ext cx="62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Bradley Hand ITC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" name="Line 26"/>
            <p:cNvSpPr/>
            <p:nvPr/>
          </p:nvSpPr>
          <p:spPr>
            <a:xfrm>
              <a:off x="59436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7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32"/>
            <p:cNvGrpSpPr/>
            <p:nvPr/>
          </p:nvGrpSpPr>
          <p:grpSpPr>
            <a:xfrm>
              <a:off x="7515360" y="2604240"/>
              <a:ext cx="513360" cy="735480"/>
              <a:chOff x="7515360" y="2604240"/>
              <a:chExt cx="513360" cy="735480"/>
            </a:xfrm>
          </p:grpSpPr>
          <p:sp>
            <p:nvSpPr>
              <p:cNvPr id="337" name="AutoShape 30"/>
              <p:cNvSpPr/>
              <p:nvPr/>
            </p:nvSpPr>
            <p:spPr>
              <a:xfrm rot="3596400">
                <a:off x="7504920" y="269784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1"/>
              <p:cNvSpPr/>
              <p:nvPr/>
            </p:nvSpPr>
            <p:spPr>
              <a:xfrm rot="3596400">
                <a:off x="7733880" y="3093480"/>
                <a:ext cx="30456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388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86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0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2" name="Picture 3" descr="C:\Program Files (x86)\Microsoft Office\MEDIA\CAGCAT10\j0205582.wmf"/>
          <p:cNvPicPr/>
          <p:nvPr/>
        </p:nvPicPr>
        <p:blipFill>
          <a:blip r:embed="rId2"/>
          <a:stretch/>
        </p:blipFill>
        <p:spPr>
          <a:xfrm>
            <a:off x="5359320" y="2666880"/>
            <a:ext cx="3784680" cy="449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C:\Program Files (x86)\Microsoft Office\MEDIA\CAGCAT10\j0299125.wmf"/>
          <p:cNvPicPr/>
          <p:nvPr/>
        </p:nvPicPr>
        <p:blipFill>
          <a:blip r:embed="rId3"/>
          <a:stretch/>
        </p:blipFill>
        <p:spPr>
          <a:xfrm>
            <a:off x="1905120" y="304920"/>
            <a:ext cx="2395440" cy="3930480"/>
          </a:xfrm>
          <a:prstGeom prst="rect">
            <a:avLst/>
          </a:prstGeom>
          <a:ln w="0">
            <a:noFill/>
          </a:ln>
        </p:spPr>
      </p:pic>
      <p:sp>
        <p:nvSpPr>
          <p:cNvPr id="604" name="Rectangular Callout 8"/>
          <p:cNvSpPr/>
          <p:nvPr/>
        </p:nvSpPr>
        <p:spPr>
          <a:xfrm>
            <a:off x="4191120" y="1295280"/>
            <a:ext cx="4495680" cy="990720"/>
          </a:xfrm>
          <a:prstGeom prst="wedgeRectCallout">
            <a:avLst>
              <a:gd name="adj1" fmla="val -46981"/>
              <a:gd name="adj2" fmla="val 127115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41911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NK YOU 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Hardwood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pposite sides of windows, desk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king slots in parking 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arallel Pa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10" descr="j0212957"/>
          <p:cNvPicPr/>
          <p:nvPr/>
        </p:nvPicPr>
        <p:blipFill>
          <a:blip r:embed="rId1"/>
          <a:stretch/>
        </p:blipFill>
        <p:spPr>
          <a:xfrm>
            <a:off x="7467480" y="1143000"/>
            <a:ext cx="1220760" cy="766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parab"/>
          <p:cNvPicPr/>
          <p:nvPr/>
        </p:nvPicPr>
        <p:blipFill>
          <a:blip r:embed="rId2"/>
          <a:stretch/>
        </p:blipFill>
        <p:spPr>
          <a:xfrm>
            <a:off x="6553080" y="2819520"/>
            <a:ext cx="2409840" cy="3809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St"/>
          <p:cNvPicPr/>
          <p:nvPr/>
        </p:nvPicPr>
        <p:blipFill>
          <a:blip r:embed="rId3"/>
          <a:srcRect l="0" t="25019" r="0" b="0"/>
          <a:stretch/>
        </p:blipFill>
        <p:spPr>
          <a:xfrm>
            <a:off x="990720" y="4572000"/>
            <a:ext cx="3295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amples of Parallel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L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LINE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mpus Sans ITC"/>
              </a:rPr>
              <a:t>HERE LINE A and LINE B Are PARALL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066680" y="4114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990720" y="3048120"/>
            <a:ext cx="52578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Lines that intersect to form a right ang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Notation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m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e40059"/>
                </a:solidFill>
                <a:latin typeface="Symbol"/>
                <a:ea typeface="Symbol"/>
              </a:rPr>
              <a:t></a:t>
            </a:r>
            <a:r>
              <a:rPr b="0" lang="en-US" sz="3000" spc="-1" strike="noStrike">
                <a:solidFill>
                  <a:srgbClr val="e40059"/>
                </a:solidFill>
                <a:latin typeface="Century Gothic"/>
              </a:rPr>
              <a:t> </a:t>
            </a:r>
            <a:r>
              <a:rPr b="0" i="1" lang="en-US" sz="3000" spc="-1" strike="noStrike">
                <a:solidFill>
                  <a:srgbClr val="e40059"/>
                </a:solidFill>
                <a:latin typeface="Arial Black"/>
              </a:rPr>
              <a:t>n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Key Fact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4 right angles are forme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50" name="Group 10"/>
          <p:cNvGrpSpPr/>
          <p:nvPr/>
        </p:nvGrpSpPr>
        <p:grpSpPr>
          <a:xfrm>
            <a:off x="3962520" y="2133720"/>
            <a:ext cx="2759040" cy="2666880"/>
            <a:chOff x="3962520" y="2133720"/>
            <a:chExt cx="2759040" cy="2666880"/>
          </a:xfrm>
        </p:grpSpPr>
        <p:sp>
          <p:nvSpPr>
            <p:cNvPr id="351" name="Line 5"/>
            <p:cNvSpPr/>
            <p:nvPr/>
          </p:nvSpPr>
          <p:spPr>
            <a:xfrm>
              <a:off x="3962520" y="3581280"/>
              <a:ext cx="2361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6"/>
            <p:cNvSpPr/>
            <p:nvPr/>
          </p:nvSpPr>
          <p:spPr>
            <a:xfrm flipV="1">
              <a:off x="5181480" y="2438280"/>
              <a:ext cx="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5181480" y="3352680"/>
              <a:ext cx="22860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8"/>
            <p:cNvSpPr/>
            <p:nvPr/>
          </p:nvSpPr>
          <p:spPr>
            <a:xfrm>
              <a:off x="5241960" y="2133720"/>
              <a:ext cx="3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m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9"/>
            <p:cNvSpPr/>
            <p:nvPr/>
          </p:nvSpPr>
          <p:spPr>
            <a:xfrm>
              <a:off x="6324480" y="33526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e40059"/>
                  </a:solidFill>
                  <a:latin typeface="Arial Black"/>
                </a:rPr>
                <a:t>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6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1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81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d2d2"/>
                </a:solidFill>
                <a:latin typeface="Arial"/>
              </a:rPr>
              <a:t>Ex. of Perpendicular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Window panes : The Window Panes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empus Sans ITC"/>
              </a:rPr>
              <a:t>PERPENDICULAR to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8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0" descr="download (2).jpg"/>
          <p:cNvPicPr/>
          <p:nvPr/>
        </p:nvPicPr>
        <p:blipFill>
          <a:blip r:embed="rId1"/>
          <a:stretch/>
        </p:blipFill>
        <p:spPr>
          <a:xfrm>
            <a:off x="1295280" y="25909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359" name="Right Arrow 11"/>
          <p:cNvSpPr/>
          <p:nvPr/>
        </p:nvSpPr>
        <p:spPr>
          <a:xfrm>
            <a:off x="2209680" y="2971800"/>
            <a:ext cx="609840" cy="38088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e0021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Down Arrow 13"/>
          <p:cNvSpPr/>
          <p:nvPr/>
        </p:nvSpPr>
        <p:spPr>
          <a:xfrm>
            <a:off x="213372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4114800" y="1652760"/>
            <a:ext cx="2946240" cy="2997000"/>
            <a:chOff x="4114800" y="1652760"/>
            <a:chExt cx="2946240" cy="2997000"/>
          </a:xfrm>
        </p:grpSpPr>
        <p:sp>
          <p:nvSpPr>
            <p:cNvPr id="362" name="Rectangle 14"/>
            <p:cNvSpPr/>
            <p:nvPr/>
          </p:nvSpPr>
          <p:spPr>
            <a:xfrm>
              <a:off x="5486400" y="1652760"/>
              <a:ext cx="1536840" cy="38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 rot="3000">
              <a:off x="4114440" y="3710160"/>
              <a:ext cx="2870280" cy="176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 rot="3000">
              <a:off x="4190760" y="4471920"/>
              <a:ext cx="2869920" cy="176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2057400" y="1676520"/>
            <a:ext cx="4099680" cy="3820680"/>
            <a:chOff x="2057400" y="1676520"/>
            <a:chExt cx="4099680" cy="3820680"/>
          </a:xfrm>
        </p:grpSpPr>
        <p:sp>
          <p:nvSpPr>
            <p:cNvPr id="366" name="Rectangle 9"/>
            <p:cNvSpPr/>
            <p:nvPr/>
          </p:nvSpPr>
          <p:spPr>
            <a:xfrm>
              <a:off x="2057400" y="1676520"/>
              <a:ext cx="685800" cy="38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b3e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 rot="17047800">
              <a:off x="4503240" y="4114440"/>
              <a:ext cx="2359080" cy="38412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Def: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 line that intersects two lines at different poin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Illustratio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66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Line 5"/>
          <p:cNvSpPr/>
          <p:nvPr/>
        </p:nvSpPr>
        <p:spPr>
          <a:xfrm flipH="1">
            <a:off x="5408640" y="3246480"/>
            <a:ext cx="550800" cy="200664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4191120" y="4552560"/>
            <a:ext cx="274320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267080" y="3809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4160" y="27464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1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830"/>
                            </p:stCondLst>
                            <p:childTnLst>
                              <p:par>
                                <p:cTn id="1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430"/>
                            </p:stCondLst>
                            <p:childTnLst>
                              <p:par>
                                <p:cTn id="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wo angles that are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pposit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angle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83808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 flipH="1">
            <a:off x="2260440" y="2847960"/>
            <a:ext cx="64008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9"/>
          <p:cNvSpPr/>
          <p:nvPr/>
        </p:nvSpPr>
        <p:spPr>
          <a:xfrm>
            <a:off x="914400" y="39146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2378160" y="3459240"/>
            <a:ext cx="593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277164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2286000" y="391788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2666880" y="391464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4"/>
          <p:cNvSpPr/>
          <p:nvPr/>
        </p:nvSpPr>
        <p:spPr>
          <a:xfrm>
            <a:off x="214956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259092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2057400" y="4905360"/>
            <a:ext cx="5922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2454120" y="490536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8"/>
          <p:cNvSpPr/>
          <p:nvPr/>
        </p:nvSpPr>
        <p:spPr>
          <a:xfrm>
            <a:off x="99072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89692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5334120" y="2879640"/>
            <a:ext cx="3124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= </a:t>
            </a:r>
            <a:r>
              <a:rPr b="0" lang="en-US" sz="4000" spc="-1" strike="noStrike">
                <a:solidFill>
                  <a:srgbClr val="cc0066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2 = </a:t>
            </a:r>
            <a:r>
              <a:rPr b="0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 = </a:t>
            </a: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6 = </a:t>
            </a:r>
            <a:r>
              <a:rPr b="0" lang="en-US" sz="40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measures of the missing angl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2590920" y="2847960"/>
            <a:ext cx="32004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 flipH="1">
            <a:off x="4012920" y="2847960"/>
            <a:ext cx="639720" cy="3171960"/>
          </a:xfrm>
          <a:prstGeom prst="line">
            <a:avLst/>
          </a:prstGeom>
          <a:ln w="38160">
            <a:solidFill>
              <a:srgbClr val="e4005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2666880" y="391464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733920" y="3459240"/>
            <a:ext cx="990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524480" y="3459240"/>
            <a:ext cx="592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4038480" y="3917880"/>
            <a:ext cx="5940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4419720" y="391464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3902040" y="4451400"/>
            <a:ext cx="593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44481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3581280" y="490536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4206960" y="4905360"/>
            <a:ext cx="593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2743200" y="48290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649400" y="254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005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343400" y="4422600"/>
            <a:ext cx="7444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55 </a:t>
            </a:r>
            <a:r>
              <a:rPr b="1" lang="en-US" sz="1800" spc="-1" strike="noStrike">
                <a:solidFill>
                  <a:srgbClr val="3366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4343400" y="4010040"/>
            <a:ext cx="99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25 </a:t>
            </a:r>
            <a:r>
              <a:rPr b="1" lang="en-US" sz="1800" spc="-1" strike="noStrike">
                <a:solidFill>
                  <a:srgbClr val="cc0066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1:27:43Z</dcterms:created>
  <dc:creator>Patel</dc:creator>
  <dc:description/>
  <dc:language>en-US</dc:language>
  <cp:lastModifiedBy>RomaK</cp:lastModifiedBy>
  <dcterms:modified xsi:type="dcterms:W3CDTF">2015-09-04T07:42:43Z</dcterms:modified>
  <cp:revision>76</cp:revision>
  <dc:subject/>
  <dc:title>CHAPTER 3</dc:title>
</cp:coreProperties>
</file>