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5.wmf" ContentType="image/x-wmf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whoosh.wav" ContentType="audio/x-wav"/>
  <Override PartName="/ppt/media/image9.jpeg" ContentType="image/jpeg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364F-18C3-475A-99BB-D50023818C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FF5-51EF-4FC9-98E5-2E7CA386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0CF-835E-41B8-904B-C06F4E66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AF7-EF59-459F-8C75-0C07B75F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DD0-D95A-40C2-8B7C-F394F411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2A78-B2DE-43F1-9C20-CB55EAFE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68B5-46DA-477B-887D-7E045188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6323-8E40-4509-9E9B-0F2DEFD0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B270-5DAA-491C-8E01-EE56A233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7AD4-2F5E-4C26-9740-CEA24D4A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4219-C6BC-47D5-AEF4-EB3F74B7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7707-B8E0-4463-A5B3-E0743915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190-F398-406F-B204-E8EFD90C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15A7-A2A6-4767-9556-839C304B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A6FD-EFB8-47A5-91A6-50847DC1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2D72-4A72-4831-859C-0E58CABA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059D-33B1-482B-A370-1338100F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8644-844C-4A6E-BF5A-92A14BE4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1A6A8-1DB1-43AA-880E-AE31D549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BF92B-62CD-4877-BB05-19647808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9AFB2-4ACD-4D78-8D1D-5280F0CB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DC16F-E8B9-43F0-9F05-2B3C2F3A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4BF1-1835-4495-9176-E530D177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A37-417A-49F0-8E03-F506EC76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811F9-B5B3-4B5B-AECE-6515CBE9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17583-807C-4448-9081-4C4E7DF7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507EB-42DC-4BCA-8F22-9BBADA13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0056-56CF-4F76-8703-68AC50D3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4A55B-AF5C-463F-AA61-0B2E8658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251C6-9352-4F9F-85A8-134CFD24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DBD0-EF67-4F81-999E-F487FBBC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6EF62-34A2-4A7C-97F7-E72043FF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3546E-6077-4E61-BDAC-9E2F0DF5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BE1DD-95AC-4285-8BA9-CCE144B2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7BD-B845-4C04-A760-DC315693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90DA9-4AD7-44BB-B63F-35E61435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A5528-294C-4632-8034-2ABFB75A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B4090-ADAA-413D-98F7-74C5702A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90475-D87B-4CA4-9843-DA1FF800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7DA95-736F-40FA-9655-1EA25F46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46B07-14CA-4984-AE7E-BFA6949A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E30E7-FF23-4531-8D23-2A09FAEF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52860-63C3-4958-977E-1945D992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BFA53-CFB2-42B6-92B2-C611E839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291D6-4282-40BA-B8B7-826FB6BA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426-8FE8-4AB6-B294-70DC9352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5F353-EC24-4751-976E-4C452CAB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20A18-63AE-48FD-87B8-51443423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95E9C-3A2E-485B-AD78-C1886CB8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4291E-A86D-4635-9964-48F1949C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0A264-FFF4-447E-86A5-99B36E71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373CB-F090-4A6D-93F4-3637C13C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FF69B-139F-447E-9A11-C6F6C7B7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2D0ED-E1A7-4134-BEFF-70391BE6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FF116-B02A-4929-B407-3EC5F861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9C2EF-07A5-4587-8D7B-5F721AEA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4CB-5F7C-4AEE-8CFD-92EAA785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E2634-1028-43B4-835F-80F9273A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1223C-B7CD-4770-8A9F-97E2F606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B9A79-00C0-4529-82DA-B5E1AC09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E77D9-4AE9-4A01-B90E-59A56E75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117DE-06F9-4CB0-9435-D6A6E058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CD063-868D-40ED-83FB-754220D0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4D3C3-B385-41D8-9105-76B4FD15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5B573-A997-4418-A589-3C73475B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69185-0EEA-4A62-9708-ECB8DAB1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FDEEE-E20C-43E4-B05F-30FA1CF4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5063-D829-42DC-8D9D-2C7AB3C4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B08E4-C5AC-4CD7-B366-300FE8FD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BB237-64F4-4ADB-AAEB-C3D07603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5184C-6766-4F17-B1A9-1BC82738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CE980-554C-4A5F-9D3A-E75653DA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D9093-4BAE-447F-83A2-6AA3E3AC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B1F7A-8CD7-47F7-9391-1E499447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2C139-AC3C-46C1-964B-B1C53A14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8627B-22DE-43D2-95D7-5F249B9E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4541D-35C6-4210-A4DC-51DC9D88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F0B04-782F-4A54-B1E3-AE4D7DCB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6FA-2BB3-4F0A-91E1-685157B3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D3B80-1A2A-4D8D-A873-62B55002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E4A21-B06B-4F27-BBAC-775CCC4A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DC5F6-50E0-4C0A-9F20-8EB07F20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79742-A810-4044-901E-B61A1B6A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D35B2-CD0D-4138-A392-A9688513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FBD-6D96-497F-987B-9CAD404A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BDEB-C3D0-47B0-88CD-0DDD3485B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A579-A0D5-41CA-BFD4-3E5C8A69513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9809-12C2-49FB-9DF3-25B1C1508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9DEA-CE8D-466B-9209-F764D2060E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F44E-449A-4F1A-81A8-05456D7D7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019E-6D35-4473-9DF5-BE207896749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073B-4840-47BC-9100-7C9D2F3AD87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689040" y="549360"/>
            <a:ext cx="8418600" cy="366228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" descr=""/>
          <p:cNvPicPr/>
          <p:nvPr/>
        </p:nvPicPr>
        <p:blipFill>
          <a:blip r:embed="rId2"/>
          <a:stretch/>
        </p:blipFill>
        <p:spPr>
          <a:xfrm>
            <a:off x="1755720" y="4346640"/>
            <a:ext cx="7473960" cy="2743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743040" y="1371600"/>
            <a:ext cx="18669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0"/>
          <p:cNvSpPr/>
          <p:nvPr/>
        </p:nvSpPr>
        <p:spPr>
          <a:xfrm>
            <a:off x="4191120" y="3429000"/>
            <a:ext cx="9903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form a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lin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(sum=180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10" name="Group 18"/>
          <p:cNvGrpSpPr/>
          <p:nvPr/>
        </p:nvGrpSpPr>
        <p:grpSpPr>
          <a:xfrm>
            <a:off x="2819520" y="2514600"/>
            <a:ext cx="3276000" cy="3472920"/>
            <a:chOff x="2819520" y="2514600"/>
            <a:chExt cx="3276000" cy="3472920"/>
          </a:xfrm>
        </p:grpSpPr>
        <p:sp>
          <p:nvSpPr>
            <p:cNvPr id="411" name="AutoShape 4"/>
            <p:cNvSpPr/>
            <p:nvPr/>
          </p:nvSpPr>
          <p:spPr>
            <a:xfrm>
              <a:off x="2819520" y="2815920"/>
              <a:ext cx="3200040" cy="31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 flipH="1">
              <a:off x="4241160" y="2815920"/>
              <a:ext cx="639720" cy="3171600"/>
            </a:xfrm>
            <a:prstGeom prst="line">
              <a:avLst/>
            </a:prstGeom>
            <a:ln w="38160">
              <a:solidFill>
                <a:srgbClr val="e400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6"/>
            <p:cNvSpPr/>
            <p:nvPr/>
          </p:nvSpPr>
          <p:spPr>
            <a:xfrm>
              <a:off x="2895480" y="38826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7"/>
            <p:cNvSpPr/>
            <p:nvPr/>
          </p:nvSpPr>
          <p:spPr>
            <a:xfrm>
              <a:off x="4359240" y="3427200"/>
              <a:ext cx="59328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8"/>
            <p:cNvSpPr/>
            <p:nvPr/>
          </p:nvSpPr>
          <p:spPr>
            <a:xfrm>
              <a:off x="4752720" y="3427200"/>
              <a:ext cx="59184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9"/>
            <p:cNvSpPr/>
            <p:nvPr/>
          </p:nvSpPr>
          <p:spPr>
            <a:xfrm>
              <a:off x="4267080" y="388584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"/>
            <p:cNvSpPr/>
            <p:nvPr/>
          </p:nvSpPr>
          <p:spPr>
            <a:xfrm>
              <a:off x="4647960" y="388260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1"/>
            <p:cNvSpPr/>
            <p:nvPr/>
          </p:nvSpPr>
          <p:spPr>
            <a:xfrm>
              <a:off x="4130640" y="4419360"/>
              <a:ext cx="593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12"/>
            <p:cNvSpPr/>
            <p:nvPr/>
          </p:nvSpPr>
          <p:spPr>
            <a:xfrm>
              <a:off x="4572000" y="441612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13"/>
            <p:cNvSpPr/>
            <p:nvPr/>
          </p:nvSpPr>
          <p:spPr>
            <a:xfrm>
              <a:off x="4038480" y="4873320"/>
              <a:ext cx="5918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14"/>
            <p:cNvSpPr/>
            <p:nvPr/>
          </p:nvSpPr>
          <p:spPr>
            <a:xfrm>
              <a:off x="4435200" y="48733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5"/>
            <p:cNvSpPr/>
            <p:nvPr/>
          </p:nvSpPr>
          <p:spPr>
            <a:xfrm>
              <a:off x="2971800" y="47970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4877640" y="2514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Text Box 17"/>
          <p:cNvSpPr/>
          <p:nvPr/>
        </p:nvSpPr>
        <p:spPr>
          <a:xfrm>
            <a:off x="594360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9"/>
          <p:cNvSpPr/>
          <p:nvPr/>
        </p:nvSpPr>
        <p:spPr>
          <a:xfrm>
            <a:off x="7632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3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1828800" y="2816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 flipH="1">
            <a:off x="3250800" y="2816280"/>
            <a:ext cx="639720" cy="317160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1905120" y="388296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3368520" y="342756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73392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72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3657600" y="38829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17"/>
          <p:cNvSpPr/>
          <p:nvPr/>
        </p:nvSpPr>
        <p:spPr>
          <a:xfrm>
            <a:off x="1981080" y="479736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88764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300024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3657600" y="388764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occupy corresponding positio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914400" y="2924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295280" y="3124080"/>
            <a:ext cx="1419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>
            <a:off x="457200" y="548640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990720" y="487836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3124080" y="3125880"/>
            <a:ext cx="1419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2847960" y="491184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3048120" y="4192560"/>
            <a:ext cx="175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2895480" y="5869080"/>
            <a:ext cx="17528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9"/>
          <p:cNvSpPr/>
          <p:nvPr/>
        </p:nvSpPr>
        <p:spPr>
          <a:xfrm>
            <a:off x="838080" y="4116240"/>
            <a:ext cx="14954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685800" y="5791320"/>
            <a:ext cx="1495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bbfd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17bbfd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30"/>
          <p:cNvGrpSpPr/>
          <p:nvPr/>
        </p:nvGrpSpPr>
        <p:grpSpPr>
          <a:xfrm>
            <a:off x="2057400" y="3429000"/>
            <a:ext cx="1430280" cy="2739960"/>
            <a:chOff x="2057400" y="3429000"/>
            <a:chExt cx="1430280" cy="2739960"/>
          </a:xfrm>
        </p:grpSpPr>
        <p:sp>
          <p:nvSpPr>
            <p:cNvPr id="456" name="Text Box 22"/>
            <p:cNvSpPr/>
            <p:nvPr/>
          </p:nvSpPr>
          <p:spPr>
            <a:xfrm>
              <a:off x="2454120" y="3429000"/>
              <a:ext cx="5940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3"/>
            <p:cNvSpPr/>
            <p:nvPr/>
          </p:nvSpPr>
          <p:spPr>
            <a:xfrm>
              <a:off x="2895480" y="3430440"/>
              <a:ext cx="5922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24"/>
            <p:cNvSpPr/>
            <p:nvPr/>
          </p:nvSpPr>
          <p:spPr>
            <a:xfrm>
              <a:off x="2362320" y="3962520"/>
              <a:ext cx="593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25"/>
            <p:cNvSpPr/>
            <p:nvPr/>
          </p:nvSpPr>
          <p:spPr>
            <a:xfrm>
              <a:off x="2835360" y="39625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26"/>
            <p:cNvSpPr/>
            <p:nvPr/>
          </p:nvSpPr>
          <p:spPr>
            <a:xfrm>
              <a:off x="2133720" y="495288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7"/>
            <p:cNvSpPr/>
            <p:nvPr/>
          </p:nvSpPr>
          <p:spPr>
            <a:xfrm>
              <a:off x="2606760" y="495612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2057400" y="5562720"/>
              <a:ext cx="5922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2530440" y="55627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Rectangle 31"/>
          <p:cNvSpPr/>
          <p:nvPr/>
        </p:nvSpPr>
        <p:spPr>
          <a:xfrm>
            <a:off x="7393680" y="632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AutoShape 23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24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25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6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7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8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9"/>
          <p:cNvSpPr/>
          <p:nvPr/>
        </p:nvSpPr>
        <p:spPr>
          <a:xfrm>
            <a:off x="3809880" y="43434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3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34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5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36"/>
          <p:cNvSpPr/>
          <p:nvPr/>
        </p:nvSpPr>
        <p:spPr>
          <a:xfrm>
            <a:off x="4495680" y="35082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37"/>
          <p:cNvSpPr/>
          <p:nvPr/>
        </p:nvSpPr>
        <p:spPr>
          <a:xfrm>
            <a:off x="358128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5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31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33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30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8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19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0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1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22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4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36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37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38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39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40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3657600" y="3962520"/>
            <a:ext cx="990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13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36576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0"/>
          <p:cNvSpPr/>
          <p:nvPr/>
        </p:nvSpPr>
        <p:spPr>
          <a:xfrm rot="3000">
            <a:off x="838080" y="5486400"/>
            <a:ext cx="3355920" cy="6858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 rot="3000">
            <a:off x="990360" y="2971800"/>
            <a:ext cx="3355920" cy="83808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outside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1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26"/>
          <p:cNvSpPr/>
          <p:nvPr/>
        </p:nvSpPr>
        <p:spPr>
          <a:xfrm rot="14803200">
            <a:off x="1886400" y="527544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27"/>
          <p:cNvSpPr/>
          <p:nvPr/>
        </p:nvSpPr>
        <p:spPr>
          <a:xfrm rot="3543600">
            <a:off x="2426400" y="32882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28"/>
          <p:cNvSpPr/>
          <p:nvPr/>
        </p:nvSpPr>
        <p:spPr>
          <a:xfrm rot="7743600">
            <a:off x="2115360" y="5199840"/>
            <a:ext cx="1009440" cy="820800"/>
          </a:xfrm>
          <a:custGeom>
            <a:avLst/>
            <a:gdLst>
              <a:gd name="textAreaLeft" fmla="*/ 146880 w 1009440"/>
              <a:gd name="textAreaRight" fmla="*/ 862560 w 100944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 rot="18088800">
            <a:off x="2350080" y="3212640"/>
            <a:ext cx="990720" cy="966600"/>
          </a:xfrm>
          <a:custGeom>
            <a:avLst/>
            <a:gdLst>
              <a:gd name="textAreaLeft" fmla="*/ 156960 w 990720"/>
              <a:gd name="textAreaRight" fmla="*/ 833760 w 990720"/>
              <a:gd name="textAreaTop" fmla="*/ 0 h 966600"/>
              <a:gd name="textAreaBottom" fmla="*/ 172800 h 96660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733920" y="350532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4267080" y="4803840"/>
            <a:ext cx="59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505320" y="48798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4267080" y="48769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143000" y="533520"/>
            <a:ext cx="304812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43434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the sam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AutoShape 9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5181480" y="2879640"/>
            <a:ext cx="3657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+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5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+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6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26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27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28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29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4437000" y="3886200"/>
            <a:ext cx="897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16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1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 that do not intersec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en-US" sz="3000" spc="-1" strike="noStrike">
                <a:solidFill>
                  <a:srgbClr val="e40059"/>
                </a:solidFill>
                <a:latin typeface="Mistral"/>
              </a:rPr>
              <a:t>l 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|| </a:t>
            </a:r>
            <a:r>
              <a:rPr b="0" lang="en-US" sz="2800" spc="-1" strike="noStrike">
                <a:solidFill>
                  <a:srgbClr val="e40059"/>
                </a:solidFill>
                <a:latin typeface="Tempus Sans ITC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                  </a:t>
            </a:r>
            <a:r>
              <a:rPr b="1" i="1" lang="en-US" sz="3000" spc="-1" strike="noStrike">
                <a:solidFill>
                  <a:srgbClr val="009900"/>
                </a:solidFill>
                <a:latin typeface="Bradley Hand ITC"/>
              </a:rPr>
              <a:t>AB</a:t>
            </a:r>
            <a:r>
              <a:rPr b="0" lang="en-US" sz="3000" spc="-1" strike="noStrike">
                <a:solidFill>
                  <a:srgbClr val="009900"/>
                </a:solidFill>
                <a:latin typeface="Mistral"/>
              </a:rPr>
              <a:t> </a:t>
            </a:r>
            <a:r>
              <a:rPr b="0" lang="en-US" sz="3000" spc="-1" strike="noStrike">
                <a:solidFill>
                  <a:srgbClr val="009900"/>
                </a:solidFill>
                <a:latin typeface="Century Gothic"/>
              </a:rPr>
              <a:t>|| </a:t>
            </a:r>
            <a:r>
              <a:rPr b="1" lang="en-US" sz="3000" spc="-1" strike="noStrike">
                <a:solidFill>
                  <a:srgbClr val="009900"/>
                </a:solidFill>
                <a:latin typeface="Bradley Hand ITC"/>
              </a:rPr>
              <a:t>C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13" name="Group 33"/>
          <p:cNvGrpSpPr/>
          <p:nvPr/>
        </p:nvGrpSpPr>
        <p:grpSpPr>
          <a:xfrm>
            <a:off x="2041560" y="3459240"/>
            <a:ext cx="2759040" cy="963000"/>
            <a:chOff x="2041560" y="3459240"/>
            <a:chExt cx="2759040" cy="963000"/>
          </a:xfrm>
        </p:grpSpPr>
        <p:grpSp>
          <p:nvGrpSpPr>
            <p:cNvPr id="314" name="Group 12"/>
            <p:cNvGrpSpPr/>
            <p:nvPr/>
          </p:nvGrpSpPr>
          <p:grpSpPr>
            <a:xfrm>
              <a:off x="2438280" y="3733920"/>
              <a:ext cx="2362320" cy="457200"/>
              <a:chOff x="2438280" y="3733920"/>
              <a:chExt cx="2362320" cy="457200"/>
            </a:xfrm>
          </p:grpSpPr>
          <p:sp>
            <p:nvSpPr>
              <p:cNvPr id="315" name="Line 4"/>
              <p:cNvSpPr/>
              <p:nvPr/>
            </p:nvSpPr>
            <p:spPr>
              <a:xfrm>
                <a:off x="2438280" y="37339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5"/>
              <p:cNvSpPr/>
              <p:nvPr/>
            </p:nvSpPr>
            <p:spPr>
              <a:xfrm>
                <a:off x="2438280" y="41911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Text Box 13"/>
            <p:cNvSpPr/>
            <p:nvPr/>
          </p:nvSpPr>
          <p:spPr>
            <a:xfrm>
              <a:off x="2193840" y="34592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40059"/>
                  </a:solidFill>
                  <a:latin typeface="Mistral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4"/>
            <p:cNvSpPr/>
            <p:nvPr/>
          </p:nvSpPr>
          <p:spPr>
            <a:xfrm>
              <a:off x="2041560" y="3962520"/>
              <a:ext cx="6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Tempus Sans ITC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AutoShape 28"/>
            <p:cNvSpPr/>
            <p:nvPr/>
          </p:nvSpPr>
          <p:spPr>
            <a:xfrm rot="5400000">
              <a:off x="4114440" y="36576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AutoShape 29"/>
            <p:cNvSpPr/>
            <p:nvPr/>
          </p:nvSpPr>
          <p:spPr>
            <a:xfrm rot="5400000">
              <a:off x="4114440" y="41148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34"/>
          <p:cNvGrpSpPr/>
          <p:nvPr/>
        </p:nvGrpSpPr>
        <p:grpSpPr>
          <a:xfrm>
            <a:off x="5943600" y="2527200"/>
            <a:ext cx="2301480" cy="2578320"/>
            <a:chOff x="5943600" y="2527200"/>
            <a:chExt cx="2301480" cy="2578320"/>
          </a:xfrm>
        </p:grpSpPr>
        <p:grpSp>
          <p:nvGrpSpPr>
            <p:cNvPr id="322" name="Group 25"/>
            <p:cNvGrpSpPr/>
            <p:nvPr/>
          </p:nvGrpSpPr>
          <p:grpSpPr>
            <a:xfrm>
              <a:off x="6172200" y="2527200"/>
              <a:ext cx="2072880" cy="2047320"/>
              <a:chOff x="6172200" y="2527200"/>
              <a:chExt cx="2072880" cy="2047320"/>
            </a:xfrm>
          </p:grpSpPr>
          <p:grpSp>
            <p:nvGrpSpPr>
              <p:cNvPr id="323" name="Group 8"/>
              <p:cNvGrpSpPr/>
              <p:nvPr/>
            </p:nvGrpSpPr>
            <p:grpSpPr>
              <a:xfrm>
                <a:off x="6186240" y="2527200"/>
                <a:ext cx="2029320" cy="1956240"/>
                <a:chOff x="6186240" y="2527200"/>
                <a:chExt cx="2029320" cy="1956240"/>
              </a:xfrm>
            </p:grpSpPr>
            <p:sp>
              <p:nvSpPr>
                <p:cNvPr id="324" name="Line 6"/>
                <p:cNvSpPr/>
                <p:nvPr/>
              </p:nvSpPr>
              <p:spPr>
                <a:xfrm flipV="1">
                  <a:off x="6186240" y="252720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7"/>
                <p:cNvSpPr/>
                <p:nvPr/>
              </p:nvSpPr>
              <p:spPr>
                <a:xfrm flipV="1">
                  <a:off x="6500880" y="285912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Oval 15"/>
              <p:cNvSpPr/>
              <p:nvPr/>
            </p:nvSpPr>
            <p:spPr>
              <a:xfrm>
                <a:off x="6629400" y="36576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16"/>
              <p:cNvSpPr/>
              <p:nvPr/>
            </p:nvSpPr>
            <p:spPr>
              <a:xfrm>
                <a:off x="7391160" y="28954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18"/>
              <p:cNvSpPr/>
              <p:nvPr/>
            </p:nvSpPr>
            <p:spPr>
              <a:xfrm>
                <a:off x="6858000" y="41148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19"/>
              <p:cNvSpPr/>
              <p:nvPr/>
            </p:nvSpPr>
            <p:spPr>
              <a:xfrm>
                <a:off x="7619760" y="33526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20"/>
              <p:cNvSpPr/>
              <p:nvPr/>
            </p:nvSpPr>
            <p:spPr>
              <a:xfrm>
                <a:off x="6172200" y="335268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Text Box 21"/>
              <p:cNvSpPr/>
              <p:nvPr/>
            </p:nvSpPr>
            <p:spPr>
              <a:xfrm>
                <a:off x="7086600" y="259092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Text Box 22"/>
              <p:cNvSpPr/>
              <p:nvPr/>
            </p:nvSpPr>
            <p:spPr>
              <a:xfrm>
                <a:off x="6705360" y="411480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23"/>
              <p:cNvSpPr/>
              <p:nvPr/>
            </p:nvSpPr>
            <p:spPr>
              <a:xfrm>
                <a:off x="7619760" y="335268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Line 26"/>
            <p:cNvSpPr/>
            <p:nvPr/>
          </p:nvSpPr>
          <p:spPr>
            <a:xfrm>
              <a:off x="59436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7"/>
            <p:cNvSpPr/>
            <p:nvPr/>
          </p:nvSpPr>
          <p:spPr>
            <a:xfrm>
              <a:off x="68580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32"/>
            <p:cNvGrpSpPr/>
            <p:nvPr/>
          </p:nvGrpSpPr>
          <p:grpSpPr>
            <a:xfrm>
              <a:off x="7515360" y="2604240"/>
              <a:ext cx="513360" cy="735480"/>
              <a:chOff x="7515360" y="2604240"/>
              <a:chExt cx="513360" cy="735480"/>
            </a:xfrm>
          </p:grpSpPr>
          <p:sp>
            <p:nvSpPr>
              <p:cNvPr id="337" name="AutoShape 30"/>
              <p:cNvSpPr/>
              <p:nvPr/>
            </p:nvSpPr>
            <p:spPr>
              <a:xfrm rot="3596400">
                <a:off x="7504920" y="269784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AutoShape 31"/>
              <p:cNvSpPr/>
              <p:nvPr/>
            </p:nvSpPr>
            <p:spPr>
              <a:xfrm rot="3596400">
                <a:off x="7733880" y="309348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86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0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02" name="Picture 3" descr="C:\Program Files (x86)\Microsoft Office\MEDIA\CAGCAT10\j0205582.wmf"/>
          <p:cNvPicPr/>
          <p:nvPr/>
        </p:nvPicPr>
        <p:blipFill>
          <a:blip r:embed="rId2"/>
          <a:stretch/>
        </p:blipFill>
        <p:spPr>
          <a:xfrm>
            <a:off x="5359320" y="2666880"/>
            <a:ext cx="3784680" cy="44960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1905120" y="304920"/>
            <a:ext cx="2395440" cy="3930480"/>
          </a:xfrm>
          <a:prstGeom prst="rect">
            <a:avLst/>
          </a:prstGeom>
          <a:ln w="0">
            <a:noFill/>
          </a:ln>
        </p:spPr>
      </p:pic>
      <p:sp>
        <p:nvSpPr>
          <p:cNvPr id="604" name="Rectangular Callout 8"/>
          <p:cNvSpPr/>
          <p:nvPr/>
        </p:nvSpPr>
        <p:spPr>
          <a:xfrm>
            <a:off x="4191120" y="1295280"/>
            <a:ext cx="4495680" cy="990720"/>
          </a:xfrm>
          <a:prstGeom prst="wedgeRectCallout">
            <a:avLst>
              <a:gd name="adj1" fmla="val -46981"/>
              <a:gd name="adj2" fmla="val 127115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Box 9"/>
          <p:cNvSpPr/>
          <p:nvPr/>
        </p:nvSpPr>
        <p:spPr>
          <a:xfrm>
            <a:off x="41911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ANK YOU 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Hardwood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Opposite sides of windows, desk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king slots in parking 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allel Pa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10" descr="j0212957"/>
          <p:cNvPicPr/>
          <p:nvPr/>
        </p:nvPicPr>
        <p:blipFill>
          <a:blip r:embed="rId1"/>
          <a:stretch/>
        </p:blipFill>
        <p:spPr>
          <a:xfrm>
            <a:off x="7467480" y="1143000"/>
            <a:ext cx="1220760" cy="766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parab"/>
          <p:cNvPicPr/>
          <p:nvPr/>
        </p:nvPicPr>
        <p:blipFill>
          <a:blip r:embed="rId2"/>
          <a:stretch/>
        </p:blipFill>
        <p:spPr>
          <a:xfrm>
            <a:off x="6553080" y="2819520"/>
            <a:ext cx="2409840" cy="3809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St"/>
          <p:cNvPicPr/>
          <p:nvPr/>
        </p:nvPicPr>
        <p:blipFill>
          <a:blip r:embed="rId3"/>
          <a:srcRect l="0" t="25019" r="0" b="0"/>
          <a:stretch/>
        </p:blipFill>
        <p:spPr>
          <a:xfrm>
            <a:off x="990720" y="4572000"/>
            <a:ext cx="32954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LIN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LINE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HERE LINE A and LINE B Are PARALL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>
            <a:off x="1066680" y="4114800"/>
            <a:ext cx="5257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>
            <a:off x="990720" y="304812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s that intersect to form a right ang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m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e40059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n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Key Fact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4 right angles are forme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0" name="Group 10"/>
          <p:cNvGrpSpPr/>
          <p:nvPr/>
        </p:nvGrpSpPr>
        <p:grpSpPr>
          <a:xfrm>
            <a:off x="3962520" y="2133720"/>
            <a:ext cx="2759040" cy="2666880"/>
            <a:chOff x="3962520" y="2133720"/>
            <a:chExt cx="2759040" cy="2666880"/>
          </a:xfrm>
        </p:grpSpPr>
        <p:sp>
          <p:nvSpPr>
            <p:cNvPr id="351" name="Line 5"/>
            <p:cNvSpPr/>
            <p:nvPr/>
          </p:nvSpPr>
          <p:spPr>
            <a:xfrm>
              <a:off x="3962520" y="3581280"/>
              <a:ext cx="2361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6"/>
            <p:cNvSpPr/>
            <p:nvPr/>
          </p:nvSpPr>
          <p:spPr>
            <a:xfrm flipV="1">
              <a:off x="5181480" y="2438280"/>
              <a:ext cx="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5181480" y="3352680"/>
              <a:ext cx="22860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8"/>
            <p:cNvSpPr/>
            <p:nvPr/>
          </p:nvSpPr>
          <p:spPr>
            <a:xfrm>
              <a:off x="5241960" y="2133720"/>
              <a:ext cx="3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9"/>
            <p:cNvSpPr/>
            <p:nvPr/>
          </p:nvSpPr>
          <p:spPr>
            <a:xfrm>
              <a:off x="6324480" y="33526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6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21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81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45720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. of Perpendicular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Window panes : The Window Panes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PERPENDICULAR to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0" descr="download (2).jpg"/>
          <p:cNvPicPr/>
          <p:nvPr/>
        </p:nvPicPr>
        <p:blipFill>
          <a:blip r:embed="rId1"/>
          <a:stretch/>
        </p:blipFill>
        <p:spPr>
          <a:xfrm>
            <a:off x="1295280" y="2590920"/>
            <a:ext cx="6172200" cy="3733560"/>
          </a:xfrm>
          <a:prstGeom prst="rect">
            <a:avLst/>
          </a:prstGeom>
          <a:ln w="0">
            <a:noFill/>
          </a:ln>
        </p:spPr>
      </p:pic>
      <p:sp>
        <p:nvSpPr>
          <p:cNvPr id="359" name="Right Arrow 11"/>
          <p:cNvSpPr/>
          <p:nvPr/>
        </p:nvSpPr>
        <p:spPr>
          <a:xfrm>
            <a:off x="2209680" y="2971800"/>
            <a:ext cx="609840" cy="38088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e0021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Down Arrow 13"/>
          <p:cNvSpPr/>
          <p:nvPr/>
        </p:nvSpPr>
        <p:spPr>
          <a:xfrm>
            <a:off x="213372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4114800" y="1652760"/>
            <a:ext cx="2946240" cy="2997000"/>
            <a:chOff x="4114800" y="1652760"/>
            <a:chExt cx="2946240" cy="2997000"/>
          </a:xfrm>
        </p:grpSpPr>
        <p:sp>
          <p:nvSpPr>
            <p:cNvPr id="362" name="Rectangle 14"/>
            <p:cNvSpPr/>
            <p:nvPr/>
          </p:nvSpPr>
          <p:spPr>
            <a:xfrm>
              <a:off x="5486400" y="165276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 rot="3000">
              <a:off x="4114440" y="371016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 rot="3000">
              <a:off x="4190760" y="44719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5"/>
          <p:cNvGrpSpPr/>
          <p:nvPr/>
        </p:nvGrpSpPr>
        <p:grpSpPr>
          <a:xfrm>
            <a:off x="2057400" y="1676520"/>
            <a:ext cx="4099680" cy="3820680"/>
            <a:chOff x="2057400" y="1676520"/>
            <a:chExt cx="4099680" cy="3820680"/>
          </a:xfrm>
        </p:grpSpPr>
        <p:sp>
          <p:nvSpPr>
            <p:cNvPr id="366" name="Rectangle 9"/>
            <p:cNvSpPr/>
            <p:nvPr/>
          </p:nvSpPr>
          <p:spPr>
            <a:xfrm>
              <a:off x="2057400" y="1676520"/>
              <a:ext cx="68580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 rot="17047800">
              <a:off x="4503240" y="4114440"/>
              <a:ext cx="2359080" cy="38412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 line that intersects two lines at different poin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Line 5"/>
          <p:cNvSpPr/>
          <p:nvPr/>
        </p:nvSpPr>
        <p:spPr>
          <a:xfrm flipH="1">
            <a:off x="5408640" y="3246480"/>
            <a:ext cx="550800" cy="200664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 flipV="1">
            <a:off x="4191120" y="4552560"/>
            <a:ext cx="2743200" cy="1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4267080" y="3809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5924160" y="2746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83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43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are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opposit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ngl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83808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 flipH="1">
            <a:off x="2260440" y="2847960"/>
            <a:ext cx="64008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>
            <a:off x="914400" y="39146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2378160" y="3459240"/>
            <a:ext cx="593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277164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2286000" y="391788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2666880" y="391464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214956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259092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2057400" y="4905360"/>
            <a:ext cx="592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2454120" y="490536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>
            <a:off x="99072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289692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 = 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6 = </a:t>
            </a:r>
            <a:r>
              <a:rPr b="0" lang="en-US" sz="40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4419720" y="391464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390204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3581280" y="490536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8"/>
          <p:cNvSpPr/>
          <p:nvPr/>
        </p:nvSpPr>
        <p:spPr>
          <a:xfrm>
            <a:off x="43434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9"/>
          <p:cNvSpPr/>
          <p:nvPr/>
        </p:nvSpPr>
        <p:spPr>
          <a:xfrm>
            <a:off x="4343400" y="4010040"/>
            <a:ext cx="990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1:27:43Z</dcterms:created>
  <dc:creator>Patel</dc:creator>
  <dc:description/>
  <dc:language>en-US</dc:language>
  <cp:lastModifiedBy>RomaK</cp:lastModifiedBy>
  <dcterms:modified xsi:type="dcterms:W3CDTF">2015-09-04T07:42:43Z</dcterms:modified>
  <cp:revision>76</cp:revision>
  <dc:subject/>
  <dc:title>CHAPTER 3</dc:title>
</cp:coreProperties>
</file>