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6E1FF-68E1-4110-9039-88A0E2DC231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ear Equ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ear equations are functions which have two variables.  They have an independent and dependent varia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ear Equ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ear equations are functions which have two variables.  They have an independent and dependent varia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lass Exampl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a + b =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r - 2s =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 + x = 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lass Exampl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a + b =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r - 2s =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 + x = 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ependent and Dependent Variab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ependent Variab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ependent variables are variables that you put into the equ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pendent Variab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pendent variables are variables that you solve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ependent and Dependent Variab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ependent Variab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ependent variables are variables that you put into the equ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pendent Variab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pendent variables are variables that you solve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ust as common sense would dictate.  If something is independent, then it is on its own.  But if it is dependent, then it relies on someone or something el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ependent variable relies on what is used in place of the independent vari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ust as common sense would dictate.  If something is independent, then it is on its own.  But if it is dependent, then it relies on someone or something el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ependent variable relies on what is used in place of the independent vari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 = 2x -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the equation above, y has to be th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vari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ause it is the variable that is being solved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pend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 = 2x -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the equation above, y has to be th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vari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ause it is the variable that is being solved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pend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ause linear equations have two variables,there are many possible combinations of answ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se possible solutions are written as ordered pairs.  Usually an ordered pair is written with the independent variable first then the dependent vari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ause linear equations have two variables,there are many possible combinations of answ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se possible solutions are written as ordered pairs.  Usually an ordered pair is written with the independent variable first then the dependent vari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 = 3x -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ause we solved for y, then x is the independent vari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ordered pair would then be written as ( x , y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 = 3x -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ause we solved for y, then x is the independent vari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ordered pair would then be written as ( x , y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we do not know which variable is independent, then we choose one.  No matter which one is independent, we will still produce similar ordered pai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 r , s ) is similar to ( s , r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congruent/equ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we do not know which variable is independent, then we choose one.  No matter which one is independent, we will still produce similar ordered pai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 r , s ) is similar to ( s , r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congruent/equ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of the time when we use the variables x &amp; y in an equation, x is independent and y is depend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some exceptions, but we will work with those at a much later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of the time when we use the variables x &amp; y in an equation, x is independent and y is depend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some exceptions, but we will work with those at a much later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said before, there are many possible ordered pai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find more than one solution, we use a Table of Val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said before, there are many possible ordered pai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find more than one solution, we use a Table of Val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83CFF-32CB-4CB7-90CA-F99AFCC02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4020A-4F27-42BC-96B9-53A3D3E55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A3BA4-85E8-4E71-9391-477CB045C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AA935-3E4E-46C4-B1C4-641AA2B52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0897D-895A-429E-9DD5-C7DA4A70D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5EBE6-08FB-47C6-A864-62549FCC0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645FF-326A-45EA-9CEE-C143C0AA6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34697-9736-4E59-B26D-0CB287B23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8D1DA-E69B-47C0-B09C-B9FDF8576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CB065-8361-4C89-BD7B-9CC6C2F5A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FA2A1-141F-4DBF-8B5A-90AF13FA2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E81C3-AC6B-42C6-BC2E-8D6B55D89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17F31-3221-49A2-AE1E-BFC371CFBB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2095560" y="457200"/>
            <a:ext cx="4952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Linear Equation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343080" y="2468520"/>
            <a:ext cx="84582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Linear equations are functions which have two variables.  They have an independent and dependent variabl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2"/>
          <p:cNvSpPr/>
          <p:nvPr/>
        </p:nvSpPr>
        <p:spPr>
          <a:xfrm>
            <a:off x="1676520" y="762120"/>
            <a:ext cx="5790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lass Examples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3"/>
          <p:cNvSpPr/>
          <p:nvPr/>
        </p:nvSpPr>
        <p:spPr>
          <a:xfrm>
            <a:off x="2133720" y="2286000"/>
            <a:ext cx="487656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2a + b = 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3r - 2s = 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2 + x = 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1333440" y="0"/>
            <a:ext cx="6477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Independent and Dependent Variab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0" y="1905120"/>
            <a:ext cx="495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Independent Variab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4952880" y="1447920"/>
            <a:ext cx="4191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ndependent variables are variables that you put into the equ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5"/>
          <p:cNvSpPr/>
          <p:nvPr/>
        </p:nvSpPr>
        <p:spPr>
          <a:xfrm>
            <a:off x="0" y="38862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Dependent Variab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6"/>
          <p:cNvSpPr/>
          <p:nvPr/>
        </p:nvSpPr>
        <p:spPr>
          <a:xfrm>
            <a:off x="4952880" y="3429000"/>
            <a:ext cx="4191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ependent variables are variables that you solve f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0" y="22860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Just as common sense would dictate.  If something is independent, then it is on its own.  But if it is dependent, then it relies on someone or something els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0" y="36576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 dependent variable relies on what is used in place of the independent variab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2"/>
          <p:cNvSpPr/>
          <p:nvPr/>
        </p:nvSpPr>
        <p:spPr>
          <a:xfrm>
            <a:off x="1981080" y="380880"/>
            <a:ext cx="5181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y = 2x - 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0" y="175248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Using the equation above, y has to be the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variab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0" y="4038480"/>
            <a:ext cx="4114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Why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1638360" y="4038480"/>
            <a:ext cx="7505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Because it is the variable that is being solved fo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6"/>
          <p:cNvSpPr/>
          <p:nvPr/>
        </p:nvSpPr>
        <p:spPr>
          <a:xfrm>
            <a:off x="228600" y="2286000"/>
            <a:ext cx="2590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Depend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685800" y="533520"/>
            <a:ext cx="77724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Because linear equations have two variables,there are many possible combinations of answe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3"/>
          <p:cNvSpPr/>
          <p:nvPr/>
        </p:nvSpPr>
        <p:spPr>
          <a:xfrm>
            <a:off x="0" y="3429000"/>
            <a:ext cx="9144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hose possible solutions are written as ordered pairs.  Usually an ordered pair is written with the independent variable first then the dependent variab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2"/>
          <p:cNvSpPr/>
          <p:nvPr/>
        </p:nvSpPr>
        <p:spPr>
          <a:xfrm>
            <a:off x="800280" y="685800"/>
            <a:ext cx="754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Example: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y = 3x - 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"/>
          <p:cNvSpPr/>
          <p:nvPr/>
        </p:nvSpPr>
        <p:spPr>
          <a:xfrm>
            <a:off x="647640" y="1905120"/>
            <a:ext cx="7848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Because we solved for y, then x is the independent variab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4"/>
          <p:cNvSpPr/>
          <p:nvPr/>
        </p:nvSpPr>
        <p:spPr>
          <a:xfrm>
            <a:off x="800280" y="4114800"/>
            <a:ext cx="7543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he ordered pair would then be written as ( x , y 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2"/>
          <p:cNvSpPr/>
          <p:nvPr/>
        </p:nvSpPr>
        <p:spPr>
          <a:xfrm>
            <a:off x="0" y="228600"/>
            <a:ext cx="9144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If we do not know which variable is independent, then we choose one.  No matter which one is independent, we will still produce similar ordered pai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0" y="3733920"/>
            <a:ext cx="91440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( r , s ) is similar to ( s , r 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Not congruent/equ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2"/>
          <p:cNvSpPr/>
          <p:nvPr/>
        </p:nvSpPr>
        <p:spPr>
          <a:xfrm>
            <a:off x="419040" y="914400"/>
            <a:ext cx="83059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Most of the time when we use the variables x &amp; y in an equation, x is independent and y is depend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3"/>
          <p:cNvSpPr/>
          <p:nvPr/>
        </p:nvSpPr>
        <p:spPr>
          <a:xfrm>
            <a:off x="228600" y="4267080"/>
            <a:ext cx="8686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here are some exceptions, but we will work with those at a much later ti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2"/>
          <p:cNvSpPr/>
          <p:nvPr/>
        </p:nvSpPr>
        <p:spPr>
          <a:xfrm>
            <a:off x="0" y="37296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s said before, there are many possible ordered pai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0" y="265896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o find more than one solution, we use a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Table of Valu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3543480" y="4343400"/>
          <a:ext cx="2057400" cy="2073240"/>
        </p:xfrm>
        <a:graphic>
          <a:graphicData uri="http://schemas.openxmlformats.org/drawingml/2006/table">
            <a:tbl>
              <a:tblPr/>
              <a:tblGrid>
                <a:gridCol w="1028520"/>
                <a:gridCol w="102888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3T19:49:02Z</dcterms:created>
  <dc:creator>Chester Area School</dc:creator>
  <dc:description/>
  <dc:language>en-US</dc:language>
  <cp:lastModifiedBy>RomaK</cp:lastModifiedBy>
  <dcterms:modified xsi:type="dcterms:W3CDTF">2015-09-04T07:42:34Z</dcterms:modified>
  <cp:revision>16</cp:revision>
  <dc:subject/>
  <dc:title>PowerPoint Presentation</dc:title>
</cp:coreProperties>
</file>