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8724-9213-4B03-80EB-7B0B79AC49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 7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s, rectangles an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 = side ×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ectangle = length × brea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l ×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ase ×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hat is the area of this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.2 × 3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4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hat is the area of this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l × b 6 cm = 6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0 ×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8 ×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4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 length of 7 m was not required to find this triangle’s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4.2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of composit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area of thi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Y + area of square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6 × 2) + (3 ×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2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also be done by subtracting ar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S − area of square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 × 5 − 3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 −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is shaded are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purple shape = area of big rectangle − area of small rect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75 × 45) − (32 × 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5 − 7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607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 the shape in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and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+ area of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16 × 14) + (½ × 14 ×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24 +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2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½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Large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is about the size of 2 football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= (100 × 100)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quare kilometre is a square 1km by 1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= 1000m x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ectares (h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e reserve has an area of 9 577 000 000 m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at is its area in hectares? b What is its area in square kilomet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rea of reserve = 9 577 000 000 m2 (1ha = 10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0 000)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 7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 700 hect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Area of reserve = 9 577 000 000 m2 (1 km2 = 1 000 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 000 000)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7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7 square kilome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of accu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uracy of a measurement is how close that measurement is to the true val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stricted or limited by the accuracy of the measuring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uler is marked in centimetres, so any length measured with it can only be given to the nearest centi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of these measuring scales, state the size of one unit on the scale and state the limit of accu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1 kg. The limits of accuracy are ±0.5 × 1 kg = ±0.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5 mL. The limits of accuracy are ±0.5 × 5 mL = ±2.5 m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a Shape is the Amount of Surface that is Enclosed by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grid paper to determine size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3 squares + ½ square + ½ squ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= 4 cm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units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 =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= 10 × 10 mm2 = 1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 × 100 cm2 = 10 000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0 × 1000 mm 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2 = 1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0 000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 000 0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ion of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ight-angle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1-cm grid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n your grid paper, draw a rectangle 6 cm by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Cut the rectangle in half along a diagonal. What shape have you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Area of rectangle = 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What is the area of each tri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otice regarding the area of the triangle and the area of the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94A-CAA9-41B0-8078-C2123D93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A43-4796-4BDB-ABDF-190534F2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371-5CF4-4BC5-AFD9-A453FF0D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F79-2803-4521-B6AE-C0BEB867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6D6-BFF9-4EC1-B8F5-AEF0F445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7FC-F426-40F4-8E06-35C3581A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6A8-7962-4053-AFF8-447EBCA8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6BA-6BF7-442B-9B6B-4580663E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6B6-75A9-49A5-8D64-18B1D657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E8D-D7B8-4CA7-A73A-9BB6FC2A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159-ECB9-4558-8DAA-3386AF4E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7D9-BB24-405A-8144-A7DB7106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AAD0-B98F-4EF8-9867-2B75B13257B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ngth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ear 7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rea of squares, rectangles and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squ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a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tri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589800" y="191628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23200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227640" y="5472000"/>
            <a:ext cx="280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.2 ×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1024 c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 cm = 6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0 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00 m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41960" y="4508640"/>
            <a:ext cx="23176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8 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24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ngth of 7 m was not required to find this triangle’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4.2 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.3 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573960" y="1546200"/>
            <a:ext cx="2174760" cy="181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composit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Y + area of squar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6 × 2) + (3 ×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572160" y="1071720"/>
            <a:ext cx="25005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also be done by subtract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S − area of squar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 × 5 − 3 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−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about this shaded a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purple shape = area of big rectangle − area of small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75 × 45) − (32 ×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75 − 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607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86000" y="1214280"/>
            <a:ext cx="4676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apes can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hape in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 and a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+ area of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6 × 14) + (½ × 14 ×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4 +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2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786040" cy="271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15000" y="4143240"/>
            <a:ext cx="327672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5008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224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72240" y="428472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c00000"/>
                </a:solidFill>
                <a:latin typeface="Arial"/>
              </a:rPr>
              <a:t>A = ½b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69480" y="4357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98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ing Large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is about the size of 2 footbal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100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)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square kilometre is a square 1km by 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0m x 10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00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= 100 hectares (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4695840"/>
            <a:ext cx="2282760" cy="190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0360" y="170028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nature reserve has an area of 9 577 000 000 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hectares?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square kilome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1ha = 10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0 000)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 7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 700 hec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2 (1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000 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 000 000)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7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7 square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becauseican.co.za/wp-content/uploads/2008/04/ruler_0_10.jpg"/>
          <p:cNvPicPr/>
          <p:nvPr/>
        </p:nvPicPr>
        <p:blipFill>
          <a:blip r:embed="rId1"/>
          <a:stretch/>
        </p:blipFill>
        <p:spPr>
          <a:xfrm>
            <a:off x="826920" y="2060640"/>
            <a:ext cx="6985080" cy="1235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3768840" y="1373040"/>
            <a:ext cx="155520" cy="687600"/>
          </a:xfrm>
          <a:prstGeom prst="downArrow">
            <a:avLst>
              <a:gd name="adj1" fmla="val 50000"/>
              <a:gd name="adj2" fmla="val 110532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048360" cy="1130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4703760" y="4110120"/>
            <a:ext cx="155520" cy="687240"/>
          </a:xfrm>
          <a:prstGeom prst="downArrow">
            <a:avLst>
              <a:gd name="adj1" fmla="val 50000"/>
              <a:gd name="adj2" fmla="val 110475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curacy of a measurement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how close that measurement is to the true va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restricted or limited by the accuracy of the measuring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uler is marked in centimetres, so any length measured with it can only be given to the nearest centi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3527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mit of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ach of these measuring scales, state the size of one unit on the scale and state the limit of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1 kg. The limits of accuracy are ±0.5 × 1 kg = ±0.5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5 mL. The limits of accuracy are ±0.5 × 5 mL = ±2.5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2000" y="2517840"/>
            <a:ext cx="64087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ea of a Shape is the Amount of Surface that is Enclosed by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3030480"/>
            <a:ext cx="7848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use grid paper to determine size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= 4c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a = 3 squares + ½ square + ½ squar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= 4 cm 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75400" y="2492280"/>
            <a:ext cx="2425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onverting unit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341360"/>
            <a:ext cx="848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2 = 10 × 10 m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 × 100 c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 000 c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0 × 1000 mm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 000 0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113600" y="1844640"/>
            <a:ext cx="2138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54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 000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 000 0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vestigation of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ea of right-angled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will need 1-cm grid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 your grid paper, draw a rectangle 6 cm by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t the rectangle in half along a diagonal. What shape have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ctangle = 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each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you notice regarding the area of the triangle and the area of the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1:24Z</dcterms:created>
  <dc:creator>fshanks</dc:creator>
  <dc:description/>
  <dc:language>en-US</dc:language>
  <cp:lastModifiedBy>RomaK</cp:lastModifiedBy>
  <dcterms:modified xsi:type="dcterms:W3CDTF">2015-09-04T07:42:28Z</dcterms:modified>
  <cp:revision>17</cp:revision>
  <dc:subject/>
  <dc:title>Length and Area</dc:title>
</cp:coreProperties>
</file>