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.wmf" ContentType="image/x-wmf"/>
  <Override PartName="/ppt/media/image2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B3F7-1115-4E6B-B29D-CC5661CB37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and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ar 7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s, rectangles an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quare = side × s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ectangle = length × bread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l ×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ase × h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What is the area of this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s ×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.2 × 3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24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What is the area of this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l × b 6 cm = 6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0 ×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8 ×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4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 length of 7 m was not required to find this triangle’s are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Find the area of this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triangle = ½ × b ×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½ × 4.2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.3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s of composit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area of this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Y + area of square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6 × 2) + (3 ×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2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also be done by subtracting are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S − area of square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6 × 5 − 3 ×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0 −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1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this shaded are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purple shape = area of big rectangle − area of small rect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75 × 45) − (32 × 2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375 − 76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607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s can you se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 the shape in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and a rect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shape = area of rectangle + area of 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16 × 14) + (½ × 14 × 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224 + 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322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½b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8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Large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is about the size of 2 football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ctare = (100 × 100)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a = 1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quare kilometre is a square 1km by 1k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m2 = 1000m x 100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 000 000 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100 hectares (h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e reserve has an area of 9 577 000 000 m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at is its area in hectares? b What is its area in square kilometr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rea of reserve = 9 577 000 000 m2 (1ha = 10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0 000)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 700 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 700 hect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Area of reserve = 9 577 000 000 m2 (1 km2 = 1 000 000m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(9 577 000 000 ÷ 1 000 000)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9577 k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the reserve is 9577 square kilomet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asu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of accurac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uracy of a measurement is how close that measurement is to the true val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restricted or limited by the accuracy of the measuring instru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uler is marked in centimetres, so any length measured with it can only be given to the nearest centi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 of Accu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ach of these measuring scales, state the size of one unit on the scale and state the limit of accu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1 kg. The limits of accuracy are ±0.5 × 1 kg = ±0.5 k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of one unit is 5 mL. The limits of accuracy are ±0.5 × 5 mL = ±2.5 m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rea of a Shape is the Amount of Surface that is Enclosed by the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grid paper to determine size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4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= 3 squares + ½ square + ½ squar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= 4 cm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ting units of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 = 1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m2 = 10 × 10 mm2 = 1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 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 × 100 cm2 = 10 000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 = 1000 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2 = 1000 × 1000 mm = 1 000 000 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ouble the number of zero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rsions of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cm2 = 1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0 000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m2 = 1 000 000m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stigation of Area of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a of right-angled triang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need 1-cm grid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On your grid paper, draw a rectangle 6 cm by 4 c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Cut the rectangle in half along a diagonal. What shape have you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Area of rectangle = 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cm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What is the area of each tri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notice regarding the area of the triangle and the area of the rectang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EFE-E829-4FA3-B454-979BB1EE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18E-843F-435B-807C-0391CB27E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8872-4927-417D-A80C-BFED2BFF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BFB-B3E7-4A58-9637-E16F4594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1EF-80C0-4CCA-8287-03DCA5F7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BBD-9D69-49E6-87FF-26F57570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FB54-9631-497B-90D5-B07D5E67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572D-70BE-47C8-93D1-2AAD0FFA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286-4181-47AA-8126-85E59CDD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B645-A906-486F-A7DB-135CF183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7DC6-4049-4889-A380-6B7711D8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AD0-046E-46A7-A817-9ECDA5E8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24D3-E21B-413B-BE28-2134737D493F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ength and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Year 7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Area of squares, rectangles and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squ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length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rea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Area of triangl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s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½ 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i="1" lang="en-AU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589800" y="1916280"/>
            <a:ext cx="1727280" cy="1295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443640" y="3933720"/>
            <a:ext cx="2232000" cy="107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6227640" y="5472000"/>
            <a:ext cx="2808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squ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.2 ×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1024 c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this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=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6 cm = 6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0 ×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300 m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372360" y="1989000"/>
            <a:ext cx="2087280" cy="155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6141960" y="4508640"/>
            <a:ext cx="23176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8 ×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24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ength of 7 m was not required to find this triangle’s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nd the area of this tri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triangle = ½ 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½ × 4.2 ×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6.3 c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6573960" y="1546200"/>
            <a:ext cx="2174760" cy="1811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443640" y="4581360"/>
            <a:ext cx="2232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s of composite sh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area of this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Y + area of square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6 × 2) + (3 ×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2 +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572160" y="1071720"/>
            <a:ext cx="2500560" cy="2000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6572160" y="4286160"/>
            <a:ext cx="24289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tho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also be done by subtracting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S − area of squar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6 × 5 − 3 ×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0 −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1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214960" y="4000680"/>
            <a:ext cx="328608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hat about this shaded are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2920" y="1599840"/>
            <a:ext cx="87868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purple shape = area of big rectangle − area of small rect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75 × 45) − (32 ×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375 − 7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607 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286000" y="1214280"/>
            <a:ext cx="46767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85840" y="500040"/>
            <a:ext cx="840096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apes can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the shape into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 and a rec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 of shape = area of rectangle + area of 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16 × 14) + (½ × 14 ×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224 + 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322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000840" y="214200"/>
            <a:ext cx="2786040" cy="2710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5715000" y="4143240"/>
            <a:ext cx="3276720" cy="24289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5"/>
          <p:cNvSpPr/>
          <p:nvPr/>
        </p:nvSpPr>
        <p:spPr>
          <a:xfrm>
            <a:off x="6500880" y="5572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224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7572240" y="4284720"/>
            <a:ext cx="128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c00000"/>
                </a:solidFill>
                <a:latin typeface="Arial"/>
              </a:rPr>
              <a:t>A = ½b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6369480" y="43578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c00000"/>
                </a:solidFill>
                <a:latin typeface="Arial"/>
              </a:rPr>
              <a:t>98cm</a:t>
            </a:r>
            <a:r>
              <a:rPr b="1" lang="en-AU" sz="1800" spc="-1" strike="noStrike" baseline="30000">
                <a:solidFill>
                  <a:srgbClr val="c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ing Large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is about the size of 2 football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ectare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(100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×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)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ha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square kilometre is a square 1km by 1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km2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000m x 10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1 000 000 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= 100 hectares (h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804000" y="4695840"/>
            <a:ext cx="2282760" cy="1901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6840360" y="1700280"/>
            <a:ext cx="24847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nature reserve has an area of 9 577 000 000 m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hectares? </a:t>
            </a: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its area in square kilomet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(1ha = 10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0 000)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 700 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 700 hect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serve = 9 577 000 000 m2 (1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 =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1 000 000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(9 577 000 000 ÷ 1 000 000) k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= 9577 km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rea of the reserve is 9577 square kilomet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becauseican.co.za/wp-content/uploads/2008/04/ruler_0_10.jpg"/>
          <p:cNvPicPr/>
          <p:nvPr/>
        </p:nvPicPr>
        <p:blipFill>
          <a:blip r:embed="rId1"/>
          <a:stretch/>
        </p:blipFill>
        <p:spPr>
          <a:xfrm>
            <a:off x="826920" y="2060640"/>
            <a:ext cx="6985080" cy="123516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"/>
          <p:cNvSpPr/>
          <p:nvPr/>
        </p:nvSpPr>
        <p:spPr>
          <a:xfrm>
            <a:off x="3768840" y="1373040"/>
            <a:ext cx="155520" cy="687600"/>
          </a:xfrm>
          <a:prstGeom prst="downArrow">
            <a:avLst>
              <a:gd name="adj1" fmla="val 50000"/>
              <a:gd name="adj2" fmla="val 110532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1403280" y="4508640"/>
            <a:ext cx="6048360" cy="113004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/>
          <p:cNvSpPr/>
          <p:nvPr/>
        </p:nvSpPr>
        <p:spPr>
          <a:xfrm>
            <a:off x="4703760" y="4110120"/>
            <a:ext cx="155520" cy="687240"/>
          </a:xfrm>
          <a:prstGeom prst="downArrow">
            <a:avLst>
              <a:gd name="adj1" fmla="val 50000"/>
              <a:gd name="adj2" fmla="val 110475"/>
            </a:avLst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Limits of accurac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accuracy of a measurement 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s how close that measurement is to the true valu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is is restricted or limited by the accuracy of the measuring instr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ruler is marked in centimetres, so any length measured with it can only be given to the nearest centime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5508720" y="5229360"/>
            <a:ext cx="35272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Limit of Accura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4358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 each of these measuring scales, state the size of one unit on the scale and state the limit of accu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1 kg. The limits of accuracy are ±0.5 × 1 kg = ±0.5 k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size of one unit is 5 mL. The limits of accuracy are ±0.5 × 5 mL = ±2.5 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332000" y="2517840"/>
            <a:ext cx="640872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he Area of a Shape is the Amount of Surface that is Enclosed by th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11280" y="3030480"/>
            <a:ext cx="78483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use grid paper to determine size of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rea = 4cm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rea = 3 squares + ½ square + ½ squar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        = 4 cm 2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5675400" y="2492280"/>
            <a:ext cx="24256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Converting units of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9840" y="1341360"/>
            <a:ext cx="84801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 = 1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cm2 = 10 × 10 m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 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 × 100 cm2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0 000 c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 = 1000 m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1 m2 = 1000 × 1000 mm = </a:t>
            </a:r>
            <a:r>
              <a:rPr b="1" lang="en-AU" sz="2600" spc="-1" strike="noStrike">
                <a:solidFill>
                  <a:srgbClr val="cc0000"/>
                </a:solidFill>
                <a:latin typeface="Arial"/>
              </a:rPr>
              <a:t>1 000 000 mm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(double the number of zer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113600" y="1844640"/>
            <a:ext cx="2138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onversions of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92360" y="1773000"/>
            <a:ext cx="5472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0 000c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1m</a:t>
            </a:r>
            <a:r>
              <a:rPr b="1" lang="en-AU" sz="28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r>
              <a:rPr b="1" lang="en-AU" sz="3600" spc="-1" strike="noStrike">
                <a:solidFill>
                  <a:srgbClr val="cc0000"/>
                </a:solidFill>
                <a:latin typeface="Arial"/>
              </a:rPr>
              <a:t> = 1 000 000mm</a:t>
            </a:r>
            <a:r>
              <a:rPr b="1" lang="en-AU" sz="3600" spc="-1" strike="noStrike" baseline="30000">
                <a:solidFill>
                  <a:srgbClr val="cc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Investigation of Area of Tri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rea of right-angled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You will need 1-cm grid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n your grid paper, draw a rectangle 6 cm by 4 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ut the rectangle in half along a diagonal. What shape have you ma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rea of rectangle = 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 c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is the area of each tri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at do you notice regarding the area of the triangle and the area of the rectang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23:01:24Z</dcterms:created>
  <dc:creator>fshanks</dc:creator>
  <dc:description/>
  <dc:language>en-US</dc:language>
  <cp:lastModifiedBy>RomaK</cp:lastModifiedBy>
  <dcterms:modified xsi:type="dcterms:W3CDTF">2015-09-04T07:42:28Z</dcterms:modified>
  <cp:revision>17</cp:revision>
  <dc:subject/>
  <dc:title>Length and Area</dc:title>
</cp:coreProperties>
</file>