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3.wmf" ContentType="image/x-wmf"/>
  <Override PartName="/ppt/media/image2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1.jpeg" ContentType="image/jpeg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BB9D-B6D3-4496-B6CC-F3A985F707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 7 Ma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squares, rectangles and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square = side × s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s ×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rectangle = length × bread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l ×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triangle = ½ × base × he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½ × b ×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What is the area of this squa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= s ×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.2 × 3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24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What is the area of this rectang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= l × b 6 cm = 60 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60 ×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00 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a Trian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Find the area of this tria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triangle = ½ × b ×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½ × 8 ×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4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The length of 7 m was not required to find this triangle’s are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Find the area of this tria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triangle = ½ × b ×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½ × 4.2 ×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6.3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s of composite sha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area of this sha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shape = area of rectangle Y + area of square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6 × 2) + (3 ×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2 +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1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can also be done by subtracting are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shape = area of rectangle S − area of square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6 × 5 − 3 ×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0 −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1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this shaded are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purple shape = area of big rectangle − area of small rectan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75 × 45) − (32 × 2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375 − 76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607 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hapes can you se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 the shape into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angle and a recta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shape = area of rectangle + area of trian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16 × 14) + (½ × 14 × 1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24 + 9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22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4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½b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8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Large Ar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ectare is about the size of 2 football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ectare = (100 × 100)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a = 10 000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quare kilometre is a square 1km by 1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km2 = 1000m x 100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 000 000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 hectares (h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ature reserve has an area of 9 577 000 000 m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hat is its area in hectares? b What is its area in square kilometr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Area of reserve = 9 577 000 000 m2 (1ha = 10000m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9 577 000 000 ÷ 10 000) 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957 700 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rea of the reserve is 957 700 hect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Area of reserve = 9 577 000 000 m2 (1 km2 = 1 000 000m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9 577 000 000 ÷ 1 000 000) k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9577 k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rea of the reserve is 9577 square kilomet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asur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s of accurac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curacy of a measurement is how close that measurement is to the true valu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restricted or limited by the accuracy of the measuring instru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uler is marked in centimetres, so any length measured with it can only be given to the nearest centimet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 of Accura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ach of these measuring scales, state the size of one unit on the scale and state the limit of accura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ze of one unit is 1 kg. The limits of accuracy are ±0.5 × 1 kg = ±0.5 k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ze of one unit is 5 mL. The limits of accuracy are ±0.5 × 5 mL = ±2.5 m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rea of a Shape is the Amount of Surface that is Enclosed by the sha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use grid paper to determine size of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= 4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= 3 squares + ½ square + ½ squar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= 4 cm 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ing units of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 = 10 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2 = 10 × 10 mm2 = 100 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ouble the number of zero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 = 10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2 = 100 × 100 cm2 = 10 000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ouble the number of zero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 = 1000 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2 = 1000 × 1000 mm = 1 000 000 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ouble the number of zero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sions of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cm2 = 100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m2 = 10 000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m2 = 1 000 000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stigation of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right-angled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ill need 1-cm grid pa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On your grid paper, draw a rectangle 6 cm by 4 c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Cut the rectangle in half along a diagonal. What shape have you ma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Area of rectangle = 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What is the area of each triang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notice regarding the area of the triangle and the area of the rectang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04BE-F932-479E-B52C-2F5A93C71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FEF6-E803-4DAD-B0DA-9C60A7B9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5331-33DE-4A4B-9EE4-823283DFB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754D-6D9D-4789-A2F4-35D3F18BB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C724-7D7B-46E4-A0C3-3B02ABEB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D858-C3EA-4986-A14A-AD7262D5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95E6-ACAF-4AD1-99C2-FD5959B2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3206-D9B0-489C-AB30-B7B861D6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3548-CA86-4C33-B5B5-9D44D6F8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0CC9-69F9-4B2E-892C-B4FDA579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FD6F-1A5E-4D6C-9545-582F1EE2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3733-18FA-4369-BCB0-152E15AE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A282-B1A6-4B55-93E7-341D949DECDC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Length and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Year 7 M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Area of squares, rectangles and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Area of squar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sid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Area of rectangl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length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brea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Area of triangl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½ ×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bas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½ ×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6589800" y="1916280"/>
            <a:ext cx="1727280" cy="1295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6443640" y="3933720"/>
            <a:ext cx="2232000" cy="1079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6227640" y="5472000"/>
            <a:ext cx="280836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is the area of this squa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=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3.2 ×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1024 c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is the area of this rectang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=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6 cm = 6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60 ×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300 m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6372360" y="1989000"/>
            <a:ext cx="2087280" cy="1557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6141960" y="4508640"/>
            <a:ext cx="231768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Area of a Tri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nd the area of this tri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of triangle = ½ 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½ × 8 ×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24 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length of 7 m was not required to find this triangle’s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nd the area of this tri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of triangle = ½ 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½ × 4.2 ×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6.3 c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6573960" y="1546200"/>
            <a:ext cx="2174760" cy="1811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6443640" y="4581360"/>
            <a:ext cx="2232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reas of composite sha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area of this sha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of shape = area of rectangle Y + area of square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6 × 2) + (3 ×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2 +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1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6572160" y="1071720"/>
            <a:ext cx="2500560" cy="2000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6572160" y="4286160"/>
            <a:ext cx="242892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thod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also be done by subtracting a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of shape = area of rectangle S − area of squar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6 × 5 − 3 ×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30 −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1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5214960" y="4000680"/>
            <a:ext cx="328608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What about this shaded are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42920" y="1599840"/>
            <a:ext cx="87868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of purple shape = area of big rectangle − area of small rect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75 × 45) − (32 × 2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3375 − 7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607 m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2286000" y="1214280"/>
            <a:ext cx="467676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85840" y="500040"/>
            <a:ext cx="840096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at shapes can you s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the shape into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ngle and a rectang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of shape = area of rectangle + area of tri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16 × 14) + (½ × 14 × 1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24 + 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322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6000840" y="214200"/>
            <a:ext cx="2786040" cy="2710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5715000" y="4143240"/>
            <a:ext cx="3276720" cy="24289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"/>
          <p:cNvSpPr/>
          <p:nvPr/>
        </p:nvSpPr>
        <p:spPr>
          <a:xfrm>
            <a:off x="6500880" y="557208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c00000"/>
                </a:solidFill>
                <a:latin typeface="Arial"/>
              </a:rPr>
              <a:t>224cm</a:t>
            </a:r>
            <a:r>
              <a:rPr b="1" lang="en-AU" sz="1800" spc="-1" strike="noStrike" baseline="30000">
                <a:solidFill>
                  <a:srgbClr val="c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7572240" y="4284720"/>
            <a:ext cx="1285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c00000"/>
                </a:solidFill>
                <a:latin typeface="Arial"/>
              </a:rPr>
              <a:t>A = ½b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6369480" y="435780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c00000"/>
                </a:solidFill>
                <a:latin typeface="Arial"/>
              </a:rPr>
              <a:t>98cm</a:t>
            </a:r>
            <a:r>
              <a:rPr b="1" lang="en-AU" sz="1800" spc="-1" strike="noStrike" baseline="30000">
                <a:solidFill>
                  <a:srgbClr val="c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Measuring Large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hectare is about the size of 2 football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hectar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(100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00) m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ha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0 000 m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square kilometre is a square 1km by 1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km2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000m x 100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000 000 m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= 100 hectares (h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6804000" y="4695840"/>
            <a:ext cx="2282760" cy="1901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2"/>
          <a:stretch/>
        </p:blipFill>
        <p:spPr>
          <a:xfrm>
            <a:off x="6840360" y="1700280"/>
            <a:ext cx="24847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 nature reserve has an area of 9 577 000 000 m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is its area in hectares?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is its area in square kilomet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of reserve = 9 577 000 000 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(1ha = 10000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(9 577 000 000 ÷ 10 000) 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957 700 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area of the reserve is 957 700 hect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of reserve = 9 577 000 000 m2 (1 k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 =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1 000 000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(9 577 000 000 ÷ 1 000 000) k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9577 k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area of the reserve is 9577 square kilomet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Measu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http://becauseican.co.za/wp-content/uploads/2008/04/ruler_0_10.jpg"/>
          <p:cNvPicPr/>
          <p:nvPr/>
        </p:nvPicPr>
        <p:blipFill>
          <a:blip r:embed="rId1"/>
          <a:stretch/>
        </p:blipFill>
        <p:spPr>
          <a:xfrm>
            <a:off x="826920" y="2060640"/>
            <a:ext cx="6985080" cy="123516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5"/>
          <p:cNvSpPr/>
          <p:nvPr/>
        </p:nvSpPr>
        <p:spPr>
          <a:xfrm>
            <a:off x="3768840" y="1373040"/>
            <a:ext cx="155520" cy="687600"/>
          </a:xfrm>
          <a:prstGeom prst="downArrow">
            <a:avLst>
              <a:gd name="adj1" fmla="val 50000"/>
              <a:gd name="adj2" fmla="val 110532"/>
            </a:avLst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2"/>
          <a:stretch/>
        </p:blipFill>
        <p:spPr>
          <a:xfrm>
            <a:off x="1403280" y="4508640"/>
            <a:ext cx="6048360" cy="113004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7"/>
          <p:cNvSpPr/>
          <p:nvPr/>
        </p:nvSpPr>
        <p:spPr>
          <a:xfrm>
            <a:off x="4703760" y="4110120"/>
            <a:ext cx="155520" cy="687240"/>
          </a:xfrm>
          <a:prstGeom prst="downArrow">
            <a:avLst>
              <a:gd name="adj1" fmla="val 50000"/>
              <a:gd name="adj2" fmla="val 110475"/>
            </a:avLst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Limits of accurac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accuracy of a measurement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s how close that measurement is to the true valu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is is restricted or limited by the accuracy of the measuring instr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ruler is marked in centimetres, so any length measured with it can only be given to the nearest centimet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5508720" y="5229360"/>
            <a:ext cx="352728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Limit of Accur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or each of these measuring scales, state the size of one unit on the scale and state the limit of accura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size of one unit is 1 kg. The limits of accuracy are ±0.5 × 1 kg = ±0.5 k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size of one unit is 5 mL. The limits of accuracy are ±0.5 × 5 mL = ±2.5 m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332000" y="2517840"/>
            <a:ext cx="640872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Area</a:t>
            </a: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Area of a Shape is the Amount of Surface that is Enclosed by the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611280" y="3030480"/>
            <a:ext cx="784836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an use grid paper to determine size of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rea = 4cm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rea = 3 squares + ½ square + ½ squar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         = 4 cm 2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79280" y="2421000"/>
            <a:ext cx="3816360" cy="244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5675400" y="2492280"/>
            <a:ext cx="24256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Converting units of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39840" y="1341360"/>
            <a:ext cx="84801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cm = 10 m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cm2 = 10 × 10 mm2 = </a:t>
            </a:r>
            <a:r>
              <a:rPr b="1" lang="en-AU" sz="2600" spc="-1" strike="noStrike">
                <a:solidFill>
                  <a:srgbClr val="cc0000"/>
                </a:solidFill>
                <a:latin typeface="Arial"/>
              </a:rPr>
              <a:t>100 mm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(double the number of zero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m = 100 c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m2 = 100 × 100 cm2 = </a:t>
            </a:r>
            <a:r>
              <a:rPr b="1" lang="en-AU" sz="2600" spc="-1" strike="noStrike">
                <a:solidFill>
                  <a:srgbClr val="cc0000"/>
                </a:solidFill>
                <a:latin typeface="Arial"/>
              </a:rPr>
              <a:t>10 000 cm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(double the number of zero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m = 1000 m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m2 = 1000 × 1000 mm = </a:t>
            </a:r>
            <a:r>
              <a:rPr b="1" lang="en-AU" sz="2600" spc="-1" strike="noStrike">
                <a:solidFill>
                  <a:srgbClr val="cc0000"/>
                </a:solidFill>
                <a:latin typeface="Arial"/>
              </a:rPr>
              <a:t>1 000 000 mm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(double the number of zero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7113600" y="1844640"/>
            <a:ext cx="21384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onversions of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92360" y="1773000"/>
            <a:ext cx="54720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1cm</a:t>
            </a:r>
            <a:r>
              <a:rPr b="1" lang="en-AU" sz="3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 = 100mm</a:t>
            </a:r>
            <a:r>
              <a:rPr b="1" lang="en-AU" sz="3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1m</a:t>
            </a:r>
            <a:r>
              <a:rPr b="1" lang="en-AU" sz="3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 = 10 000cm</a:t>
            </a:r>
            <a:r>
              <a:rPr b="1" lang="en-AU" sz="3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1m</a:t>
            </a:r>
            <a:r>
              <a:rPr b="1" lang="en-AU" sz="28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 = 1 000 000mm</a:t>
            </a:r>
            <a:r>
              <a:rPr b="1" lang="en-AU" sz="3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Investigation of Area of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rea of right-angled triang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You will need 1-cm grid pap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n your grid paper, draw a rectangle 6 cm by 4 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ut the rectangle in half along a diagonal. What shape have you ma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of rectangle = 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= cm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is the area of each triang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do you notice regarding the area of the triangle and the area of the rectang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23:01:24Z</dcterms:created>
  <dc:creator>fshanks</dc:creator>
  <dc:description/>
  <dc:language>en-US</dc:language>
  <cp:lastModifiedBy>RomaK</cp:lastModifiedBy>
  <dcterms:modified xsi:type="dcterms:W3CDTF">2015-09-04T07:42:28Z</dcterms:modified>
  <cp:revision>17</cp:revision>
  <dc:subject/>
  <dc:title>Length and Area</dc:title>
</cp:coreProperties>
</file>