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EF45-5F62-4681-831C-736F42B45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0ED-3348-4E9C-B823-2B82D4C5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33B-D5B4-457F-9AAF-DF30494C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0E5-E290-4ED9-801E-7F1D840C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6CC9-76E8-4040-98E1-ABD783AE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CC91-AF6D-4A62-9546-D6C3B577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0CF-BF49-4F97-A278-2EE5A48D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26C9-665D-4678-A103-AA9B3407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68D-272E-4091-A866-71E230F3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6C3A-C843-4A40-B37F-D23917E9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2A8-5CA7-44DC-BE3C-2892A8C0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D489-F56F-4844-BF33-EE7E28E6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C70-0ED0-49E3-87AC-5F0E52AC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4200-51B8-44F0-9D4D-75D5D1B76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59040" y="457200"/>
            <a:ext cx="542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43080" y="1447920"/>
            <a:ext cx="845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ever we have variables which contain exponents and have equal bases, we can do certain mathematical operations to them.  Those operations are called the “Laws of Exponent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477800" y="4724280"/>
            <a:ext cx="6188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66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= expon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9"/>
          <p:cNvSpPr/>
          <p:nvPr/>
        </p:nvSpPr>
        <p:spPr>
          <a:xfrm>
            <a:off x="1859040" y="380880"/>
            <a:ext cx="542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w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2"/>
              <p:cNvSpPr txBox="1"/>
              <p:nvPr/>
            </p:nvSpPr>
            <p:spPr>
              <a:xfrm>
                <a:off x="895320" y="1143000"/>
                <a:ext cx="7353360" cy="500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5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&gt;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5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&gt;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028880" y="685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ther Properties of Expon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905120" y="1709640"/>
                <a:ext cx="20574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 Box 4"/>
          <p:cNvSpPr/>
          <p:nvPr/>
        </p:nvSpPr>
        <p:spPr>
          <a:xfrm>
            <a:off x="0" y="3200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y single number or variable is always to the first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5"/>
              <p:cNvSpPr txBox="1"/>
              <p:nvPr/>
            </p:nvSpPr>
            <p:spPr>
              <a:xfrm>
                <a:off x="76320" y="4876920"/>
                <a:ext cx="89913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4876920" y="1405080"/>
                <a:ext cx="2484360" cy="20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400480" y="1522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152280" y="914400"/>
                <a:ext cx="2700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895480" y="914400"/>
                <a:ext cx="21081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5029200" y="990720"/>
                <a:ext cx="922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0" y="2514600"/>
                <a:ext cx="23702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2286000" y="2743200"/>
                <a:ext cx="19130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4191120" y="2743200"/>
                <a:ext cx="112392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0" y="4572000"/>
                <a:ext cx="243828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2362320" y="4572000"/>
                <a:ext cx="164916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" name="Rectangle 19"/>
          <p:cNvSpPr/>
          <p:nvPr/>
        </p:nvSpPr>
        <p:spPr>
          <a:xfrm>
            <a:off x="5029200" y="990720"/>
            <a:ext cx="939960" cy="1019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4114800" y="2743200"/>
            <a:ext cx="1344600" cy="102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2438280" y="4495680"/>
            <a:ext cx="1479600" cy="1316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0" y="609480"/>
                <a:ext cx="2354400" cy="24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2362320" y="762120"/>
                <a:ext cx="1114200" cy="21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52280" y="2743200"/>
                <a:ext cx="167184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752480" y="2743200"/>
                <a:ext cx="2168640" cy="20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3962520" y="3276720"/>
                <a:ext cx="8665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0" y="4572000"/>
                <a:ext cx="1671480" cy="20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1523880" y="4724280"/>
                <a:ext cx="21034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3657600" y="4724280"/>
                <a:ext cx="105084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Rectangle 10"/>
          <p:cNvSpPr/>
          <p:nvPr/>
        </p:nvSpPr>
        <p:spPr>
          <a:xfrm>
            <a:off x="2362320" y="685800"/>
            <a:ext cx="1371600" cy="21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3886200" y="3276720"/>
            <a:ext cx="1371600" cy="960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3581280" y="4572000"/>
            <a:ext cx="137160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1638360" y="1522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ic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228600" y="533520"/>
                <a:ext cx="1790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1981080" y="533520"/>
                <a:ext cx="1933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3886200" y="533520"/>
                <a:ext cx="8287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52280" y="1143000"/>
                <a:ext cx="2719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8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2819520" y="1143000"/>
                <a:ext cx="2798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638680" y="1143000"/>
                <a:ext cx="11271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152280" y="2514600"/>
                <a:ext cx="1398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523880" y="2514600"/>
                <a:ext cx="15336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2971800" y="2514600"/>
                <a:ext cx="123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152280" y="3124080"/>
                <a:ext cx="14623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1523880" y="3200400"/>
                <a:ext cx="1266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4"/>
              <p:cNvSpPr txBox="1"/>
              <p:nvPr/>
            </p:nvSpPr>
            <p:spPr>
              <a:xfrm>
                <a:off x="2743200" y="3200400"/>
                <a:ext cx="8002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9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5"/>
              <p:cNvSpPr txBox="1"/>
              <p:nvPr/>
            </p:nvSpPr>
            <p:spPr>
              <a:xfrm>
                <a:off x="152280" y="1752480"/>
                <a:ext cx="1828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6"/>
              <p:cNvSpPr txBox="1"/>
              <p:nvPr/>
            </p:nvSpPr>
            <p:spPr>
              <a:xfrm>
                <a:off x="1905120" y="1828800"/>
                <a:ext cx="20556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7"/>
              <p:cNvSpPr txBox="1"/>
              <p:nvPr/>
            </p:nvSpPr>
            <p:spPr>
              <a:xfrm>
                <a:off x="3886200" y="1828800"/>
                <a:ext cx="17240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8"/>
              <p:cNvSpPr txBox="1"/>
              <p:nvPr/>
            </p:nvSpPr>
            <p:spPr>
              <a:xfrm>
                <a:off x="5562720" y="1828800"/>
                <a:ext cx="1160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0"/>
              <p:cNvSpPr txBox="1"/>
              <p:nvPr/>
            </p:nvSpPr>
            <p:spPr>
              <a:xfrm>
                <a:off x="228600" y="4343400"/>
                <a:ext cx="10652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21"/>
              <p:cNvSpPr txBox="1"/>
              <p:nvPr/>
            </p:nvSpPr>
            <p:spPr>
              <a:xfrm>
                <a:off x="1295280" y="4343400"/>
                <a:ext cx="14320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2"/>
              <p:cNvSpPr txBox="1"/>
              <p:nvPr/>
            </p:nvSpPr>
            <p:spPr>
              <a:xfrm>
                <a:off x="2666880" y="4648320"/>
                <a:ext cx="663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23"/>
              <p:cNvSpPr txBox="1"/>
              <p:nvPr/>
            </p:nvSpPr>
            <p:spPr>
              <a:xfrm>
                <a:off x="228600" y="5334120"/>
                <a:ext cx="1065240" cy="109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24"/>
              <p:cNvSpPr txBox="1"/>
              <p:nvPr/>
            </p:nvSpPr>
            <p:spPr>
              <a:xfrm>
                <a:off x="1295280" y="5410080"/>
                <a:ext cx="1430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25"/>
              <p:cNvSpPr txBox="1"/>
              <p:nvPr/>
            </p:nvSpPr>
            <p:spPr>
              <a:xfrm>
                <a:off x="2666880" y="5410080"/>
                <a:ext cx="10954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6"/>
              <p:cNvSpPr txBox="1"/>
              <p:nvPr/>
            </p:nvSpPr>
            <p:spPr>
              <a:xfrm>
                <a:off x="3733920" y="5410080"/>
                <a:ext cx="5634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27"/>
          <p:cNvSpPr/>
          <p:nvPr/>
        </p:nvSpPr>
        <p:spPr>
          <a:xfrm>
            <a:off x="3886200" y="533520"/>
            <a:ext cx="83808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5562720" y="11430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5562720" y="1828800"/>
            <a:ext cx="121896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2971800" y="2514600"/>
            <a:ext cx="121932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2743200" y="3200400"/>
            <a:ext cx="762120" cy="121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2666880" y="4648320"/>
            <a:ext cx="762120" cy="5331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3733920" y="5334120"/>
            <a:ext cx="60948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228600" y="838080"/>
                <a:ext cx="231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⋅</m:t>
                    </m:r>
                    <m:r>
                      <m:t xml:space="preserve">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514600" y="838080"/>
                <a:ext cx="26319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5105520" y="838080"/>
                <a:ext cx="1331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152280" y="1828800"/>
                <a:ext cx="3181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3276720" y="1828800"/>
                <a:ext cx="32972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6553080" y="1828800"/>
                <a:ext cx="10699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8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152280" y="3048120"/>
                <a:ext cx="25196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2666880" y="3124080"/>
                <a:ext cx="350064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68580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2895480" y="3886200"/>
                <a:ext cx="2227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5105520" y="3886200"/>
                <a:ext cx="11570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228600" y="5105520"/>
                <a:ext cx="156204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1752480" y="5181480"/>
                <a:ext cx="1738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8"/>
              <p:cNvSpPr txBox="1"/>
              <p:nvPr/>
            </p:nvSpPr>
            <p:spPr>
              <a:xfrm>
                <a:off x="3505320" y="5181480"/>
                <a:ext cx="136188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20"/>
              <p:cNvSpPr txBox="1"/>
              <p:nvPr/>
            </p:nvSpPr>
            <p:spPr>
              <a:xfrm>
                <a:off x="4876920" y="5181480"/>
                <a:ext cx="15350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1"/>
              <p:cNvSpPr txBox="1"/>
              <p:nvPr/>
            </p:nvSpPr>
            <p:spPr>
              <a:xfrm>
                <a:off x="6400800" y="5181480"/>
                <a:ext cx="147636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9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22"/>
              <p:cNvSpPr txBox="1"/>
              <p:nvPr/>
            </p:nvSpPr>
            <p:spPr>
              <a:xfrm>
                <a:off x="7848720" y="5181480"/>
                <a:ext cx="982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Rectangle 23"/>
          <p:cNvSpPr/>
          <p:nvPr/>
        </p:nvSpPr>
        <p:spPr>
          <a:xfrm>
            <a:off x="5105520" y="838080"/>
            <a:ext cx="137160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6553080" y="1828800"/>
            <a:ext cx="106704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5"/>
          <p:cNvSpPr/>
          <p:nvPr/>
        </p:nvSpPr>
        <p:spPr>
          <a:xfrm>
            <a:off x="5029200" y="3886200"/>
            <a:ext cx="121932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6"/>
          <p:cNvSpPr/>
          <p:nvPr/>
        </p:nvSpPr>
        <p:spPr>
          <a:xfrm>
            <a:off x="7848720" y="5181480"/>
            <a:ext cx="990360" cy="106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14:28:38Z</dcterms:created>
  <dc:creator>Chester Area School</dc:creator>
  <dc:description/>
  <dc:language>en-US</dc:language>
  <cp:lastModifiedBy>RomaK</cp:lastModifiedBy>
  <dcterms:modified xsi:type="dcterms:W3CDTF">2015-09-04T07:42:18Z</dcterms:modified>
  <cp:revision>30</cp:revision>
  <dc:subject/>
  <dc:title>PowerPoint Presentation</dc:title>
</cp:coreProperties>
</file>