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4C01-289A-4B0C-A608-EFB0C080C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2B5-2780-4FA0-8D59-C35155AC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851-A53E-4202-B9F1-4F1913B7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F2E-3A39-4AF5-ABE1-5955FF34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937-6AA1-4A8F-A09A-CDDE0501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FEC-9384-49A7-88BE-0452A31E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E44-7AB9-479B-B980-8C05526A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D34-51DF-418D-8357-F546FBF3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014-576A-4FF2-B808-C1E08945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44D-F518-4C91-96EE-7741FD27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603-2B32-4267-ABDE-3F76349C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13B-C8E0-41AD-9BCC-50CCA63E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BC4-BEFC-4545-99C3-4B8A320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7D7A-4469-499F-B0F4-FE42BFC31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9040" y="457200"/>
            <a:ext cx="54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144792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7800" y="4724280"/>
            <a:ext cx="61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1859040" y="3808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895320" y="1143000"/>
                <a:ext cx="735336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288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905120" y="1709640"/>
                <a:ext cx="20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4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76320" y="4876920"/>
                <a:ext cx="8991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876920" y="1405080"/>
                <a:ext cx="248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00480" y="152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152280" y="914400"/>
                <a:ext cx="27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895480" y="914400"/>
                <a:ext cx="210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5029200" y="990720"/>
                <a:ext cx="922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0" y="2514600"/>
                <a:ext cx="23702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286000" y="2743200"/>
                <a:ext cx="19130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4191120" y="2743200"/>
                <a:ext cx="11239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0" y="4572000"/>
                <a:ext cx="24382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2362320" y="4572000"/>
                <a:ext cx="16491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Rectangle 19"/>
          <p:cNvSpPr/>
          <p:nvPr/>
        </p:nvSpPr>
        <p:spPr>
          <a:xfrm>
            <a:off x="5029200" y="990720"/>
            <a:ext cx="939960" cy="101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114800" y="2743200"/>
            <a:ext cx="1344600" cy="102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2438280" y="4495680"/>
            <a:ext cx="1479600" cy="131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609480"/>
                <a:ext cx="235440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362320" y="762120"/>
                <a:ext cx="1114200" cy="21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2280" y="2743200"/>
                <a:ext cx="167184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752480" y="2743200"/>
                <a:ext cx="21686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3962520" y="3276720"/>
                <a:ext cx="866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0" y="4572000"/>
                <a:ext cx="16714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523880" y="4724280"/>
                <a:ext cx="21034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657600" y="4724280"/>
                <a:ext cx="105084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2362320" y="685800"/>
            <a:ext cx="1371600" cy="21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3276720"/>
            <a:ext cx="137160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581280" y="4572000"/>
            <a:ext cx="137160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638360" y="15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228600" y="533520"/>
                <a:ext cx="1790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81080" y="533520"/>
                <a:ext cx="1933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886200" y="533520"/>
                <a:ext cx="828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52280" y="1143000"/>
                <a:ext cx="2719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819520" y="1143000"/>
                <a:ext cx="2798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143000"/>
                <a:ext cx="1127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152280" y="2514600"/>
                <a:ext cx="139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523880" y="2514600"/>
                <a:ext cx="153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971800" y="2514600"/>
                <a:ext cx="123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152280" y="3124080"/>
                <a:ext cx="14623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1523880" y="3200400"/>
                <a:ext cx="1266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743200" y="3200400"/>
                <a:ext cx="8002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152280" y="175248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1905120" y="1828800"/>
                <a:ext cx="2055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3886200" y="1828800"/>
                <a:ext cx="172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562720" y="1828800"/>
                <a:ext cx="1160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228600" y="4343400"/>
                <a:ext cx="1065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1295280" y="4343400"/>
                <a:ext cx="1432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2"/>
              <p:cNvSpPr txBox="1"/>
              <p:nvPr/>
            </p:nvSpPr>
            <p:spPr>
              <a:xfrm>
                <a:off x="2666880" y="4648320"/>
                <a:ext cx="663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3"/>
              <p:cNvSpPr txBox="1"/>
              <p:nvPr/>
            </p:nvSpPr>
            <p:spPr>
              <a:xfrm>
                <a:off x="228600" y="5334120"/>
                <a:ext cx="10652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4"/>
              <p:cNvSpPr txBox="1"/>
              <p:nvPr/>
            </p:nvSpPr>
            <p:spPr>
              <a:xfrm>
                <a:off x="1295280" y="5410080"/>
                <a:ext cx="14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5"/>
              <p:cNvSpPr txBox="1"/>
              <p:nvPr/>
            </p:nvSpPr>
            <p:spPr>
              <a:xfrm>
                <a:off x="2666880" y="5410080"/>
                <a:ext cx="109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6"/>
              <p:cNvSpPr txBox="1"/>
              <p:nvPr/>
            </p:nvSpPr>
            <p:spPr>
              <a:xfrm>
                <a:off x="3733920" y="5410080"/>
                <a:ext cx="563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27"/>
          <p:cNvSpPr/>
          <p:nvPr/>
        </p:nvSpPr>
        <p:spPr>
          <a:xfrm>
            <a:off x="3886200" y="533520"/>
            <a:ext cx="8380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5562720" y="11430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562720" y="18288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2971800" y="2514600"/>
            <a:ext cx="121932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743200" y="3200400"/>
            <a:ext cx="76212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2666880" y="4648320"/>
            <a:ext cx="762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733920" y="533412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228600" y="838080"/>
                <a:ext cx="23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14600" y="838080"/>
                <a:ext cx="2631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105520" y="838080"/>
                <a:ext cx="133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52280" y="1828800"/>
                <a:ext cx="3181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276720" y="1828800"/>
                <a:ext cx="329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6553080" y="1828800"/>
                <a:ext cx="1069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152280" y="3048120"/>
                <a:ext cx="251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666880" y="3124080"/>
                <a:ext cx="3500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8580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89548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5105520" y="3886200"/>
                <a:ext cx="115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228600" y="5105520"/>
                <a:ext cx="156204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1752480" y="5181480"/>
                <a:ext cx="1738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505320" y="5181480"/>
                <a:ext cx="1361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4876920" y="5181480"/>
                <a:ext cx="15350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6400800" y="5181480"/>
                <a:ext cx="1476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7848720" y="5181480"/>
                <a:ext cx="982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5105520" y="838080"/>
            <a:ext cx="13716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553080" y="1828800"/>
            <a:ext cx="106704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029200" y="3886200"/>
            <a:ext cx="12193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848720" y="5181480"/>
            <a:ext cx="99036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28:38Z</dcterms:created>
  <dc:creator>Chester Area School</dc:creator>
  <dc:description/>
  <dc:language>en-US</dc:language>
  <cp:lastModifiedBy>RomaK</cp:lastModifiedBy>
  <dcterms:modified xsi:type="dcterms:W3CDTF">2015-09-04T07:42:18Z</dcterms:modified>
  <cp:revision>30</cp:revision>
  <dc:subject/>
  <dc:title>PowerPoint Presentation</dc:title>
</cp:coreProperties>
</file>