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DFBD-F0B5-4347-A371-10153248A3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Exponential Growth and Deca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Exponential Growth and Decay are functions which have been widely used to model the behavior of a variety of topic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and Dec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and Decay are functions which have been widely used to model the behavior of a variety of t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Growth and Decay are largely used in: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Economic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Natural Science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ocial Science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 and Decay are largely used 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Growth can be modeled by the function: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While Decay can be modeled by: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 can be modeled by the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Decay can be model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(t) represents the amount at a certain tim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0 is the initial amount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r = rat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t = tim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(t) represents the amount at a certain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0 is the initial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A204-9CAF-4F89-A9D7-8714E5EAE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EBF5-54CA-4C61-AAD9-2FB81EE3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2EF3-5707-476F-ADBA-704101E43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DAA0-6E2D-4EDA-9387-5762995C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74ED-EFD3-4377-B0D8-4D8A4DF8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1476-49DE-422F-ABFF-882ACCE1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80A0-C483-42D8-9A5A-A602BEDF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E109-9DAF-491E-AB09-B86A058A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B1DF-F8D0-4C81-AAFB-195EA093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38C7-157B-4E37-82ED-48DB2C53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B419-8131-4F59-81D9-CCA1393F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6213-61CC-4D59-BC65-824D7A53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7AF9-9631-41E2-8A9E-31A28409F8A0}" type="slidenum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71680" y="228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xponential Growth and Decay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47640" y="204300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xponential Growth and Decay are functions which have been widely used to model the behavior of a variety of topics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8600" y="6094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rowth and Decay are largely used in: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1" name="WordArt 3"/>
          <p:cNvSpPr txBox="1"/>
          <p:nvPr/>
        </p:nvSpPr>
        <p:spPr>
          <a:xfrm>
            <a:off x="2895480" y="1457280"/>
            <a:ext cx="3353040" cy="19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conomic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380880" y="3809880"/>
            <a:ext cx="3505320" cy="18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atural Scienc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5029200" y="3886200"/>
            <a:ext cx="3657600" cy="19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0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ocial Scienc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533520" y="914400"/>
            <a:ext cx="3657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Growth can be modeled by the function: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572000" y="1295280"/>
            <a:ext cx="4343400" cy="1447920"/>
          </a:xfrm>
          <a:prstGeom prst="rect">
            <a:avLst/>
          </a:prstGeom>
          <a:solidFill>
            <a:srgbClr val="ff0066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7"/>
              <p:cNvSpPr txBox="1"/>
              <p:nvPr/>
            </p:nvSpPr>
            <p:spPr>
              <a:xfrm>
                <a:off x="4648320" y="1447920"/>
                <a:ext cx="425268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" name="Text Box 8"/>
          <p:cNvSpPr/>
          <p:nvPr/>
        </p:nvSpPr>
        <p:spPr>
          <a:xfrm>
            <a:off x="457200" y="3809880"/>
            <a:ext cx="3657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hile Decay can be modeled by: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4572000" y="3886200"/>
            <a:ext cx="4343400" cy="1447920"/>
          </a:xfrm>
          <a:prstGeom prst="rect">
            <a:avLst/>
          </a:prstGeom>
          <a:solidFill>
            <a:srgbClr val="ff0066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10"/>
              <p:cNvSpPr txBox="1"/>
              <p:nvPr/>
            </p:nvSpPr>
            <p:spPr>
              <a:xfrm>
                <a:off x="4648320" y="4038480"/>
                <a:ext cx="425268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28600" y="914400"/>
            <a:ext cx="4343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(t) represents the amount at a certain time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800600" y="1219320"/>
            <a:ext cx="434340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is the initial amount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14400" y="380988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 = rate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410080" y="3809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 = time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3T16:21:52Z</dcterms:created>
  <dc:creator>Chester Area School</dc:creator>
  <dc:description/>
  <dc:language>en-US</dc:language>
  <cp:lastModifiedBy>RomaK</cp:lastModifiedBy>
  <dcterms:modified xsi:type="dcterms:W3CDTF">2015-09-04T07:41:59Z</dcterms:modified>
  <cp:revision>15</cp:revision>
  <dc:subject/>
  <dc:title>PowerPoint Presentation</dc:title>
</cp:coreProperties>
</file>