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9D59-DDF9-4883-A4D2-2B702CDC62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and Decay are largely used 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can be modeled by the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Decay can be model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99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(t) represents the amount at a certai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0 is the initial am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178-1647-472E-8C87-DF83FB571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80F-473D-467D-B65C-53B6C032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9BA-37B9-49CB-BFF2-CE608AC0F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1F8C-4C7B-423F-A271-7F9BC093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227-9857-497B-BF24-0C8EE5AE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168-F7AE-4019-9C3E-BF0109D7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FF7D-D82E-4080-B615-54607931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D29-DB22-4B67-BC4C-7EE7B4C6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2C4-1BDB-41D7-BBDA-4D1E8CEB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28B-05EF-41E2-9445-9B524971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9AB-DC1C-4814-A617-07AA527A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4343-DA00-46EB-9BA6-D5AE6FB7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BF6E-D4D1-4E18-B168-29C0AF66CAE5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71680" y="228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47640" y="204300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xponential Growth and Decay are functions which have been widely used to model the behavior of a variety of topic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6094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Growth and Decay are largely used in: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2895480" y="1457280"/>
            <a:ext cx="3353040" cy="19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conomic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380880" y="3809880"/>
            <a:ext cx="3505320" cy="18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atural Scienc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5029200" y="3886200"/>
            <a:ext cx="3657600" cy="19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0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ocial Scien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33520" y="91440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Growth can be modeled by the function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0" y="129528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7"/>
              <p:cNvSpPr txBox="1"/>
              <p:nvPr/>
            </p:nvSpPr>
            <p:spPr>
              <a:xfrm>
                <a:off x="4648320" y="1447920"/>
                <a:ext cx="425268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Text Box 8"/>
          <p:cNvSpPr/>
          <p:nvPr/>
        </p:nvSpPr>
        <p:spPr>
          <a:xfrm>
            <a:off x="457200" y="380988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ile Decay can be modeled by: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4572000" y="3886200"/>
            <a:ext cx="4343400" cy="1447920"/>
          </a:xfrm>
          <a:prstGeom prst="rect">
            <a:avLst/>
          </a:prstGeom>
          <a:solidFill>
            <a:srgbClr val="ff0066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4648320" y="4038480"/>
                <a:ext cx="425268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914400"/>
            <a:ext cx="434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(t) represents the amount at a certain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800600" y="1219320"/>
            <a:ext cx="43434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is the initial amoun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14400" y="380988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r = rat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410080" y="3809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 = tim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3T16:21:52Z</dcterms:created>
  <dc:creator>Chester Area School</dc:creator>
  <dc:description/>
  <dc:language>en-US</dc:language>
  <cp:lastModifiedBy>RomaK</cp:lastModifiedBy>
  <dcterms:modified xsi:type="dcterms:W3CDTF">2015-09-04T07:41:59Z</dcterms:modified>
  <cp:revision>15</cp:revision>
  <dc:subject/>
  <dc:title>PowerPoint Presentation</dc:title>
</cp:coreProperties>
</file>