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BDB5-9B7D-422D-B01C-6C9192292F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.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ing data to show relationships using cha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etch a graph of thi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½ x – 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ype of graph would best show the growth of the pla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circl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box-and-whisker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l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stem-and-leaf plo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 1 1 3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31, 31, 33, 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301, 301, 303, 3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.  3010, 3010, 3030, 30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key reads  “2 l 7 = 270” what numbers would this represent?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l 1 1 3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.  310, 310, 330, 3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max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med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m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7F2D-0DB4-4A25-9C9F-4CDE454F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C8C8F-845B-47E5-A61A-731BC3A4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871F-E516-447E-9A9F-74357241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01917-EB92-4B22-A333-C2C914EF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3FDD-EC6D-4B06-AFE2-33EFE90B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F383-AE14-435D-809B-5652C6F2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76DA-4E94-4F0B-82CE-368C2C1F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8B7A-24AA-4CA8-A267-5826C2AE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2118-16C8-49A9-BEE7-F6BAAA6E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E03A-2BDF-4485-A80D-61EC36F8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D844-6AFA-4D33-A957-E814847B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A3027-9C2C-4B4C-989F-4B66810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F871-BF54-493B-8961-D949BFE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F65F-1C9B-4834-8FD0-5A1C8012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837B-408A-4EB2-8C35-DAD45F2A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38D64-EDDA-4DC7-A7E3-8F0C30A6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99F2-59D9-45E8-94C1-3D1DF0FE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E6D5-79FD-4639-AABA-AE015099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23AE-647F-4461-BC62-3BDA427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D6CD-88DC-4368-911D-92BB126D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8DC4-01B0-476B-8335-5FAE045E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D4AF3-25A6-4B90-9F8B-26BB754B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EAEE-EFBE-4F0F-951A-120DA193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8417-699B-47BA-8DDB-0B8B3D70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047-3C8F-4D7C-A6BD-0F5C7C918E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9D97-6A10-4B0C-BC68-F0409071C0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Graphs</a:t>
            </a:r>
            <a:br>
              <a:rPr sz="45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.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senting data to show relationships using char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ketch a graph of this equation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 = ½ x –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371600" y="1219320"/>
          <a:ext cx="5715000" cy="4876560"/>
        </p:xfrm>
        <a:graphic>
          <a:graphicData uri="http://schemas.openxmlformats.org/drawingml/2006/table">
            <a:tbl>
              <a:tblPr/>
              <a:tblGrid>
                <a:gridCol w="571680"/>
                <a:gridCol w="569880"/>
                <a:gridCol w="574560"/>
                <a:gridCol w="569880"/>
                <a:gridCol w="571680"/>
                <a:gridCol w="571320"/>
                <a:gridCol w="569880"/>
                <a:gridCol w="574560"/>
                <a:gridCol w="570240"/>
                <a:gridCol w="571320"/>
              </a:tblGrid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36"/>
          <p:cNvSpPr/>
          <p:nvPr/>
        </p:nvSpPr>
        <p:spPr>
          <a:xfrm>
            <a:off x="1371600" y="4114800"/>
            <a:ext cx="5486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7"/>
          <p:cNvSpPr/>
          <p:nvPr/>
        </p:nvSpPr>
        <p:spPr>
          <a:xfrm flipV="1">
            <a:off x="4191120" y="1828800"/>
            <a:ext cx="0" cy="4648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138"/>
          <p:cNvSpPr/>
          <p:nvPr/>
        </p:nvSpPr>
        <p:spPr>
          <a:xfrm flipV="1">
            <a:off x="2971800" y="4419720"/>
            <a:ext cx="3886200" cy="17524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9"/>
          <p:cNvSpPr/>
          <p:nvPr/>
        </p:nvSpPr>
        <p:spPr>
          <a:xfrm>
            <a:off x="3581280" y="5486400"/>
            <a:ext cx="457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0"/>
          <p:cNvSpPr/>
          <p:nvPr/>
        </p:nvSpPr>
        <p:spPr>
          <a:xfrm>
            <a:off x="518148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1"/>
          <p:cNvSpPr/>
          <p:nvPr/>
        </p:nvSpPr>
        <p:spPr>
          <a:xfrm>
            <a:off x="63244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42"/>
          <p:cNvSpPr/>
          <p:nvPr/>
        </p:nvSpPr>
        <p:spPr>
          <a:xfrm>
            <a:off x="2666880" y="411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43"/>
          <p:cNvSpPr/>
          <p:nvPr/>
        </p:nvSpPr>
        <p:spPr>
          <a:xfrm>
            <a:off x="411480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4"/>
          <p:cNvSpPr/>
          <p:nvPr/>
        </p:nvSpPr>
        <p:spPr>
          <a:xfrm>
            <a:off x="67816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type of graph would best show the growth of the plant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 science experiment Joey is measuring the growth of a bean plant.  Joey measures the height of the plant every Monday for two month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circl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bar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box-and-whisker pl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line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On a stem-and-leaf plot,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key reads  “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= 270” what numbers would this represent?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 1 3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  31, 31, 33, 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  301, 301, 303, 3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.  3010, 3010, 3030, 3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.  310, 310, 330, 3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hich of these Values is not used to create a box-and-whisker plot?</a:t>
            </a:r>
            <a:br>
              <a:rPr sz="3500"/>
            </a:b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min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maxim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 med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 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Create a bar graph with this data on Pro Basketball players and the colleges they attended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019240" y="3352680"/>
          <a:ext cx="5292720" cy="1600200"/>
        </p:xfrm>
        <a:graphic>
          <a:graphicData uri="http://schemas.openxmlformats.org/drawingml/2006/table">
            <a:tbl>
              <a:tblPr/>
              <a:tblGrid>
                <a:gridCol w="1058760"/>
                <a:gridCol w="1057320"/>
                <a:gridCol w="1060560"/>
                <a:gridCol w="1057320"/>
                <a:gridCol w="10587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st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th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er 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Object 6"/>
          <p:cNvGraphicFramePr/>
          <p:nvPr/>
        </p:nvGraphicFramePr>
        <p:xfrm>
          <a:off x="1812960" y="2443320"/>
          <a:ext cx="5638680" cy="35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2443320"/>
                    <a:ext cx="5638680" cy="35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41:53Z</dcterms:modified>
  <cp:revision>9</cp:revision>
  <dc:subject/>
  <dc:title>Percent</dc:title>
</cp:coreProperties>
</file>