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EFD7-1414-4887-ACAA-0203A4CEB0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ing data to show relationships using ch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etch a graph of thi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ype of graph would best show the growth of the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circl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box-and-whisker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stem-and-leaf plo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 1 1 3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31, 31, 33,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301, 301, 303, 3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.  3010, 3010, 3030, 30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l 1 1 3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56F4B-BFDC-4F6F-92C0-909CA216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A2E5-C72D-48A7-8B81-6EEF3C1A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F0038-79E0-4F2C-BC11-6295B20C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A721-AE83-4D89-A292-22A14666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733D-7520-4F1B-8682-2BCC0AC0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7501-2ABA-4841-9754-6453C3EC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4C3B-F741-4699-90A4-8BA28934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0392-8606-4DA0-AD71-F77B5036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3D1F-1DAE-4587-B274-7AC3423F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33C6-60B3-4EB0-8C87-C72653AB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BB88-15D4-4999-8C2C-B44E6408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C3596-1DB6-4FA8-9E08-EB6EDE2A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4500-861B-4DE2-88CC-2ACE369B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4533-DE06-4B13-9ECA-8FC2A5A7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18ED-FA65-4EFA-B96C-1B5AF912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BDF5-FAB5-4947-AF0E-0FC30D69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3FF6-045B-4E0F-B036-057F762E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75072-A83C-47B7-915F-5F4F2E33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ACD0B-2AA3-4E8A-9ECF-242D78AD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AD911-E470-4E3F-997B-4907C847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EB8E-B67C-4DB5-9334-FEEA1231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AEF9-2D15-4161-AF54-BC804BCA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23908-E568-4D0C-9DED-5AE120CD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F57B-306B-4ADC-A3A6-3F1CF06A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9201-AEDC-4703-8C59-6575F20AAB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609D-2F6A-4B20-AA44-303E39063A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45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371600" y="1219320"/>
          <a:ext cx="5715000" cy="4876560"/>
        </p:xfrm>
        <a:graphic>
          <a:graphicData uri="http://schemas.openxmlformats.org/drawingml/2006/table">
            <a:tbl>
              <a:tblPr/>
              <a:tblGrid>
                <a:gridCol w="571680"/>
                <a:gridCol w="569880"/>
                <a:gridCol w="574560"/>
                <a:gridCol w="569880"/>
                <a:gridCol w="571680"/>
                <a:gridCol w="571320"/>
                <a:gridCol w="569880"/>
                <a:gridCol w="574560"/>
                <a:gridCol w="570240"/>
                <a:gridCol w="57132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36"/>
          <p:cNvSpPr/>
          <p:nvPr/>
        </p:nvSpPr>
        <p:spPr>
          <a:xfrm>
            <a:off x="1371600" y="41148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37"/>
          <p:cNvSpPr/>
          <p:nvPr/>
        </p:nvSpPr>
        <p:spPr>
          <a:xfrm flipV="1">
            <a:off x="4191120" y="1828800"/>
            <a:ext cx="0" cy="4648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38"/>
          <p:cNvSpPr/>
          <p:nvPr/>
        </p:nvSpPr>
        <p:spPr>
          <a:xfrm flipV="1">
            <a:off x="2971800" y="4419720"/>
            <a:ext cx="3886200" cy="175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9"/>
          <p:cNvSpPr/>
          <p:nvPr/>
        </p:nvSpPr>
        <p:spPr>
          <a:xfrm>
            <a:off x="3581280" y="5486400"/>
            <a:ext cx="4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0"/>
          <p:cNvSpPr/>
          <p:nvPr/>
        </p:nvSpPr>
        <p:spPr>
          <a:xfrm>
            <a:off x="5181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1"/>
          <p:cNvSpPr/>
          <p:nvPr/>
        </p:nvSpPr>
        <p:spPr>
          <a:xfrm>
            <a:off x="6324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2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3"/>
          <p:cNvSpPr/>
          <p:nvPr/>
        </p:nvSpPr>
        <p:spPr>
          <a:xfrm>
            <a:off x="411480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4"/>
          <p:cNvSpPr/>
          <p:nvPr/>
        </p:nvSpPr>
        <p:spPr>
          <a:xfrm>
            <a:off x="67816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key reads  “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= 270” what numbers would this represent?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 1 3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19240" y="3352680"/>
          <a:ext cx="5292720" cy="1600200"/>
        </p:xfrm>
        <a:graphic>
          <a:graphicData uri="http://schemas.openxmlformats.org/drawingml/2006/table">
            <a:tbl>
              <a:tblPr/>
              <a:tblGrid>
                <a:gridCol w="1058760"/>
                <a:gridCol w="1057320"/>
                <a:gridCol w="1060560"/>
                <a:gridCol w="1057320"/>
                <a:gridCol w="10587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er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1812960" y="2443320"/>
          <a:ext cx="563868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443320"/>
                    <a:ext cx="563868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41:53Z</dcterms:modified>
  <cp:revision>9</cp:revision>
  <dc:subject/>
  <dc:title>Percent</dc:title>
</cp:coreProperties>
</file>