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5535-9EC5-452E-8570-07D1B1D1CB0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.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ing data to show relationships using ch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.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data to show relationships using char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etch a graph of thi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½ 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tch a graph of this equ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 = ½ x – 3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ype of graph would best show the growth of the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cience experiment Joey is measuring the growth of a bean plant.  Joey measures the height of the plant every Monday for two month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l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circl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box-and-whisker p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type of graph would best show the growth of the pla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a science experiment Joey is measuring the growth of a bean plant.  Joey measures the height of the plant every Monday for two month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 circl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 bar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box-and-whisker pl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l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stem-and-leaf plo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key reads  “2 l 7 = 270” what numbers would this represent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l 1 1 3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31, 31, 33,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301, 301, 303, 3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  310, 310, 330, 3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.  3010, 3010, 3030, 30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stem-and-leaf plo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key reads  “2 l 7 = 270” what numbers would this represent?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l 1 1 3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  31, 31, 33, 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.  301, 301, 303, 3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.  3010, 3010, 3030, 30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  310, 310, 330, 3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se Values is not used to create a box-and-whisker plot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se Values is not used to create a box-and-whisker plot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minim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 maxim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 med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a bar graph with this data on Pro Basketball players and the colleges they atten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bar graph with this data on Pro Basketball players and the colleges they attend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19B4-C40D-42FA-A026-05A08B6B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A17DF-939A-4B55-8F69-0CFB55D3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DC890-5809-4F67-B0FA-E6D1D086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21CF1-9A06-4042-8FDB-5057F2B1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F973-D58F-4481-8322-E750A3B5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8D9E-C6C7-4223-9EBB-86C71FFB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F7CD-4634-4121-BFF1-AB1FE30F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AAC1-D92A-4CEA-8C22-FC088C2E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CB13-EC3A-4F0C-93BC-C5E82CBD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28B7-E3EB-4E47-BB3D-92375A67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63B7-FE50-4AAC-A98E-97339C56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F09ED-2E61-4F21-8F01-490E99E1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A620-25F9-4667-B887-920D77C5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B3D4-4932-4970-9AB0-08023C21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3CB3-6D4A-4133-937E-C60A99EB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EC27-7B3C-4CF6-9E41-C0DC368E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6DA6-B955-459A-900F-1BA73DBB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EF6BF-17D2-449F-BBBB-661D0915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7C2F6-5890-42A9-8A13-B0B498E8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9506F-DD6C-4CA1-9FF4-105D978F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A2CB-70D6-444E-A4EB-B9385409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6BC5C-C12B-43FF-9482-2CF73DC4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6F4BF-FA9A-4CA4-8825-FC1A580F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4C5C3-7A9C-4B8F-8169-036CDCF3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B834-6E3B-4EE3-A13B-8DD8985E89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F6A0-D2DF-4E83-9ABF-941F6EC4A7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Graphs</a:t>
            </a:r>
            <a:br>
              <a:rPr sz="45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senting data to show relationships using char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ketch a graph of this equation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½ x –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371600" y="1219320"/>
          <a:ext cx="5715000" cy="4876560"/>
        </p:xfrm>
        <a:graphic>
          <a:graphicData uri="http://schemas.openxmlformats.org/drawingml/2006/table">
            <a:tbl>
              <a:tblPr/>
              <a:tblGrid>
                <a:gridCol w="571680"/>
                <a:gridCol w="569880"/>
                <a:gridCol w="574560"/>
                <a:gridCol w="569880"/>
                <a:gridCol w="571680"/>
                <a:gridCol w="571320"/>
                <a:gridCol w="569880"/>
                <a:gridCol w="574560"/>
                <a:gridCol w="570240"/>
                <a:gridCol w="57132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136"/>
          <p:cNvSpPr/>
          <p:nvPr/>
        </p:nvSpPr>
        <p:spPr>
          <a:xfrm>
            <a:off x="1371600" y="411480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37"/>
          <p:cNvSpPr/>
          <p:nvPr/>
        </p:nvSpPr>
        <p:spPr>
          <a:xfrm flipV="1">
            <a:off x="4191120" y="1828800"/>
            <a:ext cx="0" cy="4648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38"/>
          <p:cNvSpPr/>
          <p:nvPr/>
        </p:nvSpPr>
        <p:spPr>
          <a:xfrm flipV="1">
            <a:off x="2971800" y="4419720"/>
            <a:ext cx="3886200" cy="175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39"/>
          <p:cNvSpPr/>
          <p:nvPr/>
        </p:nvSpPr>
        <p:spPr>
          <a:xfrm>
            <a:off x="3581280" y="5486400"/>
            <a:ext cx="457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40"/>
          <p:cNvSpPr/>
          <p:nvPr/>
        </p:nvSpPr>
        <p:spPr>
          <a:xfrm>
            <a:off x="5181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1"/>
          <p:cNvSpPr/>
          <p:nvPr/>
        </p:nvSpPr>
        <p:spPr>
          <a:xfrm>
            <a:off x="63244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42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43"/>
          <p:cNvSpPr/>
          <p:nvPr/>
        </p:nvSpPr>
        <p:spPr>
          <a:xfrm>
            <a:off x="411480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4"/>
          <p:cNvSpPr/>
          <p:nvPr/>
        </p:nvSpPr>
        <p:spPr>
          <a:xfrm>
            <a:off x="6781680" y="3886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ich type of graph would best show the growth of the plant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 science experiment Joey is measuring the growth of a bean plant.  Joey measures the height of the plant every Monday for two month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circl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bar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box-and-whisker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n a stem-and-leaf plot,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key reads  “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= 270” what numbers would this represent?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 1 3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 31, 31, 33, 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301, 301, 303, 3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.  3010, 3010, 3030, 3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ich of these Values is not used to create a box-and-whisker plot?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minim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maxim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med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reate a bar graph with this data on Pro Basketball players and the colleges they attended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019240" y="3352680"/>
          <a:ext cx="5292720" cy="1600200"/>
        </p:xfrm>
        <a:graphic>
          <a:graphicData uri="http://schemas.openxmlformats.org/drawingml/2006/table">
            <a:tbl>
              <a:tblPr/>
              <a:tblGrid>
                <a:gridCol w="1058760"/>
                <a:gridCol w="1057320"/>
                <a:gridCol w="1060560"/>
                <a:gridCol w="1057320"/>
                <a:gridCol w="10587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t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st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th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ter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Object 6"/>
          <p:cNvGraphicFramePr/>
          <p:nvPr/>
        </p:nvGraphicFramePr>
        <p:xfrm>
          <a:off x="1812960" y="2443320"/>
          <a:ext cx="5638680" cy="35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2443320"/>
                    <a:ext cx="563868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48:15Z</dcterms:created>
  <dc:creator>ESLL Program Honolulu District</dc:creator>
  <dc:description/>
  <dc:language>en-US</dc:language>
  <cp:lastModifiedBy>RomaK</cp:lastModifiedBy>
  <dcterms:modified xsi:type="dcterms:W3CDTF">2015-09-04T07:41:53Z</dcterms:modified>
  <cp:revision>9</cp:revision>
  <dc:subject/>
  <dc:title>Percent</dc:title>
</cp:coreProperties>
</file>