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F519-AA1A-4881-874E-23F57577F2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ing data to show relationships using ch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etch a graph of thi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ype of graph would best show the growth of the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circl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box-and-whisker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stem-and-leaf plo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 1 1 3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31, 31, 33,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301, 301, 303, 3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  3010, 3010, 3030, 30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l 1 1 3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203FB-3653-489C-8B18-A2F4CE1D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1172-B24D-4695-8B45-B131475B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9401-805D-46C5-9E8D-17ED029D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8EF1-4606-4D2A-8C97-E2AF19B6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F22E-C129-41A4-A179-E59F9173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3824-12C2-48A5-A833-C92E2E80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6209-328A-4EE7-A5D8-9D971DA8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4AA7-7D56-427C-B587-B7A78B12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E51D-A3E1-46B3-B64A-13A4F357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7102-AFF7-44F4-9CD5-BD1E6AC6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5C06-F74E-4801-81F7-4FCA247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07F6-A079-402F-BF9A-7E0057D6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179D-A33E-4CA1-B2FE-49B2A181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2332-8750-47E7-89D1-AC2DEAFB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C269-5903-4133-BBFA-A926F5BF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9715-CFC0-48D9-A777-DE4E137E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1706-62B6-401D-B979-1DEA917F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128DA-D564-458A-9CE4-E1564FCC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4FC01-C379-4B01-8E2F-FC9D54F0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2E74-8CD0-433C-9D6E-B725E7A8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5644-E844-4000-970B-104CD630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E390-9429-48A2-9879-87A2F14B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0759D-8AEB-45CA-A81F-6A2448D5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69AA-3F3D-4707-8923-6DC09EF3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FE6C-9D20-4BC2-BCAD-A431F753A9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D0C5-C158-493A-B6F2-3B8334A196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45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71600" y="1219320"/>
          <a:ext cx="5715000" cy="4876560"/>
        </p:xfrm>
        <a:graphic>
          <a:graphicData uri="http://schemas.openxmlformats.org/drawingml/2006/table">
            <a:tbl>
              <a:tblPr/>
              <a:tblGrid>
                <a:gridCol w="571680"/>
                <a:gridCol w="569880"/>
                <a:gridCol w="574560"/>
                <a:gridCol w="569880"/>
                <a:gridCol w="571680"/>
                <a:gridCol w="571320"/>
                <a:gridCol w="569880"/>
                <a:gridCol w="574560"/>
                <a:gridCol w="570240"/>
                <a:gridCol w="57132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36"/>
          <p:cNvSpPr/>
          <p:nvPr/>
        </p:nvSpPr>
        <p:spPr>
          <a:xfrm>
            <a:off x="1371600" y="41148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7"/>
          <p:cNvSpPr/>
          <p:nvPr/>
        </p:nvSpPr>
        <p:spPr>
          <a:xfrm flipV="1">
            <a:off x="4191120" y="1828800"/>
            <a:ext cx="0" cy="4648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38"/>
          <p:cNvSpPr/>
          <p:nvPr/>
        </p:nvSpPr>
        <p:spPr>
          <a:xfrm flipV="1">
            <a:off x="2971800" y="4419720"/>
            <a:ext cx="3886200" cy="175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9"/>
          <p:cNvSpPr/>
          <p:nvPr/>
        </p:nvSpPr>
        <p:spPr>
          <a:xfrm>
            <a:off x="3581280" y="548640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0"/>
          <p:cNvSpPr/>
          <p:nvPr/>
        </p:nvSpPr>
        <p:spPr>
          <a:xfrm>
            <a:off x="5181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1"/>
          <p:cNvSpPr/>
          <p:nvPr/>
        </p:nvSpPr>
        <p:spPr>
          <a:xfrm>
            <a:off x="6324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2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3"/>
          <p:cNvSpPr/>
          <p:nvPr/>
        </p:nvSpPr>
        <p:spPr>
          <a:xfrm>
            <a:off x="411480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4"/>
          <p:cNvSpPr/>
          <p:nvPr/>
        </p:nvSpPr>
        <p:spPr>
          <a:xfrm>
            <a:off x="67816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key reads  “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= 270” what numbers would this represent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 1 3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19240" y="3352680"/>
          <a:ext cx="5292720" cy="1600200"/>
        </p:xfrm>
        <a:graphic>
          <a:graphicData uri="http://schemas.openxmlformats.org/drawingml/2006/table">
            <a:tbl>
              <a:tblPr/>
              <a:tblGrid>
                <a:gridCol w="1058760"/>
                <a:gridCol w="1057320"/>
                <a:gridCol w="1060560"/>
                <a:gridCol w="1057320"/>
                <a:gridCol w="10587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er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812960" y="2443320"/>
          <a:ext cx="56386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443320"/>
                    <a:ext cx="56386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41:53Z</dcterms:modified>
  <cp:revision>9</cp:revision>
  <dc:subject/>
  <dc:title>Percent</dc:title>
</cp:coreProperties>
</file>