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3CD6-D00F-4977-8C15-DEAF002A2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Straight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graph equations and find equations from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s of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ble of values is used to generate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oints can be plotted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ight line drawn through these points creates the graph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ph y = 2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ot these points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traight line through th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ollowing straight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3x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3x +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a relationship between the graphs and their algebraic expressions!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dient-Intercept Form of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linear function is written in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 is its gradient and the b is its y-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ollowing graphs, determine thei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816-6F86-48E9-8438-EF150039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5A4-D422-4A3F-B1AF-5B6F16BB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9DE-73DF-40ED-8ACB-91524624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0EC-CA98-4BB8-A1A6-392BE5BF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905-108B-45CC-B3DC-F9713572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3F0-76B9-41DB-80C5-61DDCBA3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DA2-1A94-4B7D-9C7F-D53ABE90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EB8-D801-4EF3-8EC1-6ED7151B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96C-4A45-4D8F-9A04-E4C69E95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671-44B1-43EA-B7C8-57D5FF9F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4CB-3BC5-429E-9780-E2A817FA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6DE-495A-43D6-A3B8-4F5378A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48E-4830-4873-B915-FB01627CC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of Straight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1080" y="2666880"/>
            <a:ext cx="6966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to graph equations and find equations fr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01760" y="404640"/>
            <a:ext cx="6429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30200" y="420840"/>
            <a:ext cx="64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330200" y="479520"/>
            <a:ext cx="6462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74840" y="477720"/>
            <a:ext cx="6365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of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of values is used to generat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can be plotted on the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drawn through these points creates the graph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2708280"/>
          <a:ext cx="6635520" cy="2192400"/>
        </p:xfrm>
        <a:graphic>
          <a:graphicData uri="http://schemas.openxmlformats.org/drawingml/2006/table">
            <a:tbl>
              <a:tblPr/>
              <a:tblGrid>
                <a:gridCol w="1106280"/>
                <a:gridCol w="1105200"/>
                <a:gridCol w="1106280"/>
                <a:gridCol w="1106640"/>
                <a:gridCol w="1104840"/>
                <a:gridCol w="1106280"/>
              </a:tblGrid>
              <a:tr h="10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700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3708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932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08472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7164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67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se points on th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1700280"/>
          <a:ext cx="2952720" cy="792000"/>
        </p:xfrm>
        <a:graphic>
          <a:graphicData uri="http://schemas.openxmlformats.org/drawingml/2006/table">
            <a:tbl>
              <a:tblPr/>
              <a:tblGrid>
                <a:gridCol w="492120"/>
                <a:gridCol w="490320"/>
                <a:gridCol w="493920"/>
                <a:gridCol w="493560"/>
                <a:gridCol w="490680"/>
                <a:gridCol w="49212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Oval 87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8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9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0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1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28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traight line through th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819760" y="1495080"/>
            <a:ext cx="2067120" cy="417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669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ollowing straight 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-3x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1076400" y="4581360"/>
                <a:ext cx="1514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9"/>
          <p:cNvSpPr/>
          <p:nvPr/>
        </p:nvSpPr>
        <p:spPr>
          <a:xfrm>
            <a:off x="5064120" y="251136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ok for a relationship between the graphs and their algebraic expressions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adient-Intercept Form of a Straigh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2195640"/>
            <a:ext cx="81136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linear function is written in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radient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ts y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graphs, determine their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57480" y="406440"/>
            <a:ext cx="64623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9:26Z</dcterms:created>
  <dc:creator>sgarvey</dc:creator>
  <dc:description/>
  <dc:language>en-US</dc:language>
  <cp:lastModifiedBy>RomaK</cp:lastModifiedBy>
  <dcterms:modified xsi:type="dcterms:W3CDTF">2015-09-04T07:41:46Z</dcterms:modified>
  <cp:revision>22</cp:revision>
  <dc:subject/>
  <dc:title>Graphs of Straight Lines</dc:title>
</cp:coreProperties>
</file>