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7D6A-3C81-4264-98A8-617DC2511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Straight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graph equations and find equations from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s of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ble of values is used to generate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oints can be plotted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ight line drawn through these points creates the graph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ph y = 2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ot these points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traight line through th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ollowing straight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3x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3x +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a relationship between the graphs and their algebraic expressions!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dient-Intercept Form of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linear function is written in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 is its gradient and the b is its y-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ollowing graphs, determine thei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739-42E0-4465-84D5-4004F7A2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DEF-4780-42ED-A35D-40C88DC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37A-3EBC-4103-B3E8-0BC62E0E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BD4-A3C2-4B4B-86A5-010FA843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9E2-A0A4-4F45-B98E-B40D7AA5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792-2085-4018-BDA5-B616E7B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FAA-FC8C-4521-BDD7-FD99952C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179-AFBC-4DE5-B63F-D802B887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689-50CD-4121-A392-67946E67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38B-55A5-4E04-82F7-1444BCF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820-69BD-4302-8595-8089B3F1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73D-D533-447A-A0A0-8631F53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59BD-3DCB-4685-98A0-5F5AB8D06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of Straight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1080" y="2666880"/>
            <a:ext cx="6966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to graph equations and find equations fr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01760" y="404640"/>
            <a:ext cx="6429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30200" y="420840"/>
            <a:ext cx="64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330200" y="479520"/>
            <a:ext cx="6462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74840" y="477720"/>
            <a:ext cx="6365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of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of values is used to generat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can be plotted on the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drawn through these points creates the graph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2708280"/>
          <a:ext cx="6635520" cy="2192400"/>
        </p:xfrm>
        <a:graphic>
          <a:graphicData uri="http://schemas.openxmlformats.org/drawingml/2006/table">
            <a:tbl>
              <a:tblPr/>
              <a:tblGrid>
                <a:gridCol w="1106280"/>
                <a:gridCol w="1105200"/>
                <a:gridCol w="1106280"/>
                <a:gridCol w="1106640"/>
                <a:gridCol w="1104840"/>
                <a:gridCol w="1106280"/>
              </a:tblGrid>
              <a:tr h="10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700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3708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932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08472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7164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67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se points on th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1700280"/>
          <a:ext cx="2952720" cy="792000"/>
        </p:xfrm>
        <a:graphic>
          <a:graphicData uri="http://schemas.openxmlformats.org/drawingml/2006/table">
            <a:tbl>
              <a:tblPr/>
              <a:tblGrid>
                <a:gridCol w="492120"/>
                <a:gridCol w="490320"/>
                <a:gridCol w="493920"/>
                <a:gridCol w="493560"/>
                <a:gridCol w="490680"/>
                <a:gridCol w="49212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Oval 87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8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9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0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1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28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traight line through th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819760" y="1495080"/>
            <a:ext cx="2067120" cy="417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669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ollowing straight 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-3x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1076400" y="4581360"/>
                <a:ext cx="1514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9"/>
          <p:cNvSpPr/>
          <p:nvPr/>
        </p:nvSpPr>
        <p:spPr>
          <a:xfrm>
            <a:off x="5064120" y="251136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ok for a relationship between the graphs and their algebraic expressions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adient-Intercept Form of a Straigh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2195640"/>
            <a:ext cx="81136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linear function is written in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radient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ts y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graphs, determine their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57480" y="406440"/>
            <a:ext cx="64623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9:26Z</dcterms:created>
  <dc:creator>sgarvey</dc:creator>
  <dc:description/>
  <dc:language>en-US</dc:language>
  <cp:lastModifiedBy>RomaK</cp:lastModifiedBy>
  <dcterms:modified xsi:type="dcterms:W3CDTF">2015-09-04T07:41:46Z</dcterms:modified>
  <cp:revision>22</cp:revision>
  <dc:subject/>
  <dc:title>Graphs of Straight Lines</dc:title>
</cp:coreProperties>
</file>