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DC0C-DAAB-4E8E-A6F8-2C2FFBB2F6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 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can be graphed on a 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 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can be graphed on a 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on a graph are plotted by first finding the x-coordinate and then the    y-coord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are written in the form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ways graph a point starting from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on a graph are plotted by first finding the x-coordinate and then the    y-coord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are written in the form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ways graph a point starting from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int (3,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int (3,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graph a line, you need to know eith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and the Slope of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graph a line, you need to know eith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and the Slope of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90BF-DAFA-4C30-BBA2-F79CD742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0586-AC64-4888-8AA9-BDA4CB15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8A30-B4E9-446C-BE8D-8B9F7F60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8175-DA82-40DB-A836-62976BC0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DCF6-804E-4C89-88CA-B9EABE33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FC00-AF52-4363-85AA-AB4CC813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D873-D214-4CE4-BE73-C73D19CD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0DD2-1EE6-414F-8A40-77CB0DD9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BF6F-68A3-4856-A69C-8D17CDD7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55DB-0793-429E-AEB9-BB48C6D9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1818-7514-41D4-9226-F0D1EB4B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481F-CF9E-48A8-B1B6-915A488F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F3ED-C60B-4B50-9AF7-40B5FC0D5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00280" y="38088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raphing Linear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80880" y="277344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near Equations can be graphed on a Cartesian Coordina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23"/>
          <p:cNvSpPr/>
          <p:nvPr/>
        </p:nvSpPr>
        <p:spPr>
          <a:xfrm>
            <a:off x="2171880" y="990720"/>
            <a:ext cx="480060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1919"/>
          <p:cNvGraphicFramePr/>
          <p:nvPr/>
        </p:nvGraphicFramePr>
        <p:xfrm>
          <a:off x="2576520" y="1371600"/>
          <a:ext cx="3989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Object 19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6520" y="1371600"/>
                    <a:ext cx="398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1921"/>
          <p:cNvSpPr/>
          <p:nvPr/>
        </p:nvSpPr>
        <p:spPr>
          <a:xfrm>
            <a:off x="7391520" y="220968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922"/>
          <p:cNvSpPr/>
          <p:nvPr/>
        </p:nvSpPr>
        <p:spPr>
          <a:xfrm flipH="1">
            <a:off x="6477120" y="2971800"/>
            <a:ext cx="12189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24"/>
          <p:cNvSpPr/>
          <p:nvPr/>
        </p:nvSpPr>
        <p:spPr>
          <a:xfrm>
            <a:off x="2209680" y="22860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25"/>
          <p:cNvSpPr/>
          <p:nvPr/>
        </p:nvSpPr>
        <p:spPr>
          <a:xfrm>
            <a:off x="3657600" y="68580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926"/>
          <p:cNvSpPr/>
          <p:nvPr/>
        </p:nvSpPr>
        <p:spPr>
          <a:xfrm>
            <a:off x="1334520" y="5867280"/>
            <a:ext cx="6473160" cy="70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artesian Coordina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752480" y="762120"/>
            <a:ext cx="5600880" cy="560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3"/>
          <p:cNvSpPr/>
          <p:nvPr/>
        </p:nvSpPr>
        <p:spPr>
          <a:xfrm>
            <a:off x="4572000" y="762120"/>
            <a:ext cx="0" cy="571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724280" y="1143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057400" y="1143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057400" y="3962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724280" y="3962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7391520" y="220968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1"/>
          <p:cNvSpPr/>
          <p:nvPr/>
        </p:nvSpPr>
        <p:spPr>
          <a:xfrm flipH="1">
            <a:off x="6781680" y="2971800"/>
            <a:ext cx="91440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2362320" y="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3"/>
          <p:cNvSpPr/>
          <p:nvPr/>
        </p:nvSpPr>
        <p:spPr>
          <a:xfrm>
            <a:off x="3657600" y="68580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4648320" y="22017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5"/>
          <p:cNvSpPr/>
          <p:nvPr/>
        </p:nvSpPr>
        <p:spPr>
          <a:xfrm flipH="1">
            <a:off x="4572000" y="2819520"/>
            <a:ext cx="8380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0" y="3808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l points on a graph are plotted by first finding the x-coordinate and then the    y-coordin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4648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l points are written in the form ( x , y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0" y="2773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 always graph a point starting from th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rig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771560" y="628560"/>
            <a:ext cx="5600880" cy="560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"/>
          <p:cNvSpPr/>
          <p:nvPr/>
        </p:nvSpPr>
        <p:spPr>
          <a:xfrm>
            <a:off x="4572000" y="571680"/>
            <a:ext cx="0" cy="571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4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572000" y="114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905120" y="114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905120" y="3962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572000" y="3962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4572000" y="19638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1828800" y="19638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1828800" y="45720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4572000" y="45720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2171880" y="990720"/>
            <a:ext cx="480060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2576520" y="1371600"/>
          <a:ext cx="3989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6520" y="1371600"/>
                    <a:ext cx="398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0" y="1981080"/>
            <a:ext cx="2057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int (3,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5"/>
          <p:cNvSpPr/>
          <p:nvPr/>
        </p:nvSpPr>
        <p:spPr>
          <a:xfrm>
            <a:off x="4572000" y="34290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6"/>
          <p:cNvSpPr/>
          <p:nvPr/>
        </p:nvSpPr>
        <p:spPr>
          <a:xfrm flipV="1">
            <a:off x="5257800" y="228564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>
            <a:off x="5181480" y="2286000"/>
            <a:ext cx="76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order to graph a line, you need to know eithe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0" y="283356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point and the Slope of the 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181480" y="283356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wo points on the 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114800" y="310824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14:14:52Z</dcterms:created>
  <dc:creator>Chester Area School</dc:creator>
  <dc:description/>
  <dc:language>en-US</dc:language>
  <cp:lastModifiedBy>RomaK</cp:lastModifiedBy>
  <dcterms:modified xsi:type="dcterms:W3CDTF">2015-09-04T07:41:40Z</dcterms:modified>
  <cp:revision>13</cp:revision>
  <dc:subject/>
  <dc:title>PowerPoint Presentation</dc:title>
</cp:coreProperties>
</file>