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B14B-FEDD-4959-810C-1CB5DFDFA2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472-1494-4A10-8BBA-3BD3EFF0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942-D052-4A47-B3EA-57F34F14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B14-2DAD-43EE-9253-27BF45C5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73A-7610-4D48-8B33-EAB6F1A7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73B-E4E3-42D2-A07B-4FF3D741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AC1-5E12-424D-8BDF-95A23311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7DE-56A8-4978-9989-70C9DF2B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339-932A-4ACA-A853-0DB54679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6D7-1B86-4105-A667-EE480FA8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47D-4C4F-4EEE-848D-BA55BB1C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AD0-42EA-4A22-9092-240CB27B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39A-4693-493B-869C-7934CF4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02BB-74E0-4534-8145-0421679A4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phing 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0880" y="27734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can be graphed on a 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23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919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1921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22"/>
          <p:cNvSpPr/>
          <p:nvPr/>
        </p:nvSpPr>
        <p:spPr>
          <a:xfrm flipH="1">
            <a:off x="6477120" y="2971800"/>
            <a:ext cx="12189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24"/>
          <p:cNvSpPr/>
          <p:nvPr/>
        </p:nvSpPr>
        <p:spPr>
          <a:xfrm>
            <a:off x="2209680" y="2286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25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26"/>
          <p:cNvSpPr/>
          <p:nvPr/>
        </p:nvSpPr>
        <p:spPr>
          <a:xfrm>
            <a:off x="1334520" y="5867280"/>
            <a:ext cx="6473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52480" y="762120"/>
            <a:ext cx="5600880" cy="56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4572000" y="76212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740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72428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6781680" y="29718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48320" y="2201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4572000" y="28195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464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are written in the form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773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 always graph a point starting from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771560" y="628560"/>
            <a:ext cx="5600880" cy="56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572000" y="57168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05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0512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720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8288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288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20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0" y="198108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5257800" y="22856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181480" y="2286000"/>
            <a:ext cx="7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graph a line, you need to know eith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point and the Slope of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8148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oints on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31082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4:14:52Z</dcterms:created>
  <dc:creator>Chester Area School</dc:creator>
  <dc:description/>
  <dc:language>en-US</dc:language>
  <cp:lastModifiedBy>RomaK</cp:lastModifiedBy>
  <dcterms:modified xsi:type="dcterms:W3CDTF">2015-09-04T07:41:40Z</dcterms:modified>
  <cp:revision>13</cp:revision>
  <dc:subject/>
  <dc:title>PowerPoint Presentation</dc:title>
</cp:coreProperties>
</file>