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FE58-E939-42C2-A092-CE04385FAF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66B-4A9D-45CE-AF2B-D526FF8A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AC4-962F-4A09-9967-2231EB54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356-64A8-4C7E-B7A2-4AE47D62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319-86B9-41A1-B11F-97BD3BD8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2B5-3DDA-4252-BC8F-BB898009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2A0-7B80-42C1-804D-5F353931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5D2-BADB-4255-A546-49633A6F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93C-BDDA-4B31-ADEB-5844E112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844-690E-461F-8C3B-99A8A917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116-D8B4-4F9E-A08A-B33CC0C3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E10-C594-4FA7-A70A-4F425A2F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38F-5217-45FA-8FCD-C90E38AE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F487-ADD8-4C00-9395-F7B9B40B3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00280" y="380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phing 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80880" y="277344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can be graphed on a 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23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919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19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1921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922"/>
          <p:cNvSpPr/>
          <p:nvPr/>
        </p:nvSpPr>
        <p:spPr>
          <a:xfrm flipH="1">
            <a:off x="6477120" y="2971800"/>
            <a:ext cx="12189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24"/>
          <p:cNvSpPr/>
          <p:nvPr/>
        </p:nvSpPr>
        <p:spPr>
          <a:xfrm>
            <a:off x="2209680" y="22860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25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26"/>
          <p:cNvSpPr/>
          <p:nvPr/>
        </p:nvSpPr>
        <p:spPr>
          <a:xfrm>
            <a:off x="1334520" y="5867280"/>
            <a:ext cx="647316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752480" y="762120"/>
            <a:ext cx="5600880" cy="56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4572000" y="76212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2428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05740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05740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72428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6781680" y="297180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362320" y="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648320" y="2201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5"/>
          <p:cNvSpPr/>
          <p:nvPr/>
        </p:nvSpPr>
        <p:spPr>
          <a:xfrm flipH="1">
            <a:off x="4572000" y="2819520"/>
            <a:ext cx="8380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4648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are written in the form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2773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 always graph a point starting from t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771560" y="628560"/>
            <a:ext cx="5600880" cy="560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4572000" y="57168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90512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90512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7200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5720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8288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8288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5720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0" y="1981080"/>
            <a:ext cx="205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572000" y="3429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 flipV="1">
            <a:off x="5257800" y="228564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5181480" y="2286000"/>
            <a:ext cx="76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graph a line, you need to know eith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point and the Slope of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18148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wo points on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114800" y="31082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4:14:52Z</dcterms:created>
  <dc:creator>Chester Area School</dc:creator>
  <dc:description/>
  <dc:language>en-US</dc:language>
  <cp:lastModifiedBy>RomaK</cp:lastModifiedBy>
  <dcterms:modified xsi:type="dcterms:W3CDTF">2015-09-04T07:41:40Z</dcterms:modified>
  <cp:revision>13</cp:revision>
  <dc:subject/>
  <dc:title>PowerPoint Presentation</dc:title>
</cp:coreProperties>
</file>