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8D5-4B66-4609-A58C-9BDC48BA60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Lin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Equations can be graphed on a 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tesian Coordinat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oints are written in the form ( x , y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ways graph a point starting from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s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graph a line, you need to know eith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and the Slope of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on th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7DD-4E55-460C-BA4D-76C82AA8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978-43FC-47D8-9863-7F99687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7C1-F9D7-4E03-A115-20ACFA09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FA6-B857-41C0-87A1-1F831DF6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978-ED33-4F8B-96A5-EC3A0320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128-1912-4058-941E-A3F2CD15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A87-BF4E-48A4-84C7-F1AD7B60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D46B-6AA2-41C3-AD2A-C0B860D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D2B-2A4B-4B97-8B4E-78432709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4C2-AF20-4C3F-B991-E74FBEAC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A4C-98AF-4946-9CE6-3617A91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963-957A-49CC-9B0D-1377BB0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7964-E308-4482-AD5F-55ABCD369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0028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phing Linear Equ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80880" y="277344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Equations can be graphed on a 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23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919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19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1921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922"/>
          <p:cNvSpPr/>
          <p:nvPr/>
        </p:nvSpPr>
        <p:spPr>
          <a:xfrm flipH="1">
            <a:off x="6477120" y="2971800"/>
            <a:ext cx="12189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24"/>
          <p:cNvSpPr/>
          <p:nvPr/>
        </p:nvSpPr>
        <p:spPr>
          <a:xfrm>
            <a:off x="2209680" y="2286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25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26"/>
          <p:cNvSpPr/>
          <p:nvPr/>
        </p:nvSpPr>
        <p:spPr>
          <a:xfrm>
            <a:off x="1334520" y="5867280"/>
            <a:ext cx="647316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artesian Coordinat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752480" y="762120"/>
            <a:ext cx="5600880" cy="56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4572000" y="76212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740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05740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724280" y="3962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391520" y="22096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6781680" y="297180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62320" y="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657600" y="68580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648320" y="2201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 flipH="1">
            <a:off x="4572000" y="2819520"/>
            <a:ext cx="8380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3808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on a graph are plotted by first finding the x-coordinate and then the    y-coordi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464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oints are written in the form ( x , y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2773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 always graph a point starting from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771560" y="628560"/>
            <a:ext cx="5600880" cy="56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4572000" y="571680"/>
            <a:ext cx="0" cy="571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05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90512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572000" y="3962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5720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828800" y="1963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8288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572000" y="45720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x is 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y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171880" y="990720"/>
            <a:ext cx="48006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576520" y="1371600"/>
          <a:ext cx="39895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6520" y="1371600"/>
                    <a:ext cx="3989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0" y="1981080"/>
            <a:ext cx="205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(3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V="1">
            <a:off x="5257800" y="2285640"/>
            <a:ext cx="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181480" y="2286000"/>
            <a:ext cx="76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order to graph a line, you need to know eith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point and the Slope of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81480" y="28335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o points on th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114800" y="31082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14:14:52Z</dcterms:created>
  <dc:creator>Chester Area School</dc:creator>
  <dc:description/>
  <dc:language>en-US</dc:language>
  <cp:lastModifiedBy>RomaK</cp:lastModifiedBy>
  <dcterms:modified xsi:type="dcterms:W3CDTF">2015-09-04T07:41:40Z</dcterms:modified>
  <cp:revision>13</cp:revision>
  <dc:subject/>
  <dc:title>PowerPoint Presentation</dc:title>
</cp:coreProperties>
</file>