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7005638" cy="9291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5600" cy="929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51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66840" y="0"/>
            <a:ext cx="30351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79000" y="696600"/>
            <a:ext cx="4645080" cy="3483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6684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70087-F6E3-47D5-845E-8D7566C89819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OMET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r. Clut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llegas Middle Schoo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r. Clut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llegas Middle Sch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omet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id the acorn say when he grew up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ints Lines Pla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ir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grue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milar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id the acorn say when he grew up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 Lines 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rc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gruen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ilar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i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osition in space, has no size only loc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•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                 •B                        •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, B and N represent poi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osition in space, has no size only lo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•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                 •B                        •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, B and N represent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tinues without end in opposite dire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•                          •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B represents a l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inues without end in opposite dir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•                          •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 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 represents a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flat surface that extends in four direction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flat surface that extends in four direction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g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t of a line made up of 2 points and all the points of the line between the 2 point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•                                    •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                                   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 represents a seg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g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of a line made up of 2 points and all the points of the line between the 2 point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•                                    •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                                   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 represents a seg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t of a line consisting of one endpoint and all the points of the line on one side of the endpoi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                            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G represents a r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•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•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 of a line consisting of one endpoint and all the points of the line on one side of the endpoi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                            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G represents a r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•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•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00200" y="4412880"/>
            <a:ext cx="5603760" cy="41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could you describe geometrically the position of the moon, earth, and sun during a solar eclips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Місце для номера слайда 3"/>
          <p:cNvSpPr/>
          <p:nvPr/>
        </p:nvSpPr>
        <p:spPr>
          <a:xfrm>
            <a:off x="3967200" y="8823240"/>
            <a:ext cx="30351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could you describe geometrically the position of the moon, earth, and sun during a solar eclips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FDA0D-38C8-4A8D-BADD-E0EB42BEF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E99B0-54EA-4DD4-A1C5-22F094FA0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7EF93-6051-4825-B8E8-A46849351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E50E8-7108-4B9E-B051-84B8C6E86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C89FA-259B-44F8-923F-CCDD2955E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25253-6125-48D5-9B60-F0985D0B9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DFE32-5D50-435A-8902-CA49193EA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FD0CB-C623-47FE-9634-431F2CCF7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AA6C4-D9A4-4503-92AA-D692435BA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A5607-E683-49B7-BB48-BC78F2279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6D917-D4F4-4B88-81E2-061EE3434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1C970-F94A-4826-8660-79C80925A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ffffff"/>
            </a:gs>
            <a:gs pos="100000">
              <a:srgbClr val="cccc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749D6-8E8F-4016-A043-E28967D756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5"/>
          <p:cNvSpPr txBox="1"/>
          <p:nvPr/>
        </p:nvSpPr>
        <p:spPr>
          <a:xfrm>
            <a:off x="990720" y="1066680"/>
            <a:ext cx="7391160" cy="2686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GEOMETRY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9" name="Line 6"/>
          <p:cNvSpPr/>
          <p:nvPr/>
        </p:nvSpPr>
        <p:spPr>
          <a:xfrm>
            <a:off x="1219320" y="4800600"/>
            <a:ext cx="1295280" cy="129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Line 7"/>
          <p:cNvSpPr/>
          <p:nvPr/>
        </p:nvSpPr>
        <p:spPr>
          <a:xfrm>
            <a:off x="3657600" y="4495680"/>
            <a:ext cx="10666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AutoShape 9"/>
          <p:cNvSpPr/>
          <p:nvPr/>
        </p:nvSpPr>
        <p:spPr>
          <a:xfrm>
            <a:off x="5410080" y="4267080"/>
            <a:ext cx="990720" cy="137160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10"/>
          <p:cNvSpPr/>
          <p:nvPr/>
        </p:nvSpPr>
        <p:spPr>
          <a:xfrm>
            <a:off x="990720" y="380880"/>
            <a:ext cx="2057400" cy="53352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AutoShape 11"/>
          <p:cNvSpPr/>
          <p:nvPr/>
        </p:nvSpPr>
        <p:spPr>
          <a:xfrm>
            <a:off x="6781680" y="4724280"/>
            <a:ext cx="1752840" cy="838440"/>
          </a:xfrm>
          <a:custGeom>
            <a:avLst/>
            <a:gdLst>
              <a:gd name="textAreaLeft" fmla="*/ 365040 w 1752840"/>
              <a:gd name="textAreaRight" fmla="*/ 1387800 w 1752840"/>
              <a:gd name="textAreaTop" fmla="*/ 174600 h 838440"/>
              <a:gd name="textAreaBottom" fmla="*/ 6638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AutoShape 12"/>
          <p:cNvSpPr/>
          <p:nvPr/>
        </p:nvSpPr>
        <p:spPr>
          <a:xfrm>
            <a:off x="1981080" y="4114800"/>
            <a:ext cx="1067040" cy="990720"/>
          </a:xfrm>
          <a:prstGeom prst="hexagon">
            <a:avLst>
              <a:gd name="adj" fmla="val 26926"/>
              <a:gd name="vf" fmla="val 115470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AutoShape 13"/>
          <p:cNvSpPr/>
          <p:nvPr/>
        </p:nvSpPr>
        <p:spPr>
          <a:xfrm>
            <a:off x="4038480" y="5562720"/>
            <a:ext cx="1219320" cy="990360"/>
          </a:xfrm>
          <a:prstGeom prst="rtTriangle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Oval 14"/>
          <p:cNvSpPr/>
          <p:nvPr/>
        </p:nvSpPr>
        <p:spPr>
          <a:xfrm>
            <a:off x="609480" y="5181480"/>
            <a:ext cx="914400" cy="8384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AutoShape 15"/>
          <p:cNvSpPr/>
          <p:nvPr/>
        </p:nvSpPr>
        <p:spPr>
          <a:xfrm>
            <a:off x="5334120" y="380880"/>
            <a:ext cx="2133360" cy="533520"/>
          </a:xfrm>
          <a:prstGeom prst="parallelogram">
            <a:avLst>
              <a:gd name="adj" fmla="val 99966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AutoShape 16"/>
          <p:cNvSpPr/>
          <p:nvPr/>
        </p:nvSpPr>
        <p:spPr>
          <a:xfrm>
            <a:off x="4038480" y="304920"/>
            <a:ext cx="838440" cy="609480"/>
          </a:xfrm>
          <a:prstGeom prst="diamond">
            <a:avLst/>
          </a:prstGeom>
          <a:solidFill>
            <a:srgbClr val="ff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17"/>
          <p:cNvSpPr/>
          <p:nvPr/>
        </p:nvSpPr>
        <p:spPr>
          <a:xfrm>
            <a:off x="5715000" y="5757120"/>
            <a:ext cx="32068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Mr. Clu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Villegas Middle Sch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AutoShape 3"/>
          <p:cNvSpPr/>
          <p:nvPr/>
        </p:nvSpPr>
        <p:spPr>
          <a:xfrm rot="16138800">
            <a:off x="1866600" y="495000"/>
            <a:ext cx="2286000" cy="160020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AutoShape 4"/>
          <p:cNvSpPr/>
          <p:nvPr/>
        </p:nvSpPr>
        <p:spPr>
          <a:xfrm rot="12442800">
            <a:off x="1828800" y="1980360"/>
            <a:ext cx="1905120" cy="175284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Freeform 13"/>
          <p:cNvSpPr/>
          <p:nvPr/>
        </p:nvSpPr>
        <p:spPr>
          <a:xfrm>
            <a:off x="2639880" y="762120"/>
            <a:ext cx="3333960" cy="6181560"/>
          </a:xfrm>
          <a:custGeom>
            <a:avLst/>
            <a:gdLst/>
            <a:ahLst/>
            <a:rect l="l" t="t" r="r" b="b"/>
            <a:pathLst>
              <a:path w="2100" h="3894">
                <a:moveTo>
                  <a:pt x="2058" y="3807"/>
                </a:moveTo>
                <a:cubicBezTo>
                  <a:pt x="1993" y="3764"/>
                  <a:pt x="1949" y="3739"/>
                  <a:pt x="1905" y="3676"/>
                </a:cubicBezTo>
                <a:cubicBezTo>
                  <a:pt x="1887" y="3650"/>
                  <a:pt x="1850" y="3600"/>
                  <a:pt x="1850" y="3600"/>
                </a:cubicBezTo>
                <a:cubicBezTo>
                  <a:pt x="1835" y="3540"/>
                  <a:pt x="1802" y="3492"/>
                  <a:pt x="1774" y="3436"/>
                </a:cubicBezTo>
                <a:cubicBezTo>
                  <a:pt x="1741" y="3371"/>
                  <a:pt x="1727" y="3301"/>
                  <a:pt x="1687" y="3240"/>
                </a:cubicBezTo>
                <a:cubicBezTo>
                  <a:pt x="1654" y="3107"/>
                  <a:pt x="1609" y="2976"/>
                  <a:pt x="1567" y="2847"/>
                </a:cubicBezTo>
                <a:cubicBezTo>
                  <a:pt x="1559" y="2822"/>
                  <a:pt x="1552" y="2796"/>
                  <a:pt x="1545" y="2771"/>
                </a:cubicBezTo>
                <a:cubicBezTo>
                  <a:pt x="1537" y="2742"/>
                  <a:pt x="1523" y="2683"/>
                  <a:pt x="1523" y="2683"/>
                </a:cubicBezTo>
                <a:cubicBezTo>
                  <a:pt x="1517" y="2582"/>
                  <a:pt x="1524" y="2446"/>
                  <a:pt x="1490" y="2345"/>
                </a:cubicBezTo>
                <a:cubicBezTo>
                  <a:pt x="1453" y="2092"/>
                  <a:pt x="1508" y="1883"/>
                  <a:pt x="1567" y="1647"/>
                </a:cubicBezTo>
                <a:cubicBezTo>
                  <a:pt x="1573" y="1549"/>
                  <a:pt x="1569" y="1419"/>
                  <a:pt x="1599" y="1320"/>
                </a:cubicBezTo>
                <a:cubicBezTo>
                  <a:pt x="1617" y="1262"/>
                  <a:pt x="1653" y="1206"/>
                  <a:pt x="1665" y="1145"/>
                </a:cubicBezTo>
                <a:cubicBezTo>
                  <a:pt x="1676" y="1092"/>
                  <a:pt x="1687" y="1032"/>
                  <a:pt x="1708" y="982"/>
                </a:cubicBezTo>
                <a:cubicBezTo>
                  <a:pt x="1744" y="896"/>
                  <a:pt x="1788" y="820"/>
                  <a:pt x="1818" y="731"/>
                </a:cubicBezTo>
                <a:cubicBezTo>
                  <a:pt x="1826" y="706"/>
                  <a:pt x="1883" y="687"/>
                  <a:pt x="1883" y="687"/>
                </a:cubicBezTo>
                <a:cubicBezTo>
                  <a:pt x="1934" y="611"/>
                  <a:pt x="1949" y="637"/>
                  <a:pt x="1894" y="600"/>
                </a:cubicBezTo>
                <a:cubicBezTo>
                  <a:pt x="1813" y="627"/>
                  <a:pt x="1788" y="710"/>
                  <a:pt x="1763" y="785"/>
                </a:cubicBezTo>
                <a:cubicBezTo>
                  <a:pt x="1736" y="865"/>
                  <a:pt x="1715" y="932"/>
                  <a:pt x="1654" y="993"/>
                </a:cubicBezTo>
                <a:cubicBezTo>
                  <a:pt x="1644" y="1023"/>
                  <a:pt x="1581" y="1111"/>
                  <a:pt x="1654" y="1014"/>
                </a:cubicBezTo>
                <a:cubicBezTo>
                  <a:pt x="1658" y="1003"/>
                  <a:pt x="1660" y="992"/>
                  <a:pt x="1665" y="982"/>
                </a:cubicBezTo>
                <a:cubicBezTo>
                  <a:pt x="1671" y="970"/>
                  <a:pt x="1682" y="961"/>
                  <a:pt x="1687" y="949"/>
                </a:cubicBezTo>
                <a:cubicBezTo>
                  <a:pt x="1696" y="928"/>
                  <a:pt x="1708" y="883"/>
                  <a:pt x="1708" y="883"/>
                </a:cubicBezTo>
                <a:cubicBezTo>
                  <a:pt x="1705" y="840"/>
                  <a:pt x="1705" y="796"/>
                  <a:pt x="1698" y="753"/>
                </a:cubicBezTo>
                <a:cubicBezTo>
                  <a:pt x="1694" y="730"/>
                  <a:pt x="1698" y="693"/>
                  <a:pt x="1676" y="687"/>
                </a:cubicBezTo>
                <a:cubicBezTo>
                  <a:pt x="1661" y="683"/>
                  <a:pt x="1647" y="680"/>
                  <a:pt x="1632" y="676"/>
                </a:cubicBezTo>
                <a:cubicBezTo>
                  <a:pt x="1577" y="731"/>
                  <a:pt x="1614" y="684"/>
                  <a:pt x="1588" y="742"/>
                </a:cubicBezTo>
                <a:cubicBezTo>
                  <a:pt x="1575" y="771"/>
                  <a:pt x="1545" y="829"/>
                  <a:pt x="1545" y="829"/>
                </a:cubicBezTo>
                <a:cubicBezTo>
                  <a:pt x="1541" y="851"/>
                  <a:pt x="1539" y="873"/>
                  <a:pt x="1534" y="894"/>
                </a:cubicBezTo>
                <a:cubicBezTo>
                  <a:pt x="1528" y="916"/>
                  <a:pt x="1512" y="960"/>
                  <a:pt x="1512" y="960"/>
                </a:cubicBezTo>
                <a:cubicBezTo>
                  <a:pt x="1508" y="985"/>
                  <a:pt x="1507" y="1061"/>
                  <a:pt x="1501" y="1036"/>
                </a:cubicBezTo>
                <a:cubicBezTo>
                  <a:pt x="1472" y="919"/>
                  <a:pt x="1489" y="796"/>
                  <a:pt x="1479" y="676"/>
                </a:cubicBezTo>
                <a:cubicBezTo>
                  <a:pt x="1471" y="582"/>
                  <a:pt x="1452" y="486"/>
                  <a:pt x="1436" y="393"/>
                </a:cubicBezTo>
                <a:cubicBezTo>
                  <a:pt x="1362" y="440"/>
                  <a:pt x="1379" y="468"/>
                  <a:pt x="1370" y="567"/>
                </a:cubicBezTo>
                <a:cubicBezTo>
                  <a:pt x="1381" y="674"/>
                  <a:pt x="1391" y="714"/>
                  <a:pt x="1370" y="829"/>
                </a:cubicBezTo>
                <a:cubicBezTo>
                  <a:pt x="1368" y="840"/>
                  <a:pt x="1365" y="806"/>
                  <a:pt x="1359" y="796"/>
                </a:cubicBezTo>
                <a:cubicBezTo>
                  <a:pt x="1350" y="780"/>
                  <a:pt x="1338" y="767"/>
                  <a:pt x="1327" y="753"/>
                </a:cubicBezTo>
                <a:cubicBezTo>
                  <a:pt x="1305" y="688"/>
                  <a:pt x="1255" y="641"/>
                  <a:pt x="1228" y="578"/>
                </a:cubicBezTo>
                <a:cubicBezTo>
                  <a:pt x="1209" y="533"/>
                  <a:pt x="1181" y="492"/>
                  <a:pt x="1163" y="447"/>
                </a:cubicBezTo>
                <a:cubicBezTo>
                  <a:pt x="1134" y="375"/>
                  <a:pt x="1096" y="311"/>
                  <a:pt x="1065" y="240"/>
                </a:cubicBezTo>
                <a:cubicBezTo>
                  <a:pt x="1049" y="203"/>
                  <a:pt x="1060" y="196"/>
                  <a:pt x="1021" y="164"/>
                </a:cubicBezTo>
                <a:cubicBezTo>
                  <a:pt x="954" y="109"/>
                  <a:pt x="953" y="114"/>
                  <a:pt x="890" y="98"/>
                </a:cubicBezTo>
                <a:cubicBezTo>
                  <a:pt x="837" y="177"/>
                  <a:pt x="877" y="238"/>
                  <a:pt x="945" y="284"/>
                </a:cubicBezTo>
                <a:cubicBezTo>
                  <a:pt x="959" y="325"/>
                  <a:pt x="990" y="343"/>
                  <a:pt x="1010" y="382"/>
                </a:cubicBezTo>
                <a:cubicBezTo>
                  <a:pt x="1023" y="407"/>
                  <a:pt x="1033" y="432"/>
                  <a:pt x="1043" y="458"/>
                </a:cubicBezTo>
                <a:cubicBezTo>
                  <a:pt x="1085" y="563"/>
                  <a:pt x="1097" y="674"/>
                  <a:pt x="1119" y="785"/>
                </a:cubicBezTo>
                <a:cubicBezTo>
                  <a:pt x="1123" y="803"/>
                  <a:pt x="1095" y="758"/>
                  <a:pt x="1087" y="742"/>
                </a:cubicBezTo>
                <a:cubicBezTo>
                  <a:pt x="1069" y="707"/>
                  <a:pt x="1066" y="665"/>
                  <a:pt x="1043" y="633"/>
                </a:cubicBezTo>
                <a:cubicBezTo>
                  <a:pt x="1013" y="591"/>
                  <a:pt x="970" y="560"/>
                  <a:pt x="934" y="524"/>
                </a:cubicBezTo>
                <a:cubicBezTo>
                  <a:pt x="923" y="487"/>
                  <a:pt x="915" y="450"/>
                  <a:pt x="901" y="414"/>
                </a:cubicBezTo>
                <a:cubicBezTo>
                  <a:pt x="886" y="376"/>
                  <a:pt x="846" y="305"/>
                  <a:pt x="846" y="305"/>
                </a:cubicBezTo>
                <a:cubicBezTo>
                  <a:pt x="821" y="203"/>
                  <a:pt x="829" y="89"/>
                  <a:pt x="770" y="0"/>
                </a:cubicBezTo>
                <a:cubicBezTo>
                  <a:pt x="723" y="47"/>
                  <a:pt x="728" y="59"/>
                  <a:pt x="694" y="109"/>
                </a:cubicBezTo>
                <a:cubicBezTo>
                  <a:pt x="699" y="167"/>
                  <a:pt x="702" y="247"/>
                  <a:pt x="726" y="305"/>
                </a:cubicBezTo>
                <a:cubicBezTo>
                  <a:pt x="731" y="317"/>
                  <a:pt x="743" y="326"/>
                  <a:pt x="748" y="338"/>
                </a:cubicBezTo>
                <a:cubicBezTo>
                  <a:pt x="763" y="371"/>
                  <a:pt x="772" y="412"/>
                  <a:pt x="781" y="447"/>
                </a:cubicBezTo>
                <a:cubicBezTo>
                  <a:pt x="790" y="563"/>
                  <a:pt x="813" y="662"/>
                  <a:pt x="836" y="774"/>
                </a:cubicBezTo>
                <a:cubicBezTo>
                  <a:pt x="821" y="781"/>
                  <a:pt x="808" y="797"/>
                  <a:pt x="792" y="796"/>
                </a:cubicBezTo>
                <a:cubicBezTo>
                  <a:pt x="689" y="789"/>
                  <a:pt x="586" y="694"/>
                  <a:pt x="530" y="611"/>
                </a:cubicBezTo>
                <a:cubicBezTo>
                  <a:pt x="559" y="724"/>
                  <a:pt x="656" y="787"/>
                  <a:pt x="716" y="883"/>
                </a:cubicBezTo>
                <a:cubicBezTo>
                  <a:pt x="725" y="897"/>
                  <a:pt x="728" y="913"/>
                  <a:pt x="737" y="927"/>
                </a:cubicBezTo>
                <a:cubicBezTo>
                  <a:pt x="757" y="957"/>
                  <a:pt x="803" y="1014"/>
                  <a:pt x="803" y="1014"/>
                </a:cubicBezTo>
                <a:cubicBezTo>
                  <a:pt x="833" y="1104"/>
                  <a:pt x="791" y="986"/>
                  <a:pt x="836" y="1080"/>
                </a:cubicBezTo>
                <a:cubicBezTo>
                  <a:pt x="841" y="1090"/>
                  <a:pt x="854" y="1105"/>
                  <a:pt x="846" y="1113"/>
                </a:cubicBezTo>
                <a:cubicBezTo>
                  <a:pt x="838" y="1121"/>
                  <a:pt x="825" y="1106"/>
                  <a:pt x="814" y="1102"/>
                </a:cubicBezTo>
                <a:cubicBezTo>
                  <a:pt x="763" y="1064"/>
                  <a:pt x="711" y="1031"/>
                  <a:pt x="661" y="993"/>
                </a:cubicBezTo>
                <a:cubicBezTo>
                  <a:pt x="640" y="977"/>
                  <a:pt x="578" y="930"/>
                  <a:pt x="596" y="949"/>
                </a:cubicBezTo>
                <a:cubicBezTo>
                  <a:pt x="667" y="1022"/>
                  <a:pt x="685" y="1064"/>
                  <a:pt x="716" y="1156"/>
                </a:cubicBezTo>
                <a:cubicBezTo>
                  <a:pt x="701" y="1163"/>
                  <a:pt x="688" y="1177"/>
                  <a:pt x="672" y="1178"/>
                </a:cubicBezTo>
                <a:cubicBezTo>
                  <a:pt x="608" y="1184"/>
                  <a:pt x="530" y="1145"/>
                  <a:pt x="465" y="1134"/>
                </a:cubicBezTo>
                <a:cubicBezTo>
                  <a:pt x="446" y="1192"/>
                  <a:pt x="464" y="1195"/>
                  <a:pt x="508" y="1233"/>
                </a:cubicBezTo>
                <a:cubicBezTo>
                  <a:pt x="567" y="1284"/>
                  <a:pt x="512" y="1250"/>
                  <a:pt x="585" y="1287"/>
                </a:cubicBezTo>
                <a:cubicBezTo>
                  <a:pt x="615" y="1317"/>
                  <a:pt x="646" y="1352"/>
                  <a:pt x="672" y="1385"/>
                </a:cubicBezTo>
                <a:cubicBezTo>
                  <a:pt x="688" y="1406"/>
                  <a:pt x="716" y="1451"/>
                  <a:pt x="716" y="1451"/>
                </a:cubicBezTo>
                <a:cubicBezTo>
                  <a:pt x="719" y="1462"/>
                  <a:pt x="721" y="1473"/>
                  <a:pt x="726" y="1483"/>
                </a:cubicBezTo>
                <a:cubicBezTo>
                  <a:pt x="732" y="1495"/>
                  <a:pt x="743" y="1504"/>
                  <a:pt x="748" y="1516"/>
                </a:cubicBezTo>
                <a:cubicBezTo>
                  <a:pt x="758" y="1544"/>
                  <a:pt x="770" y="1603"/>
                  <a:pt x="770" y="1603"/>
                </a:cubicBezTo>
                <a:cubicBezTo>
                  <a:pt x="766" y="1618"/>
                  <a:pt x="765" y="1633"/>
                  <a:pt x="759" y="1647"/>
                </a:cubicBezTo>
                <a:cubicBezTo>
                  <a:pt x="754" y="1659"/>
                  <a:pt x="738" y="1667"/>
                  <a:pt x="737" y="1680"/>
                </a:cubicBezTo>
                <a:cubicBezTo>
                  <a:pt x="731" y="1795"/>
                  <a:pt x="742" y="1958"/>
                  <a:pt x="781" y="2072"/>
                </a:cubicBezTo>
                <a:cubicBezTo>
                  <a:pt x="787" y="2210"/>
                  <a:pt x="791" y="2332"/>
                  <a:pt x="814" y="2465"/>
                </a:cubicBezTo>
                <a:cubicBezTo>
                  <a:pt x="809" y="2605"/>
                  <a:pt x="834" y="2776"/>
                  <a:pt x="748" y="2901"/>
                </a:cubicBezTo>
                <a:cubicBezTo>
                  <a:pt x="721" y="2981"/>
                  <a:pt x="664" y="3022"/>
                  <a:pt x="617" y="3087"/>
                </a:cubicBezTo>
                <a:cubicBezTo>
                  <a:pt x="572" y="3149"/>
                  <a:pt x="551" y="3220"/>
                  <a:pt x="486" y="3261"/>
                </a:cubicBezTo>
                <a:cubicBezTo>
                  <a:pt x="413" y="3376"/>
                  <a:pt x="522" y="3214"/>
                  <a:pt x="432" y="3316"/>
                </a:cubicBezTo>
                <a:cubicBezTo>
                  <a:pt x="360" y="3397"/>
                  <a:pt x="288" y="3564"/>
                  <a:pt x="181" y="3600"/>
                </a:cubicBezTo>
                <a:cubicBezTo>
                  <a:pt x="154" y="3640"/>
                  <a:pt x="152" y="3697"/>
                  <a:pt x="115" y="3730"/>
                </a:cubicBezTo>
                <a:cubicBezTo>
                  <a:pt x="95" y="3747"/>
                  <a:pt x="50" y="3774"/>
                  <a:pt x="50" y="3774"/>
                </a:cubicBezTo>
                <a:cubicBezTo>
                  <a:pt x="15" y="3826"/>
                  <a:pt x="32" y="3794"/>
                  <a:pt x="6" y="3872"/>
                </a:cubicBezTo>
                <a:cubicBezTo>
                  <a:pt x="0" y="3890"/>
                  <a:pt x="43" y="3865"/>
                  <a:pt x="61" y="3861"/>
                </a:cubicBezTo>
                <a:cubicBezTo>
                  <a:pt x="115" y="3869"/>
                  <a:pt x="163" y="3877"/>
                  <a:pt x="214" y="3894"/>
                </a:cubicBezTo>
                <a:cubicBezTo>
                  <a:pt x="441" y="3869"/>
                  <a:pt x="214" y="3874"/>
                  <a:pt x="148" y="3861"/>
                </a:cubicBezTo>
                <a:cubicBezTo>
                  <a:pt x="170" y="3857"/>
                  <a:pt x="195" y="3862"/>
                  <a:pt x="214" y="3850"/>
                </a:cubicBezTo>
                <a:cubicBezTo>
                  <a:pt x="224" y="3844"/>
                  <a:pt x="170" y="3840"/>
                  <a:pt x="181" y="3840"/>
                </a:cubicBezTo>
                <a:cubicBezTo>
                  <a:pt x="239" y="3840"/>
                  <a:pt x="298" y="3847"/>
                  <a:pt x="356" y="3850"/>
                </a:cubicBezTo>
                <a:cubicBezTo>
                  <a:pt x="488" y="3838"/>
                  <a:pt x="430" y="3852"/>
                  <a:pt x="530" y="3818"/>
                </a:cubicBezTo>
                <a:cubicBezTo>
                  <a:pt x="548" y="3812"/>
                  <a:pt x="604" y="3807"/>
                  <a:pt x="585" y="3807"/>
                </a:cubicBezTo>
                <a:cubicBezTo>
                  <a:pt x="523" y="3807"/>
                  <a:pt x="449" y="3831"/>
                  <a:pt x="388" y="3840"/>
                </a:cubicBezTo>
                <a:cubicBezTo>
                  <a:pt x="304" y="3836"/>
                  <a:pt x="221" y="3835"/>
                  <a:pt x="137" y="3829"/>
                </a:cubicBezTo>
                <a:cubicBezTo>
                  <a:pt x="119" y="3828"/>
                  <a:pt x="52" y="3804"/>
                  <a:pt x="126" y="3829"/>
                </a:cubicBezTo>
                <a:cubicBezTo>
                  <a:pt x="295" y="3814"/>
                  <a:pt x="418" y="3811"/>
                  <a:pt x="596" y="3818"/>
                </a:cubicBezTo>
                <a:cubicBezTo>
                  <a:pt x="692" y="3813"/>
                  <a:pt x="786" y="3817"/>
                  <a:pt x="879" y="3796"/>
                </a:cubicBezTo>
                <a:cubicBezTo>
                  <a:pt x="939" y="3783"/>
                  <a:pt x="886" y="3789"/>
                  <a:pt x="945" y="3763"/>
                </a:cubicBezTo>
                <a:cubicBezTo>
                  <a:pt x="966" y="3754"/>
                  <a:pt x="1010" y="3741"/>
                  <a:pt x="1010" y="3741"/>
                </a:cubicBezTo>
                <a:cubicBezTo>
                  <a:pt x="1097" y="3751"/>
                  <a:pt x="1187" y="3746"/>
                  <a:pt x="1261" y="3796"/>
                </a:cubicBezTo>
                <a:cubicBezTo>
                  <a:pt x="1381" y="3792"/>
                  <a:pt x="1501" y="3791"/>
                  <a:pt x="1621" y="3785"/>
                </a:cubicBezTo>
                <a:cubicBezTo>
                  <a:pt x="1640" y="3784"/>
                  <a:pt x="1657" y="3774"/>
                  <a:pt x="1676" y="3774"/>
                </a:cubicBezTo>
                <a:cubicBezTo>
                  <a:pt x="1695" y="3774"/>
                  <a:pt x="1762" y="3789"/>
                  <a:pt x="1785" y="3796"/>
                </a:cubicBezTo>
                <a:cubicBezTo>
                  <a:pt x="1807" y="3803"/>
                  <a:pt x="1828" y="3811"/>
                  <a:pt x="1850" y="3818"/>
                </a:cubicBezTo>
                <a:cubicBezTo>
                  <a:pt x="1861" y="3822"/>
                  <a:pt x="1883" y="3829"/>
                  <a:pt x="1883" y="3829"/>
                </a:cubicBezTo>
                <a:cubicBezTo>
                  <a:pt x="1905" y="3822"/>
                  <a:pt x="1926" y="3814"/>
                  <a:pt x="1948" y="3807"/>
                </a:cubicBezTo>
                <a:cubicBezTo>
                  <a:pt x="1959" y="3803"/>
                  <a:pt x="1981" y="3796"/>
                  <a:pt x="1981" y="3796"/>
                </a:cubicBezTo>
                <a:cubicBezTo>
                  <a:pt x="1988" y="3814"/>
                  <a:pt x="1996" y="3832"/>
                  <a:pt x="2003" y="3850"/>
                </a:cubicBezTo>
                <a:cubicBezTo>
                  <a:pt x="2007" y="3861"/>
                  <a:pt x="2006" y="3891"/>
                  <a:pt x="2014" y="3883"/>
                </a:cubicBezTo>
                <a:cubicBezTo>
                  <a:pt x="2027" y="3870"/>
                  <a:pt x="2021" y="3847"/>
                  <a:pt x="2025" y="3829"/>
                </a:cubicBezTo>
                <a:cubicBezTo>
                  <a:pt x="2014" y="3822"/>
                  <a:pt x="1999" y="3818"/>
                  <a:pt x="1992" y="3807"/>
                </a:cubicBezTo>
                <a:cubicBezTo>
                  <a:pt x="1984" y="3794"/>
                  <a:pt x="1991" y="3774"/>
                  <a:pt x="1981" y="3763"/>
                </a:cubicBezTo>
                <a:cubicBezTo>
                  <a:pt x="1964" y="3743"/>
                  <a:pt x="1916" y="3720"/>
                  <a:pt x="1916" y="3720"/>
                </a:cubicBezTo>
                <a:cubicBezTo>
                  <a:pt x="1863" y="3640"/>
                  <a:pt x="1930" y="3722"/>
                  <a:pt x="1959" y="3741"/>
                </a:cubicBezTo>
                <a:cubicBezTo>
                  <a:pt x="1966" y="3752"/>
                  <a:pt x="1971" y="3765"/>
                  <a:pt x="1981" y="3774"/>
                </a:cubicBezTo>
                <a:cubicBezTo>
                  <a:pt x="1993" y="3785"/>
                  <a:pt x="2100" y="3844"/>
                  <a:pt x="2014" y="3807"/>
                </a:cubicBezTo>
                <a:cubicBezTo>
                  <a:pt x="1999" y="3801"/>
                  <a:pt x="1985" y="3792"/>
                  <a:pt x="1970" y="3785"/>
                </a:cubicBezTo>
                <a:cubicBezTo>
                  <a:pt x="1960" y="3781"/>
                  <a:pt x="1949" y="3778"/>
                  <a:pt x="1938" y="3774"/>
                </a:cubicBezTo>
                <a:cubicBezTo>
                  <a:pt x="1931" y="3763"/>
                  <a:pt x="1925" y="3750"/>
                  <a:pt x="1916" y="3741"/>
                </a:cubicBezTo>
                <a:cubicBezTo>
                  <a:pt x="1907" y="3732"/>
                  <a:pt x="1888" y="3732"/>
                  <a:pt x="1883" y="3720"/>
                </a:cubicBezTo>
                <a:cubicBezTo>
                  <a:pt x="1876" y="3703"/>
                  <a:pt x="1883" y="3683"/>
                  <a:pt x="1883" y="3665"/>
                </a:cubicBezTo>
              </a:path>
            </a:pathLst>
          </a:custGeom>
          <a:solidFill>
            <a:srgbClr val="66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WordArt 15"/>
          <p:cNvSpPr txBox="1"/>
          <p:nvPr/>
        </p:nvSpPr>
        <p:spPr>
          <a:xfrm rot="5400000">
            <a:off x="2719800" y="4061520"/>
            <a:ext cx="3589200" cy="647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Geometr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64" name="AutoShape 2"/>
          <p:cNvSpPr/>
          <p:nvPr/>
        </p:nvSpPr>
        <p:spPr>
          <a:xfrm>
            <a:off x="3581280" y="0"/>
            <a:ext cx="2286000" cy="1752480"/>
          </a:xfrm>
          <a:prstGeom prst="cloudCallout">
            <a:avLst>
              <a:gd name="adj1" fmla="val -43750"/>
              <a:gd name="adj2" fmla="val 6394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AutoShape 16"/>
          <p:cNvSpPr/>
          <p:nvPr/>
        </p:nvSpPr>
        <p:spPr>
          <a:xfrm>
            <a:off x="5029200" y="838080"/>
            <a:ext cx="2666880" cy="1828800"/>
          </a:xfrm>
          <a:prstGeom prst="cloudCallout">
            <a:avLst>
              <a:gd name="adj1" fmla="val -42856"/>
              <a:gd name="adj2" fmla="val 6753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17"/>
          <p:cNvSpPr/>
          <p:nvPr/>
        </p:nvSpPr>
        <p:spPr>
          <a:xfrm>
            <a:off x="5638680" y="4648320"/>
            <a:ext cx="3505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What did the acorn say when he grew u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18"/>
          <p:cNvSpPr/>
          <p:nvPr/>
        </p:nvSpPr>
        <p:spPr>
          <a:xfrm>
            <a:off x="2133720" y="2362320"/>
            <a:ext cx="129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oints Lines Pla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20"/>
          <p:cNvSpPr/>
          <p:nvPr/>
        </p:nvSpPr>
        <p:spPr>
          <a:xfrm>
            <a:off x="2514600" y="9144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irc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21"/>
          <p:cNvSpPr/>
          <p:nvPr/>
        </p:nvSpPr>
        <p:spPr>
          <a:xfrm>
            <a:off x="3886200" y="7621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olyg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22"/>
          <p:cNvSpPr/>
          <p:nvPr/>
        </p:nvSpPr>
        <p:spPr>
          <a:xfrm>
            <a:off x="5334120" y="1143000"/>
            <a:ext cx="2133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ongr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imilar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660066"/>
                </a:solidFill>
                <a:latin typeface="Times New Roman"/>
              </a:rPr>
              <a:t>Point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position in space, has no size only lo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•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                 </a:t>
            </a: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•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                        </a:t>
            </a: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•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, B and N represent poi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Lin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inues without end in opposite dire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•                          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    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B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esents a l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Line 4"/>
          <p:cNvSpPr/>
          <p:nvPr/>
        </p:nvSpPr>
        <p:spPr>
          <a:xfrm>
            <a:off x="1600200" y="3429000"/>
            <a:ext cx="5105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Line 8"/>
          <p:cNvSpPr/>
          <p:nvPr/>
        </p:nvSpPr>
        <p:spPr>
          <a:xfrm>
            <a:off x="3581280" y="50292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Plan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flat surface that extends in four direction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Segment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t of a line made up of 2 points and all the points of the line between the 2 point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•                                    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                                   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epresents a seg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Line 4"/>
          <p:cNvSpPr/>
          <p:nvPr/>
        </p:nvSpPr>
        <p:spPr>
          <a:xfrm>
            <a:off x="838080" y="396252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Line 5"/>
          <p:cNvSpPr/>
          <p:nvPr/>
        </p:nvSpPr>
        <p:spPr>
          <a:xfrm>
            <a:off x="838080" y="54864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Ray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t of a line consisting of one endpoint and all the points of the line on one side of the endpoi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                            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G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resents a r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4"/>
          <p:cNvSpPr/>
          <p:nvPr/>
        </p:nvSpPr>
        <p:spPr>
          <a:xfrm>
            <a:off x="1371600" y="4191120"/>
            <a:ext cx="457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5"/>
          <p:cNvSpPr/>
          <p:nvPr/>
        </p:nvSpPr>
        <p:spPr>
          <a:xfrm>
            <a:off x="1296720" y="396144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6"/>
          <p:cNvSpPr/>
          <p:nvPr/>
        </p:nvSpPr>
        <p:spPr>
          <a:xfrm>
            <a:off x="4421160" y="396144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Line 7"/>
          <p:cNvSpPr/>
          <p:nvPr/>
        </p:nvSpPr>
        <p:spPr>
          <a:xfrm>
            <a:off x="838080" y="54100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228600" y="609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ow could you describe geometrically the position of the moon, earth, and sun during a solar eclips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Object 4" descr=""/>
          <p:cNvPicPr/>
          <p:nvPr/>
        </p:nvPicPr>
        <p:blipFill>
          <a:blip r:embed="rId1"/>
          <a:stretch/>
        </p:blipFill>
        <p:spPr>
          <a:xfrm>
            <a:off x="457200" y="4191120"/>
            <a:ext cx="1219320" cy="1144440"/>
          </a:xfrm>
          <a:prstGeom prst="rect">
            <a:avLst/>
          </a:prstGeom>
          <a:ln w="0">
            <a:noFill/>
          </a:ln>
        </p:spPr>
      </p:pic>
      <p:sp>
        <p:nvSpPr>
          <p:cNvPr id="91" name="AutoShape 6"/>
          <p:cNvSpPr/>
          <p:nvPr/>
        </p:nvSpPr>
        <p:spPr>
          <a:xfrm rot="9929400">
            <a:off x="7162920" y="0"/>
            <a:ext cx="1676160" cy="2747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7"/>
          <p:cNvSpPr/>
          <p:nvPr/>
        </p:nvSpPr>
        <p:spPr>
          <a:xfrm>
            <a:off x="6324480" y="4267080"/>
            <a:ext cx="2133720" cy="1676520"/>
          </a:xfrm>
          <a:custGeom>
            <a:avLst/>
            <a:gdLst>
              <a:gd name="textAreaLeft" fmla="*/ 487080 w 2133720"/>
              <a:gd name="textAreaRight" fmla="*/ 1646640 w 2133720"/>
              <a:gd name="textAreaTop" fmla="*/ 382680 h 1676520"/>
              <a:gd name="textAreaBottom" fmla="*/ 129384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9" descr=""/>
          <p:cNvPicPr/>
          <p:nvPr/>
        </p:nvPicPr>
        <p:blipFill>
          <a:blip r:embed="rId2"/>
          <a:stretch/>
        </p:blipFill>
        <p:spPr>
          <a:xfrm>
            <a:off x="2971800" y="4114800"/>
            <a:ext cx="262080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24T18:42:26Z</dcterms:created>
  <dc:creator>Mr. Cluter</dc:creator>
  <dc:description/>
  <dc:language>en-US</dc:language>
  <cp:lastModifiedBy>RomaK</cp:lastModifiedBy>
  <dcterms:modified xsi:type="dcterms:W3CDTF">2015-09-04T07:41:32Z</dcterms:modified>
  <cp:revision>11</cp:revision>
  <dc:subject/>
  <dc:title>Geometry</dc:title>
</cp:coreProperties>
</file>