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8629-8B61-4EB5-AA5F-1211B82D52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890-6CEC-4CD8-9639-BE9A03FD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E73-B6F9-475D-8752-F805A7D3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28E-38EC-4789-9928-243F9D93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66C-175B-48F3-AE37-B75A32BB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815-185A-472D-B198-99EB2970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7E3-D580-48E7-8250-909BB8D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116-0547-4C66-A968-6C15CD95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7FC-6339-468F-B1C2-EAA40851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751-674F-46FB-A3CF-2D6FA168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DC8-87DC-4096-82D2-D89AA2F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EF5-AE76-4FF1-9F07-54B2659C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9A8-0648-4248-BF14-E7A961D6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F702-2EEB-4193-91B3-F61FA1374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15000" y="5757120"/>
            <a:ext cx="32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llega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60020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83808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371600" y="4191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96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380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19320" cy="1144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 rot="9929400">
            <a:off x="7162920" y="0"/>
            <a:ext cx="1676160" cy="27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24480" y="4267080"/>
            <a:ext cx="2133720" cy="167652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2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42:26Z</dcterms:created>
  <dc:creator>Mr. Cluter</dc:creator>
  <dc:description/>
  <dc:language>en-US</dc:language>
  <cp:lastModifiedBy>RomaK</cp:lastModifiedBy>
  <dcterms:modified xsi:type="dcterms:W3CDTF">2015-09-04T07:41:32Z</dcterms:modified>
  <cp:revision>11</cp:revision>
  <dc:subject/>
  <dc:title>Geometry</dc:title>
</cp:coreProperties>
</file>