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85B5-3C85-438B-842C-DBE57D5C2DE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ilaterals are four-sided 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: is a quadrilateral with both pairs of opposite sides parall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ilaterals are four-sided 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: is a quadrilateral with both pairs of opposite sides parall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tangles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quadrilateral is a rectangle, then the following properties hold tr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. Sides are congruent and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. Angles are congr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ecutive angles are supplemen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onals are congruent and bise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our angles are right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tangles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quadrilateral is a rectangle, then the following properties hold tr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. Sides are congruent and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. Angles are congr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ecutive angles are supplemen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onals are congruent and bise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our angles are right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and Rhomb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hombus is a quadrilateral with four congruent sides.  Since opp. sides are  , a rhombus is a parallelogram with all its propert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facts about rhomb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11: The diagonals of a rhomb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erpendicul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12: If the diagonals of a parallelogra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are perpendicular, then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parallelogram is a rhomb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13: Each diagonal of a rhombus bisec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ir of opp.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and Rhomb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hombus is a quadrilateral with four congruent sides.  Since opp. sides are  , a rhombus is a parallelogram with all its propert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facts about rhomb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11: The diagonals of a rhomb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erpendicul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12: If the diagonals of a parallelogra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are perpendicular, then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parallelogram is a rhomb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13: Each diagonal of a rhombus bisec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ir of opp.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and Rhombi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quadrilateral is both, a rhombus and a rectangle, is a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rhombus has an area of A square units and diagonals of d1 and d2 units, then A = ½ d1d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and Rhombi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quadrilateral is both, a rhombus and a rectangle, is a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rhombus has an area of A square units and diagonals of d1 and d2 units, then A = ½ d1d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triang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triangle has an area of A square units a base of b units and corresponding height of h units, then A = ½b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gruent figures have equal ar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triang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triangle has an area of A square units a base of b units and corresponding height of h units, then A = ½b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gruent figures have equal ar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pez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apezoid is a quadrilateral with exactly one pair of parallel sid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allel sides are called bas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nparallel sides are called le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side of a base there is a pair of base ang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pez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apezoid is a quadrilateral with exactly one pair of parallel sid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allel sides are called bas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nparallel sides are called le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side of a base there is a pair of base ang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pezoids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=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D =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 = l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D = l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 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 &amp; BD are non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A &amp; &lt;B = pair of base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C &amp; &lt;D = pair of base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pezoids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=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D =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 = l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D = l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 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 &amp; BD are non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A &amp; &lt;B = pair of base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C &amp; &lt;D = pair of base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pezoids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sosceles trapezoid: A trapezoid with congruent le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-14: Both pairs of base angles of an isosceles trapezoid are congru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-15: The diagonals of an isosceles trapezoid are congru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pezoids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sosceles trapezoid: A trapezoid with congruent le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-14: Both pairs of base angles of an isosceles trapezoid are congru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-15: The diagonals of an isosceles trapezoid are congru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pezoids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dian of a trapezoid is the segment that joints the midpoints of the legs (PQ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-16: The median of a trapezoid is parallel to the bases, and its measure is one-half the sum of the measures of its b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pezoids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dian of a trapezoid is the segment that joints the midpoints of the legs (PQ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-16: The median of a trapezoid is parallel to the bases, and its measure is one-half the sum of the measures of its b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Trapez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trapezoid: If a trapezoid has an area of A square units, bases of b1 and b2 units and height of h units, then A = ½(b1 + b2 )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Trapez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trapezoid: If a trapezoid has an area of A square units, bases of b1 and b2 units and height of h units, then A = ½(b1 + b2 )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allelograms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.1 : Opposite sides of a parallelograms are congru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.2: Opposite angles of a parallelogram are congr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.3: Consecutive angles in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e supplementary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  BC  and  AB  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A  &lt;C  and  &lt;B  &lt;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&lt;A+m&lt;B = 180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 &lt;B+m&lt;C = 180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&lt;C+m&lt;D = 180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&lt;D+m&lt;A = 180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allelograms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.1 : Opposite sides of a parallelograms are congru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.2: Opposite angles of a parallelogram are congr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.3: Consecutive angles in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e supplementary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  BC  and  AB  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A  &lt;C  and  &lt;B  &lt;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&lt;A+m&lt;B = 180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 &lt;B+m&lt;C = 180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&lt;C+m&lt;D = 180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&lt;D+m&lt;A = 180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s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onals of a figure: Segments that connect any to vertices of a poly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4: The diagonals of a parallelogram bisect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s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onals of a figure: Segments that connect any to vertices of a poly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4: The diagonals of a parallelogram bisect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s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parallelogram :          ABCD on a piece of construction pap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the parallelogra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 the paper and make a crease from A to C and from B to 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 the paper so A lies on C. What do you observ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 the paper so B lies on D. What do you obser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orem is confirmed by these Observa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s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parallelogram :          ABCD on a piece of construction pap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the parallelogra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 the paper and make a crease from A to C and from B to 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 the paper so A lies on C. What do you observ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 the paper so B lies on D. What do you obser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orem is confirmed by these Observa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s for Parallel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5 :If both pairs of opposite sides of a quadrilateral are congruent, then the quadrilateral is a parallelogra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6: If both pairs of opposite angles of a quadrilateral are congruent, then the quadrilateral is a parallel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D  BC  and  AB  DC, then ABCD is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&lt;A  &lt;C  and  &lt;B  &lt;D, then ABCD is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s for Parallel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5 :If both pairs of opposite sides of a quadrilateral are congruent, then the quadrilateral is a parallelogra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6: If both pairs of opposite angles of a quadrilateral are congruent, then the quadrilateral is a parallel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D  BC  and  AB  DC, then ABCD is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&lt;A  &lt;C  and  &lt;B  &lt;D, then ABCD is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s for Parallelograms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7: If the diagonals of a quadrilateral bisect each other, then the quadrilateral is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8: If one pair of opposite sides of a quadrilateral is both parallel and congruent, then the quadrilateral is a parallel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s for Parallelograms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7: If the diagonals of a quadrilateral bisect each other, then the quadrilateral is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8: If one pair of opposite sides of a quadrilateral is both parallel and congruent, then the quadrilateral is a parallel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quadrilateral is a parallelogram if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onals bisect each other. (Theorem 6.7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ir of opposite sides is both parallel and congruent. (Theorem 6.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pairs of opposite sides are congruent. (Theorem 6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pairs of opposite angles are congruent. (Theorem 6.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pairs of opposite sides are parallel. (Defini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quadrilateral is a parallelogram if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onals bisect each other. (Theorem 6.7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ir of opposite sides is both parallel and congruent. (Theorem 6.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pairs of opposite sides are congruent. (Theorem 6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pairs of opposite angles are congruent. (Theorem 6.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pairs of opposite sides are parallel. (Defini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parallelogram has an area of A square units, a base of b units and a height of h units, then A = bh.  (Do example 1 p. 53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ea of a region is the sum of the areas of all its non-overlapping parts. (Do example 3 p. 53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parallelogram has an area of A square units, a base of b units and a height of h units, then A = bh.  (Do example 1 p. 53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ea of a region is the sum of the areas of all its non-overlapping parts. (Do example 3 p. 53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ctangle is a quadrilateral with four right ang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-9 : If a parallelogram is a rectangl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its diagonals are congru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.  angles in rectangles are congruent (they are right angles) therefore rectangles are parallelograms with all their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-10 : If the diagonals of a parallelog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ongruent then the parallelogram is a rect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ctangle is a quadrilateral with four right ang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-9 : If a parallelogram is a rectangl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its diagonals are congru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.  angles in rectangles are congruent (they are right angles) therefore rectangles are parallelograms with all their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-10 : If the diagonals of a parallelog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ongruent then the parallelogram is a rect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D922-0E08-4589-92AC-82D206120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F0CC-5275-4F6A-A389-A7EF70D1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AF1C-3C99-4D62-891F-41DA9EE56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11F5-86A0-4FDB-A2F7-81A8FBB41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192F-C96E-4215-AEA1-57205B789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FC7C-AF34-4FA0-AB6C-98893E68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87C9-01A0-4A0C-A9D1-492259D1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7E45-5687-48F4-B85B-64481DB2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26AD-C820-436D-BABC-9704913D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6062-0F88-4EA1-AE33-309383FF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D65B-8615-4076-9EF6-EA3FD3A2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6AC5-BE63-461B-B6B6-25BEFC77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4FE4-540B-4715-AF40-6B4D9EDB742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cc"/>
                </a:solidFill>
                <a:latin typeface="Ravie"/>
              </a:rPr>
              <a:t>Parallel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26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8" descr="WB02325_"/>
          <p:cNvPicPr/>
          <p:nvPr/>
        </p:nvPicPr>
        <p:blipFill>
          <a:blip r:embed="rId1"/>
          <a:stretch/>
        </p:blipFill>
        <p:spPr>
          <a:xfrm>
            <a:off x="7543800" y="380880"/>
            <a:ext cx="1600200" cy="8002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9"/>
          <p:cNvSpPr/>
          <p:nvPr/>
        </p:nvSpPr>
        <p:spPr>
          <a:xfrm>
            <a:off x="380880" y="2438280"/>
            <a:ext cx="274320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Quadrilaterals</a:t>
            </a: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 are four-side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30"/>
          <p:cNvSpPr/>
          <p:nvPr/>
        </p:nvSpPr>
        <p:spPr>
          <a:xfrm>
            <a:off x="4191120" y="1600200"/>
            <a:ext cx="1214280" cy="457200"/>
          </a:xfrm>
          <a:custGeom>
            <a:avLst/>
            <a:gdLst>
              <a:gd name="textAreaLeft" fmla="*/ 252720 w 1214280"/>
              <a:gd name="textAreaRight" fmla="*/ 961560 w 1214280"/>
              <a:gd name="textAreaTop" fmla="*/ 95040 h 457200"/>
              <a:gd name="textAreaBottom" fmla="*/ 362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1"/>
          <p:cNvSpPr/>
          <p:nvPr/>
        </p:nvSpPr>
        <p:spPr>
          <a:xfrm>
            <a:off x="6705720" y="1752480"/>
            <a:ext cx="9144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32"/>
          <p:cNvSpPr/>
          <p:nvPr/>
        </p:nvSpPr>
        <p:spPr>
          <a:xfrm>
            <a:off x="6019920" y="2590920"/>
            <a:ext cx="533160" cy="13716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33"/>
          <p:cNvSpPr/>
          <p:nvPr/>
        </p:nvSpPr>
        <p:spPr>
          <a:xfrm>
            <a:off x="3886200" y="3505320"/>
            <a:ext cx="1214280" cy="609480"/>
          </a:xfrm>
          <a:prstGeom prst="parallelogram">
            <a:avLst>
              <a:gd name="adj" fmla="val 49808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4"/>
          <p:cNvSpPr/>
          <p:nvPr/>
        </p:nvSpPr>
        <p:spPr>
          <a:xfrm>
            <a:off x="838080" y="4572000"/>
            <a:ext cx="4724640" cy="1800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Black"/>
              </a:rPr>
              <a:t>Parallelogram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: is a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quadrilateral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ith both pairs of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opposite sides parall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35"/>
          <p:cNvSpPr/>
          <p:nvPr/>
        </p:nvSpPr>
        <p:spPr>
          <a:xfrm>
            <a:off x="7620120" y="5715000"/>
            <a:ext cx="1214280" cy="609480"/>
          </a:xfrm>
          <a:prstGeom prst="parallelogram">
            <a:avLst>
              <a:gd name="adj" fmla="val 49808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6"/>
          <p:cNvSpPr/>
          <p:nvPr/>
        </p:nvSpPr>
        <p:spPr>
          <a:xfrm>
            <a:off x="5943600" y="4800600"/>
            <a:ext cx="12193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7"/>
          <p:cNvSpPr/>
          <p:nvPr/>
        </p:nvSpPr>
        <p:spPr>
          <a:xfrm>
            <a:off x="6324480" y="5867280"/>
            <a:ext cx="762120" cy="6858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9"/>
          <p:cNvSpPr/>
          <p:nvPr/>
        </p:nvSpPr>
        <p:spPr>
          <a:xfrm flipV="1">
            <a:off x="3124080" y="1904760"/>
            <a:ext cx="129564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50"/>
          <p:cNvSpPr/>
          <p:nvPr/>
        </p:nvSpPr>
        <p:spPr>
          <a:xfrm flipV="1">
            <a:off x="3124080" y="2209680"/>
            <a:ext cx="342900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51"/>
          <p:cNvSpPr/>
          <p:nvPr/>
        </p:nvSpPr>
        <p:spPr>
          <a:xfrm>
            <a:off x="3124080" y="3048120"/>
            <a:ext cx="281952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52"/>
          <p:cNvSpPr/>
          <p:nvPr/>
        </p:nvSpPr>
        <p:spPr>
          <a:xfrm>
            <a:off x="3124080" y="335268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53"/>
          <p:cNvSpPr/>
          <p:nvPr/>
        </p:nvSpPr>
        <p:spPr>
          <a:xfrm>
            <a:off x="7848720" y="4114800"/>
            <a:ext cx="533160" cy="13716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3333cc"/>
                </a:solidFill>
                <a:latin typeface="Jokerman"/>
              </a:rPr>
              <a:t>Rectangles (2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228600" y="1676520"/>
            <a:ext cx="8686800" cy="4483080"/>
          </a:xfrm>
          <a:prstGeom prst="rect">
            <a:avLst/>
          </a:prstGeom>
          <a:noFill/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f a quadrilateral is a rectangle, then the following properties hold tr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pp. Sides are congruent and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pp. Angles are congru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secutive angles are supplemen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agonals are congruent and bisect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ll four angles are right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6858000" y="685800"/>
            <a:ext cx="160020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Ravie"/>
              </a:rPr>
              <a:t>Squares and Rhomb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380880" y="1219320"/>
            <a:ext cx="8382240" cy="13129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rhombus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is a quadrilateral with four congruent sides.  Since opp. sides are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a rhombus is a parallelogram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with all its properties.</a:t>
            </a:r>
            <a:r>
              <a:rPr b="0" lang="es-MX" sz="2400" spc="-1" strike="noStrike">
                <a:solidFill>
                  <a:srgbClr val="000066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7924680" y="0"/>
            <a:ext cx="990720" cy="106668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209520" y="289548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pecial facts about </a:t>
            </a: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rhom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Theorem 6.11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The diagonals of a rhomb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re perpendic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Theorem 6.12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f the diagonals of a parallelogram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  are perpendicular, then the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  parallelogram is a rhom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Theorem 6.13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ach diagonal of a rhombus bis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 pair of opp.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304920" y="228600"/>
            <a:ext cx="761760" cy="6858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8231400" y="6858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37920" y="457200"/>
            <a:ext cx="4419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Ravie"/>
              </a:rPr>
              <a:t>Squares and Rhombi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7391520" y="533520"/>
            <a:ext cx="990360" cy="1295280"/>
          </a:xfrm>
          <a:prstGeom prst="diamond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1371600" y="533520"/>
            <a:ext cx="762120" cy="685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914400" y="4419720"/>
            <a:ext cx="7467480" cy="113004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a quadrilateral is both, a rhombus and a rectangle, is a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qu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762120" y="1981080"/>
            <a:ext cx="7467480" cy="16909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a rhombus has an area of A square units and diagonals of 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units, then A = ½ 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257800" y="45684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Ravie"/>
              </a:rPr>
              <a:t>Area of a triang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457200" y="2971800"/>
            <a:ext cx="8381880" cy="1556280"/>
          </a:xfrm>
          <a:prstGeom prst="rect">
            <a:avLst/>
          </a:prstGeom>
          <a:solidFill>
            <a:srgbClr val="ffcc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a triangle has an area of A square units a base of b units and corresponding height of h units, then A = ½b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2971800" y="685800"/>
            <a:ext cx="2133720" cy="1523880"/>
          </a:xfrm>
          <a:prstGeom prst="triangle">
            <a:avLst>
              <a:gd name="adj" fmla="val 50000"/>
            </a:avLst>
          </a:prstGeom>
          <a:solidFill>
            <a:srgbClr val="ff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5"/>
          <p:cNvSpPr/>
          <p:nvPr/>
        </p:nvSpPr>
        <p:spPr>
          <a:xfrm>
            <a:off x="4038480" y="704880"/>
            <a:ext cx="0" cy="15238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4116600" y="1295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64320" y="2300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914400" y="5410080"/>
            <a:ext cx="7467480" cy="581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gruent figures have equal are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362320" y="990720"/>
            <a:ext cx="4952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cc"/>
                </a:solidFill>
                <a:latin typeface="Ravie"/>
              </a:rPr>
              <a:t>Trapezo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533520" y="2971800"/>
            <a:ext cx="7162560" cy="2288520"/>
          </a:xfrm>
          <a:prstGeom prst="rect">
            <a:avLst/>
          </a:prstGeom>
          <a:solidFill>
            <a:srgbClr val="ccffcc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A trapezoid is a quadrilateral with exactly one pair of parallel sides.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The parallel sides are called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 bases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The nonparallel sides are called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legs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At each side of a base there is a pair of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base angles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8231400" y="6859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7"/>
          <p:cNvSpPr/>
          <p:nvPr/>
        </p:nvSpPr>
        <p:spPr>
          <a:xfrm>
            <a:off x="7391520" y="304920"/>
            <a:ext cx="1214280" cy="914400"/>
          </a:xfrm>
          <a:custGeom>
            <a:avLst/>
            <a:gdLst>
              <a:gd name="textAreaLeft" fmla="*/ 300240 w 1214280"/>
              <a:gd name="textAreaRight" fmla="*/ 914040 w 1214280"/>
              <a:gd name="textAreaTop" fmla="*/ 226080 h 914400"/>
              <a:gd name="textAreaBottom" fmla="*/ 6883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087" y="21600"/>
                </a:lnTo>
                <a:lnTo>
                  <a:pt x="14513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8"/>
          <p:cNvSpPr/>
          <p:nvPr/>
        </p:nvSpPr>
        <p:spPr>
          <a:xfrm rot="10791600">
            <a:off x="837360" y="1371240"/>
            <a:ext cx="1752840" cy="992160"/>
          </a:xfrm>
          <a:custGeom>
            <a:avLst/>
            <a:gdLst>
              <a:gd name="textAreaLeft" fmla="*/ 428400 w 1752840"/>
              <a:gd name="textAreaRight" fmla="*/ 1324440 w 1752840"/>
              <a:gd name="textAreaTop" fmla="*/ 242280 h 992160"/>
              <a:gd name="textAreaBottom" fmla="*/ 74988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960" y="21600"/>
                </a:lnTo>
                <a:lnTo>
                  <a:pt x="1464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66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9"/>
          <p:cNvSpPr/>
          <p:nvPr/>
        </p:nvSpPr>
        <p:spPr>
          <a:xfrm flipH="1">
            <a:off x="7086240" y="1906560"/>
            <a:ext cx="1522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0"/>
          <p:cNvSpPr/>
          <p:nvPr/>
        </p:nvSpPr>
        <p:spPr>
          <a:xfrm>
            <a:off x="7238880" y="190656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1"/>
          <p:cNvSpPr/>
          <p:nvPr/>
        </p:nvSpPr>
        <p:spPr>
          <a:xfrm>
            <a:off x="7086600" y="2440080"/>
            <a:ext cx="1523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2"/>
          <p:cNvSpPr/>
          <p:nvPr/>
        </p:nvSpPr>
        <p:spPr>
          <a:xfrm flipH="1" flipV="1">
            <a:off x="8000640" y="190656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362320" y="990720"/>
            <a:ext cx="4952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33cc"/>
                </a:solidFill>
                <a:latin typeface="Ravie"/>
              </a:rPr>
              <a:t>Trapezoid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8231400" y="6859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7391520" y="457200"/>
            <a:ext cx="1214280" cy="914400"/>
          </a:xfrm>
          <a:custGeom>
            <a:avLst/>
            <a:gdLst>
              <a:gd name="textAreaLeft" fmla="*/ 300240 w 1214280"/>
              <a:gd name="textAreaRight" fmla="*/ 914040 w 1214280"/>
              <a:gd name="textAreaTop" fmla="*/ 226080 h 914400"/>
              <a:gd name="textAreaBottom" fmla="*/ 6883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087" y="21600"/>
                </a:lnTo>
                <a:lnTo>
                  <a:pt x="14513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6"/>
          <p:cNvSpPr/>
          <p:nvPr/>
        </p:nvSpPr>
        <p:spPr>
          <a:xfrm rot="10791600">
            <a:off x="837360" y="1371240"/>
            <a:ext cx="1752840" cy="992160"/>
          </a:xfrm>
          <a:custGeom>
            <a:avLst/>
            <a:gdLst>
              <a:gd name="textAreaLeft" fmla="*/ 428400 w 1752840"/>
              <a:gd name="textAreaRight" fmla="*/ 1324440 w 1752840"/>
              <a:gd name="textAreaTop" fmla="*/ 242280 h 992160"/>
              <a:gd name="textAreaBottom" fmla="*/ 74988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960" y="21600"/>
                </a:lnTo>
                <a:lnTo>
                  <a:pt x="1464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7"/>
          <p:cNvSpPr/>
          <p:nvPr/>
        </p:nvSpPr>
        <p:spPr>
          <a:xfrm flipH="1">
            <a:off x="7086240" y="1906560"/>
            <a:ext cx="1522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8"/>
          <p:cNvSpPr/>
          <p:nvPr/>
        </p:nvSpPr>
        <p:spPr>
          <a:xfrm>
            <a:off x="7238880" y="190656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9"/>
          <p:cNvSpPr/>
          <p:nvPr/>
        </p:nvSpPr>
        <p:spPr>
          <a:xfrm>
            <a:off x="7086600" y="2440080"/>
            <a:ext cx="1523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0"/>
          <p:cNvSpPr/>
          <p:nvPr/>
        </p:nvSpPr>
        <p:spPr>
          <a:xfrm flipH="1" flipV="1">
            <a:off x="8000640" y="190656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2364480" y="2743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2"/>
          <p:cNvSpPr/>
          <p:nvPr/>
        </p:nvSpPr>
        <p:spPr>
          <a:xfrm flipH="1">
            <a:off x="2285640" y="3048120"/>
            <a:ext cx="60948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3"/>
          <p:cNvSpPr/>
          <p:nvPr/>
        </p:nvSpPr>
        <p:spPr>
          <a:xfrm>
            <a:off x="2895480" y="3048120"/>
            <a:ext cx="838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4"/>
          <p:cNvSpPr/>
          <p:nvPr/>
        </p:nvSpPr>
        <p:spPr>
          <a:xfrm>
            <a:off x="2286000" y="3886200"/>
            <a:ext cx="3048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5"/>
          <p:cNvSpPr/>
          <p:nvPr/>
        </p:nvSpPr>
        <p:spPr>
          <a:xfrm flipH="1" flipV="1">
            <a:off x="3733560" y="3048120"/>
            <a:ext cx="160020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167832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5488560" y="3809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8"/>
          <p:cNvSpPr/>
          <p:nvPr/>
        </p:nvSpPr>
        <p:spPr>
          <a:xfrm>
            <a:off x="4421520" y="2743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9"/>
          <p:cNvSpPr/>
          <p:nvPr/>
        </p:nvSpPr>
        <p:spPr>
          <a:xfrm>
            <a:off x="3200400" y="3048120"/>
            <a:ext cx="1522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20"/>
          <p:cNvSpPr/>
          <p:nvPr/>
        </p:nvSpPr>
        <p:spPr>
          <a:xfrm>
            <a:off x="3505320" y="3886200"/>
            <a:ext cx="1522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7153200" y="2743200"/>
            <a:ext cx="199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B =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D =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C = 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BD = 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2"/>
          <p:cNvSpPr/>
          <p:nvPr/>
        </p:nvSpPr>
        <p:spPr>
          <a:xfrm>
            <a:off x="304920" y="3429000"/>
            <a:ext cx="189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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C &amp; BD are non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3"/>
          <p:cNvSpPr/>
          <p:nvPr/>
        </p:nvSpPr>
        <p:spPr>
          <a:xfrm>
            <a:off x="3429360" y="4648320"/>
            <a:ext cx="411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&lt;A &amp; &lt;B = pair of base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&lt;C &amp; &lt;D = pair of base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24"/>
          <p:cNvSpPr/>
          <p:nvPr/>
        </p:nvSpPr>
        <p:spPr>
          <a:xfrm>
            <a:off x="45720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25"/>
          <p:cNvSpPr/>
          <p:nvPr/>
        </p:nvSpPr>
        <p:spPr>
          <a:xfrm>
            <a:off x="106668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26"/>
          <p:cNvSpPr/>
          <p:nvPr/>
        </p:nvSpPr>
        <p:spPr>
          <a:xfrm>
            <a:off x="30492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27"/>
          <p:cNvSpPr/>
          <p:nvPr/>
        </p:nvSpPr>
        <p:spPr>
          <a:xfrm>
            <a:off x="121932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28"/>
          <p:cNvSpPr/>
          <p:nvPr/>
        </p:nvSpPr>
        <p:spPr>
          <a:xfrm>
            <a:off x="7315200" y="2743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29"/>
          <p:cNvSpPr/>
          <p:nvPr/>
        </p:nvSpPr>
        <p:spPr>
          <a:xfrm>
            <a:off x="7238880" y="3124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30"/>
          <p:cNvSpPr/>
          <p:nvPr/>
        </p:nvSpPr>
        <p:spPr>
          <a:xfrm>
            <a:off x="7238880" y="3505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31"/>
          <p:cNvSpPr/>
          <p:nvPr/>
        </p:nvSpPr>
        <p:spPr>
          <a:xfrm>
            <a:off x="7238880" y="38862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2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7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cc"/>
                </a:solidFill>
                <a:latin typeface="Ravie"/>
              </a:rPr>
              <a:t>Trapezoid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762120" y="2438280"/>
            <a:ext cx="6400800" cy="228852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sosceles trapezoid</a:t>
            </a:r>
            <a:r>
              <a:rPr b="0" lang="en-US" sz="2400" spc="-1" strike="noStrike">
                <a:solidFill>
                  <a:srgbClr val="ff6600"/>
                </a:solidFill>
                <a:latin typeface="Arial Black"/>
              </a:rPr>
              <a:t>: </a:t>
            </a: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A trapezoid with congruent le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Theorem 6-14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oth pairs of base angles of an isosceles trapezoid are congru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Theorem 6-15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The diagonals of an isosceles trapezoid are congru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7"/>
          <p:cNvSpPr/>
          <p:nvPr/>
        </p:nvSpPr>
        <p:spPr>
          <a:xfrm>
            <a:off x="7467480" y="990720"/>
            <a:ext cx="1214640" cy="914400"/>
          </a:xfrm>
          <a:custGeom>
            <a:avLst/>
            <a:gdLst>
              <a:gd name="textAreaLeft" fmla="*/ 253080 w 1214640"/>
              <a:gd name="textAreaRight" fmla="*/ 961560 w 121464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8"/>
          <p:cNvSpPr/>
          <p:nvPr/>
        </p:nvSpPr>
        <p:spPr>
          <a:xfrm rot="10791600">
            <a:off x="761760" y="837720"/>
            <a:ext cx="1752480" cy="992160"/>
          </a:xfrm>
          <a:custGeom>
            <a:avLst/>
            <a:gdLst>
              <a:gd name="textAreaLeft" fmla="*/ 428400 w 1752480"/>
              <a:gd name="textAreaRight" fmla="*/ 1324080 w 1752480"/>
              <a:gd name="textAreaTop" fmla="*/ 242280 h 992160"/>
              <a:gd name="textAreaBottom" fmla="*/ 74988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960" y="21600"/>
                </a:lnTo>
                <a:lnTo>
                  <a:pt x="1464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33cc"/>
                </a:solidFill>
                <a:latin typeface="Ravie"/>
              </a:rPr>
              <a:t>Trapezoids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8231400" y="6859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2669040" y="3200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6"/>
          <p:cNvSpPr/>
          <p:nvPr/>
        </p:nvSpPr>
        <p:spPr>
          <a:xfrm>
            <a:off x="6705720" y="228600"/>
            <a:ext cx="1214280" cy="914400"/>
          </a:xfrm>
          <a:custGeom>
            <a:avLst/>
            <a:gdLst>
              <a:gd name="textAreaLeft" fmla="*/ 252720 w 1214280"/>
              <a:gd name="textAreaRight" fmla="*/ 961560 w 121428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7"/>
          <p:cNvSpPr/>
          <p:nvPr/>
        </p:nvSpPr>
        <p:spPr>
          <a:xfrm rot="10791600">
            <a:off x="304560" y="228240"/>
            <a:ext cx="1752480" cy="992160"/>
          </a:xfrm>
          <a:custGeom>
            <a:avLst/>
            <a:gdLst>
              <a:gd name="textAreaLeft" fmla="*/ 428400 w 1752480"/>
              <a:gd name="textAreaRight" fmla="*/ 1324080 w 1752480"/>
              <a:gd name="textAreaTop" fmla="*/ 242280 h 992160"/>
              <a:gd name="textAreaBottom" fmla="*/ 74988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960" y="21600"/>
                </a:lnTo>
                <a:lnTo>
                  <a:pt x="1464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8"/>
          <p:cNvSpPr/>
          <p:nvPr/>
        </p:nvSpPr>
        <p:spPr>
          <a:xfrm flipH="1">
            <a:off x="2590560" y="3505320"/>
            <a:ext cx="60948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9"/>
          <p:cNvSpPr/>
          <p:nvPr/>
        </p:nvSpPr>
        <p:spPr>
          <a:xfrm>
            <a:off x="3200400" y="350532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0"/>
          <p:cNvSpPr/>
          <p:nvPr/>
        </p:nvSpPr>
        <p:spPr>
          <a:xfrm>
            <a:off x="2590920" y="4343400"/>
            <a:ext cx="3047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1"/>
          <p:cNvSpPr/>
          <p:nvPr/>
        </p:nvSpPr>
        <p:spPr>
          <a:xfrm flipH="1" flipV="1">
            <a:off x="4038120" y="3505320"/>
            <a:ext cx="160020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2"/>
          <p:cNvSpPr/>
          <p:nvPr/>
        </p:nvSpPr>
        <p:spPr>
          <a:xfrm>
            <a:off x="1982880" y="4114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3"/>
          <p:cNvSpPr/>
          <p:nvPr/>
        </p:nvSpPr>
        <p:spPr>
          <a:xfrm>
            <a:off x="5793480" y="426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4"/>
          <p:cNvSpPr/>
          <p:nvPr/>
        </p:nvSpPr>
        <p:spPr>
          <a:xfrm>
            <a:off x="4726080" y="3200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5"/>
          <p:cNvSpPr/>
          <p:nvPr/>
        </p:nvSpPr>
        <p:spPr>
          <a:xfrm>
            <a:off x="3505320" y="3505320"/>
            <a:ext cx="1522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6"/>
          <p:cNvSpPr/>
          <p:nvPr/>
        </p:nvSpPr>
        <p:spPr>
          <a:xfrm>
            <a:off x="3809880" y="4343400"/>
            <a:ext cx="152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7"/>
          <p:cNvSpPr/>
          <p:nvPr/>
        </p:nvSpPr>
        <p:spPr>
          <a:xfrm>
            <a:off x="762120" y="16765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</a:t>
            </a:r>
            <a:r>
              <a:rPr b="0" lang="en-US" sz="2400" spc="-1" strike="noStrike">
                <a:solidFill>
                  <a:srgbClr val="ff6600"/>
                </a:solidFill>
                <a:latin typeface="Arial Black"/>
              </a:rPr>
              <a:t>median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f a trapezoid is the segment that joints the midpoints of the legs (PQ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8"/>
          <p:cNvSpPr/>
          <p:nvPr/>
        </p:nvSpPr>
        <p:spPr>
          <a:xfrm>
            <a:off x="2895480" y="3886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5183640" y="3581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0"/>
          <p:cNvSpPr/>
          <p:nvPr/>
        </p:nvSpPr>
        <p:spPr>
          <a:xfrm>
            <a:off x="2287800" y="3581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22"/>
          <p:cNvSpPr/>
          <p:nvPr/>
        </p:nvSpPr>
        <p:spPr>
          <a:xfrm>
            <a:off x="533520" y="4800600"/>
            <a:ext cx="792468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Theorem 6-16: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 The median of a trapezoid is parallel to the bases, and its measure is one-half the sum of the measures of its b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3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33cc"/>
                </a:solidFill>
                <a:latin typeface="Ravie"/>
              </a:rPr>
              <a:t>Area of Trapezo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8231400" y="6859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2669040" y="2209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6705720" y="228600"/>
            <a:ext cx="1214280" cy="762120"/>
          </a:xfrm>
          <a:custGeom>
            <a:avLst/>
            <a:gdLst>
              <a:gd name="textAreaLeft" fmla="*/ 252720 w 1214280"/>
              <a:gd name="textAreaRight" fmla="*/ 961560 w 1214280"/>
              <a:gd name="textAreaTop" fmla="*/ 158760 h 762120"/>
              <a:gd name="textAreaBottom" fmla="*/ 60336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6"/>
          <p:cNvSpPr/>
          <p:nvPr/>
        </p:nvSpPr>
        <p:spPr>
          <a:xfrm rot="10791600">
            <a:off x="302760" y="228240"/>
            <a:ext cx="1752840" cy="838080"/>
          </a:xfrm>
          <a:custGeom>
            <a:avLst/>
            <a:gdLst>
              <a:gd name="textAreaLeft" fmla="*/ 428400 w 1752840"/>
              <a:gd name="textAreaRight" fmla="*/ 1324440 w 1752840"/>
              <a:gd name="textAreaTop" fmla="*/ 204840 h 838080"/>
              <a:gd name="textAreaBottom" fmla="*/ 6332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960" y="21600"/>
                </a:lnTo>
                <a:lnTo>
                  <a:pt x="1464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7"/>
          <p:cNvSpPr/>
          <p:nvPr/>
        </p:nvSpPr>
        <p:spPr>
          <a:xfrm flipH="1">
            <a:off x="2590560" y="2514600"/>
            <a:ext cx="60948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8"/>
          <p:cNvSpPr/>
          <p:nvPr/>
        </p:nvSpPr>
        <p:spPr>
          <a:xfrm>
            <a:off x="3200400" y="251460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9"/>
          <p:cNvSpPr/>
          <p:nvPr/>
        </p:nvSpPr>
        <p:spPr>
          <a:xfrm>
            <a:off x="2590920" y="3352680"/>
            <a:ext cx="3047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0"/>
          <p:cNvSpPr/>
          <p:nvPr/>
        </p:nvSpPr>
        <p:spPr>
          <a:xfrm flipH="1" flipV="1">
            <a:off x="4038120" y="2514600"/>
            <a:ext cx="160020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1983240" y="3124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5717160" y="3200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4040280" y="2133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20"/>
          <p:cNvSpPr/>
          <p:nvPr/>
        </p:nvSpPr>
        <p:spPr>
          <a:xfrm>
            <a:off x="457200" y="3809880"/>
            <a:ext cx="7924680" cy="224568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 Black"/>
              </a:rPr>
              <a:t>Area of a trapezoid</a:t>
            </a: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: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a trapezoid has an area of A square units, bases of 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units and height of h units, then A = ½(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)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22"/>
          <p:cNvSpPr/>
          <p:nvPr/>
        </p:nvSpPr>
        <p:spPr>
          <a:xfrm>
            <a:off x="3200400" y="25146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23"/>
          <p:cNvSpPr/>
          <p:nvPr/>
        </p:nvSpPr>
        <p:spPr>
          <a:xfrm>
            <a:off x="3338640" y="2581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33cc"/>
                </a:solidFill>
                <a:latin typeface="Ravie"/>
              </a:rPr>
              <a:t>Parallelogram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380880" y="1600200"/>
            <a:ext cx="4496040" cy="1191240"/>
          </a:xfrm>
          <a:prstGeom prst="rect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Theorem 6.1 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pposite sides of a parallelograms are congruent</a:t>
            </a: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457200" y="3276720"/>
            <a:ext cx="4495680" cy="11912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Theorem 6.2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pposite angles of a parallelogram are congru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838080" y="4952880"/>
            <a:ext cx="3657600" cy="155700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Black"/>
              </a:rPr>
              <a:t>Theorem 6.3: 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Consecutive angles in a parallel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are supplementary.</a:t>
            </a:r>
            <a:r>
              <a:rPr b="0" lang="es-MX" sz="2400" spc="-1" strike="noStrike">
                <a:solidFill>
                  <a:srgbClr val="000066"/>
                </a:solidFill>
                <a:latin typeface="Arial Black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6858000" y="685800"/>
            <a:ext cx="1214280" cy="914400"/>
          </a:xfrm>
          <a:prstGeom prst="parallelogram">
            <a:avLst>
              <a:gd name="adj" fmla="val 33199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6539400" y="422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6402960" y="1523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7926840" y="1523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8231400" y="457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5042880" y="2286000"/>
            <a:ext cx="348768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D 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BC  and  AB 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5410080" y="3581280"/>
            <a:ext cx="342900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&lt;A 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&lt;C  and  &lt;B 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&lt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5334120" y="4800600"/>
            <a:ext cx="2666880" cy="15570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&lt;A+m&lt;B = 18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 &lt;B+m&lt;C = 180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&lt;C+m&lt;D = 18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&lt;D+m&lt;A = 180°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4"/>
          <p:cNvSpPr/>
          <p:nvPr/>
        </p:nvSpPr>
        <p:spPr>
          <a:xfrm>
            <a:off x="5181480" y="2362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5"/>
          <p:cNvSpPr/>
          <p:nvPr/>
        </p:nvSpPr>
        <p:spPr>
          <a:xfrm>
            <a:off x="5962680" y="234324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6"/>
          <p:cNvSpPr/>
          <p:nvPr/>
        </p:nvSpPr>
        <p:spPr>
          <a:xfrm>
            <a:off x="7182000" y="234324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7"/>
          <p:cNvSpPr/>
          <p:nvPr/>
        </p:nvSpPr>
        <p:spPr>
          <a:xfrm>
            <a:off x="7924680" y="232416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3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3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cc"/>
                </a:solidFill>
                <a:latin typeface="Ravie"/>
              </a:rPr>
              <a:t>Parallelogram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80880" y="1676520"/>
            <a:ext cx="426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Diagonals of a figure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Segments that connect any to vertices of a polyg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5257800" y="1371600"/>
            <a:ext cx="1214280" cy="914400"/>
          </a:xfrm>
          <a:custGeom>
            <a:avLst/>
            <a:gdLst>
              <a:gd name="textAreaLeft" fmla="*/ 252720 w 1214280"/>
              <a:gd name="textAreaRight" fmla="*/ 961560 w 121428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6400800" y="251460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8"/>
          <p:cNvSpPr/>
          <p:nvPr/>
        </p:nvSpPr>
        <p:spPr>
          <a:xfrm>
            <a:off x="5257800" y="13716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9"/>
          <p:cNvSpPr/>
          <p:nvPr/>
        </p:nvSpPr>
        <p:spPr>
          <a:xfrm flipH="1">
            <a:off x="5562720" y="13716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10"/>
          <p:cNvSpPr/>
          <p:nvPr/>
        </p:nvSpPr>
        <p:spPr>
          <a:xfrm>
            <a:off x="6648480" y="2514600"/>
            <a:ext cx="59040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1"/>
          <p:cNvSpPr/>
          <p:nvPr/>
        </p:nvSpPr>
        <p:spPr>
          <a:xfrm flipH="1">
            <a:off x="6705720" y="2514600"/>
            <a:ext cx="49536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2"/>
          <p:cNvSpPr/>
          <p:nvPr/>
        </p:nvSpPr>
        <p:spPr>
          <a:xfrm>
            <a:off x="6438960" y="2990880"/>
            <a:ext cx="1009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3"/>
          <p:cNvSpPr/>
          <p:nvPr/>
        </p:nvSpPr>
        <p:spPr>
          <a:xfrm>
            <a:off x="990720" y="4114800"/>
            <a:ext cx="1747800" cy="1295280"/>
          </a:xfrm>
          <a:prstGeom prst="parallelogram">
            <a:avLst>
              <a:gd name="adj" fmla="val 3373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4"/>
          <p:cNvSpPr/>
          <p:nvPr/>
        </p:nvSpPr>
        <p:spPr>
          <a:xfrm>
            <a:off x="1447920" y="4114800"/>
            <a:ext cx="838080" cy="129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5"/>
          <p:cNvSpPr/>
          <p:nvPr/>
        </p:nvSpPr>
        <p:spPr>
          <a:xfrm flipH="1">
            <a:off x="990720" y="411480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7"/>
          <p:cNvSpPr/>
          <p:nvPr/>
        </p:nvSpPr>
        <p:spPr>
          <a:xfrm>
            <a:off x="3581280" y="4419720"/>
            <a:ext cx="5029200" cy="82548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Theorem 6.4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diagonals of a parallelogram bisect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8"/>
          <p:cNvSpPr/>
          <p:nvPr/>
        </p:nvSpPr>
        <p:spPr>
          <a:xfrm flipV="1">
            <a:off x="1219320" y="464796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9"/>
          <p:cNvSpPr/>
          <p:nvPr/>
        </p:nvSpPr>
        <p:spPr>
          <a:xfrm flipV="1">
            <a:off x="2514600" y="4647960"/>
            <a:ext cx="763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22"/>
          <p:cNvSpPr/>
          <p:nvPr/>
        </p:nvSpPr>
        <p:spPr>
          <a:xfrm>
            <a:off x="1447920" y="5410080"/>
            <a:ext cx="759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23"/>
          <p:cNvSpPr/>
          <p:nvPr/>
        </p:nvSpPr>
        <p:spPr>
          <a:xfrm>
            <a:off x="1752480" y="541008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24"/>
          <p:cNvSpPr/>
          <p:nvPr/>
        </p:nvSpPr>
        <p:spPr>
          <a:xfrm>
            <a:off x="2209680" y="411480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25"/>
          <p:cNvSpPr/>
          <p:nvPr/>
        </p:nvSpPr>
        <p:spPr>
          <a:xfrm>
            <a:off x="1905120" y="4114800"/>
            <a:ext cx="759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8"/>
          <p:cNvSpPr/>
          <p:nvPr/>
        </p:nvSpPr>
        <p:spPr>
          <a:xfrm>
            <a:off x="1068840" y="3733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9"/>
          <p:cNvSpPr/>
          <p:nvPr/>
        </p:nvSpPr>
        <p:spPr>
          <a:xfrm>
            <a:off x="2745000" y="3886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0"/>
          <p:cNvSpPr/>
          <p:nvPr/>
        </p:nvSpPr>
        <p:spPr>
          <a:xfrm>
            <a:off x="2364480" y="5334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1"/>
          <p:cNvSpPr/>
          <p:nvPr/>
        </p:nvSpPr>
        <p:spPr>
          <a:xfrm>
            <a:off x="611640" y="5181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cc"/>
                </a:solidFill>
                <a:latin typeface="Ravie"/>
              </a:rPr>
              <a:t>Parallelograms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5"/>
          <p:cNvSpPr/>
          <p:nvPr/>
        </p:nvSpPr>
        <p:spPr>
          <a:xfrm>
            <a:off x="457200" y="787320"/>
            <a:ext cx="8381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aw a parallelogram :          ABCD on a piece of construction pap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t the parallelogra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ld the paper and make a crease from A to C and from B to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ld the paper so A lies on C. What do you observ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ld the paper so B lies on D. What do you obser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theorem is confirmed by these Observa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27"/>
          <p:cNvSpPr/>
          <p:nvPr/>
        </p:nvSpPr>
        <p:spPr>
          <a:xfrm>
            <a:off x="4495680" y="971640"/>
            <a:ext cx="609840" cy="228600"/>
          </a:xfrm>
          <a:prstGeom prst="parallelogram">
            <a:avLst>
              <a:gd name="adj" fmla="val 66693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Ravie"/>
              </a:rPr>
              <a:t>Tests for Parallel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7772400" y="228600"/>
            <a:ext cx="9144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5"/>
          <p:cNvSpPr/>
          <p:nvPr/>
        </p:nvSpPr>
        <p:spPr>
          <a:xfrm>
            <a:off x="7929720" y="380880"/>
            <a:ext cx="1214280" cy="609840"/>
          </a:xfrm>
          <a:prstGeom prst="parallelogram">
            <a:avLst>
              <a:gd name="adj" fmla="val 49779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52280" y="1219320"/>
            <a:ext cx="8839440" cy="119124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Theorem 6.5</a:t>
            </a:r>
            <a:r>
              <a:rPr b="1" lang="en-US" sz="2400" spc="-1" strike="noStrike">
                <a:solidFill>
                  <a:srgbClr val="339966"/>
                </a:solidFill>
                <a:latin typeface="Arial Black"/>
              </a:rPr>
              <a:t> :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f both pairs of opposite sides of a quadrilateral are congruent, then the quadrilateral is a parallelogram.</a:t>
            </a: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380880" y="4267080"/>
            <a:ext cx="7239240" cy="119124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Theorem 6.6:</a:t>
            </a:r>
            <a:r>
              <a:rPr b="1" lang="en-US" sz="24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f both pairs of opposite angles of a quadrilateral are congruent, then the quadrilateral is a parallel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7086600" y="3048120"/>
            <a:ext cx="1214280" cy="914400"/>
          </a:xfrm>
          <a:prstGeom prst="parallelogram">
            <a:avLst>
              <a:gd name="adj" fmla="val 33199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6768000" y="2784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6555240" y="3809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8155080" y="380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8460000" y="281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609480" y="281952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If AD </a:t>
            </a:r>
            <a:r>
              <a:rPr b="1" lang="es-MX" sz="2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BC  and  AB </a:t>
            </a:r>
            <a:r>
              <a:rPr b="1" lang="es-MX" sz="2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DC, then ABCD is a parallel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3505320" y="5715000"/>
            <a:ext cx="487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If &lt;A </a:t>
            </a:r>
            <a:r>
              <a:rPr b="1" lang="es-MX" sz="2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&lt;C  and  &lt;B </a:t>
            </a:r>
            <a:r>
              <a:rPr b="1" lang="es-MX" sz="2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&lt;D, then ABCD is a parallel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3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75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75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75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75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Ravie"/>
              </a:rPr>
              <a:t>Tests for Parallelograms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5334120" y="2743200"/>
            <a:ext cx="1214280" cy="609480"/>
          </a:xfrm>
          <a:prstGeom prst="parallelogram">
            <a:avLst>
              <a:gd name="adj" fmla="val 49808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685800" y="2895480"/>
            <a:ext cx="1214280" cy="609840"/>
          </a:xfrm>
          <a:prstGeom prst="parallelogram">
            <a:avLst>
              <a:gd name="adj" fmla="val 49779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3124080" y="2895480"/>
            <a:ext cx="1219320" cy="6098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152280" y="1212840"/>
            <a:ext cx="8534520" cy="82548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Theorem 6.7</a:t>
            </a:r>
            <a:r>
              <a:rPr b="1" lang="en-US" sz="2400" spc="-1" strike="noStrike">
                <a:solidFill>
                  <a:srgbClr val="000066"/>
                </a:solidFill>
                <a:latin typeface="Arial Black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f the diagonals of a quadrilateral bisect each other, then the quadrilateral is a parallel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8"/>
          <p:cNvSpPr/>
          <p:nvPr/>
        </p:nvSpPr>
        <p:spPr>
          <a:xfrm>
            <a:off x="7086600" y="2819520"/>
            <a:ext cx="1214280" cy="914400"/>
          </a:xfrm>
          <a:prstGeom prst="parallelogram">
            <a:avLst>
              <a:gd name="adj" fmla="val 33199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6768000" y="2556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6555240" y="3581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8155080" y="3581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8460000" y="2590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304920" y="4495680"/>
            <a:ext cx="8458200" cy="119124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Black"/>
              </a:rPr>
              <a:t>Theorem 6.8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f one pair of opposite sides of a quadrilateral is both parallel and congruent, then the quadrilateral is a parallel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Ravie"/>
              </a:rPr>
              <a:t>A quadrilateral is a parallelogram if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80880" y="4648320"/>
            <a:ext cx="8534520" cy="45972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agonals bisect each other. </a:t>
            </a: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(Theorem 6.7)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57200" y="5410080"/>
            <a:ext cx="7696080" cy="82548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 pair of opposite sides is both parallel and congruent. </a:t>
            </a:r>
            <a:r>
              <a:rPr b="1" lang="en-US" sz="2400" spc="-1" strike="noStrike">
                <a:solidFill>
                  <a:srgbClr val="3333cc"/>
                </a:solidFill>
                <a:latin typeface="Arial Black"/>
              </a:rPr>
              <a:t>(Theorem 6.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1676520" y="2286000"/>
            <a:ext cx="5486400" cy="82548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oth pairs of opposite sides are congruent.</a:t>
            </a: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MX" sz="2400" spc="-1" strike="noStrike">
                <a:solidFill>
                  <a:srgbClr val="0000cc"/>
                </a:solidFill>
                <a:latin typeface="Arial Black"/>
              </a:rPr>
              <a:t>(</a:t>
            </a: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Theorem 6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1447920" y="3429000"/>
            <a:ext cx="5867280" cy="82548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oth pairs of opposite angles are congruent. </a:t>
            </a: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(Theorem 6.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1752480" y="1066680"/>
            <a:ext cx="5486400" cy="82548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oth pairs of opposite sides are parallel.</a:t>
            </a: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MX" sz="2400" spc="-1" strike="noStrike">
                <a:solidFill>
                  <a:srgbClr val="0000cc"/>
                </a:solidFill>
                <a:latin typeface="Arial Black"/>
              </a:rPr>
              <a:t>(</a:t>
            </a: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Defini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Ravie"/>
              </a:rPr>
              <a:t>Area of a parallel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609480" y="1752480"/>
            <a:ext cx="7696440" cy="109980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f a parallelogram has an area of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square units, a base of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units and a height of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units, then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A = bh. 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(Do example 1 p. 53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457200" y="5029200"/>
            <a:ext cx="8001000" cy="82548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area of a region is the sum of the areas of all its non-overlapping parts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.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(Do example 3 p. 53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3124080" y="3429000"/>
            <a:ext cx="3200400" cy="914400"/>
          </a:xfrm>
          <a:prstGeom prst="parallelogram">
            <a:avLst>
              <a:gd name="adj" fmla="val 87500"/>
            </a:avLst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948120" y="4257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7"/>
          <p:cNvSpPr/>
          <p:nvPr/>
        </p:nvSpPr>
        <p:spPr>
          <a:xfrm>
            <a:off x="3943440" y="342900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4040280" y="350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3333cc"/>
                </a:solidFill>
                <a:latin typeface="Jokerman"/>
              </a:rPr>
              <a:t>Rectang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990720" y="1371600"/>
            <a:ext cx="7391160" cy="82548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rectangle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is a quadrilateral with four right ang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4419720"/>
            <a:ext cx="8183520" cy="82548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Theorem 6-9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: If a parallelogram is a rectangl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n its diagonals are congruent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4648320" y="1981080"/>
            <a:ext cx="160020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838080" y="2819520"/>
            <a:ext cx="7620120" cy="119124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pp.  angles in rectangles are congruent (they are right angles) therefore 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rectangles are parallelograms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with all their proper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723600" y="5715000"/>
            <a:ext cx="7680600" cy="82548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Theorem 6-10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: If the diagonals of a parallelog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re congruent then the parallelogram is a rectangle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5T02:30:21Z</dcterms:created>
  <dc:creator>Marta Salveraglio</dc:creator>
  <dc:description/>
  <dc:language>en-US</dc:language>
  <cp:lastModifiedBy>RomaK</cp:lastModifiedBy>
  <dcterms:modified xsi:type="dcterms:W3CDTF">2015-09-04T07:41:24Z</dcterms:modified>
  <cp:revision>18</cp:revision>
  <dc:subject/>
  <dc:title>Parallelograms (2)</dc:title>
</cp:coreProperties>
</file>