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A9DB0-60F6-41D7-92BF-3E221B5A9EB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de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bject - Mathem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- Geomet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pic - Geometrical sha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hool – Army School Roorke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pared by Mrs. Ranja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arts of a 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n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nt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ixed point in the interior of circle whose distance from all the points on the circle is sa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u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the center and any point on the circle is called the radius of the circ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A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ameter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passes through the center and meet any two points on the circle is called the diame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wice the length of radi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rd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e which meet at any two points on the circle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diameter is the longest chord of a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D is the chord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umference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ngth of a closed curve forming the boundary of the circle is called the circumference of the circ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appy Rea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 now its time to test those grey cells of yours!So all the best and happy clicking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R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 correct: Excell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-7 correct: Very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-7correct: g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-4 correct:Fai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-2 correct:po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:A circle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Simple close curve       (2)Open cur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2:A chord that goes through the center of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3:A line that run between the circle and its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Radius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4:A line segments that join two points on the circl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hord             (2)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jor Conce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understanding and appreciation of geometrical shapes and their characteristi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and exhibit creativ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power of thinking and reason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 scientific temp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5:The distance round the circle is called a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Circumference                    (2)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6:Can a circle have more than one cent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No                                      (2)Y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7:Diameter is 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Twice of a radius   (2)Half of a 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8:If the radius of the circle is6cm ,then its diameter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9:If diameter of the circle is 12cm, then its radiu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12cm                                   (2)6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10:If radius of the circle 4cm, then its diameter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8cm                 (2)4c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LDONE!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for the next question click on the next ques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RRY !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ORRECT ANSW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tter luck next tim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or Concep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recognized different geometrical sha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will be able to  relate various shapes like that of bangle, cart,cone,box etc with circle,triangle,quadrilateral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nu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i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tent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riang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Quadrilater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le : Parts of a circ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Diam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hor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ircum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ygon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imple closed figures by joining three or more line segments is called polyg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ts study about types of polyg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ang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three line segments . So , a triangle is a polygon . Different shapes of triangle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hree line segments which form the triangle are called its sides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adrilateral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ur line segments which form a quadrilateral are called its sid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ircle 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losed curve formed in such a way that any point on this curve is equidistant from a fixed point which is in the interior of the cur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 = OB = OC = 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8CE9-58C0-4830-ACA3-F2D57674F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DFE-03F3-41B4-8721-94F3EA57D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9796-D33E-4523-9B89-6C178D54D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7846-F898-4878-81CD-27DB461B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E910-0A68-467F-B767-6931C0587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E0540-5255-4D0D-9ECF-5E58A7762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A4F8-A70A-4BBE-9183-AEDE3DCE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CCBE9-785F-4C9D-BD5E-15128AB8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2046-A686-4385-B9E0-E4F12C330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4CBB3-659D-493B-ABEC-7BCB3DA76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2D7F0-B399-4A64-BB12-3B1BEA36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968CC-9DA7-400E-9415-1F6B10A1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E60-0389-4E22-B2FF-027563F23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3B059-B868-48A9-BF26-F743A3157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63F0-AB34-490C-91D8-77DECAB7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CD93-4150-4856-9DEC-5E5F7593F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24DCC-3CB4-4432-8F97-A289BEF8C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FAD4-E8E4-40F8-BDB7-90550E72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008A-592D-4FCE-902D-C9CEA7718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02CC-D923-49B1-8B63-2A320CFF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3356-D78C-4E69-A465-EB478291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8A29-03E2-424E-AE83-C767BEE5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E866-A9FB-4514-A6A1-4B41E20B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BBED-3C40-4A4F-9FC8-AB9E3861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6C090-2329-4D6D-8E77-6B72BC393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B817-2446-453B-AE1B-A4A5BE300B72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4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" Target="slide2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17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143000" y="669960"/>
            <a:ext cx="9144000" cy="719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Grade -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ubject - Mathematic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Unit - Geometr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Topic - Geometrical sha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School – Army School Roorkee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Prepared by Mrs. Ranjana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AutoShape 3">
            <a:hlinkClick r:id="" action="ppaction://hlinkshowjump?jump=nextslide"/>
          </p:cNvPr>
          <p:cNvSpPr/>
          <p:nvPr/>
        </p:nvSpPr>
        <p:spPr>
          <a:xfrm>
            <a:off x="7696080" y="62485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3804" y="3794"/>
                </a:moveTo>
                <a:lnTo>
                  <a:pt x="17817" y="10800"/>
                </a:lnTo>
                <a:lnTo>
                  <a:pt x="3804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523880" y="990720"/>
            <a:ext cx="914400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arts of a circle 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en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Radius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Diameter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hord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AutoShape 3">
            <a:hlinkClick r:id="rId1" action="ppaction://hlinksldjump"/>
          </p:cNvPr>
          <p:cNvSpPr/>
          <p:nvPr/>
        </p:nvSpPr>
        <p:spPr>
          <a:xfrm>
            <a:off x="518148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AutoShape 4">
            <a:hlinkClick r:id="rId2" action="ppaction://hlinksldjump"/>
          </p:cNvPr>
          <p:cNvSpPr/>
          <p:nvPr/>
        </p:nvSpPr>
        <p:spPr>
          <a:xfrm>
            <a:off x="5257800" y="29718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AutoShape 5">
            <a:hlinkClick r:id="rId3" action="ppaction://hlinksldjump"/>
          </p:cNvPr>
          <p:cNvSpPr/>
          <p:nvPr/>
        </p:nvSpPr>
        <p:spPr>
          <a:xfrm>
            <a:off x="5257800" y="4419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AutoShape 6">
            <a:hlinkClick r:id="rId4" action="ppaction://hlinksldjump"/>
          </p:cNvPr>
          <p:cNvSpPr/>
          <p:nvPr/>
        </p:nvSpPr>
        <p:spPr>
          <a:xfrm>
            <a:off x="5257800" y="37339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AutoShape 7">
            <a:hlinkClick r:id="rId5" action="ppaction://hlinksldjump"/>
          </p:cNvPr>
          <p:cNvSpPr/>
          <p:nvPr/>
        </p:nvSpPr>
        <p:spPr>
          <a:xfrm>
            <a:off x="5257800" y="53341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AutoShape 8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6094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Center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    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fixed point in the interior of circle whose distance from all the points on the circle is sam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AutoShape 3"/>
          <p:cNvSpPr/>
          <p:nvPr/>
        </p:nvSpPr>
        <p:spPr>
          <a:xfrm>
            <a:off x="3200400" y="3286080"/>
            <a:ext cx="2057400" cy="185760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876920" y="4724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5000760" y="31431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071880" y="32148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2895480" y="457200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4000680" y="36432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0" y="5943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AutoShape 15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838080"/>
            <a:ext cx="9144000" cy="26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Radius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The distance between the center and any point on the circle is called the radius of the circle. 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Oval 3"/>
          <p:cNvSpPr/>
          <p:nvPr/>
        </p:nvSpPr>
        <p:spPr>
          <a:xfrm>
            <a:off x="10744200" y="3505320"/>
            <a:ext cx="914400" cy="9144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Oval 4"/>
          <p:cNvSpPr/>
          <p:nvPr/>
        </p:nvSpPr>
        <p:spPr>
          <a:xfrm>
            <a:off x="2928960" y="3643200"/>
            <a:ext cx="2209680" cy="198612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4000680" y="46432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11353680" y="4495680"/>
            <a:ext cx="228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AA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9677520" y="4648320"/>
            <a:ext cx="454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Text Box 9"/>
          <p:cNvSpPr/>
          <p:nvPr/>
        </p:nvSpPr>
        <p:spPr>
          <a:xfrm>
            <a:off x="5286240" y="4286160"/>
            <a:ext cx="18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Text Box 10"/>
          <p:cNvSpPr/>
          <p:nvPr/>
        </p:nvSpPr>
        <p:spPr>
          <a:xfrm>
            <a:off x="3571920" y="428616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AutoShape 12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0" y="45720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Diameter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line which passes through the center and meet any two points on the circle is called the diame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Oval 3"/>
          <p:cNvSpPr/>
          <p:nvPr/>
        </p:nvSpPr>
        <p:spPr>
          <a:xfrm>
            <a:off x="2438280" y="2743200"/>
            <a:ext cx="1828800" cy="18288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Line 4"/>
          <p:cNvSpPr/>
          <p:nvPr/>
        </p:nvSpPr>
        <p:spPr>
          <a:xfrm flipV="1">
            <a:off x="2514600" y="2895480"/>
            <a:ext cx="76320" cy="763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428920" y="3714840"/>
            <a:ext cx="1828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2000160" y="335772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Text Box 13"/>
          <p:cNvSpPr/>
          <p:nvPr/>
        </p:nvSpPr>
        <p:spPr>
          <a:xfrm>
            <a:off x="4357800" y="342900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Text Box 41"/>
          <p:cNvSpPr/>
          <p:nvPr/>
        </p:nvSpPr>
        <p:spPr>
          <a:xfrm>
            <a:off x="9906120" y="358128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Text Box 45"/>
          <p:cNvSpPr/>
          <p:nvPr/>
        </p:nvSpPr>
        <p:spPr>
          <a:xfrm>
            <a:off x="0" y="48006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 diameter is twice the length of radiu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AutoShape 4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TextBox 11"/>
          <p:cNvSpPr/>
          <p:nvPr/>
        </p:nvSpPr>
        <p:spPr>
          <a:xfrm>
            <a:off x="3143160" y="3214800"/>
            <a:ext cx="3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53352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hord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The line which meet at any two points on the circle .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A diameter is the longest chord of a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CD is the chord of the circl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Oval 3"/>
          <p:cNvSpPr/>
          <p:nvPr/>
        </p:nvSpPr>
        <p:spPr>
          <a:xfrm>
            <a:off x="1357200" y="3357720"/>
            <a:ext cx="2590920" cy="233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Oval 4"/>
          <p:cNvSpPr/>
          <p:nvPr/>
        </p:nvSpPr>
        <p:spPr>
          <a:xfrm>
            <a:off x="4724280" y="3809880"/>
            <a:ext cx="2514600" cy="226224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Line 5"/>
          <p:cNvSpPr/>
          <p:nvPr/>
        </p:nvSpPr>
        <p:spPr>
          <a:xfrm flipV="1">
            <a:off x="1500120" y="3929040"/>
            <a:ext cx="2286000" cy="460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Line 6"/>
          <p:cNvSpPr/>
          <p:nvPr/>
        </p:nvSpPr>
        <p:spPr>
          <a:xfrm>
            <a:off x="4714920" y="4929120"/>
            <a:ext cx="25146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4357800" y="4643280"/>
            <a:ext cx="18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7286760" y="464328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1000080" y="378612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857760" y="357192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2357280" y="42148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AutoShape 14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786280" y="4572000"/>
            <a:ext cx="6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1447920"/>
            <a:ext cx="9144000" cy="23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umferenc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Length of a closed curve forming the boundary of the circle is called the circumference of the circle</a:t>
            </a: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Oval 3"/>
          <p:cNvSpPr/>
          <p:nvPr/>
        </p:nvSpPr>
        <p:spPr>
          <a:xfrm>
            <a:off x="2819520" y="4038480"/>
            <a:ext cx="2514600" cy="2248200"/>
          </a:xfrm>
          <a:prstGeom prst="ellips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Line 4"/>
          <p:cNvSpPr/>
          <p:nvPr/>
        </p:nvSpPr>
        <p:spPr>
          <a:xfrm>
            <a:off x="2666880" y="4724280"/>
            <a:ext cx="152640" cy="304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819160" y="4724280"/>
            <a:ext cx="228600" cy="228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AutoShape 6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WordArt 2"/>
          <p:cNvSpPr txBox="1"/>
          <p:nvPr/>
        </p:nvSpPr>
        <p:spPr>
          <a:xfrm>
            <a:off x="533520" y="1295280"/>
            <a:ext cx="777240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Times New Roman"/>
              </a:rPr>
              <a:t>Happy Reading</a:t>
            </a:r>
            <a:endParaRPr b="0" lang="en-US" sz="40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4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685800" y="1066680"/>
            <a:ext cx="8458200" cy="55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i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Well now its time to test those grey cells of yours!So all the best and happy clicking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SCORING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10 correct: Excell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8-7 correct: Very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5-7correct: goo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3-4 correct:Fai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Comic Sans MS"/>
              </a:rPr>
              <a:t>0-2 correct:po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380880" y="1371600"/>
            <a:ext cx="87631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:A circle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Simple close curve       (2)Open curv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2:A chord that goes through the center of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AutoShape 3">
            <a:hlinkClick r:id="rId1" action="ppaction://hlinksldjump"/>
          </p:cNvPr>
          <p:cNvSpPr/>
          <p:nvPr/>
        </p:nvSpPr>
        <p:spPr>
          <a:xfrm>
            <a:off x="4786200" y="22147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AutoShape 4">
            <a:hlinkClick r:id="rId2" action="ppaction://hlinksldjump"/>
          </p:cNvPr>
          <p:cNvSpPr/>
          <p:nvPr/>
        </p:nvSpPr>
        <p:spPr>
          <a:xfrm>
            <a:off x="7429680" y="421488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AutoShape 5">
            <a:hlinkClick r:id="rId3" action="ppaction://hlinksldjump"/>
          </p:cNvPr>
          <p:cNvSpPr/>
          <p:nvPr/>
        </p:nvSpPr>
        <p:spPr>
          <a:xfrm>
            <a:off x="8686800" y="22147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AutoShape 6">
            <a:hlinkClick r:id="rId4" action="ppaction://hlinksldjump"/>
          </p:cNvPr>
          <p:cNvSpPr/>
          <p:nvPr/>
        </p:nvSpPr>
        <p:spPr>
          <a:xfrm>
            <a:off x="281952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609480" y="838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3:A line that run between the circle and its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Radius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4:A line segments that join two points on the circle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hord             (2)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AutoShape 3">
            <a:hlinkClick r:id="rId1" action="ppaction://hlinksldjump"/>
          </p:cNvPr>
          <p:cNvSpPr/>
          <p:nvPr/>
        </p:nvSpPr>
        <p:spPr>
          <a:xfrm>
            <a:off x="3124080" y="220968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AutoShape 4">
            <a:hlinkClick r:id="rId2" action="ppaction://hlinksldjump"/>
          </p:cNvPr>
          <p:cNvSpPr/>
          <p:nvPr/>
        </p:nvSpPr>
        <p:spPr>
          <a:xfrm>
            <a:off x="3276720" y="4191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AutoShape 5"/>
          <p:cNvSpPr/>
          <p:nvPr/>
        </p:nvSpPr>
        <p:spPr>
          <a:xfrm>
            <a:off x="7072200" y="214308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AutoShape 6"/>
          <p:cNvSpPr/>
          <p:nvPr/>
        </p:nvSpPr>
        <p:spPr>
          <a:xfrm>
            <a:off x="7238880" y="41911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1295280"/>
            <a:ext cx="914400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ajor Concep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understanding and appreciation of geometrical shapes and their characteristi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and exhibit creativi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power of thinking and reason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evelop scientific temp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Times New Roman"/>
              </a:rPr>
              <a:t>;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609480" y="1981080"/>
            <a:ext cx="85345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5:The distance round the circle is called a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Circumference                    (2)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6:Can a circle have more than one center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No                                      (2)Y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AutoShape 3"/>
          <p:cNvSpPr/>
          <p:nvPr/>
        </p:nvSpPr>
        <p:spPr>
          <a:xfrm>
            <a:off x="4214880" y="33577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2143080" y="57150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AutoShape 5"/>
          <p:cNvSpPr/>
          <p:nvPr/>
        </p:nvSpPr>
        <p:spPr>
          <a:xfrm>
            <a:off x="2928960" y="385776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AutoShape 6"/>
          <p:cNvSpPr/>
          <p:nvPr/>
        </p:nvSpPr>
        <p:spPr>
          <a:xfrm>
            <a:off x="2143080" y="621504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143000"/>
            <a:ext cx="9144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7:Diameter is 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Twice of a radius   (2)Half of a 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8:If the radius of the circle is6cm ,then its diameter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AutoShape 3"/>
          <p:cNvSpPr/>
          <p:nvPr/>
        </p:nvSpPr>
        <p:spPr>
          <a:xfrm>
            <a:off x="4143240" y="2000160"/>
            <a:ext cx="381240" cy="3812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AutoShape 4"/>
          <p:cNvSpPr/>
          <p:nvPr/>
        </p:nvSpPr>
        <p:spPr>
          <a:xfrm>
            <a:off x="1857240" y="47149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AutoShape 5"/>
          <p:cNvSpPr/>
          <p:nvPr/>
        </p:nvSpPr>
        <p:spPr>
          <a:xfrm>
            <a:off x="8501040" y="200016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AutoShape 6"/>
          <p:cNvSpPr/>
          <p:nvPr/>
        </p:nvSpPr>
        <p:spPr>
          <a:xfrm>
            <a:off x="6215040" y="47149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1066680"/>
            <a:ext cx="91440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9:If diameter of the circle is 12cm, then its radius i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12cm                                   (2)6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10:If radius of the circle 4cm, then its diameter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(1)8cm                 (2)4c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1714680" y="485784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2133720" y="24382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AutoShape 5"/>
          <p:cNvSpPr/>
          <p:nvPr/>
        </p:nvSpPr>
        <p:spPr>
          <a:xfrm>
            <a:off x="2071800" y="3000240"/>
            <a:ext cx="380880" cy="3812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1600" h="21620">
                <a:moveTo>
                  <a:pt x="0" y="0"/>
                </a:moveTo>
                <a:lnTo>
                  <a:pt x="21600" y="0"/>
                </a:lnTo>
                <a:lnTo>
                  <a:pt x="21600" y="21620"/>
                </a:lnTo>
                <a:lnTo>
                  <a:pt x="0" y="21620"/>
                </a:lnTo>
                <a:close/>
              </a:path>
              <a:path fill="lightenLess" w="21600" h="216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0">
                <a:moveTo>
                  <a:pt x="21600" y="0"/>
                </a:moveTo>
                <a:lnTo>
                  <a:pt x="21600" y="21620"/>
                </a:lnTo>
                <a:lnTo>
                  <a:pt x="20200" y="20220"/>
                </a:lnTo>
                <a:lnTo>
                  <a:pt x="20200" y="1400"/>
                </a:lnTo>
                <a:close/>
              </a:path>
              <a:path fill="darkenLess" w="21600" h="21620">
                <a:moveTo>
                  <a:pt x="21600" y="21620"/>
                </a:moveTo>
                <a:lnTo>
                  <a:pt x="0" y="21620"/>
                </a:lnTo>
                <a:lnTo>
                  <a:pt x="1400" y="20220"/>
                </a:lnTo>
                <a:lnTo>
                  <a:pt x="20200" y="20220"/>
                </a:lnTo>
                <a:close/>
              </a:path>
              <a:path fill="lighten" w="21600" h="21620">
                <a:moveTo>
                  <a:pt x="0" y="216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AutoShape 6"/>
          <p:cNvSpPr/>
          <p:nvPr/>
        </p:nvSpPr>
        <p:spPr>
          <a:xfrm>
            <a:off x="5929200" y="492912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AutoShape 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609480" y="1676520"/>
            <a:ext cx="8534520" cy="26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WELLDONE!CORRECT ANSWER!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Now for the next question click on the next ques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AutoShape 3">
            <a:hlinkClick r:id="" action="ppaction://hlinkshowjump?jump=previousslide"/>
          </p:cNvPr>
          <p:cNvSpPr/>
          <p:nvPr/>
        </p:nvSpPr>
        <p:spPr>
          <a:xfrm>
            <a:off x="784872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10800"/>
                </a:moveTo>
                <a:lnTo>
                  <a:pt x="19351" y="3794"/>
                </a:lnTo>
                <a:lnTo>
                  <a:pt x="19351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914400" y="1981080"/>
            <a:ext cx="62485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ORRY !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NCORRECT ANSWER!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Better luck next tim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AutoShape 3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5943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026"/>
          <p:cNvSpPr/>
          <p:nvPr/>
        </p:nvSpPr>
        <p:spPr>
          <a:xfrm>
            <a:off x="0" y="1143000"/>
            <a:ext cx="91440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Minor Concepts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recognized different geometrical shap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Students will be able to  relate various shapes like that of bangle, cart,cone,box etc with circle,triangle,quadrilateral et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AutoShape 102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438280" y="914400"/>
            <a:ext cx="4800600" cy="32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Menu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Content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Quiz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AutoShape 3">
            <a:hlinkClick r:id="rId1" action="ppaction://hlinksldjump"/>
          </p:cNvPr>
          <p:cNvSpPr/>
          <p:nvPr/>
        </p:nvSpPr>
        <p:spPr>
          <a:xfrm>
            <a:off x="4724280" y="19810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AutoShape 4">
            <a:hlinkClick r:id="rId2" action="ppaction://hlinksldjump"/>
          </p:cNvPr>
          <p:cNvSpPr/>
          <p:nvPr/>
        </p:nvSpPr>
        <p:spPr>
          <a:xfrm>
            <a:off x="4800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AutoShape 5">
            <a:hlinkClick r:id="" action="ppaction://hlinkshowjump?jump=nextslide"/>
          </p:cNvPr>
          <p:cNvSpPr/>
          <p:nvPr/>
        </p:nvSpPr>
        <p:spPr>
          <a:xfrm>
            <a:off x="7956720" y="61657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219320" y="0"/>
            <a:ext cx="7924680" cy="65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ontents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Polyg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riang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Quadrilater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le : Parts of a circ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Radi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Diamete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hor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Circumferen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AutoShape 3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04920" y="4572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457200" y="533520"/>
            <a:ext cx="8153280" cy="34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Comic Sans MS"/>
              </a:rPr>
              <a:t>Polygon</a:t>
            </a:r>
            <a:r>
              <a:rPr b="1" lang="en-US" sz="4000" spc="-1" strike="noStrike">
                <a:solidFill>
                  <a:srgbClr val="ffffcc"/>
                </a:solidFill>
                <a:latin typeface="Comic Sans MS"/>
              </a:rPr>
              <a:t> :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simple closed figures by joining three or more line segments is called polygo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Box 3"/>
          <p:cNvSpPr/>
          <p:nvPr/>
        </p:nvSpPr>
        <p:spPr>
          <a:xfrm>
            <a:off x="571680" y="4786200"/>
            <a:ext cx="79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Comic Sans MS"/>
              </a:rPr>
              <a:t>Lets study about types of polygon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457200" y="457200"/>
            <a:ext cx="82296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Triangle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three line segments . So , a triangle is a polygon . Different shapes of triangle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three line segments which form the triangle are called its sides 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1066680" y="3124080"/>
            <a:ext cx="914400" cy="914400"/>
          </a:xfrm>
          <a:prstGeom prst="rtTriangle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2743200" y="3048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380880" y="380880"/>
            <a:ext cx="8305920" cy="67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Comic Sans MS"/>
              </a:rPr>
              <a:t>Quadrilateral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It is a closed figure formed by joining four line segments called quadrilateral.  So quadrilateral is a polygon. Different shapes of quadrilateral are shown below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Comic Sans MS"/>
              </a:rPr>
              <a:t>The four line segments which form a quadrilateral are called its sid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AutoShape 3"/>
          <p:cNvSpPr/>
          <p:nvPr/>
        </p:nvSpPr>
        <p:spPr>
          <a:xfrm>
            <a:off x="914400" y="3505320"/>
            <a:ext cx="914400" cy="609480"/>
          </a:xfrm>
          <a:prstGeom prst="flowChartProcess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AutoShape 4"/>
          <p:cNvSpPr/>
          <p:nvPr/>
        </p:nvSpPr>
        <p:spPr>
          <a:xfrm>
            <a:off x="2590920" y="3505320"/>
            <a:ext cx="914400" cy="609480"/>
          </a:xfrm>
          <a:prstGeom prst="flowChartInputOut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AutoShape 5"/>
          <p:cNvSpPr/>
          <p:nvPr/>
        </p:nvSpPr>
        <p:spPr>
          <a:xfrm>
            <a:off x="4191120" y="3657600"/>
            <a:ext cx="914400" cy="457200"/>
          </a:xfrm>
          <a:prstGeom prst="flowChartManualInput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5867280" y="3505320"/>
            <a:ext cx="914400" cy="609480"/>
          </a:xfrm>
          <a:prstGeom prst="flowChartDecis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AutoShape 7"/>
          <p:cNvSpPr/>
          <p:nvPr/>
        </p:nvSpPr>
        <p:spPr>
          <a:xfrm>
            <a:off x="7467480" y="3505320"/>
            <a:ext cx="914400" cy="609480"/>
          </a:xfrm>
          <a:prstGeom prst="flowChartManualOpera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0" y="3049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Comic Sans MS"/>
              </a:rPr>
              <a:t>Circle </a:t>
            </a: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: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Comic Sans MS"/>
              </a:rPr>
              <a:t>A closed curve formed in such a way that any point on this curve is equidistant from a fixed point which is in the interior of the curve.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3203640" y="3429000"/>
            <a:ext cx="1749240" cy="1752480"/>
          </a:xfrm>
          <a:prstGeom prst="flowChartSummingJunction">
            <a:avLst/>
          </a:pr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4716360" y="328464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4716360" y="4869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755880" y="38098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0" y="5943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                </a:t>
            </a:r>
            <a:r>
              <a:rPr b="1" lang="en-US" sz="3600" spc="-1" strike="noStrike">
                <a:solidFill>
                  <a:srgbClr val="ffffcc"/>
                </a:solidFill>
                <a:latin typeface="Times New Roman"/>
              </a:rPr>
              <a:t>OA = OB = OC = OD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AutoShape 17">
            <a:hlinkClick r:id="" action="ppaction://hlinkshowjump?jump=nextslide"/>
          </p:cNvPr>
          <p:cNvSpPr/>
          <p:nvPr/>
        </p:nvSpPr>
        <p:spPr>
          <a:xfrm>
            <a:off x="79246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cc0099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Rectangle 18"/>
          <p:cNvSpPr/>
          <p:nvPr/>
        </p:nvSpPr>
        <p:spPr>
          <a:xfrm>
            <a:off x="3924360" y="3860640"/>
            <a:ext cx="287280" cy="287640"/>
          </a:xfrm>
          <a:prstGeom prst="rect">
            <a:avLst/>
          </a:prstGeom>
          <a:solidFill>
            <a:srgbClr val="cc0099"/>
          </a:solidFill>
          <a:ln w="93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Text Box 19"/>
          <p:cNvSpPr/>
          <p:nvPr/>
        </p:nvSpPr>
        <p:spPr>
          <a:xfrm>
            <a:off x="2987640" y="3357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Text Box 20"/>
          <p:cNvSpPr/>
          <p:nvPr/>
        </p:nvSpPr>
        <p:spPr>
          <a:xfrm>
            <a:off x="3059280" y="4869000"/>
            <a:ext cx="43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1T04:27:09Z</dcterms:created>
  <dc:creator>kanta k</dc:creator>
  <dc:description/>
  <dc:language>en-US</dc:language>
  <cp:lastModifiedBy>RomaK</cp:lastModifiedBy>
  <dcterms:modified xsi:type="dcterms:W3CDTF">2015-09-04T07:41:10Z</dcterms:modified>
  <cp:revision>23</cp:revision>
  <dc:subject/>
  <dc:title>No Slide Title</dc:title>
</cp:coreProperties>
</file>