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8A9C6-2F36-4302-83B4-8D524C5AC4F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de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ject - Mathem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t - Geo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- Geometrical sha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hool – Army School Roork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ared by Mrs. Ranja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arts of a circle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ent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adiu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iamet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or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ircum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er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ixed point in the interior of circle whose distance from all the points on the circle is sa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A = OB = OC = 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u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stance between the center and any point on the circle is called the radius of the circl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AA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ne which passes through the center and meet any two points on the circle is called the diame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iameter is twice the length of radi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rd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ne which meet at any two points on the circle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iameter is the longest chord of a cir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D is the chord of the cir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mference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gth of a closed curve forming the boundary of the circle is called the circumference of the cir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appy Rea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iz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ll now its time to test those grey cells of yours!So all the best and happy clicking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OR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correct: Excell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-7 correct: Very g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-7correct: g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-4 correct:F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-2 correct:po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1:A circle is 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Simple close curve       (2)Open cur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2:A chord that goes through the center of the circ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Chord                (2)Dia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3:A line that run between the circle and its cent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Radius            (2)Dia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4:A line segments that join two points on the circ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Chord             (2)Dia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jor Concep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velop understanding and appreciation of geometrical shapes and their characterist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velop and exhibit creativ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velop power of thinking and reason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velop scientific temp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5:The distance round the circle is called a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Circumference                    (2)Ch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6:Can a circle have more than one cent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No                                      (2)Y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7:Diameter is 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Twice of a radius   (2)Half of a radi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8:If the radius of the circle is6cm ,then its diameter 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12cm                 (2)6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9:If diameter of the circle is 12cm, then its radius 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12cm                                   (2)6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10:If radius of the circle 4cm, then its diameter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8cm                 (2)4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LLDONE!CORRECT ANSWE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for the next question click on the next ques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RRY !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ORRECT ANSWE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ter luck next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or Concep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ents will be able to recognized different geometrical shap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ents will be able to  relate various shapes like that of bangle, cart,cone,box etc with circle,triangle,quadrilateral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enu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Qui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ten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lyg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iang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Quadrilate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ircle : Parts of a 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adi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ia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ircum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gon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imple closed figures by joining three or more line segments is called polyg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s study about types of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angle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closed figure formed by joining three line segments . So , a triangle is a polygon . Different shapes of triangle are shown below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ree line segments which form the triangle are called its sides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drilateral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closed figure formed by joining four line segments called quadrilateral.  So quadrilateral is a polygon. Different shapes of quadrilateral are shown below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ur line segments which form a quadrilateral are called its sid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le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losed curve formed in such a way that any point on this curve is equidistant from a fixed point which is in the interior of the cur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A = OB = OC = 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5BC5-8325-4626-83A8-C4BF197D8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14B8-1E17-4084-9533-2F7B6264D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D35E-85C9-4C7B-83AA-29A8C1A65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1FA6-0C18-441E-AEA2-AC1C14C0C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368FE-8259-4360-9DFB-644C0C8E1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E5A54-2B5D-4B1F-A9A9-11576E80B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97C37-6794-4132-8FD2-2F9F9113E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127F0-C6A4-4C35-BA65-48EA48CB7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50872-9815-427B-84FC-1D53352F5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42EA3-116C-45F9-91DC-1E1CD70A6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74BF4-25D2-4625-81EF-13FC9A2C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48EB-B59A-4E46-8C2B-D113577BD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7E40E-9BC1-4DD7-8320-9E02361A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065F9-1B44-43C0-B871-6C3F6F5C4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7F0E0-34F0-4A9A-8EA7-D17A505B6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B1399-1884-4DA8-89F3-43EE8A682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70DD7-F933-4FA2-B6AA-DAD67C95A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F1BC-14B9-4320-B750-D21209D2A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81EB-CD85-49F3-B4B8-0A80CC2F7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37E7-E7D5-4B84-93AF-3E7FC2FFB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5CBF-A4FD-4B50-B3D2-D04FF0C49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A68A-9BC7-445C-B4B3-6937D4EC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59F3-5EE5-4394-90BD-A154410F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A959-37C7-440A-8883-FCA3C5BA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EC3C4-8780-47A7-9EB3-7A80A79356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5A1CE-69F0-43D4-9A79-9CFEB064F2B5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2.xml"/><Relationship Id="rId3" Type="http://schemas.openxmlformats.org/officeDocument/2006/relationships/slide" Target="slide14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" Target="slide24.xml"/><Relationship Id="rId4" Type="http://schemas.openxmlformats.org/officeDocument/2006/relationships/slide" Target="slide24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7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1143000" y="669960"/>
            <a:ext cx="9144000" cy="71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Grade - 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Subject - Mathematic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Unit - Geometry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Topic - Geometrical shap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School – Army School Roorke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Prepared by Mrs. Ranjana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AutoShape 3">
            <a:hlinkClick r:id="" action="ppaction://hlinkshowjump?jump=nextslide"/>
          </p:cNvPr>
          <p:cNvSpPr/>
          <p:nvPr/>
        </p:nvSpPr>
        <p:spPr>
          <a:xfrm>
            <a:off x="7696080" y="62485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3794"/>
                </a:moveTo>
                <a:lnTo>
                  <a:pt x="17817" y="10800"/>
                </a:lnTo>
                <a:lnTo>
                  <a:pt x="3804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1523880" y="990720"/>
            <a:ext cx="9144000" cy="48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4000" spc="-1" strike="noStrike" u="sng">
                <a:solidFill>
                  <a:srgbClr val="ffffcc"/>
                </a:solidFill>
                <a:uFillTx/>
                <a:latin typeface="Comic Sans MS"/>
              </a:rPr>
              <a:t>Parts of a circle </a:t>
            </a: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: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Center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Radius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Diameter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Chord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Circumferenc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AutoShape 3">
            <a:hlinkClick r:id="rId1" action="ppaction://hlinksldjump"/>
          </p:cNvPr>
          <p:cNvSpPr/>
          <p:nvPr/>
        </p:nvSpPr>
        <p:spPr>
          <a:xfrm>
            <a:off x="5181480" y="21337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AutoShape 4">
            <a:hlinkClick r:id="rId2" action="ppaction://hlinksldjump"/>
          </p:cNvPr>
          <p:cNvSpPr/>
          <p:nvPr/>
        </p:nvSpPr>
        <p:spPr>
          <a:xfrm>
            <a:off x="5257800" y="297180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AutoShape 5">
            <a:hlinkClick r:id="rId3" action="ppaction://hlinksldjump"/>
          </p:cNvPr>
          <p:cNvSpPr/>
          <p:nvPr/>
        </p:nvSpPr>
        <p:spPr>
          <a:xfrm>
            <a:off x="5257800" y="44197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AutoShape 6">
            <a:hlinkClick r:id="rId4" action="ppaction://hlinksldjump"/>
          </p:cNvPr>
          <p:cNvSpPr/>
          <p:nvPr/>
        </p:nvSpPr>
        <p:spPr>
          <a:xfrm>
            <a:off x="5257800" y="37339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AutoShape 7">
            <a:hlinkClick r:id="rId5" action="ppaction://hlinksldjump"/>
          </p:cNvPr>
          <p:cNvSpPr/>
          <p:nvPr/>
        </p:nvSpPr>
        <p:spPr>
          <a:xfrm>
            <a:off x="5257800" y="53341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AutoShape 8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0" y="609480"/>
            <a:ext cx="9144000" cy="26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Comic Sans MS"/>
              </a:rPr>
              <a:t>Center</a:t>
            </a: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: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    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A fixed point in the interior of circle whose distance from all the points on the circle is sam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AutoShape 3"/>
          <p:cNvSpPr/>
          <p:nvPr/>
        </p:nvSpPr>
        <p:spPr>
          <a:xfrm>
            <a:off x="3200400" y="3286080"/>
            <a:ext cx="2057400" cy="1857600"/>
          </a:xfrm>
          <a:prstGeom prst="flowChartSummingJunction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4876920" y="47242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5000760" y="314316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3071880" y="321480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2895480" y="4572000"/>
            <a:ext cx="18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4000680" y="364320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Text Box 14"/>
          <p:cNvSpPr/>
          <p:nvPr/>
        </p:nvSpPr>
        <p:spPr>
          <a:xfrm>
            <a:off x="0" y="5943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               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OA = OB = OC = O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AutoShape 15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0" y="838080"/>
            <a:ext cx="9144000" cy="26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Comic Sans MS"/>
              </a:rPr>
              <a:t>Radius</a:t>
            </a: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: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The distance between the center and any point on the circle is called the radius of the circle.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Oval 3"/>
          <p:cNvSpPr/>
          <p:nvPr/>
        </p:nvSpPr>
        <p:spPr>
          <a:xfrm>
            <a:off x="10744200" y="3505320"/>
            <a:ext cx="914400" cy="914400"/>
          </a:xfrm>
          <a:prstGeom prst="ellips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Oval 4"/>
          <p:cNvSpPr/>
          <p:nvPr/>
        </p:nvSpPr>
        <p:spPr>
          <a:xfrm>
            <a:off x="2928960" y="3643200"/>
            <a:ext cx="2209680" cy="1986120"/>
          </a:xfrm>
          <a:prstGeom prst="ellips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Line 5"/>
          <p:cNvSpPr/>
          <p:nvPr/>
        </p:nvSpPr>
        <p:spPr>
          <a:xfrm>
            <a:off x="4000680" y="4643280"/>
            <a:ext cx="1143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11353680" y="4495680"/>
            <a:ext cx="228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AA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9677520" y="4648320"/>
            <a:ext cx="454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5286240" y="4286160"/>
            <a:ext cx="18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3571920" y="428616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AutoShape 12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0" y="457200"/>
            <a:ext cx="9144000" cy="23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Comic Sans MS"/>
              </a:rPr>
              <a:t>Diameter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The line which passes through the center and meet any two points on the circle is called the diamet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Oval 3"/>
          <p:cNvSpPr/>
          <p:nvPr/>
        </p:nvSpPr>
        <p:spPr>
          <a:xfrm>
            <a:off x="2438280" y="2743200"/>
            <a:ext cx="1828800" cy="1828800"/>
          </a:xfrm>
          <a:prstGeom prst="ellips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Line 4"/>
          <p:cNvSpPr/>
          <p:nvPr/>
        </p:nvSpPr>
        <p:spPr>
          <a:xfrm flipV="1">
            <a:off x="2514600" y="2895480"/>
            <a:ext cx="76320" cy="763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Line 11"/>
          <p:cNvSpPr/>
          <p:nvPr/>
        </p:nvSpPr>
        <p:spPr>
          <a:xfrm>
            <a:off x="2428920" y="3714840"/>
            <a:ext cx="1828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2000160" y="335772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4357800" y="342900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Text Box 41"/>
          <p:cNvSpPr/>
          <p:nvPr/>
        </p:nvSpPr>
        <p:spPr>
          <a:xfrm>
            <a:off x="9906120" y="35812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Text Box 45"/>
          <p:cNvSpPr/>
          <p:nvPr/>
        </p:nvSpPr>
        <p:spPr>
          <a:xfrm>
            <a:off x="0" y="4800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 diameter is twice the length of radiu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AutoShape 46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TextBox 11"/>
          <p:cNvSpPr/>
          <p:nvPr/>
        </p:nvSpPr>
        <p:spPr>
          <a:xfrm>
            <a:off x="3143160" y="321480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0" y="533520"/>
            <a:ext cx="914400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Comic Sans MS"/>
              </a:rPr>
              <a:t>Chord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Comic Sans MS"/>
              </a:rPr>
              <a:t>: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omic Sans MS"/>
              </a:rPr>
              <a:t>The line which meet at any two points on the circle .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omic Sans MS"/>
              </a:rPr>
              <a:t>A diameter is the longest chord of a circl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CD is the chord of the circl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Oval 3"/>
          <p:cNvSpPr/>
          <p:nvPr/>
        </p:nvSpPr>
        <p:spPr>
          <a:xfrm>
            <a:off x="1357200" y="3357720"/>
            <a:ext cx="2590920" cy="2338200"/>
          </a:xfrm>
          <a:prstGeom prst="ellips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Oval 4"/>
          <p:cNvSpPr/>
          <p:nvPr/>
        </p:nvSpPr>
        <p:spPr>
          <a:xfrm>
            <a:off x="4724280" y="3809880"/>
            <a:ext cx="2514600" cy="2262240"/>
          </a:xfrm>
          <a:prstGeom prst="ellips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Line 5"/>
          <p:cNvSpPr/>
          <p:nvPr/>
        </p:nvSpPr>
        <p:spPr>
          <a:xfrm flipV="1">
            <a:off x="1500120" y="3929040"/>
            <a:ext cx="2286000" cy="460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Line 6"/>
          <p:cNvSpPr/>
          <p:nvPr/>
        </p:nvSpPr>
        <p:spPr>
          <a:xfrm>
            <a:off x="4714920" y="4929120"/>
            <a:ext cx="25146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4357800" y="4643280"/>
            <a:ext cx="18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7286760" y="4643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1000080" y="378612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3857760" y="3571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Text Box 12"/>
          <p:cNvSpPr/>
          <p:nvPr/>
        </p:nvSpPr>
        <p:spPr>
          <a:xfrm>
            <a:off x="2357280" y="421488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AutoShape 14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786280" y="457200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0" y="1447920"/>
            <a:ext cx="9144000" cy="23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Comic Sans MS"/>
              </a:rPr>
              <a:t>Circumference 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Length of a closed curve forming the boundary of the circle is called the circumference of the circle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Oval 3"/>
          <p:cNvSpPr/>
          <p:nvPr/>
        </p:nvSpPr>
        <p:spPr>
          <a:xfrm>
            <a:off x="2819520" y="4038480"/>
            <a:ext cx="2514600" cy="2248200"/>
          </a:xfrm>
          <a:prstGeom prst="ellips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Line 4"/>
          <p:cNvSpPr/>
          <p:nvPr/>
        </p:nvSpPr>
        <p:spPr>
          <a:xfrm>
            <a:off x="2666880" y="4724280"/>
            <a:ext cx="152640" cy="3049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Line 5"/>
          <p:cNvSpPr/>
          <p:nvPr/>
        </p:nvSpPr>
        <p:spPr>
          <a:xfrm flipH="1">
            <a:off x="2819160" y="4724280"/>
            <a:ext cx="228600" cy="2286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AutoShape 6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2"/>
          <p:cNvSpPr txBox="1"/>
          <p:nvPr/>
        </p:nvSpPr>
        <p:spPr>
          <a:xfrm>
            <a:off x="533520" y="1295280"/>
            <a:ext cx="7772400" cy="449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Happy Reading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4" name="AutoShape 3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685800" y="1066680"/>
            <a:ext cx="8458200" cy="55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uiz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Well now its time to test those grey cells of yours!So all the best and happy clicking!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SCORING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10 correct: Excell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8-7 correct: Very goo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5-7correct: goo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3-4 correct:Fai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0-2 correct:poo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AutoShape 3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380880" y="1371600"/>
            <a:ext cx="876312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1:A circle is a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Simple close curve       (2)Open curv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2:A chord that goes through the center of the circle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Chord                (2)Diamet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AutoShape 3">
            <a:hlinkClick r:id="rId1" action="ppaction://hlinksldjump"/>
          </p:cNvPr>
          <p:cNvSpPr/>
          <p:nvPr/>
        </p:nvSpPr>
        <p:spPr>
          <a:xfrm>
            <a:off x="4786200" y="22147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AutoShape 4">
            <a:hlinkClick r:id="rId2" action="ppaction://hlinksldjump"/>
          </p:cNvPr>
          <p:cNvSpPr/>
          <p:nvPr/>
        </p:nvSpPr>
        <p:spPr>
          <a:xfrm>
            <a:off x="7429680" y="421488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AutoShape 5">
            <a:hlinkClick r:id="rId3" action="ppaction://hlinksldjump"/>
          </p:cNvPr>
          <p:cNvSpPr/>
          <p:nvPr/>
        </p:nvSpPr>
        <p:spPr>
          <a:xfrm>
            <a:off x="8686800" y="22147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AutoShape 6">
            <a:hlinkClick r:id="rId4" action="ppaction://hlinksldjump"/>
          </p:cNvPr>
          <p:cNvSpPr/>
          <p:nvPr/>
        </p:nvSpPr>
        <p:spPr>
          <a:xfrm>
            <a:off x="2819520" y="4191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AutoShape 7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609480" y="838080"/>
            <a:ext cx="853452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3:A line that run between the circle and its center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Radius            (2)Diamet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4:A line segments that join two points on the circle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Chord             (2)Diamet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AutoShape 3">
            <a:hlinkClick r:id="rId1" action="ppaction://hlinksldjump"/>
          </p:cNvPr>
          <p:cNvSpPr/>
          <p:nvPr/>
        </p:nvSpPr>
        <p:spPr>
          <a:xfrm>
            <a:off x="3124080" y="22096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AutoShape 4">
            <a:hlinkClick r:id="rId2" action="ppaction://hlinksldjump"/>
          </p:cNvPr>
          <p:cNvSpPr/>
          <p:nvPr/>
        </p:nvSpPr>
        <p:spPr>
          <a:xfrm>
            <a:off x="3276720" y="4191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7072200" y="214308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7238880" y="4191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AutoShape 7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0" y="1295280"/>
            <a:ext cx="9144000" cy="360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Comic Sans MS"/>
              </a:rPr>
              <a:t>Major Concep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Develop understanding and appreciation of geometrical shapes and their characteristi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Develop and exhibit creativit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Develop power of thinking and reasoning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Develop scientific temp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;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AutoShape 3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609480" y="1981080"/>
            <a:ext cx="853452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5:The distance round the circle is called a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Circumference                    (2)Chor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6:Can a circle have more than one center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No                                      (2)Y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AutoShape 3"/>
          <p:cNvSpPr/>
          <p:nvPr/>
        </p:nvSpPr>
        <p:spPr>
          <a:xfrm>
            <a:off x="4214880" y="33577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2143080" y="57150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AutoShape 5"/>
          <p:cNvSpPr/>
          <p:nvPr/>
        </p:nvSpPr>
        <p:spPr>
          <a:xfrm>
            <a:off x="2928960" y="385776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AutoShape 6"/>
          <p:cNvSpPr/>
          <p:nvPr/>
        </p:nvSpPr>
        <p:spPr>
          <a:xfrm>
            <a:off x="2143080" y="621504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AutoShape 7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0" y="1143000"/>
            <a:ext cx="914400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7:Diameter is a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Twice of a radius   (2)Half of a radiu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8:If the radius of the circle is6cm ,then its diameter i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12cm                 (2)6c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AutoShape 3"/>
          <p:cNvSpPr/>
          <p:nvPr/>
        </p:nvSpPr>
        <p:spPr>
          <a:xfrm>
            <a:off x="4143240" y="200016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AutoShape 4"/>
          <p:cNvSpPr/>
          <p:nvPr/>
        </p:nvSpPr>
        <p:spPr>
          <a:xfrm>
            <a:off x="1857240" y="47149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AutoShape 5"/>
          <p:cNvSpPr/>
          <p:nvPr/>
        </p:nvSpPr>
        <p:spPr>
          <a:xfrm>
            <a:off x="8501040" y="200016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AutoShape 6"/>
          <p:cNvSpPr/>
          <p:nvPr/>
        </p:nvSpPr>
        <p:spPr>
          <a:xfrm>
            <a:off x="6215040" y="47149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AutoShape 7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0" y="1066680"/>
            <a:ext cx="91440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9:If diameter of the circle is 12cm, then its radius i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12cm                                   (2)6c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10:If radius of the circle 4cm, then its diameter 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8cm                 (2)4c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AutoShape 3"/>
          <p:cNvSpPr/>
          <p:nvPr/>
        </p:nvSpPr>
        <p:spPr>
          <a:xfrm>
            <a:off x="1714680" y="485784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AutoShape 4"/>
          <p:cNvSpPr/>
          <p:nvPr/>
        </p:nvSpPr>
        <p:spPr>
          <a:xfrm>
            <a:off x="2133720" y="24382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AutoShape 5"/>
          <p:cNvSpPr/>
          <p:nvPr/>
        </p:nvSpPr>
        <p:spPr>
          <a:xfrm>
            <a:off x="2071800" y="300024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AutoShape 6"/>
          <p:cNvSpPr/>
          <p:nvPr/>
        </p:nvSpPr>
        <p:spPr>
          <a:xfrm>
            <a:off x="5929200" y="492912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AutoShape 7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609480" y="1676520"/>
            <a:ext cx="8534520" cy="26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WELLDONE!CORRECT ANSWER!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Now for the next question click on the next ques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AutoShape 3">
            <a:hlinkClick r:id="" action="ppaction://hlinkshowjump?jump=previousslide"/>
          </p:cNvPr>
          <p:cNvSpPr/>
          <p:nvPr/>
        </p:nvSpPr>
        <p:spPr>
          <a:xfrm>
            <a:off x="784872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914400" y="1981080"/>
            <a:ext cx="62485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SORRY !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INCORRECT ANSWER!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Better luck next tim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AutoShape 3">
            <a:hlinkClick r:id="" action="ppaction://hlinkshowjump?jump=previousslide"/>
          </p:cNvPr>
          <p:cNvSpPr/>
          <p:nvPr/>
        </p:nvSpPr>
        <p:spPr>
          <a:xfrm>
            <a:off x="7620120" y="6095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026"/>
          <p:cNvSpPr/>
          <p:nvPr/>
        </p:nvSpPr>
        <p:spPr>
          <a:xfrm>
            <a:off x="0" y="1143000"/>
            <a:ext cx="91440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Comic Sans MS"/>
              </a:rPr>
              <a:t>Minor Concepts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Students will be able to recognized different geometrical shap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Students will be able to  relate various shapes like that of bangle, cart,cone,box etc with circle,triangle,quadrilateral et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AutoShape 1027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2438280" y="914400"/>
            <a:ext cx="4800600" cy="32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Comic Sans MS"/>
              </a:rPr>
              <a:t>Menu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Content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Quiz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AutoShape 3">
            <a:hlinkClick r:id="rId1" action="ppaction://hlinksldjump"/>
          </p:cNvPr>
          <p:cNvSpPr/>
          <p:nvPr/>
        </p:nvSpPr>
        <p:spPr>
          <a:xfrm>
            <a:off x="4724280" y="1981080"/>
            <a:ext cx="533520" cy="38124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220" h="21600">
                <a:moveTo>
                  <a:pt x="0" y="0"/>
                </a:moveTo>
                <a:lnTo>
                  <a:pt x="30220" y="0"/>
                </a:lnTo>
                <a:lnTo>
                  <a:pt x="30220" y="21600"/>
                </a:lnTo>
                <a:lnTo>
                  <a:pt x="0" y="21600"/>
                </a:lnTo>
                <a:close/>
              </a:path>
              <a:path fill="lightenLess" w="30220" h="21600">
                <a:moveTo>
                  <a:pt x="0" y="0"/>
                </a:moveTo>
                <a:lnTo>
                  <a:pt x="30220" y="0"/>
                </a:lnTo>
                <a:lnTo>
                  <a:pt x="28820" y="1400"/>
                </a:lnTo>
                <a:lnTo>
                  <a:pt x="1400" y="1400"/>
                </a:lnTo>
                <a:close/>
              </a:path>
              <a:path fill="darken" w="30220" h="21600">
                <a:moveTo>
                  <a:pt x="30220" y="0"/>
                </a:moveTo>
                <a:lnTo>
                  <a:pt x="30220" y="21600"/>
                </a:lnTo>
                <a:lnTo>
                  <a:pt x="28820" y="20200"/>
                </a:lnTo>
                <a:lnTo>
                  <a:pt x="28820" y="1400"/>
                </a:lnTo>
                <a:close/>
              </a:path>
              <a:path fill="darkenLess" w="30220" h="21600">
                <a:moveTo>
                  <a:pt x="30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0" y="20200"/>
                </a:lnTo>
                <a:close/>
              </a:path>
              <a:path fill="lighten" w="30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AutoShape 4">
            <a:hlinkClick r:id="rId2" action="ppaction://hlinksldjump"/>
          </p:cNvPr>
          <p:cNvSpPr/>
          <p:nvPr/>
        </p:nvSpPr>
        <p:spPr>
          <a:xfrm>
            <a:off x="4800600" y="28195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AutoShape 5">
            <a:hlinkClick r:id="" action="ppaction://hlinkshowjump?jump=nextslide"/>
          </p:cNvPr>
          <p:cNvSpPr/>
          <p:nvPr/>
        </p:nvSpPr>
        <p:spPr>
          <a:xfrm>
            <a:off x="7956720" y="61657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19599" y="10800"/>
                </a:lnTo>
                <a:lnTo>
                  <a:pt x="5586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1219320" y="0"/>
            <a:ext cx="7924680" cy="65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Comic Sans MS"/>
              </a:rPr>
              <a:t>Content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Polyg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Triang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uadrilater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Circle : Parts of a circ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Radiu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Diamet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Chor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Circumferen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AutoShape 3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304920" y="45720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457200" y="533520"/>
            <a:ext cx="8153280" cy="34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Comic Sans MS"/>
              </a:rPr>
              <a:t>Polygon</a:t>
            </a: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 :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A simple closed figures by joining three or more line segments is called polyg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571680" y="4786200"/>
            <a:ext cx="79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omic Sans MS"/>
              </a:rPr>
              <a:t>Lets study about types of polygon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457200" y="457200"/>
            <a:ext cx="8229600" cy="62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Comic Sans MS"/>
              </a:rPr>
              <a:t>Triangle 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: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It is a closed figure formed by joining three line segments . So , a triangle is a polygon . Different shapes of triangle are shown below: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The three line segments which form the triangle are called its sides 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AutoShape 3"/>
          <p:cNvSpPr/>
          <p:nvPr/>
        </p:nvSpPr>
        <p:spPr>
          <a:xfrm>
            <a:off x="1066680" y="3124080"/>
            <a:ext cx="914400" cy="914400"/>
          </a:xfrm>
          <a:prstGeom prst="rtTriangl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2743200" y="304812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380880" y="380880"/>
            <a:ext cx="8305920" cy="67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Comic Sans MS"/>
              </a:rPr>
              <a:t>Quadrilateral 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It is a closed figure formed by joining four line segments called quadrilateral.  So quadrilateral is a polygon. Different shapes of quadrilateral are shown below: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The four line segments which form a quadrilateral are called its sid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AutoShape 3"/>
          <p:cNvSpPr/>
          <p:nvPr/>
        </p:nvSpPr>
        <p:spPr>
          <a:xfrm>
            <a:off x="914400" y="3505320"/>
            <a:ext cx="914400" cy="609480"/>
          </a:xfrm>
          <a:prstGeom prst="flowChartProcess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2590920" y="3505320"/>
            <a:ext cx="914400" cy="609480"/>
          </a:xfrm>
          <a:prstGeom prst="flowChartInputOutpu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4191120" y="3657600"/>
            <a:ext cx="914400" cy="457200"/>
          </a:xfrm>
          <a:prstGeom prst="flowChartManualInpu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5867280" y="3505320"/>
            <a:ext cx="914400" cy="609480"/>
          </a:xfrm>
          <a:prstGeom prst="flowChartDecision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AutoShape 7"/>
          <p:cNvSpPr/>
          <p:nvPr/>
        </p:nvSpPr>
        <p:spPr>
          <a:xfrm>
            <a:off x="7467480" y="3505320"/>
            <a:ext cx="914400" cy="609480"/>
          </a:xfrm>
          <a:prstGeom prst="flowChartManualOperation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0" y="304920"/>
            <a:ext cx="914400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Comic Sans MS"/>
              </a:rPr>
              <a:t>Circle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: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A closed curve formed in such a way that any point on this curve is equidistant from a fixed point which is in the interior of the curv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3203640" y="3429000"/>
            <a:ext cx="1749240" cy="1752480"/>
          </a:xfrm>
          <a:prstGeom prst="flowChartSummingJunction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4716360" y="328464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4716360" y="48690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3755880" y="38098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Text Box 16"/>
          <p:cNvSpPr/>
          <p:nvPr/>
        </p:nvSpPr>
        <p:spPr>
          <a:xfrm>
            <a:off x="0" y="5943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      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OA = OB = OC = OD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AutoShape 17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Rectangle 18"/>
          <p:cNvSpPr/>
          <p:nvPr/>
        </p:nvSpPr>
        <p:spPr>
          <a:xfrm>
            <a:off x="3924360" y="3860640"/>
            <a:ext cx="287280" cy="28764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Text Box 19"/>
          <p:cNvSpPr/>
          <p:nvPr/>
        </p:nvSpPr>
        <p:spPr>
          <a:xfrm>
            <a:off x="2987640" y="3357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Text Box 20"/>
          <p:cNvSpPr/>
          <p:nvPr/>
        </p:nvSpPr>
        <p:spPr>
          <a:xfrm>
            <a:off x="3059280" y="486900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1T04:27:09Z</dcterms:created>
  <dc:creator>kanta k</dc:creator>
  <dc:description/>
  <dc:language>en-US</dc:language>
  <cp:lastModifiedBy>RomaK</cp:lastModifiedBy>
  <dcterms:modified xsi:type="dcterms:W3CDTF">2015-09-04T07:41:10Z</dcterms:modified>
  <cp:revision>23</cp:revision>
  <dc:subject/>
  <dc:title>No Slide Title</dc:title>
</cp:coreProperties>
</file>