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9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30.wmf" ContentType="image/x-wmf"/>
  <Override PartName="/ppt/media/image16.jpeg" ContentType="image/jpeg"/>
  <Override PartName="/ppt/media/image5.wmf" ContentType="image/x-wmf"/>
  <Override PartName="/ppt/media/image31.wmf" ContentType="image/x-wmf"/>
  <Override PartName="/ppt/media/image6.wmf" ContentType="image/x-wmf"/>
  <Override PartName="/ppt/media/image33.wmf" ContentType="image/x-wmf"/>
  <Override PartName="/ppt/media/image8.wmf" ContentType="image/x-wmf"/>
  <Override PartName="/ppt/media/image11.wmf" ContentType="image/x-wmf"/>
  <Override PartName="/ppt/media/image36.png" ContentType="image/png"/>
  <Override PartName="/ppt/media/image38.png" ContentType="image/png"/>
  <Override PartName="/ppt/media/image1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5.png" ContentType="image/png"/>
  <Override PartName="/ppt/media/notify.wav" ContentType="audio/x-wav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672E-5534-48CA-976E-082B637F03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D37-8DDE-4978-AC69-C11DB730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754-AC34-4C49-AB71-E656D620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DE495-9AB4-49FD-8D6C-B44E7391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570B2-C620-4DEB-8C15-44DF76F0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1E054-E59B-493D-844B-D4D0DC44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BEFA0-ACA3-445C-9888-0E02D188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F662A-01B2-4C17-936E-B0130C87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13B19-B6C3-423B-9C93-0EFF714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93D06-9D98-4D65-A5B9-1A8D8D82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AAF06-E3F2-4BDA-9F78-5689A0DB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65A9B-F275-47BE-B8B7-89393975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791A7-7C8E-4D24-8084-C29D71FB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134-9506-419D-8FC0-9EBC8203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872D7-60C9-4A17-A773-335DC41F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F99ED-B56B-4BAA-9EFA-AFA50322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8E280-C83B-4FE3-B4AC-5A17A43D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DF0AB-1D0D-492E-82C4-A12E5499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00D25-E6EA-44DB-8520-1B19F9FA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E899C-60D1-4320-9823-6FA51BD4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DA814-2236-43AD-87BE-91539387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F9845-FFFA-42BF-B871-B6985F3C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4D001-4729-483D-8BD3-C9504295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E6C2F-EF76-4B31-813D-46AAE3E8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BCB-D444-4C70-A220-676A13D0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3E580-6364-474F-B196-FF839B83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C5CEB-CA17-4D3C-8932-8299B1A8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48429-A946-4378-90FF-1F3F5D75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1E900-1F80-48FB-B6AF-25AE1A07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68685-5FA4-4B70-80F4-5CFA8C74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546B5-EB7E-4BEA-9B8C-FD9447AA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19A5C-BDFA-441D-8B86-D4244C6A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6EC35-2736-482A-96AE-A9FAC84A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AB528-E60F-4D90-A2E6-E3D73F9A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5219C-0906-4D5C-AC43-2E9DCF6E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C468-7516-4787-9FFE-2A464F3F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D00AC-E9C6-44AC-A5B8-2EDF06D2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EB8B3-3AF3-433B-9AF3-FB801A26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9A7B4-3230-4E6C-BDFA-56BACDB0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E7D3E-6018-4126-9E38-39EADA8F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3DA2A-FAF4-47BC-8B50-66F56115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46789-575E-44EF-B4EC-C4B34D7E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5E8D1-2836-40EA-A4D4-99A633C9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C048B-7869-4BB5-BE9D-720CFB57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E531D-17F7-42DD-9172-901DE931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3CD9C-D9BA-4198-885A-59DB4FBB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FF39-E019-42E8-83FE-1EA8E132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8BF9C-9F98-4E06-B0E6-35D7EA77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FF860-7FEF-41B2-828C-45C9148B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23C78-11DE-4DAB-BFAA-AADDDE1B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9A0DC-4B82-4270-AFED-A65A6DCE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0E09A-AB4D-4D46-95A5-321990D9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A3AE-2DD6-4E3D-95EE-C2F95D38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B7CA-9BBD-4A31-A9D3-D6796477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66B2-6754-4DA7-99C5-F3B7B938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FB8B-FC61-4230-BBF2-3B99355F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07AC-9E32-48EE-9F8A-1CE04D74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5DA-DCE1-4BFB-BC3A-BD87B3B5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ADCF-6CD6-4C88-B88B-109B8746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B79E-4686-4E4E-AD30-5FF1EB28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D02A-6199-420A-9ED5-EE320EA2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4357-FF53-4112-A2AF-4D1FA660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44CA-C7DB-46BB-B121-4F0EA781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0179E-A103-45C5-B6D4-8DCB0497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5C2DB-480B-47C0-8753-53232528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18F27-ED38-4EAA-A4BA-1911C131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C27EE-617A-4CFB-B99B-DBC21517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23A9-867F-4F1D-8026-99C871C3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528-6C8D-4D3D-8FFE-4CE2284B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3C717-9DC5-42C7-86F0-69D1C171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101F1-2F32-4389-9629-1B0588A9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71193-7ECB-4D03-9F6A-67E95118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E097B-298F-46DD-B8B4-EB04486F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1ACD-B7E0-498A-B7A7-1405E47A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DBA62-417C-4938-8473-6F057DEB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58F93-8AFB-439A-BF3C-0054F4FD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4D113-3790-43BF-900D-A14EE9CD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60471-3748-4B38-8961-ECCD45D1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5BB2F-6A07-46B4-8C9E-2C83CFB2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5C3-56AC-4ADA-8EE4-ADFF72A3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4076A-F137-4FD8-8DFF-A7576366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ED029-6299-40C4-9D55-D2E4EFC0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DE1CD-7A46-42AB-A3C5-E8E85B76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8219E-D517-46DB-B398-A913D452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108C4-55CC-442B-B7BB-4524E226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7A83F-9160-41D4-91CF-7C13AAEA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B9CBA-6F00-426D-B47D-F66474A0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A4F91-4FA3-4CEA-9863-43D3800C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B584F-DD86-4530-81D3-022A501B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31E87-54AB-46F8-9AC4-42E9A417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AE9-2E51-4496-9D85-700AADAE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B2C76-2722-4FE8-91FB-D78DEC28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96053-C24E-4E3F-88B3-9256426D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38D0E-89A4-4775-BC0A-B35252E0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F8973-AA55-4187-B7A6-0F2CF6BB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C05D7-5464-481A-ADE4-DECF59B8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2B680-E97B-4E0F-A568-535E0C1A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56465-D3AE-41D5-91F1-824DE240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5D8C6-F94F-47EC-8C29-3109C6CE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D70D9-697D-4AD9-B490-B05FA734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FED1A-7D3E-434F-9E84-6732F675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5EF-D13B-4882-8451-F4A4D82A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E863E-5498-47EF-B52A-7A2EC4D3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2DB17-FF3B-4BFD-B0C8-41C79C6E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D3C05-83D1-4F9D-BFC7-BD5C2B1A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DE139-901D-4AC1-9548-12784073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BA78B-1591-40FE-B37B-12DFCC1F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7E15B-DCF1-473B-B62A-4116FA2C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B5F55-95E8-4AF8-9A26-FBAA7B8B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37B43-8119-4B8D-A4B8-50219457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0E177-740F-4BDB-9FD2-3FAEB3A6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01D70-4A7D-4AB2-8B51-ED9A2950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70C-B51B-4B48-9894-53CFB17C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4AF2A-CA54-4591-8517-AE1683F0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6C196-5D71-4F77-B10A-82CCCF37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0143C-3592-4848-B0F0-8E6687AA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8ED60-7D13-49F8-A7D1-A4CC48DA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58753-7050-4903-9DCC-F5020E17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3804D-E0A4-4EFF-BA16-53C76B04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52D78-D5A9-4EC2-82F6-08D93D89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1E0B1-1758-4517-B559-5E0E3872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FA43D-BB7A-417C-9C95-EDC0D22D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B5FF5-5136-4147-AF12-FFE79AA2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605-E0BD-4CBD-BE7B-37615163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94C49-D60F-4103-9994-DEF2B3AF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07D0F-36F9-49C3-B944-DD8DC451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1AD21-C19B-4FD7-9629-272B6C9F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73F2A-D345-4AB7-8D95-31340B99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59080-6AAF-4F0A-ACDD-F59AA837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F46BD-F90C-43ED-B8E4-AB4C74D3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F5239-4284-4954-89D7-FC80F652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E2879-C28E-4E5C-B8AD-33B9EEE1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A7474-3FC9-467E-87EF-315CEA21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2F5AE-D19E-496B-AEAC-5FBDD0F2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FAB-145E-4F44-992F-D9580F10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C8537-2A3E-4D12-A6FD-859B01C2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E54D8-BF12-4441-8FE9-F9FDE5E1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E9D19-6CE9-40FA-B53C-B4A8B41F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2CFB5-7CAC-4BFF-ACD8-85B2BEFD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781F9-4ACE-4C4C-B743-BF13ECBA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699E3-C444-41F5-AA9E-0D85A6E4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C543A-9E4B-4147-AA49-17AC81FB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5AC4C-C1D3-426B-8C4D-A4BC673B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8C9E5-137A-4564-A7BF-CEC50843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927FF-15B1-4B98-8F2E-7279948D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AB3E-9DCA-4B87-83C8-58290AC9CDA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03F1-ECB4-4F85-BD9B-8515933C256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13CB-1B75-4BF5-B946-E4DD38E2157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27CA-554C-4C4E-AF2A-68BC598F0C1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9CB2-99DA-4250-9803-9E3AE09D369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2B13-132E-4ABC-B445-8BB2FDE90CC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7617-DFFE-4B86-92CB-DE9DAB9D8B3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5D56-7AA6-4D84-A002-07A055A8D47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48BA-D005-40A5-A2BD-4188FAFBBDE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0383-C4C4-4418-A932-8156789EF4C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16B8-3A86-499E-AC81-14479246FB1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B187-E59D-4294-AAD6-3B898BC569B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1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2.wmf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image" Target="../media/image26.wmf"/><Relationship Id="rId17" Type="http://schemas.openxmlformats.org/officeDocument/2006/relationships/image" Target="../media/image21.wmf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19.wmf"/><Relationship Id="rId7" Type="http://schemas.openxmlformats.org/officeDocument/2006/relationships/image" Target="../media/image32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33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notify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1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Oval 4"/>
          <p:cNvSpPr/>
          <p:nvPr/>
        </p:nvSpPr>
        <p:spPr>
          <a:xfrm>
            <a:off x="1054080" y="1803240"/>
            <a:ext cx="1219320" cy="3009960"/>
          </a:xfrm>
          <a:prstGeom prst="ellipse">
            <a:avLst/>
          </a:pr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"/>
          <p:cNvSpPr/>
          <p:nvPr/>
        </p:nvSpPr>
        <p:spPr>
          <a:xfrm>
            <a:off x="5511960" y="1828800"/>
            <a:ext cx="1218960" cy="30099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5929560" y="208116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1459080" y="197964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1797120" y="1954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1924200" y="253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1873440" y="3046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1822680" y="363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1771560" y="4138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2"/>
          <p:cNvSpPr/>
          <p:nvPr/>
        </p:nvSpPr>
        <p:spPr>
          <a:xfrm>
            <a:off x="2057400" y="212076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3"/>
          <p:cNvSpPr/>
          <p:nvPr/>
        </p:nvSpPr>
        <p:spPr>
          <a:xfrm>
            <a:off x="2185920" y="27194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4"/>
          <p:cNvSpPr/>
          <p:nvPr/>
        </p:nvSpPr>
        <p:spPr>
          <a:xfrm>
            <a:off x="2173320" y="324000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5"/>
          <p:cNvSpPr/>
          <p:nvPr/>
        </p:nvSpPr>
        <p:spPr>
          <a:xfrm>
            <a:off x="2109960" y="3811680"/>
            <a:ext cx="36064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6"/>
          <p:cNvSpPr/>
          <p:nvPr/>
        </p:nvSpPr>
        <p:spPr>
          <a:xfrm>
            <a:off x="2147760" y="43196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47"/>
          <p:cNvSpPr txBox="1"/>
          <p:nvPr/>
        </p:nvSpPr>
        <p:spPr>
          <a:xfrm rot="1137600">
            <a:off x="3009600" y="787320"/>
            <a:ext cx="1562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e to O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1673280" y="5452920"/>
            <a:ext cx="21711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6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7.40741E-007 L 0.40556 0.01481 E">
                                      <p:cBhvr>
                                        <p:cTn id="10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0186 L 0.41111 0.01667 E">
                                      <p:cBhvr>
                                        <p:cTn id="14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4125 0.01667 E">
                                      <p:cBhvr>
                                        <p:cTn id="18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22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WordArt 14"/>
          <p:cNvSpPr txBox="1"/>
          <p:nvPr/>
        </p:nvSpPr>
        <p:spPr>
          <a:xfrm>
            <a:off x="311040" y="484200"/>
            <a:ext cx="424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mpound(Composite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unction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6" name="Picture 15" descr=""/>
          <p:cNvPicPr/>
          <p:nvPr/>
        </p:nvPicPr>
        <p:blipFill>
          <a:blip r:embed="rId5"/>
          <a:stretch/>
        </p:blipFill>
        <p:spPr>
          <a:xfrm>
            <a:off x="2654280" y="1776240"/>
            <a:ext cx="2760840" cy="27468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6"/>
          <p:cNvSpPr/>
          <p:nvPr/>
        </p:nvSpPr>
        <p:spPr>
          <a:xfrm>
            <a:off x="3662280" y="34606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193680" y="176976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2 func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9" descr=""/>
          <p:cNvPicPr/>
          <p:nvPr/>
        </p:nvPicPr>
        <p:blipFill>
          <a:blip r:embed="rId6"/>
          <a:stretch/>
        </p:blipFill>
        <p:spPr>
          <a:xfrm>
            <a:off x="1116000" y="2370240"/>
            <a:ext cx="192240" cy="28080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20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3"/>
          <p:cNvSpPr/>
          <p:nvPr/>
        </p:nvSpPr>
        <p:spPr>
          <a:xfrm>
            <a:off x="1338120" y="2340000"/>
            <a:ext cx="76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composite function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 first and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esul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found using a flow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5"/>
          <p:cNvSpPr/>
          <p:nvPr/>
        </p:nvSpPr>
        <p:spPr>
          <a:xfrm>
            <a:off x="460440" y="37800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6" descr=""/>
          <p:cNvPicPr/>
          <p:nvPr/>
        </p:nvPicPr>
        <p:blipFill>
          <a:blip r:embed="rId7"/>
          <a:stretch/>
        </p:blipFill>
        <p:spPr>
          <a:xfrm>
            <a:off x="887400" y="3459240"/>
            <a:ext cx="100080" cy="26964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27"/>
          <p:cNvSpPr/>
          <p:nvPr/>
        </p:nvSpPr>
        <p:spPr>
          <a:xfrm>
            <a:off x="1558440" y="3621960"/>
            <a:ext cx="877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8"/>
          <p:cNvSpPr/>
          <p:nvPr/>
        </p:nvSpPr>
        <p:spPr>
          <a:xfrm>
            <a:off x="2462040" y="3807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29" descr=""/>
          <p:cNvPicPr/>
          <p:nvPr/>
        </p:nvPicPr>
        <p:blipFill>
          <a:blip r:embed="rId8"/>
          <a:stretch/>
        </p:blipFill>
        <p:spPr>
          <a:xfrm>
            <a:off x="2917800" y="3527280"/>
            <a:ext cx="201600" cy="2746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31"/>
          <p:cNvSpPr/>
          <p:nvPr/>
        </p:nvSpPr>
        <p:spPr>
          <a:xfrm>
            <a:off x="3547440" y="363600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2"/>
          <p:cNvSpPr/>
          <p:nvPr/>
        </p:nvSpPr>
        <p:spPr>
          <a:xfrm>
            <a:off x="5030640" y="38052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33" descr=""/>
          <p:cNvPicPr/>
          <p:nvPr/>
        </p:nvPicPr>
        <p:blipFill>
          <a:blip r:embed="rId9"/>
          <a:stretch/>
        </p:blipFill>
        <p:spPr>
          <a:xfrm>
            <a:off x="5459400" y="3498840"/>
            <a:ext cx="320760" cy="2779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34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7"/>
          <p:cNvSpPr/>
          <p:nvPr/>
        </p:nvSpPr>
        <p:spPr>
          <a:xfrm>
            <a:off x="6101280" y="359496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0"/>
          <p:cNvSpPr/>
          <p:nvPr/>
        </p:nvSpPr>
        <p:spPr>
          <a:xfrm>
            <a:off x="6927840" y="37908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3" descr=""/>
          <p:cNvPicPr/>
          <p:nvPr/>
        </p:nvPicPr>
        <p:blipFill>
          <a:blip r:embed="rId10"/>
          <a:stretch/>
        </p:blipFill>
        <p:spPr>
          <a:xfrm>
            <a:off x="7221600" y="3446640"/>
            <a:ext cx="649080" cy="274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5" descr=""/>
          <p:cNvPicPr/>
          <p:nvPr/>
        </p:nvPicPr>
        <p:blipFill>
          <a:blip r:embed="rId11">
            <a:biLevel thresh="50000"/>
          </a:blip>
          <a:srcRect l="31242" t="0" r="0" b="0"/>
          <a:stretch/>
        </p:blipFill>
        <p:spPr>
          <a:xfrm rot="5400000">
            <a:off x="1724760" y="3909240"/>
            <a:ext cx="471600" cy="8128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4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47" descr=""/>
          <p:cNvPicPr/>
          <p:nvPr/>
        </p:nvPicPr>
        <p:blipFill>
          <a:blip r:embed="rId12"/>
          <a:stretch/>
        </p:blipFill>
        <p:spPr>
          <a:xfrm>
            <a:off x="1855800" y="4629240"/>
            <a:ext cx="119160" cy="2826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9" descr=""/>
          <p:cNvPicPr/>
          <p:nvPr/>
        </p:nvPicPr>
        <p:blipFill>
          <a:blip r:embed="rId13">
            <a:biLevel thresh="50000"/>
          </a:blip>
          <a:srcRect l="29935" t="0" r="0" b="0"/>
          <a:stretch/>
        </p:blipFill>
        <p:spPr>
          <a:xfrm rot="5400000">
            <a:off x="5093280" y="3413880"/>
            <a:ext cx="587160" cy="1582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0" descr=""/>
          <p:cNvPicPr/>
          <p:nvPr/>
        </p:nvPicPr>
        <p:blipFill>
          <a:blip r:embed="rId14"/>
          <a:stretch/>
        </p:blipFill>
        <p:spPr>
          <a:xfrm>
            <a:off x="5391000" y="4525920"/>
            <a:ext cx="146160" cy="27468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57"/>
          <p:cNvGrpSpPr/>
          <p:nvPr/>
        </p:nvGrpSpPr>
        <p:grpSpPr>
          <a:xfrm>
            <a:off x="527760" y="5327640"/>
            <a:ext cx="2139120" cy="406440"/>
            <a:chOff x="527760" y="5327640"/>
            <a:chExt cx="2139120" cy="406440"/>
          </a:xfrm>
        </p:grpSpPr>
        <p:sp>
          <p:nvSpPr>
            <p:cNvPr id="726" name="Text Box 51"/>
            <p:cNvSpPr/>
            <p:nvPr/>
          </p:nvSpPr>
          <p:spPr>
            <a:xfrm>
              <a:off x="527760" y="532764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u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3" descr=""/>
            <p:cNvPicPr/>
            <p:nvPr/>
          </p:nvPicPr>
          <p:blipFill>
            <a:blip r:embed="rId15"/>
            <a:stretch/>
          </p:blipFill>
          <p:spPr>
            <a:xfrm>
              <a:off x="1228680" y="5392800"/>
              <a:ext cx="14616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54" descr=""/>
            <p:cNvPicPr/>
            <p:nvPr/>
          </p:nvPicPr>
          <p:blipFill>
            <a:blip r:embed="rId16"/>
            <a:stretch/>
          </p:blipFill>
          <p:spPr>
            <a:xfrm>
              <a:off x="1351080" y="5402160"/>
              <a:ext cx="1188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55"/>
            <p:cNvSpPr/>
            <p:nvPr/>
          </p:nvSpPr>
          <p:spPr>
            <a:xfrm>
              <a:off x="1602720" y="536580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0" name="Picture 56" descr=""/>
            <p:cNvPicPr/>
            <p:nvPr/>
          </p:nvPicPr>
          <p:blipFill>
            <a:blip r:embed="rId17"/>
            <a:stretch/>
          </p:blipFill>
          <p:spPr>
            <a:xfrm>
              <a:off x="2017800" y="5423040"/>
              <a:ext cx="649080" cy="274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Oval 4"/>
          <p:cNvSpPr/>
          <p:nvPr/>
        </p:nvSpPr>
        <p:spPr>
          <a:xfrm>
            <a:off x="1182600" y="142560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5"/>
          <p:cNvSpPr/>
          <p:nvPr/>
        </p:nvSpPr>
        <p:spPr>
          <a:xfrm>
            <a:off x="3933720" y="1432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6688080" y="1405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"/>
          <p:cNvSpPr/>
          <p:nvPr/>
        </p:nvSpPr>
        <p:spPr>
          <a:xfrm>
            <a:off x="1841400" y="2462040"/>
            <a:ext cx="27720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4616280" y="2347920"/>
            <a:ext cx="27594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0" descr=""/>
          <p:cNvPicPr/>
          <p:nvPr/>
        </p:nvPicPr>
        <p:blipFill>
          <a:blip r:embed="rId1"/>
          <a:stretch/>
        </p:blipFill>
        <p:spPr>
          <a:xfrm>
            <a:off x="3013200" y="1252440"/>
            <a:ext cx="495000" cy="1174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>
            <a:off x="5794200" y="1204920"/>
            <a:ext cx="657360" cy="1236600"/>
          </a:xfrm>
          <a:prstGeom prst="rect">
            <a:avLst/>
          </a:prstGeom>
          <a:ln w="0">
            <a:noFill/>
          </a:ln>
        </p:spPr>
      </p:pic>
      <p:sp>
        <p:nvSpPr>
          <p:cNvPr id="738" name="Freeform 12"/>
          <p:cNvSpPr/>
          <p:nvPr/>
        </p:nvSpPr>
        <p:spPr>
          <a:xfrm>
            <a:off x="1882800" y="3294000"/>
            <a:ext cx="5459400" cy="1494000"/>
          </a:xfrm>
          <a:custGeom>
            <a:avLst/>
            <a:gdLst/>
            <a:ahLst/>
            <a:rect l="l" t="t" r="r" b="b"/>
            <a:pathLst>
              <a:path w="3439" h="941">
                <a:moveTo>
                  <a:pt x="0" y="187"/>
                </a:moveTo>
                <a:cubicBezTo>
                  <a:pt x="216" y="424"/>
                  <a:pt x="432" y="662"/>
                  <a:pt x="593" y="780"/>
                </a:cubicBezTo>
                <a:cubicBezTo>
                  <a:pt x="754" y="898"/>
                  <a:pt x="857" y="873"/>
                  <a:pt x="966" y="898"/>
                </a:cubicBezTo>
                <a:cubicBezTo>
                  <a:pt x="1075" y="923"/>
                  <a:pt x="1158" y="925"/>
                  <a:pt x="1245" y="932"/>
                </a:cubicBezTo>
                <a:cubicBezTo>
                  <a:pt x="1332" y="939"/>
                  <a:pt x="1419" y="941"/>
                  <a:pt x="1491" y="941"/>
                </a:cubicBezTo>
                <a:cubicBezTo>
                  <a:pt x="1563" y="941"/>
                  <a:pt x="1599" y="941"/>
                  <a:pt x="1677" y="932"/>
                </a:cubicBezTo>
                <a:cubicBezTo>
                  <a:pt x="1755" y="923"/>
                  <a:pt x="1877" y="908"/>
                  <a:pt x="1957" y="890"/>
                </a:cubicBezTo>
                <a:cubicBezTo>
                  <a:pt x="2037" y="872"/>
                  <a:pt x="2090" y="846"/>
                  <a:pt x="2160" y="822"/>
                </a:cubicBezTo>
                <a:cubicBezTo>
                  <a:pt x="2230" y="798"/>
                  <a:pt x="2316" y="769"/>
                  <a:pt x="2380" y="746"/>
                </a:cubicBezTo>
                <a:cubicBezTo>
                  <a:pt x="2444" y="723"/>
                  <a:pt x="2475" y="711"/>
                  <a:pt x="2541" y="686"/>
                </a:cubicBezTo>
                <a:cubicBezTo>
                  <a:pt x="2607" y="661"/>
                  <a:pt x="2717" y="628"/>
                  <a:pt x="2778" y="593"/>
                </a:cubicBezTo>
                <a:cubicBezTo>
                  <a:pt x="2839" y="558"/>
                  <a:pt x="2866" y="512"/>
                  <a:pt x="2905" y="475"/>
                </a:cubicBezTo>
                <a:cubicBezTo>
                  <a:pt x="2944" y="438"/>
                  <a:pt x="2980" y="405"/>
                  <a:pt x="3015" y="373"/>
                </a:cubicBezTo>
                <a:cubicBezTo>
                  <a:pt x="3050" y="341"/>
                  <a:pt x="3066" y="325"/>
                  <a:pt x="3117" y="280"/>
                </a:cubicBezTo>
                <a:cubicBezTo>
                  <a:pt x="3168" y="235"/>
                  <a:pt x="3266" y="149"/>
                  <a:pt x="3320" y="102"/>
                </a:cubicBezTo>
                <a:cubicBezTo>
                  <a:pt x="3374" y="55"/>
                  <a:pt x="3415" y="23"/>
                  <a:pt x="343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1817640" y="3240000"/>
            <a:ext cx="5564160" cy="2105280"/>
          </a:xfrm>
          <a:custGeom>
            <a:avLst/>
            <a:gdLst/>
            <a:ahLst/>
            <a:rect l="l" t="t" r="r" b="b"/>
            <a:pathLst>
              <a:path w="3505" h="1326">
                <a:moveTo>
                  <a:pt x="0" y="129"/>
                </a:moveTo>
                <a:cubicBezTo>
                  <a:pt x="286" y="325"/>
                  <a:pt x="1134" y="1326"/>
                  <a:pt x="1718" y="1305"/>
                </a:cubicBezTo>
                <a:cubicBezTo>
                  <a:pt x="2302" y="1284"/>
                  <a:pt x="3207" y="217"/>
                  <a:pt x="350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0"/>
          <p:cNvGrpSpPr/>
          <p:nvPr/>
        </p:nvGrpSpPr>
        <p:grpSpPr>
          <a:xfrm>
            <a:off x="3576600" y="5359320"/>
            <a:ext cx="1705680" cy="856080"/>
            <a:chOff x="3576600" y="5359320"/>
            <a:chExt cx="1705680" cy="856080"/>
          </a:xfrm>
        </p:grpSpPr>
        <p:pic>
          <p:nvPicPr>
            <p:cNvPr id="743" name="Picture 26" descr=""/>
            <p:cNvPicPr/>
            <p:nvPr/>
          </p:nvPicPr>
          <p:blipFill>
            <a:blip r:embed="rId3"/>
            <a:stretch/>
          </p:blipFill>
          <p:spPr>
            <a:xfrm>
              <a:off x="3576600" y="5359320"/>
              <a:ext cx="475920" cy="7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7" descr=""/>
            <p:cNvPicPr/>
            <p:nvPr/>
          </p:nvPicPr>
          <p:blipFill>
            <a:blip r:embed="rId4"/>
            <a:stretch/>
          </p:blipFill>
          <p:spPr>
            <a:xfrm>
              <a:off x="3975120" y="5452920"/>
              <a:ext cx="3866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28" descr=""/>
            <p:cNvPicPr/>
            <p:nvPr/>
          </p:nvPicPr>
          <p:blipFill>
            <a:blip r:embed="rId5"/>
            <a:stretch/>
          </p:blipFill>
          <p:spPr>
            <a:xfrm>
              <a:off x="4449960" y="5491440"/>
              <a:ext cx="83232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Rectangle 3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35"/>
          <p:cNvGrpSpPr/>
          <p:nvPr/>
        </p:nvGrpSpPr>
        <p:grpSpPr>
          <a:xfrm>
            <a:off x="2662200" y="1052640"/>
            <a:ext cx="4185720" cy="339120"/>
            <a:chOff x="2662200" y="1052640"/>
            <a:chExt cx="4185720" cy="339120"/>
          </a:xfrm>
        </p:grpSpPr>
        <p:pic>
          <p:nvPicPr>
            <p:cNvPr id="749" name="Picture 31" descr=""/>
            <p:cNvPicPr/>
            <p:nvPr/>
          </p:nvPicPr>
          <p:blipFill>
            <a:blip r:embed="rId6"/>
            <a:stretch/>
          </p:blipFill>
          <p:spPr>
            <a:xfrm>
              <a:off x="2662200" y="1052640"/>
              <a:ext cx="268200" cy="3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33" descr=""/>
            <p:cNvPicPr/>
            <p:nvPr/>
          </p:nvPicPr>
          <p:blipFill>
            <a:blip r:embed="rId7"/>
            <a:stretch/>
          </p:blipFill>
          <p:spPr>
            <a:xfrm>
              <a:off x="6118560" y="1052640"/>
              <a:ext cx="729360" cy="33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1" name="Picture 36" descr=""/>
          <p:cNvPicPr/>
          <p:nvPr/>
        </p:nvPicPr>
        <p:blipFill>
          <a:blip r:embed="rId8"/>
          <a:stretch/>
        </p:blipFill>
        <p:spPr>
          <a:xfrm>
            <a:off x="3994200" y="6283440"/>
            <a:ext cx="841320" cy="35532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37"/>
          <p:cNvSpPr/>
          <p:nvPr/>
        </p:nvSpPr>
        <p:spPr>
          <a:xfrm>
            <a:off x="128160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4494600" y="340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0"/>
          <p:cNvSpPr/>
          <p:nvPr/>
        </p:nvSpPr>
        <p:spPr>
          <a:xfrm>
            <a:off x="7252200" y="3362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2"/>
          <p:cNvSpPr/>
          <p:nvPr/>
        </p:nvSpPr>
        <p:spPr>
          <a:xfrm>
            <a:off x="1510200" y="368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WordArt 43"/>
          <p:cNvSpPr txBox="1"/>
          <p:nvPr/>
        </p:nvSpPr>
        <p:spPr>
          <a:xfrm>
            <a:off x="264960" y="216000"/>
            <a:ext cx="46580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osite Functions - Arrow Diagra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1 0.01551 L 0.12987 -0.07361 C 0.14653 -0.09537 0.1658 -0.11713 0.19202 -0.11713 C 0.22171 -0.11713 0.25556 -0.11296 0.2724 -0.0912 L 0.3283 -0.02847 L 0.34254 0.01551 E">
                                      <p:cBhvr>
                                        <p:cTn id="688" dur="3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-0.0257 L 0.06528 -0.11482 C 0.0823 -0.13357 0.125 -0.17755 0.15191 -0.17755 C 0.18264 -0.17755 0.22587 -0.15116 0.24306 -0.13241 L 0.29601 -0.06181 L 0.29688 -0.0257 E">
                                      <p:cBhvr>
                                        <p:cTn id="698" dur="3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-0.04815 C 0.03855 -0.0257 0.10278 0.05278 0.13421 0.08704 C 0.16563 0.1213 0.18577 0.13842 0.20782 0.15764 C 0.22987 0.17685 0.25174 0.19421 0.26667 0.20278 C 0.2816 0.21134 0.28421 0.20856 0.2974 0.20856 C 0.31059 0.20856 0.32796 0.21042 0.34601 0.20278 C 0.36407 0.19514 0.36233 0.2088 0.40591 0.16273 C 0.44948 0.11667 0.5658 -0.02431 0.60782 -0.07361 E">
                                      <p:cBhvr>
                                        <p:cTn id="713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evt="end">
                                        <p:tn val="712"/>
                                      </p:cond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4"/>
          <p:cNvSpPr txBox="1"/>
          <p:nvPr/>
        </p:nvSpPr>
        <p:spPr>
          <a:xfrm>
            <a:off x="266760" y="297000"/>
            <a:ext cx="2962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rse Fun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58" name="Group 57"/>
          <p:cNvGrpSpPr/>
          <p:nvPr/>
        </p:nvGrpSpPr>
        <p:grpSpPr>
          <a:xfrm>
            <a:off x="395640" y="860400"/>
            <a:ext cx="3765240" cy="785880"/>
            <a:chOff x="395640" y="860400"/>
            <a:chExt cx="3765240" cy="785880"/>
          </a:xfrm>
        </p:grpSpPr>
        <p:sp>
          <p:nvSpPr>
            <p:cNvPr id="759" name="Text Box 5"/>
            <p:cNvSpPr/>
            <p:nvPr/>
          </p:nvSpPr>
          <p:spPr>
            <a:xfrm>
              <a:off x="408240" y="887400"/>
              <a:ext cx="23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ider th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Picture 6" descr=""/>
            <p:cNvPicPr/>
            <p:nvPr/>
          </p:nvPicPr>
          <p:blipFill>
            <a:blip r:embed="rId1"/>
            <a:stretch/>
          </p:blipFill>
          <p:spPr>
            <a:xfrm>
              <a:off x="2971800" y="860400"/>
              <a:ext cx="11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Text Box 7"/>
            <p:cNvSpPr/>
            <p:nvPr/>
          </p:nvSpPr>
          <p:spPr>
            <a:xfrm>
              <a:off x="395640" y="1278000"/>
              <a:ext cx="255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its flow 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8" descr=""/>
          <p:cNvPicPr/>
          <p:nvPr/>
        </p:nvPicPr>
        <p:blipFill>
          <a:blip r:embed="rId2"/>
          <a:stretch/>
        </p:blipFill>
        <p:spPr>
          <a:xfrm>
            <a:off x="363600" y="2097000"/>
            <a:ext cx="92160" cy="25560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20"/>
          <p:cNvGrpSpPr/>
          <p:nvPr/>
        </p:nvGrpSpPr>
        <p:grpSpPr>
          <a:xfrm>
            <a:off x="3131280" y="1795320"/>
            <a:ext cx="323280" cy="368280"/>
            <a:chOff x="3131280" y="1795320"/>
            <a:chExt cx="323280" cy="368280"/>
          </a:xfrm>
        </p:grpSpPr>
        <p:pic>
          <p:nvPicPr>
            <p:cNvPr id="764" name="Picture 21" descr=""/>
            <p:cNvPicPr/>
            <p:nvPr/>
          </p:nvPicPr>
          <p:blipFill>
            <a:blip r:embed="rId3"/>
            <a:stretch/>
          </p:blipFill>
          <p:spPr>
            <a:xfrm>
              <a:off x="3362400" y="1839960"/>
              <a:ext cx="9216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2"/>
            <p:cNvSpPr/>
            <p:nvPr/>
          </p:nvSpPr>
          <p:spPr>
            <a:xfrm>
              <a:off x="3131280" y="179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4"/>
          <p:cNvGrpSpPr/>
          <p:nvPr/>
        </p:nvGrpSpPr>
        <p:grpSpPr>
          <a:xfrm>
            <a:off x="4885200" y="1668600"/>
            <a:ext cx="638640" cy="380880"/>
            <a:chOff x="4885200" y="1668600"/>
            <a:chExt cx="638640" cy="380880"/>
          </a:xfrm>
        </p:grpSpPr>
        <p:grpSp>
          <p:nvGrpSpPr>
            <p:cNvPr id="767" name="Group 19"/>
            <p:cNvGrpSpPr/>
            <p:nvPr/>
          </p:nvGrpSpPr>
          <p:grpSpPr>
            <a:xfrm>
              <a:off x="4885200" y="1681200"/>
              <a:ext cx="323280" cy="368280"/>
              <a:chOff x="4885200" y="1681200"/>
              <a:chExt cx="323280" cy="368280"/>
            </a:xfrm>
          </p:grpSpPr>
          <p:pic>
            <p:nvPicPr>
              <p:cNvPr id="768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16320" y="1725840"/>
                <a:ext cx="9216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Text Box 18"/>
              <p:cNvSpPr/>
              <p:nvPr/>
            </p:nvSpPr>
            <p:spPr>
              <a:xfrm>
                <a:off x="4885200" y="1681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Text Box 23"/>
            <p:cNvSpPr/>
            <p:nvPr/>
          </p:nvSpPr>
          <p:spPr>
            <a:xfrm>
              <a:off x="5140440" y="16686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1" name="Picture 31" descr=""/>
          <p:cNvPicPr/>
          <p:nvPr/>
        </p:nvPicPr>
        <p:blipFill>
          <a:blip r:embed="rId5"/>
          <a:srcRect l="44190" t="-6510" r="0" b="0"/>
          <a:stretch/>
        </p:blipFill>
        <p:spPr>
          <a:xfrm>
            <a:off x="7585200" y="159876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32"/>
          <p:cNvSpPr/>
          <p:nvPr/>
        </p:nvSpPr>
        <p:spPr>
          <a:xfrm>
            <a:off x="382320" y="2743200"/>
            <a:ext cx="72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58"/>
          <p:cNvGrpSpPr/>
          <p:nvPr/>
        </p:nvGrpSpPr>
        <p:grpSpPr>
          <a:xfrm>
            <a:off x="657360" y="2018520"/>
            <a:ext cx="7508880" cy="428760"/>
            <a:chOff x="657360" y="2018520"/>
            <a:chExt cx="7508880" cy="428760"/>
          </a:xfrm>
        </p:grpSpPr>
        <p:sp>
          <p:nvSpPr>
            <p:cNvPr id="774" name="Rectangle 9"/>
            <p:cNvSpPr/>
            <p:nvPr/>
          </p:nvSpPr>
          <p:spPr>
            <a:xfrm>
              <a:off x="1442520" y="2079000"/>
              <a:ext cx="14486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"/>
            <p:cNvSpPr/>
            <p:nvPr/>
          </p:nvSpPr>
          <p:spPr>
            <a:xfrm flipV="1">
              <a:off x="657360" y="2220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2"/>
            <p:cNvSpPr/>
            <p:nvPr/>
          </p:nvSpPr>
          <p:spPr>
            <a:xfrm>
              <a:off x="3673800" y="2072520"/>
              <a:ext cx="1221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trac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 flipV="1">
              <a:off x="289548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4"/>
            <p:cNvSpPr/>
            <p:nvPr/>
          </p:nvSpPr>
          <p:spPr>
            <a:xfrm flipV="1">
              <a:off x="491184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5"/>
            <p:cNvSpPr/>
            <p:nvPr/>
          </p:nvSpPr>
          <p:spPr>
            <a:xfrm>
              <a:off x="5678640" y="2018520"/>
              <a:ext cx="1701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0"/>
            <p:cNvSpPr/>
            <p:nvPr/>
          </p:nvSpPr>
          <p:spPr>
            <a:xfrm flipV="1">
              <a:off x="7399440" y="21729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1058760" y="3980520"/>
            <a:ext cx="7229520" cy="382680"/>
            <a:chOff x="1058760" y="3980520"/>
            <a:chExt cx="7229520" cy="382680"/>
          </a:xfrm>
        </p:grpSpPr>
        <p:sp>
          <p:nvSpPr>
            <p:cNvPr id="782" name="Rectangle 33"/>
            <p:cNvSpPr/>
            <p:nvPr/>
          </p:nvSpPr>
          <p:spPr>
            <a:xfrm>
              <a:off x="5676480" y="3980520"/>
              <a:ext cx="184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34"/>
            <p:cNvSpPr/>
            <p:nvPr/>
          </p:nvSpPr>
          <p:spPr>
            <a:xfrm flipH="1">
              <a:off x="7521480" y="413640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35"/>
            <p:cNvSpPr/>
            <p:nvPr/>
          </p:nvSpPr>
          <p:spPr>
            <a:xfrm flipH="1">
              <a:off x="48783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36"/>
            <p:cNvSpPr/>
            <p:nvPr/>
          </p:nvSpPr>
          <p:spPr>
            <a:xfrm>
              <a:off x="3873960" y="3994920"/>
              <a:ext cx="1005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w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7"/>
            <p:cNvSpPr/>
            <p:nvPr/>
          </p:nvSpPr>
          <p:spPr>
            <a:xfrm flipH="1">
              <a:off x="3130560" y="4128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38"/>
            <p:cNvSpPr/>
            <p:nvPr/>
          </p:nvSpPr>
          <p:spPr>
            <a:xfrm>
              <a:off x="1827000" y="3980520"/>
              <a:ext cx="13086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9"/>
            <p:cNvSpPr/>
            <p:nvPr/>
          </p:nvSpPr>
          <p:spPr>
            <a:xfrm flipH="1">
              <a:off x="10587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9" name="Picture 40" descr=""/>
          <p:cNvPicPr/>
          <p:nvPr/>
        </p:nvPicPr>
        <p:blipFill>
          <a:blip r:embed="rId6"/>
          <a:stretch/>
        </p:blipFill>
        <p:spPr>
          <a:xfrm>
            <a:off x="7859880" y="3595680"/>
            <a:ext cx="91800" cy="25560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43"/>
          <p:cNvGrpSpPr/>
          <p:nvPr/>
        </p:nvGrpSpPr>
        <p:grpSpPr>
          <a:xfrm>
            <a:off x="5032800" y="3456000"/>
            <a:ext cx="339480" cy="368280"/>
            <a:chOff x="5032800" y="3456000"/>
            <a:chExt cx="339480" cy="368280"/>
          </a:xfrm>
        </p:grpSpPr>
        <p:sp>
          <p:nvSpPr>
            <p:cNvPr id="791" name="Text Box 41"/>
            <p:cNvSpPr/>
            <p:nvPr/>
          </p:nvSpPr>
          <p:spPr>
            <a:xfrm>
              <a:off x="5032800" y="345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2" name="Picture 42" descr=""/>
            <p:cNvPicPr/>
            <p:nvPr/>
          </p:nvPicPr>
          <p:blipFill>
            <a:blip r:embed="rId7"/>
            <a:stretch/>
          </p:blipFill>
          <p:spPr>
            <a:xfrm>
              <a:off x="5280120" y="3502080"/>
              <a:ext cx="92160" cy="2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Group 48"/>
          <p:cNvGrpSpPr/>
          <p:nvPr/>
        </p:nvGrpSpPr>
        <p:grpSpPr>
          <a:xfrm>
            <a:off x="3143520" y="3470400"/>
            <a:ext cx="731520" cy="372960"/>
            <a:chOff x="3143520" y="3470400"/>
            <a:chExt cx="731520" cy="37296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43520" y="3475080"/>
              <a:ext cx="339120" cy="368280"/>
              <a:chOff x="3143520" y="3475080"/>
              <a:chExt cx="339120" cy="368280"/>
            </a:xfrm>
          </p:grpSpPr>
          <p:sp>
            <p:nvSpPr>
              <p:cNvPr id="795" name="Text Box 45"/>
              <p:cNvSpPr/>
              <p:nvPr/>
            </p:nvSpPr>
            <p:spPr>
              <a:xfrm>
                <a:off x="3143520" y="347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390840" y="3521160"/>
                <a:ext cx="91800" cy="25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7" name="Text Box 47"/>
            <p:cNvSpPr/>
            <p:nvPr/>
          </p:nvSpPr>
          <p:spPr>
            <a:xfrm>
              <a:off x="3433680" y="34704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56"/>
          <p:cNvGrpSpPr/>
          <p:nvPr/>
        </p:nvGrpSpPr>
        <p:grpSpPr>
          <a:xfrm>
            <a:off x="190800" y="3435480"/>
            <a:ext cx="731160" cy="644400"/>
            <a:chOff x="190800" y="3435480"/>
            <a:chExt cx="731160" cy="644400"/>
          </a:xfrm>
        </p:grpSpPr>
        <p:grpSp>
          <p:nvGrpSpPr>
            <p:cNvPr id="799" name="Group 49"/>
            <p:cNvGrpSpPr/>
            <p:nvPr/>
          </p:nvGrpSpPr>
          <p:grpSpPr>
            <a:xfrm>
              <a:off x="190800" y="3435480"/>
              <a:ext cx="731160" cy="372960"/>
              <a:chOff x="190800" y="3435480"/>
              <a:chExt cx="731160" cy="372960"/>
            </a:xfrm>
          </p:grpSpPr>
          <p:grpSp>
            <p:nvGrpSpPr>
              <p:cNvPr id="800" name="Group 50"/>
              <p:cNvGrpSpPr/>
              <p:nvPr/>
            </p:nvGrpSpPr>
            <p:grpSpPr>
              <a:xfrm>
                <a:off x="190800" y="3440160"/>
                <a:ext cx="338760" cy="368280"/>
                <a:chOff x="190800" y="3440160"/>
                <a:chExt cx="338760" cy="368280"/>
              </a:xfrm>
            </p:grpSpPr>
            <p:sp>
              <p:nvSpPr>
                <p:cNvPr id="801" name="Text Box 51"/>
                <p:cNvSpPr/>
                <p:nvPr/>
              </p:nvSpPr>
              <p:spPr>
                <a:xfrm>
                  <a:off x="190800" y="34401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02" name="Picture 5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37760" y="3486240"/>
                  <a:ext cx="9180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03" name="Text Box 53"/>
              <p:cNvSpPr/>
              <p:nvPr/>
            </p:nvSpPr>
            <p:spPr>
              <a:xfrm>
                <a:off x="480600" y="34354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Line 54"/>
            <p:cNvSpPr/>
            <p:nvPr/>
          </p:nvSpPr>
          <p:spPr>
            <a:xfrm flipV="1">
              <a:off x="228600" y="3738240"/>
              <a:ext cx="631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55"/>
            <p:cNvSpPr/>
            <p:nvPr/>
          </p:nvSpPr>
          <p:spPr>
            <a:xfrm>
              <a:off x="354240" y="371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62"/>
          <p:cNvSpPr/>
          <p:nvPr/>
        </p:nvSpPr>
        <p:spPr>
          <a:xfrm>
            <a:off x="0" y="33004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5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67"/>
          <p:cNvGrpSpPr/>
          <p:nvPr/>
        </p:nvGrpSpPr>
        <p:grpSpPr>
          <a:xfrm>
            <a:off x="770400" y="5311800"/>
            <a:ext cx="2420640" cy="401760"/>
            <a:chOff x="770400" y="5311800"/>
            <a:chExt cx="2420640" cy="401760"/>
          </a:xfrm>
        </p:grpSpPr>
        <p:pic>
          <p:nvPicPr>
            <p:cNvPr id="810" name="Picture 61" descr=""/>
            <p:cNvPicPr/>
            <p:nvPr/>
          </p:nvPicPr>
          <p:blipFill>
            <a:blip r:embed="rId10"/>
            <a:stretch/>
          </p:blipFill>
          <p:spPr>
            <a:xfrm>
              <a:off x="1828800" y="5330880"/>
              <a:ext cx="13622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66"/>
            <p:cNvSpPr/>
            <p:nvPr/>
          </p:nvSpPr>
          <p:spPr>
            <a:xfrm>
              <a:off x="770400" y="5311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WordArt 5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13" name="Group 10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14" name="Picture 6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 Box 9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17" name="Picture 4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12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20" name="Picture 8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 Box 13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8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23" name="Picture 11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WordArt 2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27" name="Group 3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28" name="Picture 4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5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31" name="Picture 7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Text Box 8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9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34" name="Picture 10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Text Box 11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2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37" name="Picture 13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6"/>
          <p:cNvSpPr/>
          <p:nvPr/>
        </p:nvSpPr>
        <p:spPr>
          <a:xfrm>
            <a:off x="8623440" y="284040"/>
            <a:ext cx="0" cy="621216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5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4"/>
          <p:cNvSpPr/>
          <p:nvPr/>
        </p:nvSpPr>
        <p:spPr>
          <a:xfrm>
            <a:off x="114300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672920" y="1951200"/>
            <a:ext cx="96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7"/>
          <p:cNvSpPr/>
          <p:nvPr/>
        </p:nvSpPr>
        <p:spPr>
          <a:xfrm>
            <a:off x="545148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5907960" y="1882800"/>
            <a:ext cx="116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9"/>
          <p:cNvSpPr/>
          <p:nvPr/>
        </p:nvSpPr>
        <p:spPr>
          <a:xfrm>
            <a:off x="2824200" y="2165400"/>
            <a:ext cx="30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2459880" y="1981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1"/>
          <p:cNvSpPr/>
          <p:nvPr/>
        </p:nvSpPr>
        <p:spPr>
          <a:xfrm>
            <a:off x="2641680" y="2165400"/>
            <a:ext cx="32637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2"/>
          <p:cNvSpPr/>
          <p:nvPr/>
        </p:nvSpPr>
        <p:spPr>
          <a:xfrm flipV="1">
            <a:off x="2641680" y="2634840"/>
            <a:ext cx="32637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2641680" y="2716200"/>
            <a:ext cx="3263760" cy="15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2641680" y="2716200"/>
            <a:ext cx="307332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6"/>
          <p:cNvSpPr/>
          <p:nvPr/>
        </p:nvSpPr>
        <p:spPr>
          <a:xfrm flipV="1">
            <a:off x="2914560" y="2165040"/>
            <a:ext cx="2990880" cy="14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7"/>
          <p:cNvSpPr/>
          <p:nvPr/>
        </p:nvSpPr>
        <p:spPr>
          <a:xfrm>
            <a:off x="2914560" y="3627360"/>
            <a:ext cx="29908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8"/>
          <p:cNvSpPr/>
          <p:nvPr/>
        </p:nvSpPr>
        <p:spPr>
          <a:xfrm flipV="1">
            <a:off x="2824200" y="3240000"/>
            <a:ext cx="2890800" cy="120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2824200" y="4262400"/>
            <a:ext cx="30812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0"/>
          <p:cNvSpPr/>
          <p:nvPr/>
        </p:nvSpPr>
        <p:spPr>
          <a:xfrm>
            <a:off x="2367720" y="253224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1"/>
          <p:cNvSpPr/>
          <p:nvPr/>
        </p:nvSpPr>
        <p:spPr>
          <a:xfrm>
            <a:off x="2640600" y="34434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2"/>
          <p:cNvSpPr/>
          <p:nvPr/>
        </p:nvSpPr>
        <p:spPr>
          <a:xfrm>
            <a:off x="2550240" y="417816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3472920" y="47880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720360" y="562140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ows from each person and each place is rela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. It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0.33542 7.40741E-007 E">
                                      <p:cBhvr>
                                        <p:cTn id="33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532 0.15509 E">
                                      <p:cBhvr>
                                        <p:cTn id="37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44444E-006 5.18519E-006 L 0.34531 -0.01388 E">
                                      <p:cBhvr>
                                        <p:cTn id="42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185 L 0.33524 0.15139 E">
                                      <p:cBhvr>
                                        <p:cTn id="46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185 L 0.34549 0.22385 E">
                                      <p:cBhvr>
                                        <p:cTn id="50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32552 -0.21319 E">
                                      <p:cBhvr>
                                        <p:cTn id="55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6 L 0.31337 0.09098 E">
                                      <p:cBhvr>
                                        <p:cTn id="59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otify.wav"/>
                                        </p:tgtEl>
                                      </p:cMediaNode>
                                    </p:audio>
                                    <p:animMotion origin="layout" path="M 0.00659 0.01319 L 0.33177 -0.16528 E">
                                      <p:cBhvr>
                                        <p:cTn id="64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1366 L 0.31337 -0.01389 E">
                                      <p:cBhvr>
                                        <p:cTn id="68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Oval 4"/>
          <p:cNvSpPr/>
          <p:nvPr/>
        </p:nvSpPr>
        <p:spPr>
          <a:xfrm>
            <a:off x="1425600" y="1506600"/>
            <a:ext cx="1868400" cy="40464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"/>
          <p:cNvSpPr/>
          <p:nvPr/>
        </p:nvSpPr>
        <p:spPr>
          <a:xfrm>
            <a:off x="5748480" y="1506600"/>
            <a:ext cx="1868400" cy="404640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1766160" y="1909800"/>
            <a:ext cx="94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6298200" y="2071800"/>
            <a:ext cx="4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1665000" y="739800"/>
            <a:ext cx="50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>
            <a:off x="2502000" y="1982880"/>
            <a:ext cx="379404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3"/>
          <p:cNvSpPr/>
          <p:nvPr/>
        </p:nvSpPr>
        <p:spPr>
          <a:xfrm flipV="1">
            <a:off x="2502000" y="2258640"/>
            <a:ext cx="379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 flipV="1">
            <a:off x="2709720" y="2259000"/>
            <a:ext cx="358632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5"/>
          <p:cNvSpPr/>
          <p:nvPr/>
        </p:nvSpPr>
        <p:spPr>
          <a:xfrm>
            <a:off x="2709720" y="3738600"/>
            <a:ext cx="358632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6"/>
          <p:cNvSpPr/>
          <p:nvPr/>
        </p:nvSpPr>
        <p:spPr>
          <a:xfrm flipV="1">
            <a:off x="2709720" y="3401640"/>
            <a:ext cx="35863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 flipV="1">
            <a:off x="2709720" y="3402000"/>
            <a:ext cx="35863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2409840" y="180324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2408400" y="2421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2502000" y="28782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409840" y="3510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4"/>
          <p:cNvSpPr/>
          <p:nvPr/>
        </p:nvSpPr>
        <p:spPr>
          <a:xfrm>
            <a:off x="2563920" y="40608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2408400" y="45846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708120" y="5675400"/>
            <a:ext cx="82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. 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O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0.37656 0.03727 E">
                                      <p:cBhvr>
                                        <p:cTn id="96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9259E-006 L 0.37674 -0.05278 E">
                                      <p:cBhvr>
                                        <p:cTn id="101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37657 -0.11945 E">
                                      <p:cBhvr>
                                        <p:cTn id="10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0.38664 0.1 E">
                                      <p:cBhvr>
                                        <p:cTn id="111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3698 -0.12546 E">
                                      <p:cBhvr>
                                        <p:cTn id="11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5185E-006 L 0.38681 -0.20185 E">
                                      <p:cBhvr>
                                        <p:cTn id="121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Oval 4"/>
          <p:cNvSpPr/>
          <p:nvPr/>
        </p:nvSpPr>
        <p:spPr>
          <a:xfrm>
            <a:off x="160020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547992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3527640" y="7128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2223000" y="2286000"/>
            <a:ext cx="43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5962680" y="2017800"/>
            <a:ext cx="90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0480" y="1143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6069960" y="1143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>
            <a:off x="2932200" y="2286000"/>
            <a:ext cx="302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>
            <a:off x="2932200" y="2286000"/>
            <a:ext cx="30272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V="1">
            <a:off x="2932200" y="3348000"/>
            <a:ext cx="3027240" cy="72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8"/>
          <p:cNvSpPr/>
          <p:nvPr/>
        </p:nvSpPr>
        <p:spPr>
          <a:xfrm flipV="1">
            <a:off x="2932200" y="3859200"/>
            <a:ext cx="30272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9"/>
          <p:cNvSpPr/>
          <p:nvPr/>
        </p:nvSpPr>
        <p:spPr>
          <a:xfrm>
            <a:off x="2932200" y="4075200"/>
            <a:ext cx="302724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2535120" y="201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2617920" y="3857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268920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1310760" y="5097600"/>
            <a:ext cx="49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ONE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69 0.0125 L 0.34011 0.0125 E">
                                      <p:cBhvr>
                                        <p:cTn id="133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L 0.33004 -0.08912 E">
                                      <p:cBhvr>
                                        <p:cTn id="138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L 0.32327 0.04884 E">
                                      <p:cBhvr>
                                        <p:cTn id="143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0.04884 E">
                                      <p:cBhvr>
                                        <p:cTn id="14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-0.02824 E">
                                      <p:cBhvr>
                                        <p:cTn id="153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3"/>
          <p:cNvGrpSpPr/>
          <p:nvPr/>
        </p:nvGrpSpPr>
        <p:grpSpPr>
          <a:xfrm>
            <a:off x="2717640" y="2443320"/>
            <a:ext cx="1044720" cy="901080"/>
            <a:chOff x="2717640" y="2443320"/>
            <a:chExt cx="1044720" cy="901080"/>
          </a:xfrm>
        </p:grpSpPr>
        <p:sp>
          <p:nvSpPr>
            <p:cNvPr id="573" name="Line 4"/>
            <p:cNvSpPr/>
            <p:nvPr/>
          </p:nvSpPr>
          <p:spPr>
            <a:xfrm>
              <a:off x="2717640" y="2443320"/>
              <a:ext cx="104472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5"/>
            <p:cNvSpPr/>
            <p:nvPr/>
          </p:nvSpPr>
          <p:spPr>
            <a:xfrm>
              <a:off x="2717640" y="2873520"/>
              <a:ext cx="10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"/>
            <p:cNvSpPr/>
            <p:nvPr/>
          </p:nvSpPr>
          <p:spPr>
            <a:xfrm flipV="1">
              <a:off x="2717640" y="2873160"/>
              <a:ext cx="10447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2"/>
          <p:cNvGrpSpPr/>
          <p:nvPr/>
        </p:nvGrpSpPr>
        <p:grpSpPr>
          <a:xfrm>
            <a:off x="2533680" y="5106960"/>
            <a:ext cx="1920960" cy="546120"/>
            <a:chOff x="2533680" y="5106960"/>
            <a:chExt cx="1920960" cy="546120"/>
          </a:xfrm>
        </p:grpSpPr>
        <p:sp>
          <p:nvSpPr>
            <p:cNvPr id="577" name="Line 7"/>
            <p:cNvSpPr/>
            <p:nvPr/>
          </p:nvSpPr>
          <p:spPr>
            <a:xfrm>
              <a:off x="2533680" y="51069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8"/>
            <p:cNvSpPr/>
            <p:nvPr/>
          </p:nvSpPr>
          <p:spPr>
            <a:xfrm>
              <a:off x="2533680" y="526104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>
              <a:off x="2533680" y="54561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2533680" y="56530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4"/>
          <p:cNvSpPr txBox="1"/>
          <p:nvPr/>
        </p:nvSpPr>
        <p:spPr>
          <a:xfrm>
            <a:off x="266760" y="393840"/>
            <a:ext cx="662760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>
                    <a:alpha val="81000"/>
                  </a:srgbClr>
                </a:solidFill>
                <a:latin typeface="Times New Roman"/>
              </a:rPr>
              <a:t>Function - Domain and Range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>
                  <a:alpha val="81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96840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6"/>
          <p:cNvSpPr/>
          <p:nvPr/>
        </p:nvSpPr>
        <p:spPr>
          <a:xfrm>
            <a:off x="338148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677880" y="532620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134352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366120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"/>
          <p:cNvSpPr/>
          <p:nvPr/>
        </p:nvSpPr>
        <p:spPr>
          <a:xfrm flipV="1">
            <a:off x="1652760" y="2552760"/>
            <a:ext cx="20062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"/>
          <p:cNvSpPr/>
          <p:nvPr/>
        </p:nvSpPr>
        <p:spPr>
          <a:xfrm>
            <a:off x="1652760" y="3095640"/>
            <a:ext cx="2006280" cy="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5"/>
          <p:cNvSpPr/>
          <p:nvPr/>
        </p:nvSpPr>
        <p:spPr>
          <a:xfrm>
            <a:off x="1652760" y="3666960"/>
            <a:ext cx="200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6"/>
          <p:cNvSpPr/>
          <p:nvPr/>
        </p:nvSpPr>
        <p:spPr>
          <a:xfrm flipV="1">
            <a:off x="1652760" y="421920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7"/>
          <p:cNvSpPr/>
          <p:nvPr/>
        </p:nvSpPr>
        <p:spPr>
          <a:xfrm>
            <a:off x="1652760" y="474336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24"/>
          <p:cNvGrpSpPr/>
          <p:nvPr/>
        </p:nvGrpSpPr>
        <p:grpSpPr>
          <a:xfrm>
            <a:off x="3970440" y="2562120"/>
            <a:ext cx="1487520" cy="2190960"/>
            <a:chOff x="3970440" y="2562120"/>
            <a:chExt cx="1487520" cy="2190960"/>
          </a:xfrm>
        </p:grpSpPr>
        <p:sp>
          <p:nvSpPr>
            <p:cNvPr id="593" name="Line 18"/>
            <p:cNvSpPr/>
            <p:nvPr/>
          </p:nvSpPr>
          <p:spPr>
            <a:xfrm>
              <a:off x="3970440" y="2562120"/>
              <a:ext cx="148752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3970440" y="3114720"/>
              <a:ext cx="148752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 flipV="1">
              <a:off x="3970440" y="3543120"/>
              <a:ext cx="148752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 flipV="1">
              <a:off x="3970440" y="3543480"/>
              <a:ext cx="148752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 flipV="1">
              <a:off x="3970440" y="3543480"/>
              <a:ext cx="148752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23"/>
          <p:cNvSpPr/>
          <p:nvPr/>
        </p:nvSpPr>
        <p:spPr>
          <a:xfrm>
            <a:off x="5568480" y="3160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1897920" y="169380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70992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405288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5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9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3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2724120" y="344520"/>
            <a:ext cx="369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unctions - Notat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03" name="Object 7"/>
          <p:cNvGraphicFramePr/>
          <p:nvPr/>
        </p:nvGraphicFramePr>
        <p:xfrm>
          <a:off x="291960" y="1257480"/>
          <a:ext cx="2331900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257480"/>
                    <a:ext cx="233190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Text Box 8"/>
          <p:cNvSpPr/>
          <p:nvPr/>
        </p:nvSpPr>
        <p:spPr>
          <a:xfrm>
            <a:off x="830520" y="3652920"/>
            <a:ext cx="636696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apped o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j0297551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76120" y="1289160"/>
            <a:ext cx="1195560" cy="1823760"/>
          </a:xfrm>
          <a:prstGeom prst="rect">
            <a:avLst/>
          </a:prstGeom>
          <a:ln w="0">
            <a:noFill/>
          </a:ln>
        </p:spPr>
      </p:pic>
      <p:grpSp>
        <p:nvGrpSpPr>
          <p:cNvPr id="607" name="Group 9"/>
          <p:cNvGrpSpPr/>
          <p:nvPr/>
        </p:nvGrpSpPr>
        <p:grpSpPr>
          <a:xfrm>
            <a:off x="782640" y="149400"/>
            <a:ext cx="2952720" cy="1139760"/>
            <a:chOff x="782640" y="149400"/>
            <a:chExt cx="2952720" cy="1139760"/>
          </a:xfrm>
        </p:grpSpPr>
        <p:sp>
          <p:nvSpPr>
            <p:cNvPr id="608" name="AutoShape 6"/>
            <p:cNvSpPr/>
            <p:nvPr/>
          </p:nvSpPr>
          <p:spPr>
            <a:xfrm>
              <a:off x="782640" y="200160"/>
              <a:ext cx="2925720" cy="1089000"/>
            </a:xfrm>
            <a:prstGeom prst="wedgeRectCallout">
              <a:avLst>
                <a:gd name="adj1" fmla="val -49726"/>
                <a:gd name="adj2" fmla="val 8105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7"/>
            <p:cNvSpPr/>
            <p:nvPr/>
          </p:nvSpPr>
          <p:spPr>
            <a:xfrm>
              <a:off x="902880" y="149400"/>
              <a:ext cx="28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ts look at som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ques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8"/>
          <p:cNvSpPr/>
          <p:nvPr/>
        </p:nvSpPr>
        <p:spPr>
          <a:xfrm>
            <a:off x="2263680" y="1771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3"/>
          <p:cNvGrpSpPr/>
          <p:nvPr/>
        </p:nvGrpSpPr>
        <p:grpSpPr>
          <a:xfrm>
            <a:off x="2735280" y="1446120"/>
            <a:ext cx="3660480" cy="2138040"/>
            <a:chOff x="2735280" y="1446120"/>
            <a:chExt cx="3660480" cy="2138040"/>
          </a:xfrm>
        </p:grpSpPr>
        <p:sp>
          <p:nvSpPr>
            <p:cNvPr id="612" name="AutoShape 12"/>
            <p:cNvSpPr/>
            <p:nvPr/>
          </p:nvSpPr>
          <p:spPr>
            <a:xfrm>
              <a:off x="2735280" y="1446120"/>
              <a:ext cx="3660480" cy="21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"/>
            <p:cNvSpPr/>
            <p:nvPr/>
          </p:nvSpPr>
          <p:spPr>
            <a:xfrm>
              <a:off x="2832840" y="15674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29084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30153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313812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328428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355104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0"/>
            <p:cNvSpPr/>
            <p:nvPr/>
          </p:nvSpPr>
          <p:spPr>
            <a:xfrm>
              <a:off x="369900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1"/>
            <p:cNvSpPr/>
            <p:nvPr/>
          </p:nvSpPr>
          <p:spPr>
            <a:xfrm>
              <a:off x="3867840" y="153396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2"/>
            <p:cNvSpPr/>
            <p:nvPr/>
          </p:nvSpPr>
          <p:spPr>
            <a:xfrm>
              <a:off x="409248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3"/>
            <p:cNvSpPr/>
            <p:nvPr/>
          </p:nvSpPr>
          <p:spPr>
            <a:xfrm>
              <a:off x="43113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4"/>
            <p:cNvSpPr/>
            <p:nvPr/>
          </p:nvSpPr>
          <p:spPr>
            <a:xfrm>
              <a:off x="445932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5"/>
            <p:cNvSpPr/>
            <p:nvPr/>
          </p:nvSpPr>
          <p:spPr>
            <a:xfrm>
              <a:off x="46065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6"/>
            <p:cNvSpPr/>
            <p:nvPr/>
          </p:nvSpPr>
          <p:spPr>
            <a:xfrm>
              <a:off x="48272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49676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8"/>
            <p:cNvSpPr/>
            <p:nvPr/>
          </p:nvSpPr>
          <p:spPr>
            <a:xfrm>
              <a:off x="50727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9"/>
            <p:cNvSpPr/>
            <p:nvPr/>
          </p:nvSpPr>
          <p:spPr>
            <a:xfrm>
              <a:off x="519588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30"/>
            <p:cNvSpPr/>
            <p:nvPr/>
          </p:nvSpPr>
          <p:spPr>
            <a:xfrm>
              <a:off x="534204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31"/>
            <p:cNvSpPr/>
            <p:nvPr/>
          </p:nvSpPr>
          <p:spPr>
            <a:xfrm>
              <a:off x="56084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2"/>
            <p:cNvSpPr/>
            <p:nvPr/>
          </p:nvSpPr>
          <p:spPr>
            <a:xfrm>
              <a:off x="5841360" y="15339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3"/>
            <p:cNvSpPr/>
            <p:nvPr/>
          </p:nvSpPr>
          <p:spPr>
            <a:xfrm>
              <a:off x="603360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4"/>
            <p:cNvSpPr/>
            <p:nvPr/>
          </p:nvSpPr>
          <p:spPr>
            <a:xfrm>
              <a:off x="618228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5"/>
            <p:cNvSpPr/>
            <p:nvPr/>
          </p:nvSpPr>
          <p:spPr>
            <a:xfrm>
              <a:off x="3551040" y="261252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6"/>
            <p:cNvSpPr/>
            <p:nvPr/>
          </p:nvSpPr>
          <p:spPr>
            <a:xfrm>
              <a:off x="373284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7"/>
            <p:cNvSpPr/>
            <p:nvPr/>
          </p:nvSpPr>
          <p:spPr>
            <a:xfrm>
              <a:off x="381420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8"/>
            <p:cNvSpPr/>
            <p:nvPr/>
          </p:nvSpPr>
          <p:spPr>
            <a:xfrm>
              <a:off x="396216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9"/>
            <p:cNvSpPr/>
            <p:nvPr/>
          </p:nvSpPr>
          <p:spPr>
            <a:xfrm>
              <a:off x="418212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40"/>
            <p:cNvSpPr/>
            <p:nvPr/>
          </p:nvSpPr>
          <p:spPr>
            <a:xfrm>
              <a:off x="425952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1"/>
            <p:cNvSpPr/>
            <p:nvPr/>
          </p:nvSpPr>
          <p:spPr>
            <a:xfrm>
              <a:off x="436392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2"/>
            <p:cNvSpPr/>
            <p:nvPr/>
          </p:nvSpPr>
          <p:spPr>
            <a:xfrm>
              <a:off x="450468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3"/>
            <p:cNvSpPr/>
            <p:nvPr/>
          </p:nvSpPr>
          <p:spPr>
            <a:xfrm>
              <a:off x="3551040" y="31338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4"/>
            <p:cNvSpPr/>
            <p:nvPr/>
          </p:nvSpPr>
          <p:spPr>
            <a:xfrm>
              <a:off x="3732840" y="3133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5"/>
            <p:cNvSpPr/>
            <p:nvPr/>
          </p:nvSpPr>
          <p:spPr>
            <a:xfrm>
              <a:off x="381420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6"/>
            <p:cNvSpPr/>
            <p:nvPr/>
          </p:nvSpPr>
          <p:spPr>
            <a:xfrm>
              <a:off x="396216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7"/>
            <p:cNvSpPr/>
            <p:nvPr/>
          </p:nvSpPr>
          <p:spPr>
            <a:xfrm>
              <a:off x="41824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8"/>
            <p:cNvSpPr/>
            <p:nvPr/>
          </p:nvSpPr>
          <p:spPr>
            <a:xfrm>
              <a:off x="43210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9"/>
            <p:cNvSpPr/>
            <p:nvPr/>
          </p:nvSpPr>
          <p:spPr>
            <a:xfrm>
              <a:off x="44272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0"/>
            <p:cNvSpPr/>
            <p:nvPr/>
          </p:nvSpPr>
          <p:spPr>
            <a:xfrm>
              <a:off x="45658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5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1" descr=""/>
          <p:cNvPicPr/>
          <p:nvPr/>
        </p:nvPicPr>
        <p:blipFill>
          <a:blip r:embed="rId2"/>
          <a:stretch/>
        </p:blipFill>
        <p:spPr>
          <a:xfrm>
            <a:off x="254160" y="3711600"/>
            <a:ext cx="2435040" cy="6001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3"/>
          <p:cNvSpPr/>
          <p:nvPr/>
        </p:nvSpPr>
        <p:spPr>
          <a:xfrm>
            <a:off x="542880" y="3917880"/>
            <a:ext cx="27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4"/>
          <p:cNvSpPr/>
          <p:nvPr/>
        </p:nvSpPr>
        <p:spPr>
          <a:xfrm>
            <a:off x="1422360" y="3892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5"/>
          <p:cNvSpPr/>
          <p:nvPr/>
        </p:nvSpPr>
        <p:spPr>
          <a:xfrm>
            <a:off x="3076920" y="3825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6"/>
          <p:cNvSpPr/>
          <p:nvPr/>
        </p:nvSpPr>
        <p:spPr>
          <a:xfrm>
            <a:off x="17784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7"/>
          <p:cNvSpPr/>
          <p:nvPr/>
        </p:nvSpPr>
        <p:spPr>
          <a:xfrm>
            <a:off x="463860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61" descr=""/>
          <p:cNvPicPr/>
          <p:nvPr/>
        </p:nvPicPr>
        <p:blipFill>
          <a:blip r:embed="rId3"/>
          <a:stretch/>
        </p:blipFill>
        <p:spPr>
          <a:xfrm>
            <a:off x="4976640" y="3747960"/>
            <a:ext cx="2374920" cy="5637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63"/>
          <p:cNvSpPr/>
          <p:nvPr/>
        </p:nvSpPr>
        <p:spPr>
          <a:xfrm>
            <a:off x="5260680" y="4981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4"/>
          <p:cNvSpPr/>
          <p:nvPr/>
        </p:nvSpPr>
        <p:spPr>
          <a:xfrm>
            <a:off x="6702120" y="497196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5"/>
          <p:cNvSpPr/>
          <p:nvPr/>
        </p:nvSpPr>
        <p:spPr>
          <a:xfrm>
            <a:off x="7513560" y="388764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851 -0.1544 E">
                                      <p:cBhvr>
                                        <p:cTn id="337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4.81481E-006 L 0.0158 -0.1544 E">
                                      <p:cBhvr>
                                        <p:cTn id="349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 rot="1045200">
            <a:off x="290160" y="317160"/>
            <a:ext cx="36957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low Diagram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3"/>
          <a:stretch/>
        </p:blipFill>
        <p:spPr>
          <a:xfrm>
            <a:off x="295200" y="1994040"/>
            <a:ext cx="4168800" cy="3571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8"/>
          <p:cNvSpPr/>
          <p:nvPr/>
        </p:nvSpPr>
        <p:spPr>
          <a:xfrm>
            <a:off x="4806720" y="19242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606600" y="3468600"/>
            <a:ext cx="122364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0"/>
          <p:cNvSpPr/>
          <p:nvPr/>
        </p:nvSpPr>
        <p:spPr>
          <a:xfrm>
            <a:off x="539640" y="3429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1"/>
          <p:cNvSpPr/>
          <p:nvPr/>
        </p:nvSpPr>
        <p:spPr>
          <a:xfrm>
            <a:off x="1623600" y="324576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3"/>
          <p:cNvSpPr/>
          <p:nvPr/>
        </p:nvSpPr>
        <p:spPr>
          <a:xfrm>
            <a:off x="3073320" y="34354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4143960" y="3251880"/>
            <a:ext cx="1221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5"/>
          <p:cNvSpPr/>
          <p:nvPr/>
        </p:nvSpPr>
        <p:spPr>
          <a:xfrm>
            <a:off x="5388120" y="34354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6" descr=""/>
          <p:cNvPicPr/>
          <p:nvPr/>
        </p:nvPicPr>
        <p:blipFill>
          <a:blip r:embed="rId4"/>
          <a:stretch/>
        </p:blipFill>
        <p:spPr>
          <a:xfrm>
            <a:off x="3335400" y="3044880"/>
            <a:ext cx="209520" cy="2667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2" descr=""/>
          <p:cNvPicPr/>
          <p:nvPr/>
        </p:nvPicPr>
        <p:blipFill>
          <a:blip r:embed="rId5"/>
          <a:stretch/>
        </p:blipFill>
        <p:spPr>
          <a:xfrm>
            <a:off x="5651640" y="3138480"/>
            <a:ext cx="529920" cy="2649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23"/>
          <p:cNvSpPr/>
          <p:nvPr/>
        </p:nvSpPr>
        <p:spPr>
          <a:xfrm>
            <a:off x="4118040" y="37018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7" descr=""/>
          <p:cNvPicPr/>
          <p:nvPr/>
        </p:nvPicPr>
        <p:blipFill>
          <a:blip r:embed="rId6"/>
          <a:stretch/>
        </p:blipFill>
        <p:spPr>
          <a:xfrm>
            <a:off x="835200" y="31100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29" descr=""/>
          <p:cNvPicPr/>
          <p:nvPr/>
        </p:nvPicPr>
        <p:blipFill>
          <a:blip r:embed="rId7"/>
          <a:stretch/>
        </p:blipFill>
        <p:spPr>
          <a:xfrm>
            <a:off x="189000" y="4092480"/>
            <a:ext cx="4543200" cy="357120"/>
          </a:xfrm>
          <a:prstGeom prst="rect">
            <a:avLst/>
          </a:prstGeom>
          <a:ln w="0">
            <a:noFill/>
          </a:ln>
        </p:spPr>
      </p:pic>
      <p:sp>
        <p:nvSpPr>
          <p:cNvPr id="679" name="Line 31"/>
          <p:cNvSpPr/>
          <p:nvPr/>
        </p:nvSpPr>
        <p:spPr>
          <a:xfrm>
            <a:off x="423720" y="52372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34" descr=""/>
          <p:cNvPicPr/>
          <p:nvPr/>
        </p:nvPicPr>
        <p:blipFill>
          <a:blip r:embed="rId8"/>
          <a:stretch/>
        </p:blipFill>
        <p:spPr>
          <a:xfrm>
            <a:off x="808200" y="49118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6"/>
          <p:cNvSpPr/>
          <p:nvPr/>
        </p:nvSpPr>
        <p:spPr>
          <a:xfrm>
            <a:off x="1509120" y="506664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7"/>
          <p:cNvSpPr/>
          <p:nvPr/>
        </p:nvSpPr>
        <p:spPr>
          <a:xfrm>
            <a:off x="2994120" y="52498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8"/>
          <p:cNvSpPr/>
          <p:nvPr/>
        </p:nvSpPr>
        <p:spPr>
          <a:xfrm>
            <a:off x="4077360" y="506664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9"/>
          <p:cNvSpPr/>
          <p:nvPr/>
        </p:nvSpPr>
        <p:spPr>
          <a:xfrm>
            <a:off x="4889520" y="52372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0" descr=""/>
          <p:cNvPicPr/>
          <p:nvPr/>
        </p:nvPicPr>
        <p:blipFill>
          <a:blip r:embed="rId9"/>
          <a:stretch/>
        </p:blipFill>
        <p:spPr>
          <a:xfrm>
            <a:off x="3294000" y="4940280"/>
            <a:ext cx="209520" cy="2649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4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42" descr=""/>
          <p:cNvPicPr/>
          <p:nvPr/>
        </p:nvPicPr>
        <p:blipFill>
          <a:blip r:embed="rId10"/>
          <a:stretch/>
        </p:blipFill>
        <p:spPr>
          <a:xfrm>
            <a:off x="5137200" y="4925880"/>
            <a:ext cx="547560" cy="27468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44"/>
          <p:cNvSpPr/>
          <p:nvPr/>
        </p:nvSpPr>
        <p:spPr>
          <a:xfrm>
            <a:off x="5970240" y="5026680"/>
            <a:ext cx="91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5"/>
          <p:cNvSpPr/>
          <p:nvPr/>
        </p:nvSpPr>
        <p:spPr>
          <a:xfrm>
            <a:off x="6907320" y="522432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6" descr=""/>
          <p:cNvPicPr/>
          <p:nvPr/>
        </p:nvPicPr>
        <p:blipFill>
          <a:blip r:embed="rId11"/>
          <a:stretch/>
        </p:blipFill>
        <p:spPr>
          <a:xfrm>
            <a:off x="7005600" y="4897440"/>
            <a:ext cx="804960" cy="2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9:17:44Z</dcterms:created>
  <dc:creator>Jim Randle</dc:creator>
  <dc:description/>
  <dc:language>en-US</dc:language>
  <cp:lastModifiedBy>RomaK</cp:lastModifiedBy>
  <dcterms:modified xsi:type="dcterms:W3CDTF">2015-09-04T07:41:03Z</dcterms:modified>
  <cp:revision>33</cp:revision>
  <dc:subject/>
  <dc:title>Slide 1</dc:title>
</cp:coreProperties>
</file>