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3.jpeg" ContentType="image/jpeg"/>
  <Override PartName="/ppt/media/image12.png" ContentType="image/png"/>
  <Override PartName="/ppt/media/image21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2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png" ContentType="image/pn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F25A1-4867-4473-9E18-13A124FD6B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BD7ED-012B-48D8-A22D-F639EE8D569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urface Exploration of Mars: Past &amp; Fu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tian Meteor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tian Mo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tian Surface Expl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Viking Landers (early 80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hfinder (199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urface Explorers (three en route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ture of Martian Exploration (“astrobiology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2F20D-FAE6-4FBD-9C12-CF17DC8B9C2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rs has a very thin atmosphere and no magnetospher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f humans populated the Martian surface, what environment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blems will they be concerned about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al Warm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Solar flare particles and ultraviolet radi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Nitrogen poison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Lead contamination from volcano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Magnetic anomalies in the interior causing brain disor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B976E-EBD8-4142-AA86-E87C196BE77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s Pathfinder Mission – landed on Mars 4 July 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nstration mission f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ster Better Cheaper”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SA mant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lightweight airba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, efficient robo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hi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x as many images 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vious missions (compute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ded 500 miles fro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kings – flood plain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volcanic rocks with silic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B76E6-8E5E-4C3F-BEF1-3A463B84316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noramic View from Mars’ Pathfinder’s  Sojourner Rov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366EC-2A9D-427A-8256-153228CCB8E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HENA: MARS EXPLORATION ROVER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portunity &amp; Spirit (or MER A and MER B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HENA: MARS EXPLORATION ROVER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portunity &amp; Spirit (or MER A and MER B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unched in June and July of 20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ival at Mars – January 20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Rover weighs 180 kg, is ~5 ft hi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rface exploration: travels 100m per 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F08DC-5E2C-42DF-BD46-0FD47727572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ATHENA: MARS EXPLORATION RO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ATHENA: MARS EXPLORATION RO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18EB8-1B38-4167-9B06-D77FC351969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toon of the “airbag” landing of the Mars Exploration Rovers on su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9D881-4BFD-4ABF-B0C9-CA02142DC00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osing a site to land on M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not just land anywhere – need to consider the safety of the vessel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AC95F-1A3A-455B-9F14-0AEBDCC7924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s Landing Conside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r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altitude (impossible climbs, fal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slopes (use too much energ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rockiness (protect airb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ar panel heating – keep rover oper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solar panels cl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RAT tool works more in thick du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4B784-AF4E-4961-959B-20035016BE3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ience Objectives of the MER 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ze a variety of rocks and soils that hold clues to past water activ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.e. try to identify carbonates (indicate water-volcano cycles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ribution and composition of minerals, rocks, and soils near si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e geologic processes have shaped the local terra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form "ground truth"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ibration and validation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surface observations ma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Mars orbiter instru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110B6-1E9F-409A-A735-4DED6876F96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s Exploration RoMars Exploration Rover:  Science Instr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:  Science Instr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Panca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tereo cam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IR Spectromet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 rock com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X-ray Spectromet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 soil and rock chemis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RA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 rock abrasion t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Microscopic imag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search for fossils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B5A22-6367-4E87-BD07-B7FBB5D07FC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rtian Meteori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these “meteorites”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ual rocks found in Antarct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id they get to Eart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mpact on Mars (crater size: 10-100 km) ej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 of the Martian su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know these meteorites are from Ma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composition does not match usual meteori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1.3 billion yrs old (most asteroid-type meteori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CH older); Higher content of volatile subst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aren’t they orange – the color of Mars surfa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to do with how the rocks weathe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A1482-2F88-487D-9811-2472218A888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nding Sites on Mars: 1. Gusev Crater - morphologic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15 degrees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t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f Mars’ equ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large crater feature with several ‘channels’ leading into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water may have pooled in crater during first 2 billion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62E39-6423-46C9-BEA8-E3D1EC29E13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nding Sites on Mars: 2. Meridiani Planum - mineralogic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degrees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t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f Mars’ equ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other side of planet from Landing Si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lace where hematite has been found (rust-like mineral) 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s that it is a former dried lake b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DCADE-BBBA-4F17-8D65-3A1AF304D0D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s Express – European Eff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8F8E9-74AD-420C-9E24-FD055159608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S EXP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S EXP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unched June 20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ar instrument (MARSIS) built at University of Iowa (Prof. D. Gurnett, P.I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instruments, including a small rover called “Beagle 2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849FB-0C2D-43EB-91DB-3C17002D351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S EXPRESS: Radar Experi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ar reflection signal of water is very different from ro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hoes can differentiate between rock and ice or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ar transmitter operates at 1-2 MHz  and penetrates ground to several km dep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ably cannot distinguish between CO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nd H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8DDE7-716E-44A4-90EF-891940CC741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BD2FC-FDFC-49BD-B56C-5588159DF7C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Mars Surface Exploration – the Futu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3B22F-1BB8-4CA8-93B6-9765D402FD9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Mars Surface Exploration – the Futu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DBA1A-E9B8-47F7-A463-C786BEBFAAC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ture Mars Exploration: “Scout Mission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weight/efficient ball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eet of small aircraft to explore Ma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 new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SAMPLE RETU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A0C30-FE5D-4376-9F72-6D687924AD8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tian Outpost: 20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A60A6-3340-427E-AC89-B9555481313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99"/>
                </a:solidFill>
                <a:latin typeface="Arial"/>
              </a:rPr>
              <a:t>What DO they tell u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al processes on M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ust/core developed early in Solar Syste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canism until &lt; 1 Billion Years 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com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than normal asteroid (meteorite) com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action with </a:t>
            </a:r>
            <a:r>
              <a:rPr b="0" i="1" lang="en-US" sz="1200" spc="-1" strike="noStrike">
                <a:solidFill>
                  <a:srgbClr val="009999"/>
                </a:solidFill>
                <a:latin typeface="Arial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tian atmosphere com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N’T they tell u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tion of origin (on Mars – which part of surface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ough about Mars’ water &amp; at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actually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RETUR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OCKS from Mars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se Study: Martian Rock ALH840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.9 k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gneous Ro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overed in Antarctica (easier to find) 19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ed on Mars 4.5 Billion yr 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jected ~16 Million yr 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ded ~13,000 yr 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8F0AD-F68F-472E-B478-4965366272B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E212A-6253-4981-A93D-CEE97820BB4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versial – microbial presence in meteorites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strobiology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xciting field of research – study of origin of life in the solar system,unive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LIFE IS UBIQUITOUS in the universe – we just haven’t found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LIFE IS A SPECIAL quirk of nature and timing – very very ra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985C6-49E8-46FF-9F00-72AAE29AC96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tian Mo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moons: Deimos, Phob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(~20km) irregularly shap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bit Mars in 8hr, 30h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ably captured astero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108D4-5625-424A-A6CA-D5AD2EBDF72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sks of Solar System Mis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</a:rPr>
              <a:t>PROS for Space Mi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osest views of the plan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at are pos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cess to wavelengths that are unavailable on the gr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mospheric effects gone – get clearer views than on Ear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velopment of sophisticated tech. and resea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</a:rPr>
              <a:t>CONS for Space Mi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 Unicode MS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not fix/test equipment as eas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 Unicode MS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rge risk with rocket laun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 Unicode MS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ch much more costly! (although more costly for manned than unmann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 Unicode MS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fetime is usually shor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 Unicode MS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grades much more difficu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 Unicode MS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s from UV radiation, cosmic r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76890-80C5-4898-8495-5234B44CE0E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king Landers 1 and 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king 1 launched in August of 1975, Viking 2 launched in Sept. 19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kings arrived at Mars in June, August of 19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biter + Lander – Orbiters alone weighed close to a ½ ton each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very expensive launch/rocket equipment 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hese days NASA’s mantra: “Faster Better Cheaper”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10037-10B0-48A2-B72B-8BF6708E117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king Lander Images of Mars’ Su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ding site chosen from Orbiter images – two different regions in Northern Lowlan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ealed that the surface of Mars was littered with jagged rocks and fine dust everyw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cks were probably result of crater-forming impact (“ejecta”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cks resemble lava-rocks on Earth – lava flows broken up by imp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A6F98-0E90-4C8E-BDEA-341DD6B3628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king Landers: Search for Life on M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cience Instrument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 lab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o explore reactions of Mars rock with water (none detect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oop arm with magnet –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ound that the soil was IRON-ri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ined to study only one part of Martian surface – its landing 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pired NASA to propose f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ssions with MOVING su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hicles –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Pathfinder 1997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F5E3-B886-4F43-BF52-C93D4D916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9E71-6EAC-4491-82C3-A21433A6D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75FA-D51F-4F3B-ABA4-1CC9FE0D3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8F87-1749-44E8-AD3B-B0975AE11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5AFA-AAF9-41B7-9253-A04B52734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4994-2559-4F45-9AB4-079572496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74CF-906A-482C-A6A5-C2B95993C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8BC8-47FC-4BDD-B799-80CD1D32D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673B-92D8-488B-9234-29005FA2E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936F-BB53-46E5-BEC1-F75ECC6DA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F80B-58E1-4F28-B98C-1FC1A0CBA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740A-4FDE-4E7F-A5DF-ED5A4B8E1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 Sept 20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 C. La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78EAC-06C2-471F-9E4A-28B376C72F5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 Sept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Місце для нижнього колонтитула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 C. La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D2DA5-953D-4C2F-A222-F96ED3ADBDB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Text Box 2"/>
          <p:cNvSpPr/>
          <p:nvPr/>
        </p:nvSpPr>
        <p:spPr>
          <a:xfrm>
            <a:off x="380880" y="228600"/>
            <a:ext cx="838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99"/>
                </a:solidFill>
                <a:uFillTx/>
                <a:latin typeface="Times New Roman"/>
              </a:rPr>
              <a:t>Surface Exploration of Mars: Past &amp; Futu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1364400" y="1143000"/>
            <a:ext cx="6863400" cy="41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Martian Meteori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Martian Mo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Martian Surface Explor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Viking Landers (early 80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thfinder (1997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urrent Surface Explorers (three en route!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uture of Martian Exploration (“astrobiology”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1373760" y="5105520"/>
            <a:ext cx="26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Review of Ma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 Sept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Місце для нижнього колонтитула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 C. La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C7F69-785F-41D0-BB80-BD48D7BC89B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Rectangle 2"/>
          <p:cNvSpPr/>
          <p:nvPr/>
        </p:nvSpPr>
        <p:spPr>
          <a:xfrm>
            <a:off x="228600" y="531720"/>
            <a:ext cx="8763120" cy="15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Mars has a very thin atmosphere and no magnetospher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f humans populated the Martian surface, what environmental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problems will they be concerned about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990720" y="1981080"/>
            <a:ext cx="7238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lobal Warm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2) Solar flare particles and ultraviolet radiat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3) Nitrogen poisoning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4) Lead contamination from volcano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5) Magnetic anomalies in the interior causing brain disord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Місце для дати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 Sept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 C. La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6B626-D299-4605-B372-E8D787D7D2A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Picture 5" descr="pathfinder"/>
          <p:cNvPicPr/>
          <p:nvPr/>
        </p:nvPicPr>
        <p:blipFill>
          <a:blip r:embed="rId1"/>
          <a:stretch/>
        </p:blipFill>
        <p:spPr>
          <a:xfrm>
            <a:off x="304920" y="1143000"/>
            <a:ext cx="5410080" cy="524196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6"/>
          <p:cNvSpPr/>
          <p:nvPr/>
        </p:nvSpPr>
        <p:spPr>
          <a:xfrm>
            <a:off x="531360" y="380880"/>
            <a:ext cx="803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rs Pathfinder Mission – landed on Mars 4 July 1997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5934240" y="1347840"/>
            <a:ext cx="33127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monstration mission f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aster Better Cheaper”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ASA mantr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ed lightweight airbag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o lan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mall, efficient roboti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vehic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0x as many images 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evious missions (compu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anded 500 miles from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Vikings – flood plain are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volcanic rocks with silicon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Місце для дати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 Sept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 C. La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469DA-3A02-4ADE-A98C-FC81A9D97F9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Picture 3" descr="mars_pathfinder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393048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4"/>
          <p:cNvSpPr/>
          <p:nvPr/>
        </p:nvSpPr>
        <p:spPr>
          <a:xfrm>
            <a:off x="1137600" y="5334120"/>
            <a:ext cx="752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noramic View from Mars’ Pathfinder’s  Sojourner Rove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Місце для дати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 Sept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 C. La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Місце для номера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740C8-9B78-443C-B472-3E9ED5D9A8D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HENA: MARS EXPLORATION ROVERS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pportunity &amp; Spirit (or MER A and MER B) 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49" name="Picture 3" descr="Image 5"/>
          <p:cNvPicPr/>
          <p:nvPr/>
        </p:nvPicPr>
        <p:blipFill>
          <a:blip r:embed="rId1"/>
          <a:stretch/>
        </p:blipFill>
        <p:spPr>
          <a:xfrm>
            <a:off x="2895480" y="1447920"/>
            <a:ext cx="5715000" cy="42717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150" name="Text Box 4"/>
          <p:cNvSpPr/>
          <p:nvPr/>
        </p:nvSpPr>
        <p:spPr>
          <a:xfrm>
            <a:off x="0" y="1523880"/>
            <a:ext cx="297180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unched in June and July of 200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rrival at Mars – January 200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ach Rover weighs 180 kg, is ~5 ft hig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rface exploration: travels 100m per d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Comment 5"/>
          <p:cNvSpPr/>
          <p:nvPr/>
        </p:nvSpPr>
        <p:spPr>
          <a:xfrm>
            <a:off x="3581280" y="1981080"/>
            <a:ext cx="898560" cy="33732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v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Line 6"/>
          <p:cNvSpPr/>
          <p:nvPr/>
        </p:nvSpPr>
        <p:spPr>
          <a:xfrm>
            <a:off x="4572000" y="2438280"/>
            <a:ext cx="762120" cy="685800"/>
          </a:xfrm>
          <a:prstGeom prst="line">
            <a:avLst/>
          </a:prstGeom>
          <a:ln w="2844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Місце для дати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 Sept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 C. La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Місце для номера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483B2-A738-40EE-8A5C-070B09DE117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HENA: MARS EXPLORATION ROVER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57" name="Picture 3" descr="chart"/>
          <p:cNvPicPr/>
          <p:nvPr/>
        </p:nvPicPr>
        <p:blipFill>
          <a:blip r:embed="rId1"/>
          <a:stretch/>
        </p:blipFill>
        <p:spPr>
          <a:xfrm>
            <a:off x="0" y="0"/>
            <a:ext cx="9144000" cy="6594480"/>
          </a:xfrm>
          <a:prstGeom prst="rect">
            <a:avLst/>
          </a:prstGeom>
          <a:ln w="0">
            <a:noFill/>
          </a:ln>
        </p:spPr>
      </p:pic>
      <p:sp>
        <p:nvSpPr>
          <p:cNvPr id="158" name="Comment 4"/>
          <p:cNvSpPr/>
          <p:nvPr/>
        </p:nvSpPr>
        <p:spPr>
          <a:xfrm>
            <a:off x="457200" y="5943600"/>
            <a:ext cx="2362320" cy="70380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rs Rover Entry Seque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9" name="Picture 5" descr="edl_06"/>
          <p:cNvPicPr/>
          <p:nvPr/>
        </p:nvPicPr>
        <p:blipFill>
          <a:blip r:embed="rId2"/>
          <a:stretch/>
        </p:blipFill>
        <p:spPr>
          <a:xfrm>
            <a:off x="5486400" y="457200"/>
            <a:ext cx="3657600" cy="27050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Місце для дати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 Sept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 C. La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Місце для номера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E6280-2BAB-49D2-83B3-308B3281AF4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3" name="Picture 7" descr="mer_airbag"/>
          <p:cNvPicPr/>
          <p:nvPr/>
        </p:nvPicPr>
        <p:blipFill>
          <a:blip r:embed="rId1"/>
          <a:stretch/>
        </p:blipFill>
        <p:spPr>
          <a:xfrm>
            <a:off x="533520" y="457200"/>
            <a:ext cx="7924680" cy="591012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9"/>
          <p:cNvSpPr/>
          <p:nvPr/>
        </p:nvSpPr>
        <p:spPr>
          <a:xfrm>
            <a:off x="982800" y="685800"/>
            <a:ext cx="70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artoon of the “airbag” landing of the Mars Exploration Rovers on surfa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 Sept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Місце для нижнього колонтитула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 C. La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FB797-605F-440F-BABC-3FB7269A6DA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1828080" y="304920"/>
            <a:ext cx="470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oosing a site to land on Ma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9" name="Picture 5" descr="mola_landscape"/>
          <p:cNvPicPr/>
          <p:nvPr/>
        </p:nvPicPr>
        <p:blipFill>
          <a:blip r:embed="rId1"/>
          <a:stretch/>
        </p:blipFill>
        <p:spPr>
          <a:xfrm>
            <a:off x="304920" y="914400"/>
            <a:ext cx="8458200" cy="433548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6"/>
          <p:cNvSpPr/>
          <p:nvPr/>
        </p:nvSpPr>
        <p:spPr>
          <a:xfrm>
            <a:off x="371520" y="5486400"/>
            <a:ext cx="878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n not just land anywhere – need to consider the safety of the vessel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1735920" y="5919840"/>
            <a:ext cx="600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previous missions have landed in the northern lowlan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 Sept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Місце для нижнього колонтитула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 C. La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D96C6-BFE9-4AD9-866D-7E79D93B058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Text Box 2"/>
          <p:cNvSpPr/>
          <p:nvPr/>
        </p:nvSpPr>
        <p:spPr>
          <a:xfrm>
            <a:off x="2212560" y="254160"/>
            <a:ext cx="561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Times New Roman"/>
              </a:rPr>
              <a:t>Mars Landing Considerati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762120" y="1447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1190880" y="1147680"/>
            <a:ext cx="74973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terra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altitude (impossible climbs, fall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slopes (use too much energy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rockiness (protect airbag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solar panel heating – keep rover opera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du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solar panels cle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RAT tool works more in thick du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 Sept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Місце для нижнього колонтитула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 C. La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2B758-6FBF-4502-AF19-E916C483032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Text Box 4"/>
          <p:cNvSpPr/>
          <p:nvPr/>
        </p:nvSpPr>
        <p:spPr>
          <a:xfrm>
            <a:off x="1213560" y="304920"/>
            <a:ext cx="668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Science Objectives of the MER mi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Text Box 5"/>
          <p:cNvSpPr/>
          <p:nvPr/>
        </p:nvSpPr>
        <p:spPr>
          <a:xfrm>
            <a:off x="803520" y="1081080"/>
            <a:ext cx="822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haracterize a variety of rocks and soils that hold clues to past water activity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.e. try to identify carbonates (indicate water-volcano cycles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Rectangle 6"/>
          <p:cNvSpPr/>
          <p:nvPr/>
        </p:nvSpPr>
        <p:spPr>
          <a:xfrm>
            <a:off x="818280" y="2056320"/>
            <a:ext cx="73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istribution and composition of minerals, rocks, and soils near sit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Rectangle 7"/>
          <p:cNvSpPr/>
          <p:nvPr/>
        </p:nvSpPr>
        <p:spPr>
          <a:xfrm>
            <a:off x="838080" y="2742120"/>
            <a:ext cx="640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termine geologic processes have shaped the local terrai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Rectangle 8"/>
          <p:cNvSpPr/>
          <p:nvPr/>
        </p:nvSpPr>
        <p:spPr>
          <a:xfrm>
            <a:off x="906840" y="3427920"/>
            <a:ext cx="3227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erform "ground truth" –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alibration and validation –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f surface observations mad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y Mars orbiter instruments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6" name="Picture 9" descr="rover1_400"/>
          <p:cNvPicPr/>
          <p:nvPr/>
        </p:nvPicPr>
        <p:blipFill>
          <a:blip r:embed="rId1"/>
          <a:stretch/>
        </p:blipFill>
        <p:spPr>
          <a:xfrm>
            <a:off x="4648320" y="3352680"/>
            <a:ext cx="3962160" cy="31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Місце для дати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 Sept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 C. La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Місце для номера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E88DA-93A6-4A90-86CA-483FDC47D21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rs Exploration Rover:  Science Instrument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533520" y="1981080"/>
            <a:ext cx="2209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0" y="1828800"/>
            <a:ext cx="3124080" cy="31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Pancam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Stereo camer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IR Spectrometer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- rock composi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X-ray Spectrometer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- soil and rock chemist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RAT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- rock abrasion too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Microscopic imager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(search for fossils?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3" name="Picture 6" descr="rover_labelled"/>
          <p:cNvPicPr/>
          <p:nvPr/>
        </p:nvPicPr>
        <p:blipFill>
          <a:blip r:embed="rId1"/>
          <a:stretch/>
        </p:blipFill>
        <p:spPr>
          <a:xfrm>
            <a:off x="2971800" y="1012680"/>
            <a:ext cx="6172200" cy="52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Місце для дати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 Sept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 C. La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D42C2-9ECF-411D-9DEE-137CBC7889F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7" name="Picture 2" descr="9904microbes05sml"/>
          <p:cNvPicPr/>
          <p:nvPr/>
        </p:nvPicPr>
        <p:blipFill>
          <a:blip r:embed="rId1"/>
          <a:stretch/>
        </p:blipFill>
        <p:spPr>
          <a:xfrm>
            <a:off x="762120" y="990720"/>
            <a:ext cx="2819160" cy="1736640"/>
          </a:xfrm>
          <a:prstGeom prst="rect">
            <a:avLst/>
          </a:prstGeom>
          <a:ln w="0">
            <a:noFill/>
          </a:ln>
        </p:spPr>
      </p:pic>
      <p:sp>
        <p:nvSpPr>
          <p:cNvPr id="58" name="Text Box 3"/>
          <p:cNvSpPr/>
          <p:nvPr/>
        </p:nvSpPr>
        <p:spPr>
          <a:xfrm>
            <a:off x="0" y="3200400"/>
            <a:ext cx="396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What are these “meteorites”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2590920" y="228600"/>
            <a:ext cx="42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artian Meteori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0" name="Picture 5" descr="meteorite"/>
          <p:cNvPicPr/>
          <p:nvPr/>
        </p:nvPicPr>
        <p:blipFill>
          <a:blip r:embed="rId2"/>
          <a:stretch/>
        </p:blipFill>
        <p:spPr>
          <a:xfrm>
            <a:off x="5486400" y="990720"/>
            <a:ext cx="2533680" cy="17334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6"/>
          <p:cNvSpPr/>
          <p:nvPr/>
        </p:nvSpPr>
        <p:spPr>
          <a:xfrm>
            <a:off x="228600" y="5715000"/>
            <a:ext cx="563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Why aren’t they orange – the color of Mars surface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304920" y="380988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How did they get to Earth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304920" y="4419720"/>
            <a:ext cx="563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How do we know these meteorites are from Mars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3870720" y="1220760"/>
            <a:ext cx="145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artian da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without go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ere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Text Box 10"/>
          <p:cNvSpPr/>
          <p:nvPr/>
        </p:nvSpPr>
        <p:spPr>
          <a:xfrm>
            <a:off x="3565440" y="3236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Text Box 11"/>
          <p:cNvSpPr/>
          <p:nvPr/>
        </p:nvSpPr>
        <p:spPr>
          <a:xfrm>
            <a:off x="3579840" y="327816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Unusual rocks found in Antarctic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Text Box 12"/>
          <p:cNvSpPr/>
          <p:nvPr/>
        </p:nvSpPr>
        <p:spPr>
          <a:xfrm>
            <a:off x="3499560" y="3886200"/>
            <a:ext cx="49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n impact on Mars (crater size: 10-100 km) eject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art of the Martian surfa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Text Box 13"/>
          <p:cNvSpPr/>
          <p:nvPr/>
        </p:nvSpPr>
        <p:spPr>
          <a:xfrm>
            <a:off x="3499200" y="4724280"/>
            <a:ext cx="525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hemical composition does not match usual meteorit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Only 1.3 billion yrs old (most asteroid-type meteorit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UCH older); Higher content of volatile substan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Text Box 14"/>
          <p:cNvSpPr/>
          <p:nvPr/>
        </p:nvSpPr>
        <p:spPr>
          <a:xfrm>
            <a:off x="5103000" y="6095880"/>
            <a:ext cx="386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Has to do with how the rocks weather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Місце для дати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 Sept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 C. La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BC464-4F0E-4BC9-A958-97C82B4C5A4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Text Box 2"/>
          <p:cNvSpPr/>
          <p:nvPr/>
        </p:nvSpPr>
        <p:spPr>
          <a:xfrm>
            <a:off x="533520" y="304920"/>
            <a:ext cx="861048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nding Sites on Mars: 1. Gusev Crater - morphologic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- 15 degrees 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South</a:t>
            </a: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 of Mars’ equ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- large crater feature with several ‘channels’ leading into i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- water may have pooled in crater during first 2 billion yea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8" name="Picture 3" descr="landing_spots"/>
          <p:cNvPicPr/>
          <p:nvPr/>
        </p:nvPicPr>
        <p:blipFill>
          <a:blip r:embed="rId1"/>
          <a:stretch/>
        </p:blipFill>
        <p:spPr>
          <a:xfrm>
            <a:off x="2057400" y="1905120"/>
            <a:ext cx="5486400" cy="438948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4"/>
          <p:cNvSpPr/>
          <p:nvPr/>
        </p:nvSpPr>
        <p:spPr>
          <a:xfrm>
            <a:off x="5409720" y="4724280"/>
            <a:ext cx="14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channel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Місце для дати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 Sept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 C. La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406D5-2ADD-4D09-B3ED-5A80A97F59C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Text Box 2"/>
          <p:cNvSpPr/>
          <p:nvPr/>
        </p:nvSpPr>
        <p:spPr>
          <a:xfrm>
            <a:off x="228600" y="228600"/>
            <a:ext cx="891540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nding Sites on Mars: 2. Meridiani Planum - mineralogic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2 degrees 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South</a:t>
            </a: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 of Mars’ equ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- other side of planet from Landing Site 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- place where hematite has been found (rust-like mineral) – </a:t>
            </a: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indicates that it is a former dried lake b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4" name="Picture 5" descr="hematiteMap2"/>
          <p:cNvPicPr/>
          <p:nvPr/>
        </p:nvPicPr>
        <p:blipFill>
          <a:blip r:embed="rId1"/>
          <a:stretch/>
        </p:blipFill>
        <p:spPr>
          <a:xfrm>
            <a:off x="457200" y="2209680"/>
            <a:ext cx="4010040" cy="42674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6" descr="landing_two"/>
          <p:cNvPicPr/>
          <p:nvPr/>
        </p:nvPicPr>
        <p:blipFill>
          <a:blip r:embed="rId2"/>
          <a:stretch/>
        </p:blipFill>
        <p:spPr>
          <a:xfrm>
            <a:off x="4572000" y="3048120"/>
            <a:ext cx="441972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Місце для дати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 Sept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 C. La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102A0-893C-4B05-BC80-03430D11B14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Text Box 3"/>
          <p:cNvSpPr/>
          <p:nvPr/>
        </p:nvSpPr>
        <p:spPr>
          <a:xfrm>
            <a:off x="304920" y="22860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rs Express – European Effo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0" name="Picture 5" descr="mars_express"/>
          <p:cNvPicPr/>
          <p:nvPr/>
        </p:nvPicPr>
        <p:blipFill>
          <a:blip r:embed="rId1"/>
          <a:stretch/>
        </p:blipFill>
        <p:spPr>
          <a:xfrm>
            <a:off x="685800" y="914400"/>
            <a:ext cx="7848720" cy="589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Місце для дати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 Sept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 C. La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Місце для номера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57086-AD0E-4B96-B964-7B796ECBAB2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ARS EXPRESS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215" name="Picture 4" descr="30815"/>
          <p:cNvPicPr/>
          <p:nvPr/>
        </p:nvPicPr>
        <p:blipFill>
          <a:blip r:embed="rId1"/>
          <a:stretch/>
        </p:blipFill>
        <p:spPr>
          <a:xfrm>
            <a:off x="3733920" y="1447920"/>
            <a:ext cx="5143320" cy="51433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216" name="Text Box 5"/>
          <p:cNvSpPr/>
          <p:nvPr/>
        </p:nvSpPr>
        <p:spPr>
          <a:xfrm>
            <a:off x="0" y="1447920"/>
            <a:ext cx="350532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unched June 200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adar instrument (MARSIS) built at University of Iowa (Prof. D. Gurnett, P.I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ther instruments, including a small rover called “Beagle 2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Місце для дати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 Sept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 C. La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Місце для номера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06C08-1465-4C52-BE9F-3E90656D5E9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ARS EXPRESS: Radar Experiment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1" name="Text Box 3"/>
          <p:cNvSpPr/>
          <p:nvPr/>
        </p:nvSpPr>
        <p:spPr>
          <a:xfrm>
            <a:off x="0" y="1600200"/>
            <a:ext cx="3505320" cy="36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adar reflection signal of water is very different from roc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choes can differentiate between rock and ice or wat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adar transmitter operates at 1-2 MHz  and penetrates ground to several km dept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obably cannot distinguish between CO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and H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0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2" name="Picture 4" descr="30818"/>
          <p:cNvPicPr/>
          <p:nvPr/>
        </p:nvPicPr>
        <p:blipFill>
          <a:blip r:embed="rId1"/>
          <a:stretch/>
        </p:blipFill>
        <p:spPr>
          <a:xfrm>
            <a:off x="3733920" y="1295280"/>
            <a:ext cx="5143320" cy="51436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Місце для дати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 Sept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 C. La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Місце для номера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49829-29E9-495A-847A-A8363746DCB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6" name="Picture 3" descr="21915_-4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Місце для дати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 Sept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 C. La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Місце для номера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A0954-A296-46B2-8D03-669501B6B0D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0" name="Picture 2" descr="maccas"/>
          <p:cNvPicPr/>
          <p:nvPr/>
        </p:nvPicPr>
        <p:blipFill>
          <a:blip r:embed="rId1"/>
          <a:stretch/>
        </p:blipFill>
        <p:spPr>
          <a:xfrm>
            <a:off x="228600" y="228600"/>
            <a:ext cx="8474040" cy="635472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3"/>
          <p:cNvSpPr/>
          <p:nvPr/>
        </p:nvSpPr>
        <p:spPr>
          <a:xfrm>
            <a:off x="1592280" y="380880"/>
            <a:ext cx="669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Mars Surface Exploration – the Future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Місце для дати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 Sept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 C. La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Місце для номера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D4B04-60D9-464C-AE55-F2D2E38A14B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5" name="Picture 2" descr="martians2"/>
          <p:cNvPicPr/>
          <p:nvPr/>
        </p:nvPicPr>
        <p:blipFill>
          <a:blip r:embed="rId1"/>
          <a:stretch/>
        </p:blipFill>
        <p:spPr>
          <a:xfrm>
            <a:off x="1219320" y="1295280"/>
            <a:ext cx="7016760" cy="5276880"/>
          </a:xfrm>
          <a:prstGeom prst="rect">
            <a:avLst/>
          </a:prstGeom>
          <a:ln w="0">
            <a:noFill/>
          </a:ln>
        </p:spPr>
      </p:pic>
      <p:sp>
        <p:nvSpPr>
          <p:cNvPr id="236" name="Text Box 3"/>
          <p:cNvSpPr/>
          <p:nvPr/>
        </p:nvSpPr>
        <p:spPr>
          <a:xfrm>
            <a:off x="1440000" y="380880"/>
            <a:ext cx="669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Mars Surface Exploration – the Future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Місце для дати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 Sept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 C. La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Місце для номера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682E6-D229-4409-BD99-EDD396A6027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Text Box 3"/>
          <p:cNvSpPr/>
          <p:nvPr/>
        </p:nvSpPr>
        <p:spPr>
          <a:xfrm>
            <a:off x="679320" y="304920"/>
            <a:ext cx="728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Mars Exploration: “Scout Missions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1" name="Picture 5" descr="balloons_mars"/>
          <p:cNvPicPr/>
          <p:nvPr/>
        </p:nvPicPr>
        <p:blipFill>
          <a:blip r:embed="rId1"/>
          <a:stretch/>
        </p:blipFill>
        <p:spPr>
          <a:xfrm>
            <a:off x="1066680" y="1219320"/>
            <a:ext cx="1764000" cy="518148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10" descr="mars_airplanes"/>
          <p:cNvPicPr/>
          <p:nvPr/>
        </p:nvPicPr>
        <p:blipFill>
          <a:blip r:embed="rId2"/>
          <a:stretch/>
        </p:blipFill>
        <p:spPr>
          <a:xfrm>
            <a:off x="3657600" y="2743200"/>
            <a:ext cx="4857840" cy="3352680"/>
          </a:xfrm>
          <a:prstGeom prst="rect">
            <a:avLst/>
          </a:prstGeom>
          <a:ln w="0">
            <a:noFill/>
          </a:ln>
        </p:spPr>
      </p:pic>
      <p:sp>
        <p:nvSpPr>
          <p:cNvPr id="243" name="Text Box 13"/>
          <p:cNvSpPr/>
          <p:nvPr/>
        </p:nvSpPr>
        <p:spPr>
          <a:xfrm>
            <a:off x="4029120" y="1042920"/>
            <a:ext cx="4216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ightweight/efficient ballon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leet of small aircraft to explore Mar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velop new technolog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lso SAMPLE RETUR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Місце для дати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 Sept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 C. La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Місце для номера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047A1-A330-4CEC-B231-2F34502CD72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7" name="Picture 6" descr="mars_outpost"/>
          <p:cNvPicPr/>
          <p:nvPr/>
        </p:nvPicPr>
        <p:blipFill>
          <a:blip r:embed="rId1"/>
          <a:stretch/>
        </p:blipFill>
        <p:spPr>
          <a:xfrm>
            <a:off x="1752480" y="304920"/>
            <a:ext cx="6248520" cy="624816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8"/>
          <p:cNvSpPr/>
          <p:nvPr/>
        </p:nvSpPr>
        <p:spPr>
          <a:xfrm>
            <a:off x="2057400" y="53352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rtian Outpost: 203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Місце для дати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 Sept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 C. La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FBD39-8E13-42D7-BE63-22FD23BDDE4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3" name="Picture 2" descr="9904microbes05sml"/>
          <p:cNvPicPr/>
          <p:nvPr/>
        </p:nvPicPr>
        <p:blipFill>
          <a:blip r:embed="rId1"/>
          <a:stretch/>
        </p:blipFill>
        <p:spPr>
          <a:xfrm>
            <a:off x="533520" y="4343400"/>
            <a:ext cx="3276360" cy="20178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3"/>
          <p:cNvSpPr/>
          <p:nvPr/>
        </p:nvSpPr>
        <p:spPr>
          <a:xfrm>
            <a:off x="1828800" y="380988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Case Study: Martian Rock ALH8400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Text Box 4"/>
          <p:cNvSpPr/>
          <p:nvPr/>
        </p:nvSpPr>
        <p:spPr>
          <a:xfrm>
            <a:off x="3958560" y="4573440"/>
            <a:ext cx="4395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ass = 1.9 k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gneous Roc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iscovered in Antarctica (easier to find) 198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ormed on Mars 4.5 Billion yr ag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jected ~16 Million yr ag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anded ~13,000 yr ag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531720" y="304920"/>
            <a:ext cx="298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What DO they tell us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379440" y="2362320"/>
            <a:ext cx="349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What DON’T they tell us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Text Box 7"/>
          <p:cNvSpPr/>
          <p:nvPr/>
        </p:nvSpPr>
        <p:spPr>
          <a:xfrm>
            <a:off x="3353400" y="458640"/>
            <a:ext cx="60375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hysical processes on Ma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rust/core developed early in Solar System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Volcanism until &lt; 1 Billion Years ag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hemical composi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ifferent than normal asteroid (meteorite) com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nteraction with </a:t>
            </a:r>
            <a:r>
              <a:rPr b="0" i="1" lang="en-US" sz="1800" spc="-1" strike="noStrike">
                <a:solidFill>
                  <a:srgbClr val="00ffff"/>
                </a:solidFill>
                <a:latin typeface="Times New Roman"/>
              </a:rPr>
              <a:t>wat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artian atmosphere composi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Text Box 8"/>
          <p:cNvSpPr/>
          <p:nvPr/>
        </p:nvSpPr>
        <p:spPr>
          <a:xfrm>
            <a:off x="3925440" y="2514600"/>
            <a:ext cx="522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ocation of origin (on Mars – which part of surface?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nough about Mars’ water &amp; atmosphe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eed to actually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ROCKS from Mars!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Місце для дати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 Sept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 C. La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Місце для номера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A7384-6905-4244-894E-B56D8BA5C5A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2" name="Picture 4" descr="mars_explore"/>
          <p:cNvPicPr/>
          <p:nvPr/>
        </p:nvPicPr>
        <p:blipFill>
          <a:blip r:embed="rId1"/>
          <a:stretch/>
        </p:blipFill>
        <p:spPr>
          <a:xfrm>
            <a:off x="0" y="457200"/>
            <a:ext cx="86868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 Sept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Місце для нижнього колонтитула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 C. La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BE6C5-3362-49DB-BCD2-FD1ED2943ED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3" name="Picture 2" descr="9904microbes06sml"/>
          <p:cNvPicPr/>
          <p:nvPr/>
        </p:nvPicPr>
        <p:blipFill>
          <a:blip r:embed="rId1"/>
          <a:stretch/>
        </p:blipFill>
        <p:spPr>
          <a:xfrm>
            <a:off x="609480" y="1143000"/>
            <a:ext cx="3581640" cy="2468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pic>
        <p:nvPicPr>
          <p:cNvPr id="84" name="Picture 3" descr="9904microbes07sml"/>
          <p:cNvPicPr/>
          <p:nvPr/>
        </p:nvPicPr>
        <p:blipFill>
          <a:blip r:embed="rId2"/>
          <a:stretch/>
        </p:blipFill>
        <p:spPr>
          <a:xfrm>
            <a:off x="4800600" y="1219320"/>
            <a:ext cx="3809880" cy="23889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85" name="Text Box 4"/>
          <p:cNvSpPr/>
          <p:nvPr/>
        </p:nvSpPr>
        <p:spPr>
          <a:xfrm>
            <a:off x="533520" y="380988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Globules of carbonate minerals (the yellow-orange grains) are scattered along cracks in this small chip of ALH 84001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4343400" y="3809880"/>
            <a:ext cx="43434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he rims contain iron oxides (including magnetite) and iron sulfides--incompatible minerals that on Earth would suggest microbial action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7" name="Picture 6" descr=""/>
          <p:cNvPicPr/>
          <p:nvPr/>
        </p:nvPicPr>
        <p:blipFill>
          <a:blip r:embed="rId3"/>
          <a:stretch/>
        </p:blipFill>
        <p:spPr>
          <a:xfrm>
            <a:off x="1066680" y="838080"/>
            <a:ext cx="6782040" cy="4570560"/>
          </a:xfrm>
          <a:prstGeom prst="rect">
            <a:avLst/>
          </a:prstGeom>
          <a:ln w="0">
            <a:noFill/>
          </a:ln>
        </p:spPr>
      </p:pic>
      <p:sp>
        <p:nvSpPr>
          <p:cNvPr id="88" name="Text Box 7"/>
          <p:cNvSpPr/>
          <p:nvPr/>
        </p:nvSpPr>
        <p:spPr>
          <a:xfrm>
            <a:off x="836640" y="228600"/>
            <a:ext cx="741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Controversial – microbial presence in meteorites?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1447920" y="1066680"/>
            <a:ext cx="807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Times New Roman"/>
              </a:rPr>
              <a:t>Close up views reveal structure similar to Earth microbes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Text Box 9"/>
          <p:cNvSpPr/>
          <p:nvPr/>
        </p:nvSpPr>
        <p:spPr>
          <a:xfrm>
            <a:off x="371160" y="5562720"/>
            <a:ext cx="8655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Astrobiology: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exciting field of research – study of origin of life in the solar system,univer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- LIFE IS UBIQUITOUS in the universe – we just haven’t found i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- LIFE IS A SPECIAL quirk of nature and timing – very very rare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Місце для дати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 Sept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 C. La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B6590-A258-44C9-B8F4-8518FE81957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4" name="Picture 2" descr="f854a81-3"/>
          <p:cNvPicPr/>
          <p:nvPr/>
        </p:nvPicPr>
        <p:blipFill>
          <a:blip r:embed="rId1"/>
          <a:stretch/>
        </p:blipFill>
        <p:spPr>
          <a:xfrm>
            <a:off x="609480" y="609480"/>
            <a:ext cx="4637160" cy="5181840"/>
          </a:xfrm>
          <a:prstGeom prst="rect">
            <a:avLst/>
          </a:prstGeom>
          <a:ln w="0">
            <a:noFill/>
          </a:ln>
        </p:spPr>
      </p:pic>
      <p:sp>
        <p:nvSpPr>
          <p:cNvPr id="95" name="Text Box 3"/>
          <p:cNvSpPr/>
          <p:nvPr/>
        </p:nvSpPr>
        <p:spPr>
          <a:xfrm>
            <a:off x="990720" y="60958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hobos (20 km x 27 km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6" name="Group 4"/>
          <p:cNvGrpSpPr/>
          <p:nvPr/>
        </p:nvGrpSpPr>
        <p:grpSpPr>
          <a:xfrm>
            <a:off x="5715000" y="3276720"/>
            <a:ext cx="3200400" cy="3358800"/>
            <a:chOff x="5715000" y="3276720"/>
            <a:chExt cx="3200400" cy="3358800"/>
          </a:xfrm>
        </p:grpSpPr>
        <p:pic>
          <p:nvPicPr>
            <p:cNvPr id="97" name="Picture 5" descr="Eros Feb 25 2000"/>
            <p:cNvPicPr/>
            <p:nvPr/>
          </p:nvPicPr>
          <p:blipFill>
            <a:blip r:embed="rId2"/>
            <a:stretch/>
          </p:blipFill>
          <p:spPr>
            <a:xfrm>
              <a:off x="6248520" y="3276720"/>
              <a:ext cx="2230200" cy="243828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98" name="Text Box 6"/>
            <p:cNvSpPr/>
            <p:nvPr/>
          </p:nvSpPr>
          <p:spPr>
            <a:xfrm>
              <a:off x="5715000" y="5850000"/>
              <a:ext cx="32004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Comparison: Asteroid Eros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33 km x 13 km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9" name="Text Box 7"/>
          <p:cNvSpPr/>
          <p:nvPr/>
        </p:nvSpPr>
        <p:spPr>
          <a:xfrm>
            <a:off x="5562720" y="22860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rtian Mo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0" name="Group 8"/>
          <p:cNvGrpSpPr/>
          <p:nvPr/>
        </p:nvGrpSpPr>
        <p:grpSpPr>
          <a:xfrm>
            <a:off x="533520" y="1523880"/>
            <a:ext cx="4762440" cy="3324240"/>
            <a:chOff x="533520" y="1523880"/>
            <a:chExt cx="4762440" cy="3324240"/>
          </a:xfrm>
        </p:grpSpPr>
        <p:pic>
          <p:nvPicPr>
            <p:cNvPr id="101" name="Picture 9" descr="Deimos"/>
            <p:cNvPicPr/>
            <p:nvPr/>
          </p:nvPicPr>
          <p:blipFill>
            <a:blip r:embed="rId3"/>
            <a:stretch/>
          </p:blipFill>
          <p:spPr>
            <a:xfrm>
              <a:off x="533520" y="1523880"/>
              <a:ext cx="4762440" cy="332424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02" name="Text Box 10"/>
            <p:cNvSpPr/>
            <p:nvPr/>
          </p:nvSpPr>
          <p:spPr>
            <a:xfrm>
              <a:off x="4038480" y="434340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Deimo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3" name="Text Box 11"/>
          <p:cNvSpPr/>
          <p:nvPr/>
        </p:nvSpPr>
        <p:spPr>
          <a:xfrm>
            <a:off x="5486400" y="990720"/>
            <a:ext cx="365760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moons: Deimos, Phob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mall (~20km) irregularly shaped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rbit Mars in 8hr, 30h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obably captured asteroi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Місце для дати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 Sept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Місце для нижнього колонтитула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 C. La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Місце для номера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A43F6-017D-4B62-94A6-50417FADBCE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Text Box 2"/>
          <p:cNvSpPr/>
          <p:nvPr/>
        </p:nvSpPr>
        <p:spPr>
          <a:xfrm>
            <a:off x="1449000" y="228600"/>
            <a:ext cx="599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Times New Roman"/>
              </a:rPr>
              <a:t>Risks of Solar System Missi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80520" y="1218960"/>
            <a:ext cx="403884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ff"/>
                </a:solidFill>
                <a:uFillTx/>
                <a:latin typeface="Times New Roman"/>
              </a:rPr>
              <a:t>PROS for Space Miss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losest views of the plane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at are possi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ccess to wavelengths that are unavailable on the grou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tmospheric effects gone – get clearer views than on Ear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velopment of sophisticated tech. and researc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48320" y="106668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ff"/>
                </a:solidFill>
                <a:uFillTx/>
                <a:latin typeface="Times New Roman"/>
              </a:rPr>
              <a:t>CONS for Space Miss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 Unicode MS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an not fix/test equipment as easi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 Unicode MS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arge risk with rocket launc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 Unicode MS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uch much more costly! (although more costly for manned than unmanne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 Unicode MS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ifetime is usually shor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 Unicode MS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pgrades much more difficul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 Unicode MS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isks from UV radiation, cosmic ray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10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10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Місце для дати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 Sept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 C. La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899A5-E620-4C66-9630-D74F5C9FF3B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1905120" y="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iking Landers 1 and 2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Picture 12" descr="viking_lander_model"/>
          <p:cNvPicPr/>
          <p:nvPr/>
        </p:nvPicPr>
        <p:blipFill>
          <a:blip r:embed="rId1"/>
          <a:stretch/>
        </p:blipFill>
        <p:spPr>
          <a:xfrm>
            <a:off x="990720" y="685800"/>
            <a:ext cx="6933960" cy="429084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13"/>
          <p:cNvSpPr/>
          <p:nvPr/>
        </p:nvSpPr>
        <p:spPr>
          <a:xfrm>
            <a:off x="1195920" y="5219640"/>
            <a:ext cx="6812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Viking 1 launched in August of 1975, Viking 2 launched in Sept. 197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Vikings arrived at Mars in June, August of 197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Orbiter + Lander – Orbiters alone weighed close to a ½ ton each –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very expensive launch/rocket equipment !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- these days NASA’s mantra: “Faster Better Cheaper”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Місце для дати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 Sept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 C. La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3758D-0689-4894-85CA-E024A7A9EEC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1143000" y="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iking Lander Images of Mars’ Surf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0" name="Picture 5" descr="viking_lander_image"/>
          <p:cNvPicPr/>
          <p:nvPr/>
        </p:nvPicPr>
        <p:blipFill>
          <a:blip r:embed="rId1"/>
          <a:stretch/>
        </p:blipFill>
        <p:spPr>
          <a:xfrm>
            <a:off x="152280" y="1066680"/>
            <a:ext cx="4572000" cy="321480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6"/>
          <p:cNvSpPr/>
          <p:nvPr/>
        </p:nvSpPr>
        <p:spPr>
          <a:xfrm>
            <a:off x="380880" y="4876920"/>
            <a:ext cx="861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anding site chosen from Orbiter images – two different regions in Northern Lowland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evealed that the surface of Mars was littered with jagged rocks and fine dust everywhe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ocks were probably result of crater-forming impact (“ejecta”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ocks resemble lava-rocks on Earth – lava flows broken up by impac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Picture 7" descr="viking_lander"/>
          <p:cNvPicPr/>
          <p:nvPr/>
        </p:nvPicPr>
        <p:blipFill>
          <a:blip r:embed="rId2"/>
          <a:stretch/>
        </p:blipFill>
        <p:spPr>
          <a:xfrm>
            <a:off x="4800600" y="76212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Місце для дати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 Sept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 C. La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7F096-0A97-41A7-BEAF-ABC83B4853F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1143000" y="22860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iking Landers: Search for Life on Ma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4952880" y="1143000"/>
            <a:ext cx="3886200" cy="47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Science Instrument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chem lab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to explore reactions of Mars rock with water (none detected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scoop arm with magnet –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found that the soil was IRON-ric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nfined to study only one part of Martian surface – its landing si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spired NASA to propose f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issions with MOVING surfa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vehicles –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Pathfinder 1997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Picture 7" descr="viking"/>
          <p:cNvPicPr/>
          <p:nvPr/>
        </p:nvPicPr>
        <p:blipFill>
          <a:blip r:embed="rId1"/>
          <a:stretch/>
        </p:blipFill>
        <p:spPr>
          <a:xfrm>
            <a:off x="838080" y="1752480"/>
            <a:ext cx="3733920" cy="30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5T04:35:25Z</dcterms:created>
  <dc:creator>clang</dc:creator>
  <dc:description/>
  <dc:language>en-US</dc:language>
  <cp:lastModifiedBy>LEGION</cp:lastModifiedBy>
  <dcterms:modified xsi:type="dcterms:W3CDTF">2015-09-04T07:51:13Z</dcterms:modified>
  <cp:revision>13</cp:revision>
  <dc:subject/>
  <dc:title>Slide 1</dc:title>
</cp:coreProperties>
</file>