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1A65-4286-4387-A90D-BB494652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F109-DBA0-4A0F-9BA7-1AB84ED420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rface Exploration of Mars: Past &amp;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Surf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 Landers (early 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finder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urface Explorers (three en rou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Martian Exploration (“astrobiolog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D652-2C5B-4949-A0B6-F559B88D0C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s has a very thin atmosphere and no magnetosp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humans populated the Martian surface, what enviro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 will they be concerned abo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Solar flare particles and ultraviolet rad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Nitrogen poiso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Lead contamination from volcano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Magnetic anomalies in the interior causing brain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D51C-7391-4EBC-87B1-81E84F6D96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Pathfinder Mission – landed on Mars 4 July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miss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Better Cheap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man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lightweight airb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effici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x as many image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issions (compu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500 mile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– flood pla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olcanic rocks with silic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3143-EE80-4B99-8DBE-E27A2AA301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oramic View from Mars’ Pathfinder’s  Sojourner R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BEF4-A178-4A9D-BFB6-62EA57B8A0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in June and July of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l at Mars –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over weighs 180 kg, is ~5 ft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 exploration: travels 100m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D8F-C43B-450E-A4C7-6C0ABDEB7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59C3-812E-43B9-BCF8-D16652D394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oon of the “airbag” landing of the Mars Exploration Rovers o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D3D4-913B-429F-9425-B4DD3F9EC8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ing a site to land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not just land anywhere – need to consider the safety of the vess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FEEA-CDEB-4821-8A1A-AD3F5D359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Landing Consi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titude (impossible climbs,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pes (use too much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ckiness (protect airb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anel heating – keep rover 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lar panel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 tool works more in thick 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3660-63BF-4CC8-ADFA-F0907B3DAE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Objectives of the MER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a variety of rocks and soils that hold clues to past water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try to identify carbonates (indicate water-volcano cycl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and composition of minerals, rocks, and soils near s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eologic processes have shaped the local ter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"ground truth"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 and valid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urface observations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ars orbiter instru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DAFF-0308-4806-A494-24BC568D34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loration RoMars Exploration Ro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anc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r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R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X-ray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oil and rock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abrasion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icroscopic im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arch for fossils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FD76-21C1-4B85-A150-311C436F51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se “meteorite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rocks found in Antarc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y get to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act on Mars (crater size: 10-100 km) 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Martia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se meteorites are from M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 does not match usual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.3 billion yrs old (most asteroid-type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lder); Higher content of volatile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n’t they orange – the color of Mars sur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o do with how the rocks we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B6E1-6476-4B4A-9CF9-1F88B915D7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1. Gusev Crater - morp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5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crater feature with several ‘channels’ leading in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may have pooled in crater during first 2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AABE-B5F8-42C8-AE4D-34B2E5253B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2. Meridiani Planum - minera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side of planet from Landing Si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lace where hematite has been found (rust-like mineral)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at it is a former dried lake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F067-AC8B-4F84-A6B3-5E58693C8C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Express – European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5DF3-7202-43F2-8437-0AB3657F36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June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instrument (MARSIS) built at University of Iowa (Prof. D. Gurnett, P.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, including a small rover called “Beagle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C9D2-B863-46A5-8473-B135686968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: Rada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reflection signal of water is very different from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hoes can differentiate between rock and ice o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transmitter operates at 1-2 MHz  and penetrates ground to several km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nnot distinguish between 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6F14-EA4D-4914-9FF5-5B0F864B8D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73EC-F7B6-4337-9391-15667B3C20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C85D-A448-40D5-8D87-194915E500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4105-9E29-4EE0-AB38-8E0A0D5241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Mars Exploration: “Scout Miss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/efficient ball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t of small aircraft to explore M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new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AMPLE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9C8C-EA02-49D2-9891-BC318271BA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Outpost: 20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30F4-D756-416C-85BD-B4506D54AD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What DO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cesses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st/core developed early in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canism until &lt; 1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han normal asteroid (meteorite)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 with 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atmosphere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N’T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origin (on Mars – which part of surfac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about Mars’ water &amp;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ctuall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CKS from Mar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: Martian Rock ALH84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.9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Antarctica (easier to find)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d on Mars 4.5 B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cted ~16 M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~13,000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C035-292B-4A20-966D-2E5BF8BF98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12DC-29A6-4104-981D-957FD9DF9E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 – microbial presence in meteorit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robiolog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citing field of research – study of origin of life in the solar system,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UBIQUITOUS in the universe – we just haven’t foun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A SPECIAL quirk of nature and timing – very very ra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13C3-87F2-4088-8A3C-BD089BC513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ons: Deimos, Pho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(~20km) irregularly sha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 Mars in 8hr, 30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ptured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9B3-85C8-4887-8CCB-AEF22A34C2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s of Solar System 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32CE-BAEC-4A35-92B8-7B2B1BBADF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 1 and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1 launched in August of 1975, Viking 2 launched in Sept. 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arrived at Mars in June, August of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er + Lander – Orbiters alone weighed close to a ½ ton eac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ry expensive launch/rocket equipment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se days NASA’s mantra: “Faster Better Cheaper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54C9-4CCE-43AB-B4A0-8785A53127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 Images of Mars’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 site chosen from Orbiter images – two different regions in Northern Lowl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aled that the surface of Mars was littered with jagged rocks and fine dus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were probably result of crater-forming impact (“eject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resemble lava-rocks on Earth – lava flows broken up by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649A-D5EE-4682-9CA5-58C4204094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: Search for Life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ience Instrum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xplore reactions of Mars rock with water (none det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op arm with magnet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und that the soil was IRON-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to study only one part of Martian surface – its la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d NASA to propos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s with MOVING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thfinder 1997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1D9-E92B-4F35-AA31-A6A12378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E3E-290F-4CB3-A04F-C6E548CA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F12-EF79-46CD-9D6F-6A2EEDF8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B07-BC9E-4225-A89C-A7586EEA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DE5-C941-47A2-A621-223369A9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DEA-C9C6-4B0B-BB2A-F42D09A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2B7-4135-4FAB-A537-1C8FE31C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BF4-E860-4D13-A6B3-25DE811C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2B3-82C1-4F5E-B5D6-66EAD583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F8A-4BF2-4EB7-A44E-9B636C2F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B8DE-0AA0-4D10-B4DC-5356513D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B50-C3C2-43CB-9037-64EAEE80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E371-0BE3-4E7D-95C1-8D820BBAAD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93C3-B412-4270-8315-E9FF7F935B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urface Exploration of Mars: Past &amp; Fu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64400" y="1143000"/>
            <a:ext cx="6863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eteo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o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Surface Expl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king Landers (early 80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finder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Surface Explorers (three en route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of Martian Exploration (“astrobiology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73760" y="5105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view of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0CAB-C6FF-4284-A044-A7F419FA0D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90720" y="198108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B1BF-5FE3-490D-9540-D9F367BAA0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pathfinder"/>
          <p:cNvPicPr/>
          <p:nvPr/>
        </p:nvPicPr>
        <p:blipFill>
          <a:blip r:embed="rId1"/>
          <a:stretch/>
        </p:blipFill>
        <p:spPr>
          <a:xfrm>
            <a:off x="304920" y="114300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1360" y="380880"/>
            <a:ext cx="80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Pathfinder Mission – landed on Mars 4 July 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934240" y="1347840"/>
            <a:ext cx="331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ion mission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r Better Cheaper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SA man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lightweight airb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, efficient rob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x as many images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missions (compu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ed 500 miles fro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kings – flood plain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olcanic rocks with silic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2468-82BF-42BC-869D-9131A5F46D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mars_pathfinder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137600" y="533412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oramic View from Mars’ Pathfinder’s  Sojourner Rov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FF52-AE2E-4AE4-8589-DE37CD63CB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A: MARS EXPLORATION ROV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&amp; Spirit (or MER A and MER B)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9" name="Picture 3" descr="Image 5"/>
          <p:cNvPicPr/>
          <p:nvPr/>
        </p:nvPicPr>
        <p:blipFill>
          <a:blip r:embed="rId1"/>
          <a:stretch/>
        </p:blipFill>
        <p:spPr>
          <a:xfrm>
            <a:off x="2895480" y="1447920"/>
            <a:ext cx="5715000" cy="427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0" y="1523880"/>
            <a:ext cx="29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in June and July of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ival at Mars – Januar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Rover weighs 180 kg, is ~5 ft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exploration: travels 100m p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Comment 5"/>
          <p:cNvSpPr/>
          <p:nvPr/>
        </p:nvSpPr>
        <p:spPr>
          <a:xfrm>
            <a:off x="3581280" y="1981080"/>
            <a:ext cx="8985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572000" y="2438280"/>
            <a:ext cx="762120" cy="6858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6D4D-C2A0-4656-ACA9-E8353801F0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594480"/>
          </a:xfrm>
          <a:prstGeom prst="rect">
            <a:avLst/>
          </a:prstGeom>
          <a:ln w="0">
            <a:noFill/>
          </a:ln>
        </p:spPr>
      </p:pic>
      <p:sp>
        <p:nvSpPr>
          <p:cNvPr id="158" name="Comment 4"/>
          <p:cNvSpPr/>
          <p:nvPr/>
        </p:nvSpPr>
        <p:spPr>
          <a:xfrm>
            <a:off x="457200" y="5943600"/>
            <a:ext cx="2362320" cy="703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s Rover Entry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edl_06"/>
          <p:cNvPicPr/>
          <p:nvPr/>
        </p:nvPicPr>
        <p:blipFill>
          <a:blip r:embed="rId2"/>
          <a:stretch/>
        </p:blipFill>
        <p:spPr>
          <a:xfrm>
            <a:off x="5486400" y="457200"/>
            <a:ext cx="3657600" cy="27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484D-DEC8-4AC1-BF50-7E037614A1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mer_airba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910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982800" y="68580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toon of the “airbag” landing of the Mars Exploration Rovers o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FED5-1BCB-4829-9904-750ED0B8F1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28080" y="3049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ing a site to land on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mola_landscape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335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71520" y="548640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not just land anywhere – need to consider the safety of the vesse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35920" y="591984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evious missions have landed in the northern low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1772-E5E1-4530-BC04-66824B19E5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12560" y="25416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Mars Landing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621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90880" y="1147680"/>
            <a:ext cx="749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ltitude (impossible climbs, fa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lopes (use too much ener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ockiness (protect airba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lar panel heating – keep rover op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olar panels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AT tool works more in thick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BBFF-4DC6-4988-AF41-079719EBB5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13560" y="304920"/>
            <a:ext cx="66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cience Objectives of the MER 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03520" y="1081080"/>
            <a:ext cx="82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ze a variety of rocks and soils that hold clues to past water activ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.e. try to identify carbonates (indicate water-volcano cycle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818280" y="2056320"/>
            <a:ext cx="73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ion and composition of minerals, rocks, and soils near si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838080" y="27421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geologic processes have shaped the local terra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906840" y="3427920"/>
            <a:ext cx="322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 "ground truth"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ibration and validation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surface observation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Mars orbiter instrume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rover1_400"/>
          <p:cNvPicPr/>
          <p:nvPr/>
        </p:nvPicPr>
        <p:blipFill>
          <a:blip r:embed="rId1"/>
          <a:stretch/>
        </p:blipFill>
        <p:spPr>
          <a:xfrm>
            <a:off x="4648320" y="3352680"/>
            <a:ext cx="3962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CFFE-CCB3-4CB1-AEBA-145B3DB746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Exploration Rover:  Science Instru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981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1828800"/>
            <a:ext cx="3124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anca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tereo c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IR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X-ray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oil and rock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abrasion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icroscopic ima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search for fossils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rover_labelled"/>
          <p:cNvPicPr/>
          <p:nvPr/>
        </p:nvPicPr>
        <p:blipFill>
          <a:blip r:embed="rId1"/>
          <a:stretch/>
        </p:blipFill>
        <p:spPr>
          <a:xfrm>
            <a:off x="2971800" y="1012680"/>
            <a:ext cx="61722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2CE3-7DFF-423E-91DD-2BCAB88401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2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E572-9F96-4326-80F7-3D9A51ED19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304920"/>
            <a:ext cx="861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1. Gusev Crater - morpho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15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large crater feature with several ‘channels’ leading in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water may have pooled in crater during first 2 billion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3" descr="landing_spots"/>
          <p:cNvPicPr/>
          <p:nvPr/>
        </p:nvPicPr>
        <p:blipFill>
          <a:blip r:embed="rId1"/>
          <a:stretch/>
        </p:blipFill>
        <p:spPr>
          <a:xfrm>
            <a:off x="2057400" y="190512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5409720" y="47242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ann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CFA-519D-4141-9359-376E569C68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8600" y="228600"/>
            <a:ext cx="8915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2. Meridiani Planum - minera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2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other side of planet from Landing 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place where hematite has been found (rust-like mineral) –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ndicates that it is a former dried lake b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hematiteMap2"/>
          <p:cNvPicPr/>
          <p:nvPr/>
        </p:nvPicPr>
        <p:blipFill>
          <a:blip r:embed="rId1"/>
          <a:stretch/>
        </p:blipFill>
        <p:spPr>
          <a:xfrm>
            <a:off x="457200" y="2209680"/>
            <a:ext cx="4010040" cy="4267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landing_two"/>
          <p:cNvPicPr/>
          <p:nvPr/>
        </p:nvPicPr>
        <p:blipFill>
          <a:blip r:embed="rId2"/>
          <a:stretch/>
        </p:blipFill>
        <p:spPr>
          <a:xfrm>
            <a:off x="4572000" y="3048120"/>
            <a:ext cx="4419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7C9D-1012-4FC1-BD8F-6E237DBEA7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Express – Europea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mars_express"/>
          <p:cNvPicPr/>
          <p:nvPr/>
        </p:nvPicPr>
        <p:blipFill>
          <a:blip r:embed="rId1"/>
          <a:stretch/>
        </p:blipFill>
        <p:spPr>
          <a:xfrm>
            <a:off x="685800" y="914400"/>
            <a:ext cx="78487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450-AC5C-43EA-8B45-32F230650B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4" descr="30815"/>
          <p:cNvPicPr/>
          <p:nvPr/>
        </p:nvPicPr>
        <p:blipFill>
          <a:blip r:embed="rId1"/>
          <a:stretch/>
        </p:blipFill>
        <p:spPr>
          <a:xfrm>
            <a:off x="3733920" y="1447920"/>
            <a:ext cx="5143320" cy="51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6" name="Text Box 5"/>
          <p:cNvSpPr/>
          <p:nvPr/>
        </p:nvSpPr>
        <p:spPr>
          <a:xfrm>
            <a:off x="0" y="144792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ar instrument (MARSIS) built at University of Iowa (Prof. D. Gurnett, P.I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instruments, including a small rover called “Beagle 2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E328-0999-4232-8BE2-54DAFD3802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: Radar Experimen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1600200"/>
            <a:ext cx="350532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reflection signal of water is very different from r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hoes can differentiate between rock and ice or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transmitter operates at 1-2 MHz  and penetrates ground to several km dep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nnot distinguish between 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30818"/>
          <p:cNvPicPr/>
          <p:nvPr/>
        </p:nvPicPr>
        <p:blipFill>
          <a:blip r:embed="rId1"/>
          <a:stretch/>
        </p:blipFill>
        <p:spPr>
          <a:xfrm>
            <a:off x="3733920" y="1295280"/>
            <a:ext cx="5143320" cy="5143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9082-FB17-475D-9471-6A16F5EEBA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3" descr="21915_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16ED-6F3C-41CB-A7B0-439FBC2CF6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2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59228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F9D5-F0D8-4B0D-B84A-087C3F4B68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44000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33AB-31D9-4B3D-A221-D51579E1C5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79320" y="304920"/>
            <a:ext cx="72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Mars Exploration: “Scout Mi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balloons_mars"/>
          <p:cNvPicPr/>
          <p:nvPr/>
        </p:nvPicPr>
        <p:blipFill>
          <a:blip r:embed="rId1"/>
          <a:stretch/>
        </p:blipFill>
        <p:spPr>
          <a:xfrm>
            <a:off x="1066680" y="1219320"/>
            <a:ext cx="1764000" cy="518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ars_airplanes"/>
          <p:cNvPicPr/>
          <p:nvPr/>
        </p:nvPicPr>
        <p:blipFill>
          <a:blip r:embed="rId2"/>
          <a:stretch/>
        </p:blipFill>
        <p:spPr>
          <a:xfrm>
            <a:off x="3657600" y="2743200"/>
            <a:ext cx="4857840" cy="3352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3"/>
          <p:cNvSpPr/>
          <p:nvPr/>
        </p:nvSpPr>
        <p:spPr>
          <a:xfrm>
            <a:off x="4029120" y="1042920"/>
            <a:ext cx="42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weight/efficient ball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et of small aircraft to explore Ma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new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so SAMPLE RETU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830F-9F07-4825-899E-44754CFD44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6" descr="mars_outpost"/>
          <p:cNvPicPr/>
          <p:nvPr/>
        </p:nvPicPr>
        <p:blipFill>
          <a:blip r:embed="rId1"/>
          <a:stretch/>
        </p:blipFill>
        <p:spPr>
          <a:xfrm>
            <a:off x="175248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2057400" y="533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tian Outpost: 20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BC21-57F8-45DF-A1D5-E6D8D54776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353400" y="458640"/>
            <a:ext cx="603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than normal asteroid (meteorite) 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25440" y="2514600"/>
            <a:ext cx="52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tion of origin (on Mars – which part of surface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ed to actuall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OCKS from Mars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39A6-3512-457F-947F-C2D47E15B6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mars_explore"/>
          <p:cNvPicPr/>
          <p:nvPr/>
        </p:nvPicPr>
        <p:blipFill>
          <a:blip r:embed="rId1"/>
          <a:stretch/>
        </p:blipFill>
        <p:spPr>
          <a:xfrm>
            <a:off x="0" y="4572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F4D0-820C-4FBE-B63D-0033B821F0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4" name="Picture 3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6782040" cy="4570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36640" y="22860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447920" y="10666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71160" y="5562720"/>
            <a:ext cx="86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trobiology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xciting field of research – study of origin of life in the solar system,uni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UBIQUITOUS in the universe – we just haven’t found 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A SPECIAL quirk of nature and timing – very very ra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A7F6-0205-46F0-B18F-799033B132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f854a81-3"/>
          <p:cNvPicPr/>
          <p:nvPr/>
        </p:nvPicPr>
        <p:blipFill>
          <a:blip r:embed="rId1"/>
          <a:stretch/>
        </p:blipFill>
        <p:spPr>
          <a:xfrm>
            <a:off x="609480" y="609480"/>
            <a:ext cx="4637160" cy="5181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907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bos (20 km x 27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715000" y="3276720"/>
            <a:ext cx="3200400" cy="3358800"/>
            <a:chOff x="5715000" y="3276720"/>
            <a:chExt cx="3200400" cy="3358800"/>
          </a:xfrm>
        </p:grpSpPr>
        <p:pic>
          <p:nvPicPr>
            <p:cNvPr id="97" name="Picture 5" descr="Eros Feb 25 2000"/>
            <p:cNvPicPr/>
            <p:nvPr/>
          </p:nvPicPr>
          <p:blipFill>
            <a:blip r:embed="rId2"/>
            <a:stretch/>
          </p:blipFill>
          <p:spPr>
            <a:xfrm>
              <a:off x="6248520" y="3276720"/>
              <a:ext cx="2230200" cy="2438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Text Box 6"/>
            <p:cNvSpPr/>
            <p:nvPr/>
          </p:nvSpPr>
          <p:spPr>
            <a:xfrm>
              <a:off x="5715000" y="5850000"/>
              <a:ext cx="3200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arison: Asteroid Ero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33 km x 13 k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556272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an Mo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33520" y="1523880"/>
            <a:ext cx="4762440" cy="3324240"/>
            <a:chOff x="533520" y="1523880"/>
            <a:chExt cx="4762440" cy="3324240"/>
          </a:xfrm>
        </p:grpSpPr>
        <p:pic>
          <p:nvPicPr>
            <p:cNvPr id="101" name="Picture 9" descr="Deimos"/>
            <p:cNvPicPr/>
            <p:nvPr/>
          </p:nvPicPr>
          <p:blipFill>
            <a:blip r:embed="rId3"/>
            <a:stretch/>
          </p:blipFill>
          <p:spPr>
            <a:xfrm>
              <a:off x="533520" y="1523880"/>
              <a:ext cx="4762440" cy="3324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2" name="Text Box 10"/>
            <p:cNvSpPr/>
            <p:nvPr/>
          </p:nvSpPr>
          <p:spPr>
            <a:xfrm>
              <a:off x="4038480" y="4343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ei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5486400" y="990720"/>
            <a:ext cx="3657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moons: Deimos, Pho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(~20km) irregularly sha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bit Mars in 8hr, 30h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ptured astero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дати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B10F-0655-4A2B-8E03-E8FD7285EE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49000" y="228600"/>
            <a:ext cx="59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isks of Solar System Mis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FC98-3BE4-4074-89D9-6C09DAE921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0512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 1 and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2" descr="viking_lander_model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429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1195920" y="5219640"/>
            <a:ext cx="681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 1 launched in August of 1975, Viking 2 launched in Sept. 19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s arrived at Mars in June, August of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biter + Lander – Orbiters alone weighed close to a ½ ton eac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ery expensive launch/rocket equipment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these days NASA’s mantra: “Faster Better Cheaper”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0C46-47CC-4CD0-BE6E-8BAFB9B9EB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 Images of Mars’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5" descr="viking_lander_image"/>
          <p:cNvPicPr/>
          <p:nvPr/>
        </p:nvPicPr>
        <p:blipFill>
          <a:blip r:embed="rId1"/>
          <a:stretch/>
        </p:blipFill>
        <p:spPr>
          <a:xfrm>
            <a:off x="152280" y="1066680"/>
            <a:ext cx="4572000" cy="3214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80880" y="4876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ing site chosen from Orbiter images – two different regions in Northern Lowlan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ealed that the surface of Mars was littered with jagged rocks and fine dust every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were probably result of crater-forming impact (“ejecta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resemble lava-rocks on Earth – lava flows broken up by imp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viking_lander"/>
          <p:cNvPicPr/>
          <p:nvPr/>
        </p:nvPicPr>
        <p:blipFill>
          <a:blip r:embed="rId2"/>
          <a:stretch/>
        </p:blipFill>
        <p:spPr>
          <a:xfrm>
            <a:off x="4800600" y="762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59F-62E8-4B77-B22D-8CA5EE776B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: Search for Life on M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952880" y="1143000"/>
            <a:ext cx="38862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ience Instrumen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hem l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explore reactions of Mars rock with water (none detect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coop arm with magnet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und that the soil was IRON-r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fined to study only one part of Martian surface – its landing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pired NASA to propose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ions with MOVING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s 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athfinder 1997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viking"/>
          <p:cNvPicPr/>
          <p:nvPr/>
        </p:nvPicPr>
        <p:blipFill>
          <a:blip r:embed="rId1"/>
          <a:stretch/>
        </p:blipFill>
        <p:spPr>
          <a:xfrm>
            <a:off x="838080" y="1752480"/>
            <a:ext cx="3733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4:35:25Z</dcterms:created>
  <dc:creator>clang</dc:creator>
  <dc:description/>
  <dc:language>en-US</dc:language>
  <cp:lastModifiedBy>LEGION</cp:lastModifiedBy>
  <dcterms:modified xsi:type="dcterms:W3CDTF">2015-09-04T07:51:13Z</dcterms:modified>
  <cp:revision>13</cp:revision>
  <dc:subject/>
  <dc:title>Slide 1</dc:title>
</cp:coreProperties>
</file>