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BF6F-A625-4049-8E03-B40D6801A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 for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 for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/Rectangl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2(Length+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2(25+14)                      P=2(20+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50+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40+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8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/Rectangl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2(Length+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2(25+14)                      P=2(20+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50+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40+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8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dd up EACH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dd up EACH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f one side blank, it’s equal to its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f one side blank, it’s equal to its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ENTIRE INSIDE of a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ways measured in “squares” (sq. inch, sq 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ENTIRE INSIDE of a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ways measured in “squares” (sq. inch, sq 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Squares/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=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Squares/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=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idea as squares &amp; rectangles, but they change the words to Base (length:bottom of shape) and 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idea as squares &amp; rectangles, but they change the words to Base (length:bottom of shape) and 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ea=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ea=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formula for area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ide x Side (side squared) (just a different way of saying 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formula for area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ide x Side (side squared) (just a different way of saying 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ames/Same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x Side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ames/Same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x Side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et Scar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l mathematicians have created formulas to save you time.  But, they always change the letters of the formulas to scare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et Scar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l mathematicians have created formulas to save you time.  But, they always change the letters of the formulas to scare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’s ½ because ½ of the “square” is mis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’s ½ because ½ of the “square” is mis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: from center (origin) of circle to ANY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pi x (Radius x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: from center (origin) of circle to ANY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pi x (Radius x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/Circumference = pi x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is always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is a fancy name for 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is  a line from one side to the other side of a circle through its origin (It’s twice the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/Circumference = pi x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is always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is a fancy name for 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is  a line from one side to the other side of a circle through its origin (It’s twice the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piR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= 3.14   and R=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piR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= 3.14   and R=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D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, rectangles and parallelograms area are almost the same (Lx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are ½ cause your missing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les have fancy names, but just follow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D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, rectangles and parallelograms area are almost the same (Lx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are ½ cause your missing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les have fancy names, but just follow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tests you will have the formulas given to you.  Just remember which one to use for which shape and you’ll do f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tests you will have the formulas given to you.  Just remember which one to use for which shape and you’ll do f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ape’s “perimeter” is the outside of the shape…like a fence around a y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ape’s “perimeter” is the outside of the shape…like a fence around a y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perimeter of any shape, just add up “each” line segment of the “fen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perimeter of any shape, just add up “each” line segment of the “fen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have 3 sides…add up each side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have 3 sides…add up each side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4 sides of a 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4 sides of a 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, problems may only give you two measurements for a square or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roblem…use the formula for squares/rectangles (only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, problems may only give you two measurements for a square or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roblem…use the formula for squares/rectangles (only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 ALL sides are equal…so if they give you one side, you know ALL the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=the Larges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“leave” numbers out, they are equal to their opposite side.  If they give you the bottom of a square/rectangle type shape then the top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 ALL sides are equal…so if they give you one side, you know ALL the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=the Larges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“leave” numbers out, they are equal to their opposite side.  If they give you the bottom of a square/rectangle type shape then the top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bottom is 15…the top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bottom is 15…the top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4A99-819A-4CE0-85FA-4883F17D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127-6C95-4A4A-AAA4-979F136A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EB77-2CFB-45D0-BC65-B8F2808F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6B03-46A9-4E10-B2AE-E7CC9EB3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CCF7-877F-4EFD-9AF7-14B6673E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3A0-FBDF-4FB6-B184-DF586DBA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00ED-0FF9-4FCA-8798-8D5408F1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40B-9475-4DDB-A611-E2903A35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52C-A9E1-4E92-B0A5-0E2E6EA6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740-5C68-419D-A00D-D95A8DAD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164E-60FD-4D28-A31F-BC77AC48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139E-7AC6-44FD-BBD0-F063F5D9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B872-93D2-4DB9-8012-BA29D376F2A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100" spc="-1" strike="noStrike">
                <a:solidFill>
                  <a:srgbClr val="ffffff"/>
                </a:solidFill>
                <a:latin typeface="Rage Italic"/>
              </a:rPr>
              <a:t>Formulas for Geometry</a:t>
            </a:r>
            <a:endParaRPr b="1" lang="en-US" sz="81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520" y="426672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age Italic"/>
              </a:rPr>
              <a:t>Mr. Ryan</a:t>
            </a:r>
            <a:endParaRPr b="0" lang="en-US" sz="5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51DE-E530-4F57-B8D1-5008540EE6C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Square/Rectangle Formul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=2(Length+Width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2(25+14)                      P=2(20+20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50+2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40+40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7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80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066680" y="4419720"/>
            <a:ext cx="27432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1640" y="510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118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172200" y="4572000"/>
            <a:ext cx="12952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631560" y="5943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8179-9864-4466-AA2E-2ADB7964D41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ther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Just add up EACH segmen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3733920" y="3962520"/>
            <a:ext cx="1676160" cy="16002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7888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903240" y="5979960"/>
            <a:ext cx="60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0DDE-57D4-4FEB-A3A2-9ECA8EABA77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dd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Count ALL sides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Remember if one side blank, it’s equal to its opposite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90720" y="4572000"/>
            <a:ext cx="20574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52388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830960" y="617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5410080" y="4572000"/>
            <a:ext cx="19814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594360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209680" y="60199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 flipV="1">
            <a:off x="2743200" y="4267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 flipH="1" flipV="1">
            <a:off x="1142640" y="4419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2133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7682400" y="5370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714888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1358640" y="2932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716292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6629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"/>
          <p:cNvSpPr/>
          <p:nvPr/>
        </p:nvSpPr>
        <p:spPr>
          <a:xfrm flipH="1">
            <a:off x="57913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5105160" y="5334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5472360" y="285588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3796560" y="60562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4EF7-0386-4928-9511-ED49B2C299A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is the ENTIRE INSIDE of a shap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It is always measured in “squares” (sq. inch, sq ft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1022-F32D-4A80-ABB4-6AA8E99A061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2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5943600" y="3657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685800" y="327672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6781680" y="32004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5334120" y="45720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1296360" y="609588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73170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4540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731700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BB1B-E595-41E6-B4A8-16EDF2A6096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Area of Squares/Rectangl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=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685800" y="320040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6705720" y="3200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5410080" y="4419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4024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746800" y="601992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E8A2-382F-4F8B-9F33-F1A4EAC344C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ame idea as squares &amp; rectangles, but they change the words to Base (length:bottom of shape) and height (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0D2F-6D5C-4A40-97C3-90AA07F5DB9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Base x Heigh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Area=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2895480" y="4038480"/>
            <a:ext cx="2133720" cy="1371600"/>
          </a:xfrm>
          <a:prstGeom prst="parallelogram">
            <a:avLst>
              <a:gd name="adj" fmla="val 388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187080" y="57513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584520" y="46483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643560" y="544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8120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955400" y="60958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3505320" y="4114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642640" y="403848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 flipH="1">
            <a:off x="49528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D4A4-5914-4C9E-A4A5-9A530B38702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REAL formula for area of squar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ide x Side (side squared) (just a different way of saying 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828800" y="48769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898360" y="51055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831320" y="6019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C009-C9BA-477F-A033-E7504081B14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Different Names/Same idea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de x Side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78168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6781680" y="1981080"/>
            <a:ext cx="1600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705720" y="487692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3ACD-87FE-4BFC-8794-296240D83EE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Don’t Get Scared!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Evil mathematicians have created formulas to save you time.  But, they always change the letters of the formulas to scare you!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70F6-9AD1-46DD-B432-E787DA3E08F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Triang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½ 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It’s ½ because ½ of the “square” is missing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143000" y="4724280"/>
            <a:ext cx="1676520" cy="1524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7391520" y="3200400"/>
            <a:ext cx="914400" cy="9144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7453800" y="4303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6692400" y="3693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1981080" y="4800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213372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263400" y="5370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043720" y="6284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76824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684396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4786920" y="5522760"/>
            <a:ext cx="25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54FB-394B-48EA-8788-CD85AF168D9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= 3.14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Radius: from center (origin) of circle to ANY sid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pi x (Radius x Radius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ED08-BDB9-45E4-95FD-2D23AB79726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ircumference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/Circumference = pi x dia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i is always 3.14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Circumference is a fancy name for peri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The diameter is  a line from one side to the other side of a circle through its origin (It’s twice the radius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7543800" y="44956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75438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2895480" y="5410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33526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4254120" y="559908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A646-761D-41C0-8707-24F6723F79C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= piR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 = 3.14   and R=Radius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3809880" y="3581280"/>
            <a:ext cx="20574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4800600" y="4495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803480" y="45720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518364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763920" y="59436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5396400" y="59040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3E42-7529-47DF-98D8-D1C2B0CAEFF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You’re Done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Squares, rectangles and parallelograms area are almost the same (LxW)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Triangles are ½ cause your missing ½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Circles have fancy names, but just follow the formula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EA3E-F07F-4EF8-A084-C925F4A86E6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r most tests you will have the formulas given to you.  Just remember which one to use for which shape and you’ll do fin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76E5-5890-4512-BDA4-D1E341686DB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ny shape’s “perimeter” is the outside of the shape…like a fence around a yard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66680" y="49528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114800" y="49528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6705720" y="4952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AFAF-69B2-4652-8472-4D1092FDD73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o calculate the perimeter of any shape, just add up “each” line segment of the “fence”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нижнього колонтитула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DF59-73EE-48AB-BD40-2EC7976D2FE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riangles have 3 sides…add up each sides length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3200400" y="3505320"/>
            <a:ext cx="1828800" cy="16761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133720" y="4191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952880" y="41148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3809880" y="51814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52388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6095880" y="4191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505320" y="6095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5775480" y="5904000"/>
            <a:ext cx="24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2F37-F0C4-4A8C-8C16-1E0F3FEE5C7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 square has 4 sides of a fenc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7" name="AutoShape 4"/>
          <p:cNvSpPr/>
          <p:nvPr/>
        </p:nvSpPr>
        <p:spPr>
          <a:xfrm rot="2740200">
            <a:off x="3012840" y="3751200"/>
            <a:ext cx="2133720" cy="21175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2362320" y="4572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876920" y="4648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809880" y="556272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657600" y="2971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90728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869440" y="4800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11696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329720" y="293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6327000" y="58672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E5D4-30B8-456B-B8C3-1398614E5CD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ometimes, problems may only give you two measurements for a square or rectangl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No problem…use the formula for squares/rectangles (only!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C5FE-CAF7-4EFE-9944-8951C5825CE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Rememb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Squares ALL sides are equal…so if they give you one side, you know ALL the sides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Length=the Largest sid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If they “leave” numbers out, they are equal to their opposite side.  If they give you the bottom of a square/rectangle type shape then the top is the sam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62D3-CFE9-4E38-81D6-FD16921F818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The Same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If the bottom is 15…the top is…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2514600" y="4114800"/>
            <a:ext cx="3124080" cy="175248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AutoShape 7"/>
          <p:cNvCxnSpPr/>
          <p:nvPr/>
        </p:nvCxnSpPr>
        <p:spPr>
          <a:xfrm>
            <a:off x="2514600" y="6095520"/>
            <a:ext cx="327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" name="Text Box 8"/>
          <p:cNvSpPr/>
          <p:nvPr/>
        </p:nvSpPr>
        <p:spPr>
          <a:xfrm>
            <a:off x="38120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1:42:33Z</dcterms:created>
  <dc:creator>Mr. Ryan</dc:creator>
  <dc:description/>
  <dc:language>en-US</dc:language>
  <cp:lastModifiedBy>RomaK</cp:lastModifiedBy>
  <dcterms:modified xsi:type="dcterms:W3CDTF">2015-09-04T07:40:44Z</dcterms:modified>
  <cp:revision>19</cp:revision>
  <dc:subject/>
  <dc:title>Formulas for Geometry</dc:title>
</cp:coreProperties>
</file>