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lick to move the slid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2A785-D85B-487B-A019-AB3C2A08E9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s for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ulas for Geome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r. Ry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/Rectangl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=2(Length+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2(25+14)                      P=2(20+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50+2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P=40+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7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P=8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/Rectangl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=2(Length+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2(25+14)                      P=2(20+2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50+2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P=40+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= 78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P=80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add up EACH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ides, each side 10 so 10+10+10+10+10+10+10+10=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ther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 add up EACH seg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sides, each side 10 so 10+10+10+10+10+10+10+10=8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AL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if one side blank, it’s equal to its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+25=50 (for Leng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+5+15+5=40 (for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=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dd sha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unt ALL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if one side blank, it’s equal to its oppos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+25=50 (for Leng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+5+15+5=40 (for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=9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is the ENTIRE INSIDE of a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lways measured in “squares” (sq. inch, sq 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is the ENTIRE INSIDE of a sha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always measured in “squares” (sq. inch, sq f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units means that “that” many squares fit inside that shape (if measured in feet…it’s feet…if meters…it’s meters.  In this example the area is 4 square units…note 4 squares fi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units (ft, in,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 units means that “that” many squares fit inside that shape (if measured in feet…it’s feet…if meters…it’s meters.  In this example the area is 4 square units…note 4 squares fi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 units (ft, in, 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Squares/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x Width=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(2) xWidth(2) = 4 square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Squares/Rectang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x Width=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(2) xWidth(2) = 4 square un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ogram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idea as squares &amp; rectangles, but they change the words to Base (length:bottom of shape) and height (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ogram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me idea as squares &amp; rectangles, but they change the words to Base (length:bottom of shape) and height (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ogram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rea=length x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(leng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(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8 x Height 5 = Area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gonal line i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igh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ogram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Base x 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Area=length x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(leng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 (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8 x Height 5 = Area 4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gonal line is N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ight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formula for area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S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Side x Side (side squared) (just a different way of saying length x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L formula for area of squar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S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Side x Side (side squared) (just a different way of saying length x wid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tw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Names/Same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x Width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x Side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Names/Same id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 x Width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 x Side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Get Scare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l mathematicians have created formulas to save you time.  But, they always change the letters of the formulas to scare you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Get Scared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vil mathematicians have created formulas to save you time.  But, they always change the letters of the formulas to scare you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t’s ½ because ½ of the “square” is miss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(8)     x     5    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     x      5    =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Triang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It’s ½ because ½ of the “square” is missin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½ (8)     x     5     = Ar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       x      5    =  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=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: from center (origin) of circle to ANY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pi x (Radius x Rad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=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: from center (origin) of circle to ANY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 pi x (Radius x Rad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/Circumference = pi x 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 is always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is a fancy name for 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is  a line from one side to the other side of a circle through its origin (It’s twice the rad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adius is 5, then the diameter i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/Circumference = pi x di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 is always 3.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mference is a fancy name for 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iameter is  a line from one side to the other side of a circle through its origin (It’s twice the radiu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radius is 5, then the diameter is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piR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 = 3.14   and R=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3.14 x (5 x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= 3.14 x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of a circ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 = piR^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 = 3.14   and R=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=3.14 x (5 x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 = 3.14 x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Do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s, rectangles and parallelograms area are almost the same (Lx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 are ½ cause your missing 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les have fancy names, but just follow th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’re Don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s, rectangles and parallelograms area are almost the same (Lx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 are ½ cause your missing 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les have fancy names, but just follow the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st tests you will have the formulas given to you.  Just remember which one to use for which shape and you’ll do f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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most tests you will have the formulas given to you.  Just remember which one to use for which shape and you’ll do f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hape’s “perimeter” is the outside of the shape…like a fence around a y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y shape’s “perimeter” is the outside of the shape…like a fence around a y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perimeter of any shape, just add up “each” line segment of the “fenc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alculate the perimeter of any shape, just add up “each” line segment of the “fence”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 have 3 sides…add up each sides 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+8+8=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is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e powerpoint template: www.brainybetty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iangles have 3 sides…add up each sides leng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+8+8=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erimeter is 2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quare has 4 sides of a f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+12+12+12=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quare has 4 sides of a f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2+12+12+12=4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, problems may only give you two measurements for a square or rect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roblem…use the formula for squares/rectangles (only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imes, problems may only give you two measurements for a square or rectang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problem…use the formula for squares/rectangles (only!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s ALL sides are equal…so if they give you one side, you know ALL the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=the Larges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“leave” numbers out, they are equal to their opposite side.  If they give you the bottom of a square/rectangle type shape then the top i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quares ALL sides are equal…so if they give you one side, you know ALL the sid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ngth=the Largest s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y “leave” numbers out, they are equal to their opposite side.  If they give you the bottom of a square/rectangle type shape then the top is the sa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bottom is 15…the top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m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bottom is 15…the top i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A110-7A1C-4E64-9843-C58C098E4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E1A89-7ACD-4968-BCB4-4F129E43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7940E-D68F-47FE-BCE6-82B021FB1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8672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84028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316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8672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84028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E10D-6835-4A16-9690-215E1EFF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6854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676A-CEB3-402F-AF90-3FAF9575B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672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40280" y="205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3316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672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40280" y="4127040"/>
            <a:ext cx="252684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6C71-C082-4AB9-A9A1-35E2F393F2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42DD7-B975-4B60-8091-D98B3CF4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BE2A7-0809-4C49-BF6E-8FF767DD8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6840" y="685440"/>
            <a:ext cx="7924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0A22-2408-45B8-9D48-597B3BE91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7672-3BF7-46D1-ABF9-CADC58572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54720" y="412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5FB31-CC37-4EEF-BE5F-7A3D73C1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54720" y="2057040"/>
            <a:ext cx="382968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3160" y="4127040"/>
            <a:ext cx="7848360" cy="189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6607A-72E4-4CB2-9E05-222BC9C06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8" descr="1089h95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1" marL="512640" indent="-19692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2" marL="78840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3" marL="110412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4" marL="141948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5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6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-360" y="661320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48769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619760" y="6552720"/>
            <a:ext cx="15238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2B465-A9AB-4268-8895-000FDD5AE7CA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3" descr="1089h9514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lick to edit the title text format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Click to edit the outline text forma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1" marL="512640" indent="-19692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con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2" marL="78840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hird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3" marL="110412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our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4" marL="1419480" indent="-157680">
              <a:spcBef>
                <a:spcPts val="1100"/>
              </a:spcBef>
              <a:buClr>
                <a:srgbClr val="ffffff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if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5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ix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lvl="6" marL="1419480" indent="-157680">
              <a:spcBef>
                <a:spcPts val="1100"/>
              </a:spcBef>
              <a:buClr>
                <a:srgbClr val="000000"/>
              </a:buClr>
              <a:buFont typeface="Rage Italic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eventh Outline Level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90720" y="1371240"/>
            <a:ext cx="7238880" cy="243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100" spc="-1" strike="noStrike">
                <a:solidFill>
                  <a:srgbClr val="ffffff"/>
                </a:solidFill>
                <a:latin typeface="Rage Italic"/>
              </a:rPr>
              <a:t>Formulas for Geometry</a:t>
            </a:r>
            <a:endParaRPr b="1" lang="en-US" sz="81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523520" y="4266720"/>
            <a:ext cx="61722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Rage Italic"/>
              </a:rPr>
              <a:t>Mr. Ryan</a:t>
            </a:r>
            <a:endParaRPr b="0" lang="en-US" sz="5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1318B-490B-469D-91BF-C328B92CE23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Square/Rectangle Formul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98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erimeter=2(Length+Width)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= 2(25+14)                      P=2(20+20)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= 50+28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     P=40+40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= 78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     P=80</a:t>
            </a: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42" name="Rectangle 4"/>
          <p:cNvSpPr/>
          <p:nvPr/>
        </p:nvSpPr>
        <p:spPr>
          <a:xfrm>
            <a:off x="1066680" y="4419720"/>
            <a:ext cx="27432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5"/>
          <p:cNvSpPr/>
          <p:nvPr/>
        </p:nvSpPr>
        <p:spPr>
          <a:xfrm>
            <a:off x="611640" y="51055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6"/>
          <p:cNvSpPr/>
          <p:nvPr/>
        </p:nvSpPr>
        <p:spPr>
          <a:xfrm>
            <a:off x="2211840" y="609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6172200" y="4572000"/>
            <a:ext cx="1295280" cy="1295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8"/>
          <p:cNvSpPr/>
          <p:nvPr/>
        </p:nvSpPr>
        <p:spPr>
          <a:xfrm>
            <a:off x="6631560" y="5943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A917-62A2-45FF-A048-CBD9FFD1541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Other shapes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Just add up EACH segmen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50" name="AutoShape 4"/>
          <p:cNvSpPr/>
          <p:nvPr/>
        </p:nvSpPr>
        <p:spPr>
          <a:xfrm>
            <a:off x="3733920" y="3962520"/>
            <a:ext cx="1676160" cy="16002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3278880" y="45720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903240" y="5979960"/>
            <a:ext cx="6041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 sides, each side 10 so 10+10+10+10+10+10+10+10=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B7289-7362-49A9-8705-F0B4F97361DD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Odd shapes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ge Italic"/>
              </a:rPr>
              <a:t>Count ALL sides</a:t>
            </a:r>
            <a:endParaRPr b="0" lang="en-US" sz="2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Rage Italic"/>
              </a:rPr>
              <a:t>Remember if one side blank, it’s equal to its opposite</a:t>
            </a:r>
            <a:endParaRPr b="0" lang="en-US" sz="2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56" name="Rectangle 5"/>
          <p:cNvSpPr/>
          <p:nvPr/>
        </p:nvSpPr>
        <p:spPr>
          <a:xfrm>
            <a:off x="990720" y="4572000"/>
            <a:ext cx="2057400" cy="167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Rectangle 6"/>
          <p:cNvSpPr/>
          <p:nvPr/>
        </p:nvSpPr>
        <p:spPr>
          <a:xfrm>
            <a:off x="1523880" y="36576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7"/>
          <p:cNvSpPr/>
          <p:nvPr/>
        </p:nvSpPr>
        <p:spPr>
          <a:xfrm>
            <a:off x="1830960" y="6172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8"/>
          <p:cNvSpPr/>
          <p:nvPr/>
        </p:nvSpPr>
        <p:spPr>
          <a:xfrm>
            <a:off x="5410080" y="4572000"/>
            <a:ext cx="198144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9"/>
          <p:cNvSpPr/>
          <p:nvPr/>
        </p:nvSpPr>
        <p:spPr>
          <a:xfrm>
            <a:off x="5943600" y="365760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12"/>
          <p:cNvSpPr/>
          <p:nvPr/>
        </p:nvSpPr>
        <p:spPr>
          <a:xfrm>
            <a:off x="2209680" y="6019920"/>
            <a:ext cx="38124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3"/>
          <p:cNvSpPr/>
          <p:nvPr/>
        </p:nvSpPr>
        <p:spPr>
          <a:xfrm flipV="1">
            <a:off x="2743200" y="42670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4"/>
          <p:cNvSpPr/>
          <p:nvPr/>
        </p:nvSpPr>
        <p:spPr>
          <a:xfrm flipH="1" flipV="1">
            <a:off x="1142640" y="4419720"/>
            <a:ext cx="15228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15"/>
          <p:cNvSpPr/>
          <p:nvPr/>
        </p:nvSpPr>
        <p:spPr>
          <a:xfrm flipV="1">
            <a:off x="2133720" y="34290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6"/>
          <p:cNvSpPr/>
          <p:nvPr/>
        </p:nvSpPr>
        <p:spPr>
          <a:xfrm>
            <a:off x="7682400" y="53704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7148880" y="39225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1358640" y="2932200"/>
            <a:ext cx="24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+25=50 (for Leng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9"/>
          <p:cNvSpPr/>
          <p:nvPr/>
        </p:nvSpPr>
        <p:spPr>
          <a:xfrm>
            <a:off x="7162920" y="54864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0"/>
          <p:cNvSpPr/>
          <p:nvPr/>
        </p:nvSpPr>
        <p:spPr>
          <a:xfrm>
            <a:off x="6629400" y="41911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"/>
          <p:cNvSpPr/>
          <p:nvPr/>
        </p:nvSpPr>
        <p:spPr>
          <a:xfrm flipH="1">
            <a:off x="5791320" y="4191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2"/>
          <p:cNvSpPr/>
          <p:nvPr/>
        </p:nvSpPr>
        <p:spPr>
          <a:xfrm flipH="1">
            <a:off x="5105160" y="5334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23"/>
          <p:cNvSpPr/>
          <p:nvPr/>
        </p:nvSpPr>
        <p:spPr>
          <a:xfrm>
            <a:off x="5472360" y="2855880"/>
            <a:ext cx="285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+5+15+5=40 (for 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24"/>
          <p:cNvSpPr/>
          <p:nvPr/>
        </p:nvSpPr>
        <p:spPr>
          <a:xfrm>
            <a:off x="3796560" y="605628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meter=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8617A0-2D38-41B4-AA8C-15C1E371446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 is the ENTIRE INSIDE of a shape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It is always measured in “squares” (sq. inch, sq ft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BFD5E-8EB6-4D03-A9A0-C10205AB3B4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1"/>
          <p:cNvSpPr/>
          <p:nvPr/>
        </p:nvSpPr>
        <p:spPr>
          <a:xfrm>
            <a:off x="5334120" y="3124080"/>
            <a:ext cx="28954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848360" cy="83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Rage Italic"/>
              </a:rPr>
              <a:t>Square units means that “that” many squares fit inside that shape (if measured in feet…it’s feet…if meters…it’s meters.  In this example the area is 4 square units…note 4 squares fit)</a:t>
            </a:r>
            <a:endParaRPr b="0" lang="en-US" sz="20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81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AutoShape 7"/>
          <p:cNvSpPr/>
          <p:nvPr/>
        </p:nvSpPr>
        <p:spPr>
          <a:xfrm>
            <a:off x="155520" y="46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9"/>
          <p:cNvSpPr/>
          <p:nvPr/>
        </p:nvSpPr>
        <p:spPr>
          <a:xfrm>
            <a:off x="5943600" y="365760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0"/>
          <p:cNvSpPr/>
          <p:nvPr/>
        </p:nvSpPr>
        <p:spPr>
          <a:xfrm>
            <a:off x="685800" y="3276720"/>
            <a:ext cx="31240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2"/>
          <p:cNvSpPr/>
          <p:nvPr/>
        </p:nvSpPr>
        <p:spPr>
          <a:xfrm>
            <a:off x="6781680" y="320040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3"/>
          <p:cNvSpPr/>
          <p:nvPr/>
        </p:nvSpPr>
        <p:spPr>
          <a:xfrm>
            <a:off x="5334120" y="4572000"/>
            <a:ext cx="289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4"/>
          <p:cNvSpPr/>
          <p:nvPr/>
        </p:nvSpPr>
        <p:spPr>
          <a:xfrm>
            <a:off x="1296360" y="6095880"/>
            <a:ext cx="182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 units (ft, in, 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6"/>
          <p:cNvSpPr/>
          <p:nvPr/>
        </p:nvSpPr>
        <p:spPr>
          <a:xfrm>
            <a:off x="7317000" y="36576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17"/>
          <p:cNvSpPr/>
          <p:nvPr/>
        </p:nvSpPr>
        <p:spPr>
          <a:xfrm>
            <a:off x="5945400" y="49528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18"/>
          <p:cNvSpPr/>
          <p:nvPr/>
        </p:nvSpPr>
        <p:spPr>
          <a:xfrm>
            <a:off x="7317000" y="5029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F6776-E253-4F06-AB6B-F51EB37A56CE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Area of Squares/Rectangles</a:t>
            </a:r>
            <a:endParaRPr b="1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Length x Width=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685800" y="3200400"/>
            <a:ext cx="31240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5"/>
          <p:cNvSpPr/>
          <p:nvPr/>
        </p:nvSpPr>
        <p:spPr>
          <a:xfrm>
            <a:off x="5334120" y="3124080"/>
            <a:ext cx="2895480" cy="2743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6"/>
          <p:cNvSpPr/>
          <p:nvPr/>
        </p:nvSpPr>
        <p:spPr>
          <a:xfrm>
            <a:off x="6705720" y="3200400"/>
            <a:ext cx="0" cy="2590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7"/>
          <p:cNvSpPr/>
          <p:nvPr/>
        </p:nvSpPr>
        <p:spPr>
          <a:xfrm>
            <a:off x="5410080" y="44197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4024800" y="4608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 Box 10"/>
          <p:cNvSpPr/>
          <p:nvPr/>
        </p:nvSpPr>
        <p:spPr>
          <a:xfrm>
            <a:off x="2746800" y="6019920"/>
            <a:ext cx="389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ength(2) xWidth(2) = 4 square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D5103-E897-4B0E-BF24-93D034E87907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arallelogram 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ame idea as squares &amp; rectangles, but they change the words to Base (length:bottom of shape) and height (width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18D93-DC0E-4923-8800-21A5404A0172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arallelogram Area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84836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Base x Height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(Area=length x width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06" name="AutoShape 4"/>
          <p:cNvSpPr/>
          <p:nvPr/>
        </p:nvSpPr>
        <p:spPr>
          <a:xfrm>
            <a:off x="2895480" y="4038480"/>
            <a:ext cx="2133720" cy="1371600"/>
          </a:xfrm>
          <a:prstGeom prst="parallelogram">
            <a:avLst>
              <a:gd name="adj" fmla="val 3889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5"/>
          <p:cNvSpPr/>
          <p:nvPr/>
        </p:nvSpPr>
        <p:spPr>
          <a:xfrm>
            <a:off x="3187080" y="575136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(leng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3584520" y="4648320"/>
            <a:ext cx="15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 (width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 Box 7"/>
          <p:cNvSpPr/>
          <p:nvPr/>
        </p:nvSpPr>
        <p:spPr>
          <a:xfrm>
            <a:off x="3643560" y="544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8"/>
          <p:cNvSpPr/>
          <p:nvPr/>
        </p:nvSpPr>
        <p:spPr>
          <a:xfrm>
            <a:off x="3812040" y="4267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 Box 9"/>
          <p:cNvSpPr/>
          <p:nvPr/>
        </p:nvSpPr>
        <p:spPr>
          <a:xfrm>
            <a:off x="4955400" y="6095880"/>
            <a:ext cx="30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 8 x Height 5 = Area 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0"/>
          <p:cNvSpPr/>
          <p:nvPr/>
        </p:nvSpPr>
        <p:spPr>
          <a:xfrm>
            <a:off x="3505320" y="41148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11"/>
          <p:cNvSpPr/>
          <p:nvPr/>
        </p:nvSpPr>
        <p:spPr>
          <a:xfrm>
            <a:off x="5642640" y="4038480"/>
            <a:ext cx="269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agonal line is 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height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2"/>
          <p:cNvSpPr/>
          <p:nvPr/>
        </p:nvSpPr>
        <p:spPr>
          <a:xfrm flipH="1">
            <a:off x="4952880" y="441972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73505-9B77-4EA9-A1DE-CA69234DDA8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REAL formula for area of squares</a:t>
            </a:r>
            <a:endParaRPr b="1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 S^2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 Side x Side (side squared) (just a different way of saying length x width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18" name="Rectangle 4"/>
          <p:cNvSpPr/>
          <p:nvPr/>
        </p:nvSpPr>
        <p:spPr>
          <a:xfrm>
            <a:off x="1828800" y="48769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Text Box 5"/>
          <p:cNvSpPr/>
          <p:nvPr/>
        </p:nvSpPr>
        <p:spPr>
          <a:xfrm>
            <a:off x="2898360" y="5105520"/>
            <a:ext cx="10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"/>
          <p:cNvSpPr/>
          <p:nvPr/>
        </p:nvSpPr>
        <p:spPr>
          <a:xfrm>
            <a:off x="1831320" y="60199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de tw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7C99A9-DE88-4F41-8786-BC9CEF0E3CFB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Rage Italic"/>
              </a:rPr>
              <a:t>Different Names/Same idea</a:t>
            </a:r>
            <a:endParaRPr b="1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Length x Width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ide x Side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39480" indent="-3394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Base x Height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6781680" y="350532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5"/>
          <p:cNvSpPr/>
          <p:nvPr/>
        </p:nvSpPr>
        <p:spPr>
          <a:xfrm>
            <a:off x="6781680" y="1981080"/>
            <a:ext cx="16002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AutoShape 6"/>
          <p:cNvSpPr/>
          <p:nvPr/>
        </p:nvSpPr>
        <p:spPr>
          <a:xfrm>
            <a:off x="6705720" y="4876920"/>
            <a:ext cx="1214280" cy="914400"/>
          </a:xfrm>
          <a:prstGeom prst="parallelogram">
            <a:avLst>
              <a:gd name="adj" fmla="val 3319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47A91-1248-4DB9-86EB-D0F32610AD4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Don’t Get Scared!!!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Evil mathematicians have created formulas to save you time.  But, they always change the letters of the formulas to scare you!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C6A3B-0C52-4F8B-A2E6-12A9542A285C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 of a Triang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½ Base x Height = Area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(It’s ½ because ½ of the “square” is missing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30" name="AutoShape 4"/>
          <p:cNvSpPr/>
          <p:nvPr/>
        </p:nvSpPr>
        <p:spPr>
          <a:xfrm>
            <a:off x="1143000" y="4724280"/>
            <a:ext cx="1676520" cy="152424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AutoShape 5"/>
          <p:cNvSpPr/>
          <p:nvPr/>
        </p:nvSpPr>
        <p:spPr>
          <a:xfrm>
            <a:off x="7391520" y="3200400"/>
            <a:ext cx="914400" cy="914400"/>
          </a:xfrm>
          <a:prstGeom prst="rtTriangl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7453800" y="430380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7"/>
          <p:cNvSpPr/>
          <p:nvPr/>
        </p:nvSpPr>
        <p:spPr>
          <a:xfrm>
            <a:off x="6692400" y="369396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8"/>
          <p:cNvSpPr/>
          <p:nvPr/>
        </p:nvSpPr>
        <p:spPr>
          <a:xfrm>
            <a:off x="1981080" y="480060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utoShape 9"/>
          <p:cNvSpPr/>
          <p:nvPr/>
        </p:nvSpPr>
        <p:spPr>
          <a:xfrm>
            <a:off x="2133720" y="541008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10"/>
          <p:cNvSpPr/>
          <p:nvPr/>
        </p:nvSpPr>
        <p:spPr>
          <a:xfrm>
            <a:off x="3263400" y="537048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1"/>
          <p:cNvSpPr/>
          <p:nvPr/>
        </p:nvSpPr>
        <p:spPr>
          <a:xfrm>
            <a:off x="2043720" y="6284880"/>
            <a:ext cx="70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12"/>
          <p:cNvSpPr/>
          <p:nvPr/>
        </p:nvSpPr>
        <p:spPr>
          <a:xfrm>
            <a:off x="7682400" y="46846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3"/>
          <p:cNvSpPr/>
          <p:nvPr/>
        </p:nvSpPr>
        <p:spPr>
          <a:xfrm>
            <a:off x="6843960" y="40752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4"/>
          <p:cNvSpPr/>
          <p:nvPr/>
        </p:nvSpPr>
        <p:spPr>
          <a:xfrm>
            <a:off x="4786920" y="5522760"/>
            <a:ext cx="259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 Base x Height =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½ (8)     x     5     = 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        x      5    =  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7B71D-4BA8-459D-9AB9-A90EB3DFF99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 of a Circ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Pi= 3.14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Radius: from center (origin) of circle to ANY side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= pi x (Radius x Radius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F6500-0320-424C-9C39-8BF08DB4C82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Circumference of a Circ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33160" y="2057400"/>
            <a:ext cx="784836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erimeter/Circumference = pi x diameter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Pi is always 3.14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Circumference is a fancy name for perimeter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12120" indent="-312120"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The diameter is  a line from one side to the other side of a circle through its origin (It’s twice the radius)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47" name="Oval 4"/>
          <p:cNvSpPr/>
          <p:nvPr/>
        </p:nvSpPr>
        <p:spPr>
          <a:xfrm>
            <a:off x="7543800" y="44956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5"/>
          <p:cNvSpPr/>
          <p:nvPr/>
        </p:nvSpPr>
        <p:spPr>
          <a:xfrm>
            <a:off x="7543800" y="4952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Oval 6"/>
          <p:cNvSpPr/>
          <p:nvPr/>
        </p:nvSpPr>
        <p:spPr>
          <a:xfrm>
            <a:off x="2895480" y="5410080"/>
            <a:ext cx="914400" cy="9144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7"/>
          <p:cNvSpPr/>
          <p:nvPr/>
        </p:nvSpPr>
        <p:spPr>
          <a:xfrm>
            <a:off x="3352680" y="5867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8"/>
          <p:cNvSpPr/>
          <p:nvPr/>
        </p:nvSpPr>
        <p:spPr>
          <a:xfrm>
            <a:off x="4254120" y="5599080"/>
            <a:ext cx="4242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 the radius is 5, then the diameter is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18AA8-ACBE-4B71-ADC1-71D814604136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Area of a circle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rea = piR^2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Pi = 3.14   and R=Radius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55" name="Oval 4"/>
          <p:cNvSpPr/>
          <p:nvPr/>
        </p:nvSpPr>
        <p:spPr>
          <a:xfrm>
            <a:off x="3809880" y="3581280"/>
            <a:ext cx="2057400" cy="18288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5"/>
          <p:cNvSpPr/>
          <p:nvPr/>
        </p:nvSpPr>
        <p:spPr>
          <a:xfrm>
            <a:off x="4800600" y="44956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4803480" y="4572000"/>
            <a:ext cx="889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9"/>
          <p:cNvSpPr/>
          <p:nvPr/>
        </p:nvSpPr>
        <p:spPr>
          <a:xfrm>
            <a:off x="5183640" y="4191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10"/>
          <p:cNvSpPr/>
          <p:nvPr/>
        </p:nvSpPr>
        <p:spPr>
          <a:xfrm>
            <a:off x="763920" y="5943600"/>
            <a:ext cx="212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=3.14 x (5 x 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Text Box 11"/>
          <p:cNvSpPr/>
          <p:nvPr/>
        </p:nvSpPr>
        <p:spPr>
          <a:xfrm>
            <a:off x="5396400" y="5904000"/>
            <a:ext cx="237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imeter = 3.14 x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E3385-1A4E-4D20-85D7-663655FEF2D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You’re Done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	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	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Squares, rectangles and parallelograms area are almost the same (LxW)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Triangles are ½ cause your missing ½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Circles have fancy names, but just follow the formula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7164-1B2E-4513-97DC-98531C318351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Wingdings"/>
                <a:ea typeface="Wingdings"/>
              </a:rPr>
              <a:t>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For most tests you will have the formulas given to you.  Just remember which one to use for which shape and you’ll do fine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63F68-15B3-439F-BB01-FF3C86BC3D9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ny shape’s “perimeter” is the outside of the shape…like a fence around a yard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1066680" y="4952880"/>
            <a:ext cx="914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4114800" y="4952880"/>
            <a:ext cx="914400" cy="9144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6705720" y="4952880"/>
            <a:ext cx="1057320" cy="91440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BDDF0-EC08-4BF2-8D3C-EE6202A3799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o calculate the perimeter of any shape, just add up “each” line segment of the “fence”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Місце для нижнього колонтитула 4"/>
          <p:cNvSpPr/>
          <p:nvPr/>
        </p:nvSpPr>
        <p:spPr>
          <a:xfrm>
            <a:off x="2286000" y="6629400"/>
            <a:ext cx="4876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Free powerpoint template: www.brainybetty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19B35-97C3-4FF1-B917-80E5A18C8958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Triangles have 3 sides…add up each sides length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06" name="AutoShape 4"/>
          <p:cNvSpPr/>
          <p:nvPr/>
        </p:nvSpPr>
        <p:spPr>
          <a:xfrm>
            <a:off x="3200400" y="3505320"/>
            <a:ext cx="1828800" cy="16761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5"/>
          <p:cNvSpPr/>
          <p:nvPr/>
        </p:nvSpPr>
        <p:spPr>
          <a:xfrm>
            <a:off x="2133720" y="41911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"/>
          <p:cNvSpPr/>
          <p:nvPr/>
        </p:nvSpPr>
        <p:spPr>
          <a:xfrm>
            <a:off x="4952880" y="411480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3809880" y="518148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523880" y="434340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9"/>
          <p:cNvSpPr/>
          <p:nvPr/>
        </p:nvSpPr>
        <p:spPr>
          <a:xfrm>
            <a:off x="6095880" y="4191120"/>
            <a:ext cx="30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10"/>
          <p:cNvSpPr/>
          <p:nvPr/>
        </p:nvSpPr>
        <p:spPr>
          <a:xfrm>
            <a:off x="3505320" y="6095880"/>
            <a:ext cx="30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1"/>
          <p:cNvSpPr/>
          <p:nvPr/>
        </p:nvSpPr>
        <p:spPr>
          <a:xfrm>
            <a:off x="5775480" y="5904000"/>
            <a:ext cx="245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+8+8=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Perimeter is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0A942-A7E8-441C-A370-17C244276E8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	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A square has 4 sides of a fence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17" name="AutoShape 4"/>
          <p:cNvSpPr/>
          <p:nvPr/>
        </p:nvSpPr>
        <p:spPr>
          <a:xfrm rot="2740200">
            <a:off x="3012840" y="3751200"/>
            <a:ext cx="2133720" cy="2117520"/>
          </a:xfrm>
          <a:prstGeom prst="diamond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2362320" y="457200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6"/>
          <p:cNvSpPr/>
          <p:nvPr/>
        </p:nvSpPr>
        <p:spPr>
          <a:xfrm>
            <a:off x="4876920" y="4648320"/>
            <a:ext cx="976320" cy="485640"/>
          </a:xfrm>
          <a:prstGeom prst="lef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7"/>
          <p:cNvSpPr/>
          <p:nvPr/>
        </p:nvSpPr>
        <p:spPr>
          <a:xfrm>
            <a:off x="3809880" y="556272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8"/>
          <p:cNvSpPr/>
          <p:nvPr/>
        </p:nvSpPr>
        <p:spPr>
          <a:xfrm>
            <a:off x="3657600" y="29718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190728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0"/>
          <p:cNvSpPr/>
          <p:nvPr/>
        </p:nvSpPr>
        <p:spPr>
          <a:xfrm>
            <a:off x="5869440" y="4800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1"/>
          <p:cNvSpPr/>
          <p:nvPr/>
        </p:nvSpPr>
        <p:spPr>
          <a:xfrm>
            <a:off x="4116960" y="609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2"/>
          <p:cNvSpPr/>
          <p:nvPr/>
        </p:nvSpPr>
        <p:spPr>
          <a:xfrm>
            <a:off x="4329720" y="29322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3"/>
          <p:cNvSpPr/>
          <p:nvPr/>
        </p:nvSpPr>
        <p:spPr>
          <a:xfrm>
            <a:off x="6327000" y="5867280"/>
            <a:ext cx="198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+12+12+12=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EDAB5-0A05-4BC4-A892-1B2BAFFAB98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Perimet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Sometimes, problems may only give you two measurements for a square or rectangle.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  <a:p>
            <a:pPr marL="322200" indent="-322200">
              <a:lnSpc>
                <a:spcPct val="90000"/>
              </a:lnSpc>
              <a:spcBef>
                <a:spcPts val="1100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Rage Italic"/>
              </a:rPr>
              <a:t>No problem…use the formula for squares/rectangles (only!)</a:t>
            </a:r>
            <a:endParaRPr b="0" lang="en-US" sz="44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51B9E-DDB3-4F1C-AA29-9BB166D92735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Remember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Squares ALL sides are equal…so if they give you one side, you know ALL the sides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Length=the Largest side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25800" indent="-325800">
              <a:spcBef>
                <a:spcPts val="799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Rage Italic"/>
              </a:rPr>
              <a:t>If they “leave” numbers out, they are equal to their opposite side.  If they give you the bottom of a square/rectangle type shape then the top is the same</a:t>
            </a: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Rage Ital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Місце для номера слайда 5"/>
          <p:cNvSpPr/>
          <p:nvPr/>
        </p:nvSpPr>
        <p:spPr>
          <a:xfrm>
            <a:off x="7620120" y="6553080"/>
            <a:ext cx="15238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E62C8-AB5B-4C9E-83AF-CF5F74990C2F}" type="slidenum">
              <a:rPr b="0" lang="en-US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68544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Rage Italic"/>
              </a:rPr>
              <a:t>The Same!!</a:t>
            </a:r>
            <a:endParaRPr b="1" lang="en-US" sz="48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33160" y="2057040"/>
            <a:ext cx="7848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1001"/>
              </a:spcBef>
              <a:buClr>
                <a:srgbClr val="ffffff"/>
              </a:buClr>
              <a:buFont typeface="Rage Ital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Rage Italic"/>
              </a:rPr>
              <a:t>If the bottom is 15…the top is…</a:t>
            </a:r>
            <a:endParaRPr b="0" lang="en-US" sz="4000" spc="-1" strike="noStrike">
              <a:solidFill>
                <a:srgbClr val="ffffff"/>
              </a:solidFill>
              <a:latin typeface="Rage Italic"/>
            </a:endParaRPr>
          </a:p>
        </p:txBody>
      </p:sp>
      <p:sp>
        <p:nvSpPr>
          <p:cNvPr id="136" name="AutoShape 4"/>
          <p:cNvSpPr/>
          <p:nvPr/>
        </p:nvSpPr>
        <p:spPr>
          <a:xfrm>
            <a:off x="2514600" y="4114800"/>
            <a:ext cx="3124080" cy="1752480"/>
          </a:xfrm>
          <a:prstGeom prst="plus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AutoShape 7"/>
          <p:cNvCxnSpPr/>
          <p:nvPr/>
        </p:nvCxnSpPr>
        <p:spPr>
          <a:xfrm>
            <a:off x="2514600" y="6095520"/>
            <a:ext cx="3277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38" name="Text Box 8"/>
          <p:cNvSpPr/>
          <p:nvPr/>
        </p:nvSpPr>
        <p:spPr>
          <a:xfrm>
            <a:off x="3812040" y="60958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3T01:42:33Z</dcterms:created>
  <dc:creator>Mr. Ryan</dc:creator>
  <dc:description/>
  <dc:language>en-US</dc:language>
  <cp:lastModifiedBy>RomaK</cp:lastModifiedBy>
  <dcterms:modified xsi:type="dcterms:W3CDTF">2015-09-04T07:40:44Z</dcterms:modified>
  <cp:revision>19</cp:revision>
  <dc:subject/>
  <dc:title>Formulas for Geometry</dc:title>
</cp:coreProperties>
</file>