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5625-96F9-4943-8B55-88E3C7C0C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 for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 for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/Rectangl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2(Length+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2(25+14)                      P=2(20+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50+2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40+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7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8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/Rectangl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2(Length+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2(25+14)                      P=2(20+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50+2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40+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7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8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add up EACH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add up EACH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f one side blank, it’s equal to its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f one side blank, it’s equal to its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ENTIRE INSIDE of a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ways measured in “squares” (sq. inch, sq 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ENTIRE INSIDE of a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ways measured in “squares” (sq. inch, sq 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units means that “that” many squares fit inside that shape (if measured in feet…it’s feet…if meters…it’s meters.  In this example the area is 4 square units…note 4 squares f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units means that “that” many squares fit inside that shape (if measured in feet…it’s feet…if meters…it’s meters.  In this example the area is 4 square units…note 4 squares f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Squares/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=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Squares/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=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idea as squares &amp; rectangles, but they change the words to Base (length:bottom of shape) and 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idea as squares &amp; rectangles, but they change the words to Base (length:bottom of shape) and 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ea=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ea=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formula for area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ide x Side (side squared) (just a different way of saying 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formula for area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ide x Side (side squared) (just a different way of saying 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ames/Same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x Side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ames/Same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x Side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Get Scare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l mathematicians have created formulas to save you time.  But, they always change the letters of the formulas to scare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Get Scare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l mathematicians have created formulas to save you time.  But, they always change the letters of the formulas to scare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t’s ½ because ½ of the “square” is mis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t’s ½ because ½ of the “square” is mis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=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: from center (origin) of circle to ANY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pi x (Radius x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=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: from center (origin) of circle to ANY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pi x (Radius x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/Circumference = pi x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is always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is a fancy name for 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is  a line from one side to the other side of a circle through its origin (It’s twice the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/Circumference = pi x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is always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is a fancy name for 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is  a line from one side to the other side of a circle through its origin (It’s twice the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piR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= 3.14   and R=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piR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= 3.14   and R=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D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, rectangles and parallelograms area are almost the same (Lx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are ½ cause your missing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les have fancy names, but just follow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D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, rectangles and parallelograms area are almost the same (Lx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are ½ cause your missing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les have fancy names, but just follow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tests you will have the formulas given to you.  Just remember which one to use for which shape and you’ll do f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tests you will have the formulas given to you.  Just remember which one to use for which shape and you’ll do f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ape’s “perimeter” is the outside of the shape…like a fence around a y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ape’s “perimeter” is the outside of the shape…like a fence around a y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perimeter of any shape, just add up “each” line segment of the “fenc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perimeter of any shape, just add up “each” line segment of the “fenc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have 3 sides…add up each side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have 3 sides…add up each side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4 sides of a 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4 sides of a 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, problems may only give you two measurements for a square or rect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roblem…use the formula for squares/rectangles (only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, problems may only give you two measurements for a square or rect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roblem…use the formula for squares/rectangles (only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 ALL sides are equal…so if they give you one side, you know ALL the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=the Larges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“leave” numbers out, they are equal to their opposite side.  If they give you the bottom of a square/rectangle type shape then the top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 ALL sides are equal…so if they give you one side, you know ALL the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=the Larges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“leave” numbers out, they are equal to their opposite side.  If they give you the bottom of a square/rectangle type shape then the top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bottom is 15…the top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bottom is 15…the top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E87C-5FAC-4F85-86B8-7C37376F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C640-BC3D-46DB-A367-74083BFA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6FBB-272F-4A0F-AC0E-EAE8324D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672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028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672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028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7C82-B8DD-4D4B-BB8F-E473079D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500E-CD0C-40B8-A877-BC097682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672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4028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16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672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4028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4B3F-08E1-4A1E-BBE4-9CBA2346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A929-8663-4BDD-85CA-3E17C8B4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B127-8A35-4F8F-A776-428DB055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EB42-7A96-4E36-9C56-8A83A499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DDFB-A335-4DB3-B482-E28D7A71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84B4-ADC8-4993-81C9-57B62BCB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F916-F487-46E7-9F09-3864A013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1089h95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1" marL="512640" indent="-19692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2" marL="78840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3" marL="110412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4" marL="141948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5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6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5E02-98B5-4E99-8B3A-9DE427AD8BF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1089h95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1" marL="512640" indent="-19692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2" marL="78840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3" marL="110412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4" marL="141948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5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6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100" spc="-1" strike="noStrike">
                <a:solidFill>
                  <a:srgbClr val="ffffff"/>
                </a:solidFill>
                <a:latin typeface="Rage Italic"/>
              </a:rPr>
              <a:t>Formulas for Geometry</a:t>
            </a:r>
            <a:endParaRPr b="1" lang="en-US" sz="81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520" y="426672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age Italic"/>
              </a:rPr>
              <a:t>Mr. Ryan</a:t>
            </a:r>
            <a:endParaRPr b="0" lang="en-US" sz="5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7D3C-38E7-4E17-9418-8E26DCD5BF5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Square/Rectangle Formul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erimeter=2(Length+Width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2(25+14)                      P=2(20+20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50+28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    P=40+40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78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    P=80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066680" y="4419720"/>
            <a:ext cx="27432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11640" y="5105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21184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6172200" y="4572000"/>
            <a:ext cx="129528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6631560" y="5943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8BDE-EB58-4419-B9BB-F834137DF09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Other shapes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Just add up EACH segmen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3733920" y="3962520"/>
            <a:ext cx="1676160" cy="16002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27888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903240" y="5979960"/>
            <a:ext cx="60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0F3B-D174-4E27-A143-BB124236D73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Odd shapes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Count ALL sides</a:t>
            </a:r>
            <a:endParaRPr b="0" lang="en-US" sz="2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Remember if one side blank, it’s equal to its opposite</a:t>
            </a:r>
            <a:endParaRPr b="0" lang="en-US" sz="2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990720" y="4572000"/>
            <a:ext cx="20574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523880" y="36576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830960" y="617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5410080" y="4572000"/>
            <a:ext cx="19814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5943600" y="36576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2209680" y="60199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"/>
          <p:cNvSpPr/>
          <p:nvPr/>
        </p:nvSpPr>
        <p:spPr>
          <a:xfrm flipV="1">
            <a:off x="2743200" y="42670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 flipH="1" flipV="1">
            <a:off x="1142640" y="44197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"/>
          <p:cNvSpPr/>
          <p:nvPr/>
        </p:nvSpPr>
        <p:spPr>
          <a:xfrm flipV="1">
            <a:off x="2133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7682400" y="5370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7148880" y="392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1358640" y="293220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716292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662940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"/>
          <p:cNvSpPr/>
          <p:nvPr/>
        </p:nvSpPr>
        <p:spPr>
          <a:xfrm flipH="1">
            <a:off x="57913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5105160" y="5334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5472360" y="285588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3796560" y="60562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56FB-26B9-4E83-8FA6-87CCD63CA77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 is the ENTIRE INSIDE of a shap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It is always measured in “squares” (sq. inch, sq ft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2DD3-A272-4CFB-8EC2-C7F8824193D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5334120" y="3124080"/>
            <a:ext cx="28954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age Italic"/>
              </a:rPr>
              <a:t>Square units means that “that” many squares fit inside that shape (if measured in feet…it’s feet…if meters…it’s meters.  In this example the area is 4 square units…note 4 squares fit)</a:t>
            </a:r>
            <a:endParaRPr b="0" lang="en-US" sz="20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5943600" y="3657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685800" y="3276720"/>
            <a:ext cx="31240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6781680" y="32004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5334120" y="45720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1296360" y="609588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73170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4540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7317000" y="50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8DAC-86BC-450C-B59B-96AB64AA96D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Area of Squares/Rectangles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ength x Width=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685800" y="3200400"/>
            <a:ext cx="31240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5334120" y="3124080"/>
            <a:ext cx="28954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6705720" y="32004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5410080" y="4419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4024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746800" y="6019920"/>
            <a:ext cx="38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8E41-EBAE-4668-A6C1-A375176ED49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arallelogram 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ame idea as squares &amp; rectangles, but they change the words to Base (length:bottom of shape) and height (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C225-791A-442C-BAD6-AC7A12F20CA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arallelogram 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Base x Heigh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(Area=length x 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2895480" y="4038480"/>
            <a:ext cx="2133720" cy="1371600"/>
          </a:xfrm>
          <a:prstGeom prst="parallelogram">
            <a:avLst>
              <a:gd name="adj" fmla="val 388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3187080" y="57513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584520" y="46483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3643560" y="544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381204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955400" y="609588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3505320" y="4114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642640" y="403848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 flipH="1">
            <a:off x="495288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528B-4DFD-47D4-AB30-562B18B10D3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REAL formula for area of squares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S^2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Side x Side (side squared) (just a different way of saying length x 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828800" y="48769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898360" y="51055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831320" y="6019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6AC7-3254-4DE9-A489-D6E8AF0B8B3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Different Names/Same idea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ength x Width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de x Side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Base x Height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781680" y="35053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6781680" y="1981080"/>
            <a:ext cx="1600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705720" y="487692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1998-A35C-4DCD-ADC5-79668EAF5E2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Don’t Get Scared!!!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Evil mathematicians have created formulas to save you time.  But, they always change the letters of the formulas to scare you!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0631-3AAC-4DA1-BF92-C5D5D44E6D8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Triang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½ Base x Height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(It’s ½ because ½ of the “square” is missing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1143000" y="4724280"/>
            <a:ext cx="1676520" cy="1524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7391520" y="3200400"/>
            <a:ext cx="914400" cy="9144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7453800" y="4303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6692400" y="36939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1981080" y="4800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213372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263400" y="5370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043720" y="6284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76824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684396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4786920" y="5522760"/>
            <a:ext cx="25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9B90-028A-4B11-8901-123A41C1778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i= 3.14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Radius: from center (origin) of circle to ANY sid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pi x (Radius x Radius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A1AE-B754-49EA-9E2E-95CA4339478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ircumference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erimeter/Circumference = pi x diameter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i is always 3.14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Circumference is a fancy name for perimeter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The diameter is  a line from one side to the other side of a circle through its origin (It’s twice the radius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7" name="Oval 4"/>
          <p:cNvSpPr/>
          <p:nvPr/>
        </p:nvSpPr>
        <p:spPr>
          <a:xfrm>
            <a:off x="7543800" y="44956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754380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6"/>
          <p:cNvSpPr/>
          <p:nvPr/>
        </p:nvSpPr>
        <p:spPr>
          <a:xfrm>
            <a:off x="2895480" y="54100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33526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4254120" y="5599080"/>
            <a:ext cx="42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12F5-70FD-48B4-8E82-C780CFA2EEE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 = piR^2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i = 3.14   and R=Radius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5" name="Oval 4"/>
          <p:cNvSpPr/>
          <p:nvPr/>
        </p:nvSpPr>
        <p:spPr>
          <a:xfrm>
            <a:off x="3809880" y="3581280"/>
            <a:ext cx="205740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"/>
          <p:cNvSpPr/>
          <p:nvPr/>
        </p:nvSpPr>
        <p:spPr>
          <a:xfrm>
            <a:off x="4800600" y="4495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803480" y="45720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5183640" y="4191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763920" y="594360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5396400" y="59040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DC88-15BB-4090-BDC3-4FB47E41C62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You’re Done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Squares, rectangles and parallelograms area are almost the same (LxW)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Triangles are ½ cause your missing ½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Circles have fancy names, but just follow the formula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3716-D7FF-4645-A533-1D49DE2195B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r most tests you will have the formulas given to you.  Just remember which one to use for which shape and you’ll do fine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51F6-3D9F-40A8-985E-D2D8FD7059F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ny shape’s “perimeter” is the outside of the shape…like a fence around a yard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066680" y="49528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4114800" y="49528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6705720" y="49528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EA73-734E-4C83-A9A2-9BF550E2AE5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o calculate the perimeter of any shape, just add up “each” line segment of the “fence”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Місце для нижнього колонтитула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7D58-0DB1-439F-A22F-1EC40292AC9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riangles have 3 sides…add up each sides length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3200400" y="3505320"/>
            <a:ext cx="1828800" cy="16761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2133720" y="4191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952880" y="41148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3809880" y="51814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523880" y="4343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6095880" y="4191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505320" y="6095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5775480" y="5904000"/>
            <a:ext cx="24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DED2-7885-47C5-B9A0-376DF6F0D1F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 square has 4 sides of a fenc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7" name="AutoShape 4"/>
          <p:cNvSpPr/>
          <p:nvPr/>
        </p:nvSpPr>
        <p:spPr>
          <a:xfrm rot="2740200">
            <a:off x="3012840" y="3751200"/>
            <a:ext cx="2133720" cy="211752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2362320" y="4572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876920" y="4648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809880" y="556272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3657600" y="29718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90728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5869440" y="4800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11696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329720" y="293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6327000" y="586728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0B60-A814-4613-881E-51A94F1C9B2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ometimes, problems may only give you two measurements for a square or rectangle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No problem…use the formula for squares/rectangles (only!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51B6-E5BA-4624-A631-D7C27D86691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Rememb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Squares ALL sides are equal…so if they give you one side, you know ALL the sides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Length=the Largest side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If they “leave” numbers out, they are equal to their opposite side.  If they give you the bottom of a square/rectangle type shape then the top is the same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A056-4E2E-4740-90F6-933F1231EA8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The Same!!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If the bottom is 15…the top is…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2514600" y="4114800"/>
            <a:ext cx="3124080" cy="175248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AutoShape 7"/>
          <p:cNvCxnSpPr/>
          <p:nvPr/>
        </p:nvCxnSpPr>
        <p:spPr>
          <a:xfrm>
            <a:off x="2514600" y="6095520"/>
            <a:ext cx="327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8" name="Text Box 8"/>
          <p:cNvSpPr/>
          <p:nvPr/>
        </p:nvSpPr>
        <p:spPr>
          <a:xfrm>
            <a:off x="381204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1:42:33Z</dcterms:created>
  <dc:creator>Mr. Ryan</dc:creator>
  <dc:description/>
  <dc:language>en-US</dc:language>
  <cp:lastModifiedBy>RomaK</cp:lastModifiedBy>
  <dcterms:modified xsi:type="dcterms:W3CDTF">2015-09-04T07:40:44Z</dcterms:modified>
  <cp:revision>19</cp:revision>
  <dc:subject/>
  <dc:title>Formulas for Geometry</dc:title>
</cp:coreProperties>
</file>