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AC35-17DC-4A1E-8A10-6205A7D13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4735-9952-434D-BD1C-504C94FE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8A4-86C3-45BA-BAA6-DB66969E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291-AB59-4002-85E5-0752BA7D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3F58-A651-43F8-8286-B9EE2378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BA9-67A7-4D88-BBFA-F8628E6A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23E0-59C4-4946-8D88-3BED9930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FB8-00A0-4BDE-9850-91624117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90E-08C3-40B0-A39A-CEED93BB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AD0-9E61-4E5C-B23E-D18252EC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15F-AE83-44E1-8D1B-4D54BCB7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874-D55F-4D1A-8A8C-296DFD1B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740-3820-4056-A48D-555F36F7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9578-D20F-499B-BB26-C735FFC1F2F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ffffff"/>
                </a:solidFill>
                <a:latin typeface="Rage Italic"/>
              </a:rPr>
              <a:t>Formulas for Geometry</a:t>
            </a:r>
            <a:endParaRPr b="1" lang="en-US" sz="81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520" y="42667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ge Italic"/>
              </a:rPr>
              <a:t>Mr. Ryan</a:t>
            </a:r>
            <a:endParaRPr b="0" lang="en-US" sz="5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FCB6-4AD7-4576-B145-76ED43855B3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Square/Rectangle Formul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=2(Length+Width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2(25+14)                      P=2(20+20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50+2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40+40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7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80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4419720"/>
            <a:ext cx="2743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640" y="510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118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172200" y="4572000"/>
            <a:ext cx="1295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631560" y="5943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2B43-10F1-4381-BB74-9761201AF01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ther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Just add up EACH segmen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733920" y="396252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7888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903240" y="597996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C6B8-F813-49A7-8D14-2C9D2ED98BD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dd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Count ALL sides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Remember if one side blank, it’s equal to its opposite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90720" y="4572000"/>
            <a:ext cx="2057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52388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83096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410080" y="4572000"/>
            <a:ext cx="19814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94360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209680" y="60199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27432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H="1" flipV="1">
            <a:off x="114264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2133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68240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71488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1358640" y="2932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71629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6629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57913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51051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5472360" y="28558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3796560" y="60562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6170-9758-49A2-A537-B9915165480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is the ENTIRE INSIDE of a shap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It is always measured in “squares” (sq. inch, sq ft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EACE-73E7-4C6B-B72D-B21B5C5A2A5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2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685800" y="327672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6781680" y="3200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334120" y="4572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1296360" y="609588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7317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454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73170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D1CC-CBB9-452E-8424-6328A40943C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Area of Squares/Rectangl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=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5800" y="320040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670572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410080" y="4419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024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746800" y="601992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7CE6-7815-47C3-B356-09984AFCA78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ame idea as squares &amp; rectangles, but they change the words to Base (length:bottom of shape) and height (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D5DC-C491-4F43-A9A4-53C2D46538B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Base x Heigh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Area=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2895480" y="4038480"/>
            <a:ext cx="2133720" cy="1371600"/>
          </a:xfrm>
          <a:prstGeom prst="parallelogram">
            <a:avLst>
              <a:gd name="adj" fmla="val 388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187080" y="5751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584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643560" y="544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8120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955400" y="6095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50532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642640" y="403848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49528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B259-F671-417F-9949-B949E9CBBE9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REAL formula for area of squar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ide x Side (side squared) (just a different way of saying 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828800" y="48769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898360" y="51055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831320" y="6019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B736-3155-43C9-BAF4-E1DDCEE3DDA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Different Names/Same idea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de x Side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78168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781680" y="1981080"/>
            <a:ext cx="1600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705720" y="487692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E744-5D6A-4696-B9BC-F120607EDDE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Don’t Get Scared!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vil mathematicians have created formulas to save you time.  But, they always change the letters of the formulas to scare you!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33AB-CFE1-449A-A862-EDD53EBB662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Triang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½ 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It’s ½ because ½ of the “square” is missing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143000" y="4724280"/>
            <a:ext cx="1676520" cy="1524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7391520" y="320040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7453800" y="430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692400" y="3693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1981080" y="4800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213372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263400" y="5370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043720" y="6284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76824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8439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786920" y="5522760"/>
            <a:ext cx="25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A3B1-6453-4086-BE7E-C16382A3159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= 3.14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Radius: from center (origin) of circle to ANY sid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pi x (Radius x Radius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898A-E4E4-430D-8B5E-16CD3958C4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ircumference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/Circumference = pi x dia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i is always 3.14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Circumference is a fancy name for peri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The diameter is  a line from one side to the other side of a circle through its origin (It’s twice the radius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7543800" y="4495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75438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2895480" y="5410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3526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254120" y="559908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71EC-9DAA-4633-8AE6-8AB92D6D18D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= piR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 = 3.14   and R=Radius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3809880" y="3581280"/>
            <a:ext cx="20574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48006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80348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18364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763920" y="59436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396400" y="59040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1201-298A-448C-9B0D-2F5E938A921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You’re Done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Squares, rectangles and parallelograms area are almost the same (LxW)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riangles are ½ cause your missing ½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Circles have fancy names, but just follow the formula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1954-F0A2-482D-9D75-9619FA4E477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r most tests you will have the formulas given to you.  Just remember which one to use for which shape and you’ll do fin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B36C-BFA2-49D9-9F8E-7B7DB95C4BB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ny shape’s “perimeter” is the outside of the shape…like a fence around a yard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66680" y="49528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114800" y="49528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705720" y="4952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3BFF-E17D-4674-A753-6AE6651BC4C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o calculate the perimeter of any shape, just add up “each” line segment of the “fence”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7022-A390-47A0-9826-DABA235C4D7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riangles have 3 sides…add up each sides length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00400" y="3505320"/>
            <a:ext cx="1828800" cy="1676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952880" y="4114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809880" y="51814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5238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09588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05320" y="6095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775480" y="590400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9BDC-2F1C-44FD-A7B6-804BF52D1DD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 square has 4 sides of a fenc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7" name="AutoShape 4"/>
          <p:cNvSpPr/>
          <p:nvPr/>
        </p:nvSpPr>
        <p:spPr>
          <a:xfrm rot="2740200">
            <a:off x="3012840" y="3751200"/>
            <a:ext cx="2133720" cy="21175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36232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87692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809880" y="5562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65760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907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869440" y="4800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11696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329720" y="293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327000" y="5867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65FE-67A8-495B-8649-3B75505E8F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ometimes, problems may only give you two measurements for a square or rectangl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No problem…use the formula for squares/rectangles (only!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6030-851C-4344-BC98-82A5B26C958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memb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quares ALL sides are equal…so if they give you one side, you know ALL the sides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ngth=the Largest sid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If they “leave” numbers out, they are equal to their opposite side.  If they give you the bottom of a square/rectangle type shape then the top is the sam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6C48-87D7-4D03-B318-92B68293DCB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he Same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If the bottom is 15…the top is…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2514600" y="4114800"/>
            <a:ext cx="3124080" cy="17524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AutoShape 7"/>
          <p:cNvCxnSpPr/>
          <p:nvPr/>
        </p:nvCxnSpPr>
        <p:spPr>
          <a:xfrm>
            <a:off x="2514600" y="6095520"/>
            <a:ext cx="327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Text Box 8"/>
          <p:cNvSpPr/>
          <p:nvPr/>
        </p:nvSpPr>
        <p:spPr>
          <a:xfrm>
            <a:off x="38120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33Z</dcterms:created>
  <dc:creator>Mr. Ryan</dc:creator>
  <dc:description/>
  <dc:language>en-US</dc:language>
  <cp:lastModifiedBy>RomaK</cp:lastModifiedBy>
  <dcterms:modified xsi:type="dcterms:W3CDTF">2015-09-04T07:40:44Z</dcterms:modified>
  <cp:revision>19</cp:revision>
  <dc:subject/>
  <dc:title>Formulas for Geometry</dc:title>
</cp:coreProperties>
</file>