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24FB-69AD-41A9-B26C-7851B42300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dd or subtract radicals like monomials. You can also simplify radicals by using the FOIL method of multiplying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tr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dd or subtract radicals like monomials. You can also simplify radicals by using the FOIL method of multiplying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tr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 there are no like terms, you can not comb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 there are no like terms, you can not comb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s do another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s do another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y the product    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y the product    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E9A-DDB8-49E9-86B0-3AB74E2C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EC7-AD81-45C0-B26C-53427B73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1CCC-C408-4620-A4A0-67489953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ED0-AD74-48B7-8BE9-C88ECFC1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5A54-15D5-4528-8F5F-5FC6C84D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71BC-5BBC-4E77-A239-C01B3032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E4FE-CE54-44D1-870F-94A86A31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9B81-8674-4285-A367-557F050E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6EFC-6623-4823-A406-2337B8F8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37FE-2350-4831-A1CB-78D2CDBE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0ECF-2F43-4E6E-A94E-FDBCA957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E13-71E5-4C53-A8B9-A525B788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CC24-3751-4D61-9F6F-52BEF150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6581-B5E7-4898-A15A-2A4E07C4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4F9E-7C8F-4F81-AA14-FC66AAAA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70B6-DCED-41D2-A065-F87B665F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4D9F-8308-4FA5-B285-992FDED7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D47-C456-4F67-903B-23BEE454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DB6F-D608-445C-A683-40AC1A84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2A1-BB13-44D0-9069-EDB04C73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27A-57B8-4829-BF8F-F03FC121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0FD-C9B3-4597-ADA7-FB015ED7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624-EAC9-42A3-9645-D9D1D502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2918-BA9A-459E-BD1A-125DC331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Freeform 3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Group 6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9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Freeform 12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15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Freeform 16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Freeform 20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" name="Group 32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Freeform 33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Freeform 36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Freeform 39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Freeform 41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" name="Group 42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Freeform 43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" name="Group 45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Freeform 46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Freeform 48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50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Freeform 63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65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Freeform 72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5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79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0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87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88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2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93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98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00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04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05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09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E68D-F57C-4AB4-AB16-2C5B2A0E6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Freeform 3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Group 5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Group 6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Freeform 7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8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9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Freeform 10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1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12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3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4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15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Freeform 16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7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8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20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1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2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3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4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5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7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8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9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0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31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Group 32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Freeform 33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4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5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36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7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38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Freeform 39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0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Freeform 41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42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Freeform 43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4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45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Freeform 46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7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48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9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50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1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2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3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4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55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56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57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58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59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0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61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Group 62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Freeform 63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4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65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66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67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68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69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0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Group 71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Freeform 72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4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75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76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77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8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9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0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2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3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4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5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86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87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88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9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0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91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92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93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4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95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96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97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98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99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00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01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02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03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04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05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06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07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08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09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0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11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12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C67A-177B-43B1-B183-9C5A7A98D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Do We Multiply Radical Expressions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1600200" y="2914560"/>
            <a:ext cx="344808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2"/>
          <a:stretch/>
        </p:blipFill>
        <p:spPr>
          <a:xfrm>
            <a:off x="1676520" y="4191120"/>
            <a:ext cx="1752480" cy="14256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7"/>
          <p:cNvSpPr/>
          <p:nvPr/>
        </p:nvSpPr>
        <p:spPr>
          <a:xfrm>
            <a:off x="914400" y="2819520"/>
            <a:ext cx="609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9907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1066680" y="4648320"/>
            <a:ext cx="533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Do We Multiply Radical Expressions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6840" y="22093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752480" y="4800600"/>
          <a:ext cx="594360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800600"/>
                    <a:ext cx="594360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838080" y="228600"/>
            <a:ext cx="7620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add or subtract radicals like monomials. You can also simplify radicals by using the FOIL method of multiplying binomi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3"/>
          <p:cNvGraphicFramePr/>
          <p:nvPr/>
        </p:nvGraphicFramePr>
        <p:xfrm>
          <a:off x="838080" y="5181480"/>
          <a:ext cx="7086600" cy="8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181480"/>
                    <a:ext cx="708660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4"/>
          <p:cNvSpPr/>
          <p:nvPr/>
        </p:nvSpPr>
        <p:spPr>
          <a:xfrm>
            <a:off x="1523880" y="40384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try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Object 2"/>
          <p:cNvGraphicFramePr/>
          <p:nvPr/>
        </p:nvGraphicFramePr>
        <p:xfrm>
          <a:off x="1447920" y="304920"/>
          <a:ext cx="59324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920"/>
                    <a:ext cx="5932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3"/>
          <p:cNvGraphicFramePr/>
          <p:nvPr/>
        </p:nvGraphicFramePr>
        <p:xfrm>
          <a:off x="228600" y="1752480"/>
          <a:ext cx="868680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752480"/>
                    <a:ext cx="86868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4"/>
          <p:cNvGraphicFramePr/>
          <p:nvPr/>
        </p:nvGraphicFramePr>
        <p:xfrm>
          <a:off x="1219320" y="3276720"/>
          <a:ext cx="6654600" cy="80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276720"/>
                    <a:ext cx="66546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5"/>
          <p:cNvGraphicFramePr/>
          <p:nvPr/>
        </p:nvGraphicFramePr>
        <p:xfrm>
          <a:off x="1600200" y="4267080"/>
          <a:ext cx="552456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267080"/>
                    <a:ext cx="552456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6"/>
          <p:cNvSpPr/>
          <p:nvPr/>
        </p:nvSpPr>
        <p:spPr>
          <a:xfrm>
            <a:off x="762120" y="54259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ce  there are no like terms, you can not comb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2286000" y="4572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s do another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1905120" y="1828800"/>
          <a:ext cx="48639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28800"/>
                    <a:ext cx="48639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4"/>
          <p:cNvGraphicFramePr/>
          <p:nvPr/>
        </p:nvGraphicFramePr>
        <p:xfrm>
          <a:off x="609480" y="2895480"/>
          <a:ext cx="81406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895480"/>
                    <a:ext cx="81406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5"/>
          <p:cNvGraphicFramePr/>
          <p:nvPr/>
        </p:nvGraphicFramePr>
        <p:xfrm>
          <a:off x="1371600" y="3809880"/>
          <a:ext cx="6489720" cy="76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809880"/>
                    <a:ext cx="64897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6"/>
          <p:cNvGraphicFramePr/>
          <p:nvPr/>
        </p:nvGraphicFramePr>
        <p:xfrm>
          <a:off x="3505320" y="4876920"/>
          <a:ext cx="185400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876920"/>
                    <a:ext cx="18540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7"/>
          <p:cNvGraphicFramePr/>
          <p:nvPr/>
        </p:nvGraphicFramePr>
        <p:xfrm>
          <a:off x="3733920" y="5715000"/>
          <a:ext cx="1104840" cy="57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5715000"/>
                    <a:ext cx="11048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228600" y="380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fy the produ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3"/>
          <p:cNvGraphicFramePr/>
          <p:nvPr/>
        </p:nvGraphicFramePr>
        <p:xfrm>
          <a:off x="2133720" y="1066680"/>
          <a:ext cx="44193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419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4"/>
          <p:cNvGraphicFramePr/>
          <p:nvPr/>
        </p:nvGraphicFramePr>
        <p:xfrm>
          <a:off x="228600" y="2514600"/>
          <a:ext cx="1295280" cy="6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14600"/>
                    <a:ext cx="12952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"/>
          <p:cNvGraphicFramePr/>
          <p:nvPr/>
        </p:nvGraphicFramePr>
        <p:xfrm>
          <a:off x="228600" y="3505320"/>
          <a:ext cx="4462560" cy="80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505320"/>
                    <a:ext cx="446256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6"/>
          <p:cNvGraphicFramePr/>
          <p:nvPr/>
        </p:nvGraphicFramePr>
        <p:xfrm>
          <a:off x="228600" y="4495680"/>
          <a:ext cx="365760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495680"/>
                    <a:ext cx="36576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7"/>
          <p:cNvGraphicFramePr/>
          <p:nvPr/>
        </p:nvGraphicFramePr>
        <p:xfrm>
          <a:off x="1523880" y="2438280"/>
          <a:ext cx="1828800" cy="78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2438280"/>
                    <a:ext cx="182880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8"/>
          <p:cNvGraphicFramePr/>
          <p:nvPr/>
        </p:nvGraphicFramePr>
        <p:xfrm>
          <a:off x="3352680" y="2362320"/>
          <a:ext cx="2057400" cy="83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2362320"/>
                    <a:ext cx="20574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9"/>
          <p:cNvGraphicFramePr/>
          <p:nvPr/>
        </p:nvGraphicFramePr>
        <p:xfrm>
          <a:off x="5410080" y="2362320"/>
          <a:ext cx="3429000" cy="83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0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2362320"/>
                    <a:ext cx="34290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y on Your Ow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371600" y="1752480"/>
                <a:ext cx="32004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6"/>
              <p:cNvSpPr txBox="1"/>
              <p:nvPr/>
            </p:nvSpPr>
            <p:spPr>
              <a:xfrm>
                <a:off x="1295280" y="4038480"/>
                <a:ext cx="30481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3:55:22Z</dcterms:created>
  <dc:creator>esther</dc:creator>
  <dc:description/>
  <dc:language>en-US</dc:language>
  <cp:lastModifiedBy>RomaK</cp:lastModifiedBy>
  <dcterms:modified xsi:type="dcterms:W3CDTF">2015-09-04T07:40:34Z</dcterms:modified>
  <cp:revision>7</cp:revision>
  <dc:subject/>
  <dc:title>Slide 1</dc:title>
</cp:coreProperties>
</file>