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wmf" ContentType="image/x-wmf"/>
  <Override PartName="/ppt/media/image4.png" ContentType="image/png"/>
  <Override PartName="/ppt/media/image11.jpeg" ContentType="image/jpeg"/>
  <Override PartName="/ppt/media/image9.gif" ContentType="image/gif"/>
  <Override PartName="/ppt/media/image10.wmf" ContentType="image/x-wmf"/>
  <Override PartName="/ppt/media/image7.jpeg" ContentType="image/jpeg"/>
  <Override PartName="/ppt/media/image20.jpeg" ContentType="image/jpeg"/>
  <Override PartName="/ppt/media/image19.gif" ContentType="image/gif"/>
  <Override PartName="/ppt/media/image18.gif" ContentType="image/gif"/>
  <Override PartName="/ppt/media/image5.png" ContentType="image/png"/>
  <Override PartName="/ppt/media/image8.jpeg" ContentType="image/jpeg"/>
  <Override PartName="/ppt/media/image1.jpeg" ContentType="image/jpeg"/>
  <Override PartName="/ppt/media/image15.wmf" ContentType="image/x-wmf"/>
  <Override PartName="/ppt/media/image2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6.png" ContentType="image/png"/>
  <Override PartName="/ppt/media/image14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FEDF-BF8A-468A-916D-F64BEEE32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              &amp;                          MULTI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.USH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GT ( MATHEMAT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V,GILL NA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NNA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4 Balls / 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Rows ×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Balls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Rows × 1 Ball / Row =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4  and  8 are exact divisors of 8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divides  28 exactly and gives Quotient 4 and  Remainder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divides 28 exactly and gives  Quotient  7 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= 7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divides 28 exactly and gives  Quotient  7  and Remainder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8 ÷ 4 =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divides 28 exactly and gives Quotient 1 and Remainder 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divides 28 exactly and gives Quotient 1 and Remainder 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28 ÷ 28 =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1  =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4  =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 ÷ 28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1  =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4 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7  =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 ÷ 28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FACTORS OF 2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   =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2   = 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4   = 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8   = 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÷ 16 =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   =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2   = 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4   = 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8   =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 ÷ 16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CTORS OF 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factor of a number is an exact divisor of  that number i.e. the factor leaves remainder 0 when it divides the numb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6 star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and 5 are factors of 20. We can also say that 20 is multiple of 4 and 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2 × 12 = 24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nd 12 are factors of 2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 is the multiple of 2 and 1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 number is a multiple of its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  OF SOME  NUMBERS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× 5 = 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s a factor of every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of a number is an exact divisor of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factor is less than or equal to the given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ber of factors of a given number are 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S TO REMEMB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TOR OR MULTI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4    ×     5    =   1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5    ×     4    =   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   ×    10   =   9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5    ×    6     =   27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   ×    30   =   2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F] [M]            [F] [M]            [F] [M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 whether the following statements are TRUE or FA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1 is a factor of every number. 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Number of factors of a given number is infinite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The number of multiples of 5 is 10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The factors of 65 are 1, 5 and 13 only. F   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ECT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6 Stars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ONG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Rows × 2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Rows × 3 stars per 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Rows × 1 Star/Row = 6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6 = 1 ×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2 ×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 = 6 ×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, 2, 3 and 6 are exact divisors of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FOOT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8 footballs and ar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in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angement of 8 in different w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Row × 8 Balls/Row = 8 Ba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9DC6-70E4-44C6-B391-BF79545B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683-43B5-475F-9DAF-45BF4600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7C859-C3CE-466D-834E-8F5510A5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D075D-AA67-4092-A5AC-BFB3B732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DA6CF-22A9-415B-9EE9-7BE0C3C9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7D74B-08CB-4E2A-9AA5-0A76794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93D17-F15F-4FC2-AB12-CF38128C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9284C-045B-4FF3-A1BE-90EF1EC3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E2B57-6153-46F6-81A2-B956EBC5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52454-EF03-4422-AB93-FF915041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EEC4D-A71A-4470-8784-C2CB659D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C11-5772-4E9C-B816-1BFABFBC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FB1-F3BE-4303-9020-B5A347F3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5F9B-0146-4AB9-AB46-D2B01A56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3E33-7A37-4D5B-ADC3-D90CD7FB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24CD-0337-465B-97D1-458182A4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F549-4FF5-4F8C-9422-C66DC359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6759-A853-42F0-9B28-67C24026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8F09-D5E0-4990-AC25-AC9BBA44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FF87-EEB8-40DC-BE2E-417FAC10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82EA-32C7-4E1D-AEC3-0FF0C8E7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F84C-B69E-4AA6-9CC2-88B28C3A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A7E6-CF4B-47AC-84A1-BA9B20BD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86D1-9A1C-44EF-9128-5DE6F708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B4B6-024D-4792-83E2-84C1FA2F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A1C2-A1ED-4AF4-AE74-A61A274B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C5C9-CC72-4B71-A523-0606E1CE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4F210-0B63-4F85-A8C2-25534C6B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BD81-A794-4520-8F8B-07E97F03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5E87-ED34-4316-AFDE-08CADFCC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C432-9AC6-41DD-AAA3-0718EDC5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027-7628-4DFF-A840-F368DF28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3163-E42C-429F-BB78-ADC186B1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B5BC-AFE0-4E99-B81F-4B67DBF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27D5D-D3CF-4297-A3F7-E1DDC869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9CED-F811-41EB-817C-D47FA376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9DF5A-72D6-411A-97F8-165B7445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59AA-7BFF-4FE2-AA67-8DE4DAE7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6889-B1B4-425D-A741-E52B5131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19EC0-35CA-47CA-BB58-BAD1FAAA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5898-C6A9-4EDD-BBFB-12291739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2ACF-0CE9-4240-B524-E93F3A89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5B0-D94B-44E2-8507-3D2E0A37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80988-2AFC-424E-9FAB-4CF4E844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0BB6-3C82-4CFA-9179-2753D1AF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8EB3-D415-4661-8BCA-E595CB3E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9551-EDD5-4E9F-9D7A-A72C2F0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F1189-0E7D-49BA-A4BD-C8C6521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DA754-52F9-47D1-A70B-93611E73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38F8-4C7A-4108-83B7-C8DF49EC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2FFE-FF32-4A73-B95E-22C7B0D8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29D7B-6956-4700-B75F-76AA7379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03E66-F932-4340-85C8-9DD85562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6F3-984E-4093-AE66-FB567DF7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B878-E7AA-45E0-8D41-33B7CC34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3A08B-1491-4ED0-A1DC-370A8BF3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6F4FC-117F-45EE-AF35-76410FF7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1A519-BE4C-47D8-B361-E49992B9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A884A-9C54-4476-ABC3-D4FEC251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2C7B7-8305-4395-AA49-7712D754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5A6B4-21EF-4F61-BE8D-05FA7EC1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32B06-558D-4932-8CAD-27EEB31B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A261-F1E6-46FA-8ADF-83307BC9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03E6C-E416-4087-B0FD-31D3B95D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DAB3-91F9-4335-AEBA-A67D7ACA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2D5EB-5F41-4B7E-8F19-03E8FF11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F4930-B243-48FB-837A-EEE5429A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FEB16-2CE0-41E1-A936-A13F98A7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2BFA-6B54-4D7D-BB38-44DD549E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E02BC-8718-4220-A2A9-475DF941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154FB-A9C0-40F4-80B5-431D35BE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9B29B-EE8A-4D66-BD53-B9F3AFC6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C285E-BC2E-474D-9798-78C016A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5F56-DE6B-4005-AF24-670D64B8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31AB7-156B-4EF3-8C57-A1453B4F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2AEC-DF34-40BD-A8D4-3A7CDF8B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DF7C8-B48F-4874-AC57-959A3534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EC634-6B04-49F9-A74E-DCB37B22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E0E3D-C1E5-4D0D-AD9D-7897BE03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62CBA-4D9D-4C75-A364-F7E9DAD3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EDEF0-853B-4F2D-99BD-71A6E54F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123B4-7CCE-49FA-AD3D-007A86CB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89CC1-B4BA-4133-B3D4-FF3160FC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A85F4-1569-49D8-A1C8-153091EB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E361E-33C7-4DA4-B09E-A044F916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CDC07-F730-4EBA-9018-04A8555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D0F-2C09-4A1F-A20E-B4CDB703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EE9D3-9E95-4C69-858C-FE4A4E19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47669-9900-4784-B088-ADCE3481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B96C-6D04-41F2-8226-2F1A0AF3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E9E21-AB30-4DD6-B222-18D60AC1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E1716-CA5E-4998-A385-27ABB915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66734-95CE-4681-AF8F-B16ED2CF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E7694-8C49-4C7E-B189-99CEC72D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34745-973F-4453-BC63-DE929F3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11C92-C475-43E8-9659-3E1B903B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B9056-A0C4-4A20-87AB-10F6F19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930-19BA-453E-9A72-25BDE8FE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38EC2-C245-435B-A749-738EF116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456CC-4D6B-4650-9774-7F6711E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9DA83-1070-41D2-8F97-3F183D3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A420A-7E90-41AE-A5D7-F3C1984D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C4718-4E14-40D8-A8D5-8BD5A35D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7B102-230C-473E-82D2-59BCEFC6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0F32B-26D5-4205-82A0-69EE6B2E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7F8DA-DDE0-43D6-B710-750AF345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566C0-40DD-45E4-A192-2CE81C51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D1A82-C2D0-457F-A656-8620B152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F7AE-B5DE-4AA2-88D3-1D41FE1A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0CE9-9711-4517-A3BD-032297FAE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6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8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17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5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2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37B-EBEF-4F91-9309-E2314DC5B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7595-0C40-4BF0-9B1F-963D5C22A17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6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7AD3-E66E-4CA1-860F-8B3A94BAEF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1159-5023-4CB5-9F81-8464601F4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0128-AD9D-4961-98D9-7238B71FD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59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72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EEC6-5C95-4339-ABDD-622FEE0862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5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B0B6-9BAA-4B98-AF5B-C8950BA4F6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0.xml"/><Relationship Id="rId12" Type="http://schemas.openxmlformats.org/officeDocument/2006/relationships/slide" Target="slide29.xml"/><Relationship Id="rId13" Type="http://schemas.openxmlformats.org/officeDocument/2006/relationships/slide" Target="slide29.xml"/><Relationship Id="rId14" Type="http://schemas.openxmlformats.org/officeDocument/2006/relationships/slide" Target="slide30.xml"/><Relationship Id="rId15" Type="http://schemas.openxmlformats.org/officeDocument/2006/relationships/slide" Target="slide29.xml"/><Relationship Id="rId16" Type="http://schemas.openxmlformats.org/officeDocument/2006/relationships/slide" Target="slide30.xml"/><Relationship Id="rId17" Type="http://schemas.openxmlformats.org/officeDocument/2006/relationships/slide" Target="slide30.xml"/><Relationship Id="rId18" Type="http://schemas.openxmlformats.org/officeDocument/2006/relationships/slide" Target="slide29.xml"/><Relationship Id="rId19" Type="http://schemas.openxmlformats.org/officeDocument/2006/relationships/slide" Target="slide29.xml"/><Relationship Id="rId20" Type="http://schemas.openxmlformats.org/officeDocument/2006/relationships/slide" Target="slide30.xml"/><Relationship Id="rId21" Type="http://schemas.openxmlformats.org/officeDocument/2006/relationships/slide" Target="slide29.xml"/><Relationship Id="rId22" Type="http://schemas.openxmlformats.org/officeDocument/2006/relationships/slide" Target="slide30.xml"/><Relationship Id="rId23" Type="http://schemas.openxmlformats.org/officeDocument/2006/relationships/slide" Target="slide30.xml"/><Relationship Id="rId24" Type="http://schemas.openxmlformats.org/officeDocument/2006/relationships/slide" Target="slide29.xml"/><Relationship Id="rId25" Type="http://schemas.openxmlformats.org/officeDocument/2006/relationships/slide" Target="slide29.xml"/><Relationship Id="rId26" Type="http://schemas.openxmlformats.org/officeDocument/2006/relationships/slide" Target="slide30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0.xml"/><Relationship Id="rId30" Type="http://schemas.openxmlformats.org/officeDocument/2006/relationships/slide" Target="slide29.xml"/><Relationship Id="rId31" Type="http://schemas.openxmlformats.org/officeDocument/2006/relationships/slideLayout" Target="../slideLayouts/slideLayout13.xml"/><Relationship Id="rId3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29.xml"/><Relationship Id="rId8" Type="http://schemas.openxmlformats.org/officeDocument/2006/relationships/slide" Target="slide30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33AA-CFC4-4EAB-9C2D-6E9560DDF1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FACTORS                &amp;                          MULTIPLE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.US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GT ( MATHEMATIC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KV,GILL NAG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ENNA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6477120" y="3048120"/>
            <a:ext cx="23619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MCj02320550000[1]"/>
          <p:cNvPicPr/>
          <p:nvPr/>
        </p:nvPicPr>
        <p:blipFill>
          <a:blip r:embed="rId2"/>
          <a:stretch/>
        </p:blipFill>
        <p:spPr>
          <a:xfrm>
            <a:off x="76320" y="2616120"/>
            <a:ext cx="1992240" cy="1422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MPj03993470000[1]"/>
          <p:cNvPicPr/>
          <p:nvPr/>
        </p:nvPicPr>
        <p:blipFill>
          <a:blip r:embed="rId3"/>
          <a:stretch/>
        </p:blipFill>
        <p:spPr>
          <a:xfrm>
            <a:off x="228600" y="4979880"/>
            <a:ext cx="2362320" cy="1573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0" descr="MCj03552490000[1]"/>
          <p:cNvPicPr/>
          <p:nvPr/>
        </p:nvPicPr>
        <p:blipFill>
          <a:blip r:embed="rId4"/>
          <a:stretch/>
        </p:blipFill>
        <p:spPr>
          <a:xfrm>
            <a:off x="69343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"/>
          <p:cNvPicPr/>
          <p:nvPr/>
        </p:nvPicPr>
        <p:blipFill>
          <a:blip r:embed="rId5"/>
          <a:stretch/>
        </p:blipFill>
        <p:spPr>
          <a:xfrm>
            <a:off x="76320" y="-763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1507-B9ED-4511-A20D-9B2C0210B01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Picture 4" descr="j0299763"/>
          <p:cNvPicPr/>
          <p:nvPr/>
        </p:nvPicPr>
        <p:blipFill>
          <a:blip r:embed="rId1"/>
          <a:stretch/>
        </p:blipFill>
        <p:spPr>
          <a:xfrm>
            <a:off x="914400" y="1523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" descr="j0299763"/>
          <p:cNvPicPr/>
          <p:nvPr/>
        </p:nvPicPr>
        <p:blipFill>
          <a:blip r:embed="rId2"/>
          <a:stretch/>
        </p:blipFill>
        <p:spPr>
          <a:xfrm>
            <a:off x="2895480" y="14922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j0299763"/>
          <p:cNvPicPr/>
          <p:nvPr/>
        </p:nvPicPr>
        <p:blipFill>
          <a:blip r:embed="rId3"/>
          <a:stretch/>
        </p:blipFill>
        <p:spPr>
          <a:xfrm>
            <a:off x="4648320" y="14158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7" descr="j0299763"/>
          <p:cNvPicPr/>
          <p:nvPr/>
        </p:nvPicPr>
        <p:blipFill>
          <a:blip r:embed="rId4"/>
          <a:stretch/>
        </p:blipFill>
        <p:spPr>
          <a:xfrm>
            <a:off x="6324480" y="13716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8" descr="j0299763"/>
          <p:cNvPicPr/>
          <p:nvPr/>
        </p:nvPicPr>
        <p:blipFill>
          <a:blip r:embed="rId5"/>
          <a:stretch/>
        </p:blipFill>
        <p:spPr>
          <a:xfrm>
            <a:off x="83808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9" descr="j0299763"/>
          <p:cNvPicPr/>
          <p:nvPr/>
        </p:nvPicPr>
        <p:blipFill>
          <a:blip r:embed="rId6"/>
          <a:stretch/>
        </p:blipFill>
        <p:spPr>
          <a:xfrm>
            <a:off x="2971800" y="33526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j0299763"/>
          <p:cNvPicPr/>
          <p:nvPr/>
        </p:nvPicPr>
        <p:blipFill>
          <a:blip r:embed="rId7"/>
          <a:stretch/>
        </p:blipFill>
        <p:spPr>
          <a:xfrm>
            <a:off x="48006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j0299763"/>
          <p:cNvPicPr/>
          <p:nvPr/>
        </p:nvPicPr>
        <p:blipFill>
          <a:blip r:embed="rId8"/>
          <a:stretch/>
        </p:blipFill>
        <p:spPr>
          <a:xfrm>
            <a:off x="6553080" y="31240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13"/>
          <p:cNvSpPr/>
          <p:nvPr/>
        </p:nvSpPr>
        <p:spPr>
          <a:xfrm>
            <a:off x="152280" y="4952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9EA4-2E32-4C44-AEC0-9EB6156693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4" descr="j0299763"/>
          <p:cNvPicPr/>
          <p:nvPr/>
        </p:nvPicPr>
        <p:blipFill>
          <a:blip r:embed="rId1"/>
          <a:stretch/>
        </p:blipFill>
        <p:spPr>
          <a:xfrm>
            <a:off x="83808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5" descr="j0299763"/>
          <p:cNvPicPr/>
          <p:nvPr/>
        </p:nvPicPr>
        <p:blipFill>
          <a:blip r:embed="rId2"/>
          <a:stretch/>
        </p:blipFill>
        <p:spPr>
          <a:xfrm>
            <a:off x="2819520" y="53020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j0299763"/>
          <p:cNvPicPr/>
          <p:nvPr/>
        </p:nvPicPr>
        <p:blipFill>
          <a:blip r:embed="rId3"/>
          <a:stretch/>
        </p:blipFill>
        <p:spPr>
          <a:xfrm>
            <a:off x="838080" y="3733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j0299763"/>
          <p:cNvPicPr/>
          <p:nvPr/>
        </p:nvPicPr>
        <p:blipFill>
          <a:blip r:embed="rId4"/>
          <a:stretch/>
        </p:blipFill>
        <p:spPr>
          <a:xfrm>
            <a:off x="2819520" y="36259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j0299763"/>
          <p:cNvPicPr/>
          <p:nvPr/>
        </p:nvPicPr>
        <p:blipFill>
          <a:blip r:embed="rId5"/>
          <a:stretch/>
        </p:blipFill>
        <p:spPr>
          <a:xfrm>
            <a:off x="838080" y="2133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j0299763"/>
          <p:cNvPicPr/>
          <p:nvPr/>
        </p:nvPicPr>
        <p:blipFill>
          <a:blip r:embed="rId6"/>
          <a:stretch/>
        </p:blipFill>
        <p:spPr>
          <a:xfrm>
            <a:off x="2819520" y="2057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99763"/>
          <p:cNvPicPr/>
          <p:nvPr/>
        </p:nvPicPr>
        <p:blipFill>
          <a:blip r:embed="rId7"/>
          <a:stretch/>
        </p:blipFill>
        <p:spPr>
          <a:xfrm>
            <a:off x="838080" y="609480"/>
            <a:ext cx="1143000" cy="9464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1" descr="j0299763"/>
          <p:cNvPicPr/>
          <p:nvPr/>
        </p:nvPicPr>
        <p:blipFill>
          <a:blip r:embed="rId8"/>
          <a:stretch/>
        </p:blipFill>
        <p:spPr>
          <a:xfrm>
            <a:off x="2819520" y="609480"/>
            <a:ext cx="1143000" cy="94644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3"/>
          <p:cNvSpPr/>
          <p:nvPr/>
        </p:nvSpPr>
        <p:spPr>
          <a:xfrm>
            <a:off x="4648320" y="129528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DDEE-63E3-4105-BED6-E9B7FBBC58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8" descr="j0299763"/>
          <p:cNvPicPr/>
          <p:nvPr/>
        </p:nvPicPr>
        <p:blipFill>
          <a:blip r:embed="rId1"/>
          <a:stretch/>
        </p:blipFill>
        <p:spPr>
          <a:xfrm>
            <a:off x="762120" y="152280"/>
            <a:ext cx="838080" cy="69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0"/>
          <p:cNvSpPr/>
          <p:nvPr/>
        </p:nvSpPr>
        <p:spPr>
          <a:xfrm>
            <a:off x="2209680" y="150804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Rows × 1 Ball / Row =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8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11" descr="j0299763"/>
          <p:cNvPicPr/>
          <p:nvPr/>
        </p:nvPicPr>
        <p:blipFill>
          <a:blip r:embed="rId2"/>
          <a:stretch/>
        </p:blipFill>
        <p:spPr>
          <a:xfrm>
            <a:off x="762120" y="9907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2" descr="j0299763"/>
          <p:cNvPicPr/>
          <p:nvPr/>
        </p:nvPicPr>
        <p:blipFill>
          <a:blip r:embed="rId3"/>
          <a:stretch/>
        </p:blipFill>
        <p:spPr>
          <a:xfrm>
            <a:off x="762120" y="18288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3" descr="j0299763"/>
          <p:cNvPicPr/>
          <p:nvPr/>
        </p:nvPicPr>
        <p:blipFill>
          <a:blip r:embed="rId4"/>
          <a:stretch/>
        </p:blipFill>
        <p:spPr>
          <a:xfrm>
            <a:off x="762120" y="26668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4" descr="j0299763"/>
          <p:cNvPicPr/>
          <p:nvPr/>
        </p:nvPicPr>
        <p:blipFill>
          <a:blip r:embed="rId5"/>
          <a:stretch/>
        </p:blipFill>
        <p:spPr>
          <a:xfrm>
            <a:off x="762120" y="350532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5" descr="j0299763"/>
          <p:cNvPicPr/>
          <p:nvPr/>
        </p:nvPicPr>
        <p:blipFill>
          <a:blip r:embed="rId6"/>
          <a:stretch/>
        </p:blipFill>
        <p:spPr>
          <a:xfrm>
            <a:off x="762120" y="434340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6" descr="j0299763"/>
          <p:cNvPicPr/>
          <p:nvPr/>
        </p:nvPicPr>
        <p:blipFill>
          <a:blip r:embed="rId7"/>
          <a:stretch/>
        </p:blipFill>
        <p:spPr>
          <a:xfrm>
            <a:off x="762120" y="5181480"/>
            <a:ext cx="838080" cy="6937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j0299763"/>
          <p:cNvPicPr/>
          <p:nvPr/>
        </p:nvPicPr>
        <p:blipFill>
          <a:blip r:embed="rId8"/>
          <a:stretch/>
        </p:blipFill>
        <p:spPr>
          <a:xfrm>
            <a:off x="762120" y="6019920"/>
            <a:ext cx="838080" cy="693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6A79-A5FF-485F-8930-4B3B1A4EB7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295280" y="214956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, 2, 4  and  8 ar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of 8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8B28-DC32-4F4D-B902-27E71FB704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"/>
          <p:cNvSpPr/>
          <p:nvPr/>
        </p:nvSpPr>
        <p:spPr>
          <a:xfrm>
            <a:off x="457200" y="849240"/>
            <a:ext cx="83818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 divides 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4 and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7  = 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amond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7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8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11D8-AFC3-4F66-AF6C-AEA275841E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533520" y="990720"/>
            <a:ext cx="815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 divides 28 exactly and gives 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7 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4 = 7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wipe dir="r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8475-9F35-49C5-AF72-5FC060A8A2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533520" y="838080"/>
            <a:ext cx="815328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8 divides 28 exactly and gives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Quotient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1 and </a:t>
            </a: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ainder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28 ÷ 28 = 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blinds dir="vert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F38C-A0C5-4626-9BC8-A84B9A68F6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2362320" y="1295280"/>
            <a:ext cx="4572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1  = 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4  = 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28 ÷ 7  =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 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÷</a:t>
            </a: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 28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4114800" y="1295280"/>
            <a:ext cx="1143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4"/>
          <p:cNvSpPr/>
          <p:nvPr/>
        </p:nvSpPr>
        <p:spPr>
          <a:xfrm>
            <a:off x="1371600" y="3049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2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zoom dir="in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3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3000" fill="hold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2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3" dur="2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6" dur="2000"/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30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30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5" dur="30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7" dur="3000" fill="hold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F986-6D02-4FBC-B15B-8B39823549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2209680" y="933480"/>
            <a:ext cx="48006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   = 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2   =  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4   =  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8   =  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16 ÷ 16 = 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4038480" y="933480"/>
            <a:ext cx="11430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1371600" y="22860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TORS OF 1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3000" fill="hold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3000" fill="hold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0" dur="3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3" dur="30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6" dur="30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9" dur="30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2" dur="30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7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4016-0367-46EE-A8BB-3308E36194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actor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f a number is an exact divisor of  that number i.e. the factor leaves remainder 0 when it divides the numb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63D5-7AE2-4DA7-A2F0-F3FD27A878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ST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6 star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6CCE-2F36-4B98-8D6A-C52A9D09B0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33520" y="228600"/>
            <a:ext cx="830556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 and 5 are factors of 20. We can also say that 20 is multiple of 4 and 5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 2 × 12 = 2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 and 12 are factors of 2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4 is the multiple of 2 and 1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o, a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umber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s a 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Arial"/>
              </a:rPr>
              <a:t>multip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of its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facto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FBEE-CFCB-4FF4-A68A-AAA38205BB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685800" y="533520"/>
            <a:ext cx="754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2 = 2,4,6,8,10,12,14,16,18,20,22,24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3 = 3,6,9,12,15,18,21,24,27,30,33,36,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ples of 15 = 15,30,4,60,75,90,105,120,135,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914400" y="47242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number of multiples of a given number is infin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0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6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6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20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2" dur="3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42E3-1379-47A9-944D-5911E6C38F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371600" y="838080"/>
            <a:ext cx="678168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S  OF SOME  NUMBER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8 = 1,2,4,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 = 1,2,4,8,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5 = 1,5,25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mb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090B-AC67-4F1F-87A5-51B48877E8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990720" y="23623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5 = 2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AutoShape 24"/>
          <p:cNvSpPr/>
          <p:nvPr/>
        </p:nvSpPr>
        <p:spPr>
          <a:xfrm rot="20400000">
            <a:off x="3733560" y="3048120"/>
            <a:ext cx="304560" cy="121896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AutoShape 25"/>
          <p:cNvSpPr/>
          <p:nvPr/>
        </p:nvSpPr>
        <p:spPr>
          <a:xfrm rot="1200000">
            <a:off x="4343400" y="30477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3200400" y="4343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095880" y="43434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ult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28"/>
          <p:cNvSpPr/>
          <p:nvPr/>
        </p:nvSpPr>
        <p:spPr>
          <a:xfrm rot="20400000">
            <a:off x="5943240" y="304812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20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8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8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Місце для номера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F549-819C-4870-8CAA-7230192834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s a factor of every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of a number is an exact divisor of that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factor is less than or equal to the give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factors of a given number are fin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r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6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7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8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4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8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1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2" dur="8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0426-7FEA-41AA-B3C7-2F9B94CA18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33520" y="1676520"/>
            <a:ext cx="78483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multiple of a number is greater than or equal to tha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multiples of a given number is infin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number is a multiple of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S TO REMEMBER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cont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9" dur="8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83B1-07F5-4AC1-8F0D-A75C30725D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 OR MULTIPLE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ach of numbers in the statements, select either multiple [M] or factor [F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×     5    =   1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5    ×     4    =   1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0    ×    10   =   9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5    ×    6     =   2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1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1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2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3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4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7    ×    30   =   2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5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6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7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8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          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29" action="ppaction://hlinksldjump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[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ea typeface="Arial"/>
                <a:hlinkClick r:id="rId30" action="ppaction://hlinksldjump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1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8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8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80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6" dur="80"/>
                                        <p:tgtEl>
                                          <p:spTgt spid="7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7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80"/>
                                        <p:tgtEl>
                                          <p:spTgt spid="7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7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7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80"/>
                                        <p:tgtEl>
                                          <p:spTgt spid="7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7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7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0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80"/>
                                        <p:tgtEl>
                                          <p:spTgt spid="7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C0B4-3848-40D8-A157-6B2793EADE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tate whether the following statements ar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1 is a factor of every number.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e largest factor of any number is the number itself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Number of factors of a given number is infinite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The number of multiples of 5 is 10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The factors of 65 are 1, 5 and 13 only.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Click ‘F’ for false and ‘T’ for tru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8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8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8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8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7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8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8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800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800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Місце для номера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7E6-4EE1-4FB1-8D28-6A89749EFBC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733920" cy="38862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6"/>
          <p:cNvSpPr/>
          <p:nvPr/>
        </p:nvSpPr>
        <p:spPr>
          <a:xfrm>
            <a:off x="5410080" y="114300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Picture 7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6cc4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BEC6-E37C-4021-B8D0-8B9BD27D16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CORR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5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6" descr="smiley%2520face"/>
          <p:cNvPicPr/>
          <p:nvPr/>
        </p:nvPicPr>
        <p:blipFill>
          <a:blip r:embed="rId1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1930-094D-44D1-9740-8DE8AB2595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j0097979[1]"/>
          <p:cNvPicPr/>
          <p:nvPr/>
        </p:nvPicPr>
        <p:blipFill>
          <a:blip r:embed="rId1"/>
          <a:stretch/>
        </p:blipFill>
        <p:spPr>
          <a:xfrm>
            <a:off x="15228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8" descr="j0097979[1]"/>
          <p:cNvPicPr/>
          <p:nvPr/>
        </p:nvPicPr>
        <p:blipFill>
          <a:blip r:embed="rId2"/>
          <a:stretch/>
        </p:blipFill>
        <p:spPr>
          <a:xfrm>
            <a:off x="795816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j0097979[1]"/>
          <p:cNvPicPr/>
          <p:nvPr/>
        </p:nvPicPr>
        <p:blipFill>
          <a:blip r:embed="rId3"/>
          <a:stretch/>
        </p:blipFill>
        <p:spPr>
          <a:xfrm>
            <a:off x="502920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0" descr="j0097979[1]"/>
          <p:cNvPicPr/>
          <p:nvPr/>
        </p:nvPicPr>
        <p:blipFill>
          <a:blip r:embed="rId4"/>
          <a:stretch/>
        </p:blipFill>
        <p:spPr>
          <a:xfrm>
            <a:off x="33526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1" descr="j0097979[1]"/>
          <p:cNvPicPr/>
          <p:nvPr/>
        </p:nvPicPr>
        <p:blipFill>
          <a:blip r:embed="rId5"/>
          <a:stretch/>
        </p:blipFill>
        <p:spPr>
          <a:xfrm>
            <a:off x="1752480" y="2819520"/>
            <a:ext cx="1185840" cy="11286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j0097979[1]"/>
          <p:cNvPicPr/>
          <p:nvPr/>
        </p:nvPicPr>
        <p:blipFill>
          <a:blip r:embed="rId6"/>
          <a:stretch/>
        </p:blipFill>
        <p:spPr>
          <a:xfrm>
            <a:off x="6477120" y="2819520"/>
            <a:ext cx="1185840" cy="11286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3"/>
          <p:cNvSpPr/>
          <p:nvPr/>
        </p:nvSpPr>
        <p:spPr>
          <a:xfrm>
            <a:off x="609480" y="495288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e9585"/>
            </a:gs>
            <a:gs pos="100000">
              <a:srgbClr val="dd24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Місце для номера слайда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A2F-10ED-4C56-9E47-2AC8EA9B8F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4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WR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previousslide"/>
          </p:cNvPr>
          <p:cNvSpPr/>
          <p:nvPr/>
        </p:nvSpPr>
        <p:spPr>
          <a:xfrm>
            <a:off x="7238880" y="57150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4" descr="SadFace"/>
          <p:cNvPicPr/>
          <p:nvPr/>
        </p:nvPicPr>
        <p:blipFill>
          <a:blip r:embed="rId1"/>
          <a:stretch/>
        </p:blipFill>
        <p:spPr>
          <a:xfrm>
            <a:off x="2971800" y="25146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8FE0-3937-429D-ACB3-B04EB8B1E0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4" descr="j0097979[1]"/>
          <p:cNvPicPr/>
          <p:nvPr/>
        </p:nvPicPr>
        <p:blipFill>
          <a:blip r:embed="rId1"/>
          <a:stretch/>
        </p:blipFill>
        <p:spPr>
          <a:xfrm>
            <a:off x="2819520" y="60948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j0097979[1]"/>
          <p:cNvPicPr/>
          <p:nvPr/>
        </p:nvPicPr>
        <p:blipFill>
          <a:blip r:embed="rId2"/>
          <a:stretch/>
        </p:blipFill>
        <p:spPr>
          <a:xfrm>
            <a:off x="4800600" y="6094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6" descr="j0097979[1]"/>
          <p:cNvPicPr/>
          <p:nvPr/>
        </p:nvPicPr>
        <p:blipFill>
          <a:blip r:embed="rId3"/>
          <a:stretch/>
        </p:blipFill>
        <p:spPr>
          <a:xfrm>
            <a:off x="2895480" y="2133720"/>
            <a:ext cx="1219320" cy="11602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7" descr="j0097979[1]"/>
          <p:cNvPicPr/>
          <p:nvPr/>
        </p:nvPicPr>
        <p:blipFill>
          <a:blip r:embed="rId4"/>
          <a:stretch/>
        </p:blipFill>
        <p:spPr>
          <a:xfrm>
            <a:off x="4876920" y="2057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j0097979[1]"/>
          <p:cNvPicPr/>
          <p:nvPr/>
        </p:nvPicPr>
        <p:blipFill>
          <a:blip r:embed="rId5"/>
          <a:stretch/>
        </p:blipFill>
        <p:spPr>
          <a:xfrm>
            <a:off x="2895480" y="36576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9" descr="j0097979[1]"/>
          <p:cNvPicPr/>
          <p:nvPr/>
        </p:nvPicPr>
        <p:blipFill>
          <a:blip r:embed="rId6"/>
          <a:stretch/>
        </p:blipFill>
        <p:spPr>
          <a:xfrm>
            <a:off x="4952880" y="358128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0"/>
          <p:cNvSpPr/>
          <p:nvPr/>
        </p:nvSpPr>
        <p:spPr>
          <a:xfrm>
            <a:off x="228600" y="53341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F7CF-9947-4C3A-A513-7E9A83F935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4" descr="j0097979[1]"/>
          <p:cNvPicPr/>
          <p:nvPr/>
        </p:nvPicPr>
        <p:blipFill>
          <a:blip r:embed="rId1"/>
          <a:stretch/>
        </p:blipFill>
        <p:spPr>
          <a:xfrm>
            <a:off x="1676520" y="914400"/>
            <a:ext cx="1218960" cy="11606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j0097979[1]"/>
          <p:cNvPicPr/>
          <p:nvPr/>
        </p:nvPicPr>
        <p:blipFill>
          <a:blip r:embed="rId2"/>
          <a:stretch/>
        </p:blipFill>
        <p:spPr>
          <a:xfrm>
            <a:off x="1828800" y="280188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j0097979[1]"/>
          <p:cNvPicPr/>
          <p:nvPr/>
        </p:nvPicPr>
        <p:blipFill>
          <a:blip r:embed="rId3"/>
          <a:stretch/>
        </p:blipFill>
        <p:spPr>
          <a:xfrm>
            <a:off x="3809880" y="9144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j0097979[1]"/>
          <p:cNvPicPr/>
          <p:nvPr/>
        </p:nvPicPr>
        <p:blipFill>
          <a:blip r:embed="rId4"/>
          <a:stretch/>
        </p:blipFill>
        <p:spPr>
          <a:xfrm>
            <a:off x="5867280" y="89676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j0097979[1]"/>
          <p:cNvPicPr/>
          <p:nvPr/>
        </p:nvPicPr>
        <p:blipFill>
          <a:blip r:embed="rId5"/>
          <a:stretch/>
        </p:blipFill>
        <p:spPr>
          <a:xfrm>
            <a:off x="3809880" y="2743200"/>
            <a:ext cx="1219320" cy="11606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9" descr="j0097979[1]"/>
          <p:cNvPicPr/>
          <p:nvPr/>
        </p:nvPicPr>
        <p:blipFill>
          <a:blip r:embed="rId6"/>
          <a:stretch/>
        </p:blipFill>
        <p:spPr>
          <a:xfrm>
            <a:off x="5791320" y="2743200"/>
            <a:ext cx="1218960" cy="1160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228600" y="4684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3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 per 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F3C3-7AB6-4560-83F9-0E3D109241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13" descr="j0097979[1]"/>
          <p:cNvPicPr/>
          <p:nvPr/>
        </p:nvPicPr>
        <p:blipFill>
          <a:blip r:embed="rId1"/>
          <a:stretch/>
        </p:blipFill>
        <p:spPr>
          <a:xfrm>
            <a:off x="1447920" y="54100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4" descr="j0097979[1]"/>
          <p:cNvPicPr/>
          <p:nvPr/>
        </p:nvPicPr>
        <p:blipFill>
          <a:blip r:embed="rId2"/>
          <a:stretch/>
        </p:blipFill>
        <p:spPr>
          <a:xfrm>
            <a:off x="1447920" y="4419720"/>
            <a:ext cx="1218960" cy="761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5" descr="j0097979[1]"/>
          <p:cNvPicPr/>
          <p:nvPr/>
        </p:nvPicPr>
        <p:blipFill>
          <a:blip r:embed="rId3"/>
          <a:stretch/>
        </p:blipFill>
        <p:spPr>
          <a:xfrm>
            <a:off x="1447920" y="34290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6" descr="j0097979[1]"/>
          <p:cNvPicPr/>
          <p:nvPr/>
        </p:nvPicPr>
        <p:blipFill>
          <a:blip r:embed="rId4"/>
          <a:stretch/>
        </p:blipFill>
        <p:spPr>
          <a:xfrm>
            <a:off x="1447920" y="251460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7" descr="j0097979[1]"/>
          <p:cNvPicPr/>
          <p:nvPr/>
        </p:nvPicPr>
        <p:blipFill>
          <a:blip r:embed="rId5"/>
          <a:stretch/>
        </p:blipFill>
        <p:spPr>
          <a:xfrm>
            <a:off x="1447920" y="1523880"/>
            <a:ext cx="1218960" cy="7621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8" descr="j0097979[1]"/>
          <p:cNvPicPr/>
          <p:nvPr/>
        </p:nvPicPr>
        <p:blipFill>
          <a:blip r:embed="rId6"/>
          <a:stretch/>
        </p:blipFill>
        <p:spPr>
          <a:xfrm>
            <a:off x="1447920" y="457200"/>
            <a:ext cx="1218960" cy="76212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9"/>
          <p:cNvSpPr/>
          <p:nvPr/>
        </p:nvSpPr>
        <p:spPr>
          <a:xfrm>
            <a:off x="3733920" y="21337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6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St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5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Місце для номера слайда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028C-E2D2-46B8-B0AA-1E201EC805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228600" y="517680"/>
            <a:ext cx="86868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s we can see, 6 can be written as product of two numbers in many ways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6 = 1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2 ×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 = 3 ×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6 = 6 ×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, 2, 3 and 6 ar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xact divisor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of 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cover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48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d1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Місце для номера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C121-2CAA-4A48-8627-AEC0DEBF1E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38088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RANGEMENT OF FOOTB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762120" y="3124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8 footballs and arra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m in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Місце для номера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A502-2B60-4A26-AE1C-8A1F7D2949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71600" y="7621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rrangement of 8 in different w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299763"/>
          <p:cNvPicPr/>
          <p:nvPr/>
        </p:nvPicPr>
        <p:blipFill>
          <a:blip r:embed="rId1"/>
          <a:stretch/>
        </p:blipFill>
        <p:spPr>
          <a:xfrm>
            <a:off x="0" y="33210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8" descr="j0299763"/>
          <p:cNvPicPr/>
          <p:nvPr/>
        </p:nvPicPr>
        <p:blipFill>
          <a:blip r:embed="rId2"/>
          <a:stretch/>
        </p:blipFill>
        <p:spPr>
          <a:xfrm>
            <a:off x="792468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9" descr="j0299763"/>
          <p:cNvPicPr/>
          <p:nvPr/>
        </p:nvPicPr>
        <p:blipFill>
          <a:blip r:embed="rId3"/>
          <a:stretch/>
        </p:blipFill>
        <p:spPr>
          <a:xfrm>
            <a:off x="6858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0" descr="j0299763"/>
          <p:cNvPicPr/>
          <p:nvPr/>
        </p:nvPicPr>
        <p:blipFill>
          <a:blip r:embed="rId4"/>
          <a:stretch/>
        </p:blipFill>
        <p:spPr>
          <a:xfrm>
            <a:off x="5715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21" descr="j0299763"/>
          <p:cNvPicPr/>
          <p:nvPr/>
        </p:nvPicPr>
        <p:blipFill>
          <a:blip r:embed="rId5"/>
          <a:stretch/>
        </p:blipFill>
        <p:spPr>
          <a:xfrm>
            <a:off x="3429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2" descr="j0299763"/>
          <p:cNvPicPr/>
          <p:nvPr/>
        </p:nvPicPr>
        <p:blipFill>
          <a:blip r:embed="rId6"/>
          <a:stretch/>
        </p:blipFill>
        <p:spPr>
          <a:xfrm>
            <a:off x="2286000" y="327672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23" descr="j0299763"/>
          <p:cNvPicPr/>
          <p:nvPr/>
        </p:nvPicPr>
        <p:blipFill>
          <a:blip r:embed="rId7"/>
          <a:stretch/>
        </p:blipFill>
        <p:spPr>
          <a:xfrm>
            <a:off x="4572000" y="3200400"/>
            <a:ext cx="1143000" cy="946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4" descr="j0299763"/>
          <p:cNvPicPr/>
          <p:nvPr/>
        </p:nvPicPr>
        <p:blipFill>
          <a:blip r:embed="rId8"/>
          <a:stretch/>
        </p:blipFill>
        <p:spPr>
          <a:xfrm>
            <a:off x="1143000" y="3276720"/>
            <a:ext cx="1143000" cy="9460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25"/>
          <p:cNvSpPr/>
          <p:nvPr/>
        </p:nvSpPr>
        <p:spPr>
          <a:xfrm>
            <a:off x="1828800" y="5105520"/>
            <a:ext cx="609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26"/>
          <p:cNvSpPr/>
          <p:nvPr/>
        </p:nvSpPr>
        <p:spPr>
          <a:xfrm>
            <a:off x="380880" y="5257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Row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×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/Row =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Arial"/>
              </a:rPr>
              <a:t>8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Ba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l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38:20Z</dcterms:created>
  <dc:creator>Karthik Ramachandran</dc:creator>
  <dc:description/>
  <dc:language>en-US</dc:language>
  <cp:lastModifiedBy>RomaK</cp:lastModifiedBy>
  <dcterms:modified xsi:type="dcterms:W3CDTF">2015-09-04T07:40:24Z</dcterms:modified>
  <cp:revision>58</cp:revision>
  <dc:subject/>
  <dc:title>FACTORS &amp; MULTIPLES</dc:title>
</cp:coreProperties>
</file>