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4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7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5.png" ContentType="image/png"/>
  <Override PartName="/ppt/media/image8.jpeg" ContentType="image/jpeg"/>
  <Override PartName="/ppt/media/image1.jpeg" ContentType="image/jpeg"/>
  <Override PartName="/ppt/media/image15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87AD-588C-4BF3-93FF-50A550059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divides 28 exactly and gives  Quotient  7 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= 7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divides 28 exactly and gives  Quotient  7  and Remainder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8 ÷ 4 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divides 28 exactly and gives Quotient 1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divides 28 exactly and gives Quotient 1 and Remainder 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÷ 28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1  =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1  =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4 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7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28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ACTORS OF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   =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2   = 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4   = 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8   =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6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   =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2   =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4   =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8   =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6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CTORS OF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7DC-B64F-4CB2-B960-3B40134A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739-1BF5-4490-BA97-CC5246C6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ECFD1-06B1-4D90-8212-9B3CBAA5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7F302-075B-4821-862E-E289204F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AF758-8842-4871-ADED-C27EBA18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53512-2419-4B0A-A968-B21EF747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D657C-8D3F-4B91-AAB5-F140EFA4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44DF9-0572-4267-B9EA-F28A5FEA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D1947-5721-4FAE-ABD7-937CA4E2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4A993-E43E-45F6-AC6C-E21A4989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8EBFC-8A98-47F9-9B5F-42478A2F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CF3-794F-4A4E-8E8F-B11D2FCC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B6F-E45A-4346-BE9E-FD7B575D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231E-7711-4EF5-BED9-01254CE7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848E-0D15-4447-9BD3-7CD836BE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FEFA-DB10-4D11-843F-BAB5873F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C280-B8B8-4161-BF81-1D7E7C33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5483-57AB-40F6-999F-48F8ECED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53F7-8BD7-4F52-A846-6266DA86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225A-A274-49E9-93B6-B75DFE7D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56A-A64B-4839-8847-659B8095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F0E0-EF3E-4004-8FE0-7BFBFE46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2CDE-5066-4114-8F0E-6B8A1E3F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D00B-2565-47F0-8017-BA58FB56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FA8B-64D3-4F07-BD1A-38AEEF48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4674-4B77-438C-BC89-72722947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1D16-E567-48B2-BEA9-70378E4B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839F-6BD1-497B-B1E0-FF45A018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CE93-F33E-47A8-B2C4-F8388BC0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2D2D-FB0B-4DF1-8E55-23AD51A9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DE2D-0676-4AFB-B12F-90D358A5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D27-5382-4285-BF99-06DF8B06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EA62-4D30-4586-90B7-A1C5B3C6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41A2-1736-48AE-B2F0-FF0A948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010A4-4025-4A3A-9F95-2A0F5BBE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C3B0-7423-4261-83B3-024105D5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35CE9-4D8B-46B7-BCBF-2C577171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EE99-34C9-49F8-BFDF-0C559BFD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005E-1DDA-40F2-B276-1AE8CF69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9DA6-11AA-4998-B602-1907879A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65958-2EAA-42E0-8724-1534333C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8468-215E-4DEA-9537-2337C34D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06C-6CF6-4A61-821D-F4C841E4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D127-8EF7-46D0-B37B-13DAF658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A49C-3D46-4183-9E55-282B4A69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E434D-7133-423D-AE73-63BF42F2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FC455-6418-49B7-93AB-65B8DD05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06A4-F0C0-4086-ADFC-A2A33284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33311-611F-4CE8-894B-86F032F1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9A930-8B44-4EC2-B8E4-10D6B715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3EA6-7210-4EA0-BB5C-B9DFE41D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A03E-67C0-49F2-904B-74AE06C9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F1A5A-4D9E-4C95-9E2A-BF81E11A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66E-C856-47A8-B730-7D194CA2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9E3F-DD3C-4FC5-8E74-62D7AB2C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851C6-2FE9-4A41-A9E3-205249D8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5AB06-330F-425E-AC26-689EEDD4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5BD96-9750-4671-8A18-160AB03A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E0942-E5EA-41AC-B072-E8A43BD8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1BEB2-6BF9-4DA7-B3E8-3FAE4E06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041D6-860B-4BA1-BD2A-E3767322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1C64-75CA-45AA-940C-370D9602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81AAD-D3D1-421D-837D-6BD7E6CE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7CB37-CC4B-4B4D-9382-E0E21A50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B08-1486-4A5C-BF6C-36B57DC0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4D2D2-24A1-40F9-8704-4DD8BB94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D2BD7-0C16-4DCF-BEAD-F2FCFEDD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A143E-DC14-4089-A8CA-25113AF3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7C225-8B9A-4C91-B250-A136527C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D0E1A-C452-4EE8-B01C-AD0D1912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1A6A0-C3B7-409E-91F9-4785E93E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EA8BC-4BEA-4A17-B035-B9AFB000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4C79F-17E9-4C49-B6EC-02138391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5CFFA-9B34-4A36-A5BF-4A49138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091B-F88B-4B57-B0AD-E566210D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E4F-2E84-47EC-BEA4-85105D6F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D96BF-0B67-451D-A2D6-A5A4C068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DB334-C420-40D8-A7B2-AE7CD738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4E1A-B893-452C-BA8F-BA421186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7420F-C8A8-405D-92AC-E9071A7D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58B41-1FE9-4FCE-A428-75B885C1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2D898-924B-4425-ABE0-C7184462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FE747-356B-431E-84A8-CB0A9AC2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7443C-B1A8-42A0-904F-19B3EC02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A65DA-E1F8-4057-B616-B222CDD4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7B352-FE99-4850-9BC6-1B2EC3D4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C53-C87A-4C12-A127-81FB58C9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8FB4B-CD5A-4E68-A827-7174F27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DE19D-2B4E-41D4-BF9B-920022E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9CF98-9E84-4F5A-AA8A-E9E8659A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0AB2A-D3D0-471A-9606-7CBE23ED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F117B-9D61-4646-8BF9-2CF74D31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92850-3F0B-4809-A0DE-0015DD6A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BEBD8-BA07-4DBA-AD57-B80A304E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9484A-258F-44C4-AD62-1AF4C4BF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266C9-2813-46CE-9D07-DF3FF5FD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F739D-8323-4799-AB0D-84E5330F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AA4-995D-4A42-BD85-71A99C2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01F22-C10D-4757-91DE-5D6B2733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60D9-DB9E-46BE-BE82-B4DBB675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050DF-2267-45EC-8344-B169CF46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B762A-1882-484F-98AC-3E0BCE08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26C4C-2B80-431B-B3E9-E4BD1961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92197-F303-4CFC-8A8B-29F98B58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8516C-2361-41B9-AB00-BCE0C559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C2159-CEF1-4331-88B8-4CE48333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65D94-39D9-4F5D-B6B3-47CEA785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2536D-7B36-42FA-8501-55BC4F88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CA86-47B3-4A2C-A6AF-5C9C28EE5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FAAC-1D0F-4FC7-BAC4-992259216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72B1-63E3-4423-9DEF-5B2F1ED5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516-1551-4916-915A-1510E92B65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9D20-D745-48E5-A7A6-9996336B82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B701-634F-47F0-9331-F7AFA0EA3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D640-B2AB-4A9C-A450-A57A2130C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7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81B4-DB9A-45E7-BF03-C1232DCDE39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5E21-9BC7-453E-BEA1-CE46BD5604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29.xml"/><Relationship Id="rId19" Type="http://schemas.openxmlformats.org/officeDocument/2006/relationships/slide" Target="slide29.xml"/><Relationship Id="rId20" Type="http://schemas.openxmlformats.org/officeDocument/2006/relationships/slide" Target="slide30.xml"/><Relationship Id="rId21" Type="http://schemas.openxmlformats.org/officeDocument/2006/relationships/slide" Target="slide29.xml"/><Relationship Id="rId22" Type="http://schemas.openxmlformats.org/officeDocument/2006/relationships/slide" Target="slide30.xml"/><Relationship Id="rId23" Type="http://schemas.openxmlformats.org/officeDocument/2006/relationships/slide" Target="slide30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CD90-386C-49F3-B571-E04DC5160C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CTORS                &amp;                          MULTIPL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.US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GT ( MATHEMAT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V,GILL N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NN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3619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Cj02320550000[1]"/>
          <p:cNvPicPr/>
          <p:nvPr/>
        </p:nvPicPr>
        <p:blipFill>
          <a:blip r:embed="rId2"/>
          <a:stretch/>
        </p:blipFill>
        <p:spPr>
          <a:xfrm>
            <a:off x="76320" y="2616120"/>
            <a:ext cx="1992240" cy="1422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Pj03993470000[1]"/>
          <p:cNvPicPr/>
          <p:nvPr/>
        </p:nvPicPr>
        <p:blipFill>
          <a:blip r:embed="rId3"/>
          <a:stretch/>
        </p:blipFill>
        <p:spPr>
          <a:xfrm>
            <a:off x="228600" y="49798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MCj03552490000[1]"/>
          <p:cNvPicPr/>
          <p:nvPr/>
        </p:nvPicPr>
        <p:blipFill>
          <a:blip r:embed="rId4"/>
          <a:stretch/>
        </p:blipFill>
        <p:spPr>
          <a:xfrm>
            <a:off x="69343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"/>
          <p:cNvPicPr/>
          <p:nvPr/>
        </p:nvPicPr>
        <p:blipFill>
          <a:blip r:embed="rId5"/>
          <a:stretch/>
        </p:blipFill>
        <p:spPr>
          <a:xfrm>
            <a:off x="76320" y="-76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3707-9F11-4D7E-9778-19A3D01B5DB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j0299763"/>
          <p:cNvPicPr/>
          <p:nvPr/>
        </p:nvPicPr>
        <p:blipFill>
          <a:blip r:embed="rId1"/>
          <a:stretch/>
        </p:blipFill>
        <p:spPr>
          <a:xfrm>
            <a:off x="914400" y="1523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j0299763"/>
          <p:cNvPicPr/>
          <p:nvPr/>
        </p:nvPicPr>
        <p:blipFill>
          <a:blip r:embed="rId2"/>
          <a:stretch/>
        </p:blipFill>
        <p:spPr>
          <a:xfrm>
            <a:off x="2895480" y="14922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j0299763"/>
          <p:cNvPicPr/>
          <p:nvPr/>
        </p:nvPicPr>
        <p:blipFill>
          <a:blip r:embed="rId3"/>
          <a:stretch/>
        </p:blipFill>
        <p:spPr>
          <a:xfrm>
            <a:off x="4648320" y="1415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j0299763"/>
          <p:cNvPicPr/>
          <p:nvPr/>
        </p:nvPicPr>
        <p:blipFill>
          <a:blip r:embed="rId4"/>
          <a:stretch/>
        </p:blipFill>
        <p:spPr>
          <a:xfrm>
            <a:off x="6324480" y="13716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8" descr="j0299763"/>
          <p:cNvPicPr/>
          <p:nvPr/>
        </p:nvPicPr>
        <p:blipFill>
          <a:blip r:embed="rId5"/>
          <a:stretch/>
        </p:blipFill>
        <p:spPr>
          <a:xfrm>
            <a:off x="83808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j0299763"/>
          <p:cNvPicPr/>
          <p:nvPr/>
        </p:nvPicPr>
        <p:blipFill>
          <a:blip r:embed="rId6"/>
          <a:stretch/>
        </p:blipFill>
        <p:spPr>
          <a:xfrm>
            <a:off x="297180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299763"/>
          <p:cNvPicPr/>
          <p:nvPr/>
        </p:nvPicPr>
        <p:blipFill>
          <a:blip r:embed="rId7"/>
          <a:stretch/>
        </p:blipFill>
        <p:spPr>
          <a:xfrm>
            <a:off x="48006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j0299763"/>
          <p:cNvPicPr/>
          <p:nvPr/>
        </p:nvPicPr>
        <p:blipFill>
          <a:blip r:embed="rId8"/>
          <a:stretch/>
        </p:blipFill>
        <p:spPr>
          <a:xfrm>
            <a:off x="6553080" y="31240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957A-115E-48A3-B5B0-6C2944B594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j0299763"/>
          <p:cNvPicPr/>
          <p:nvPr/>
        </p:nvPicPr>
        <p:blipFill>
          <a:blip r:embed="rId1"/>
          <a:stretch/>
        </p:blipFill>
        <p:spPr>
          <a:xfrm>
            <a:off x="83808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j0299763"/>
          <p:cNvPicPr/>
          <p:nvPr/>
        </p:nvPicPr>
        <p:blipFill>
          <a:blip r:embed="rId2"/>
          <a:stretch/>
        </p:blipFill>
        <p:spPr>
          <a:xfrm>
            <a:off x="281952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j0299763"/>
          <p:cNvPicPr/>
          <p:nvPr/>
        </p:nvPicPr>
        <p:blipFill>
          <a:blip r:embed="rId3"/>
          <a:stretch/>
        </p:blipFill>
        <p:spPr>
          <a:xfrm>
            <a:off x="838080" y="3733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j0299763"/>
          <p:cNvPicPr/>
          <p:nvPr/>
        </p:nvPicPr>
        <p:blipFill>
          <a:blip r:embed="rId4"/>
          <a:stretch/>
        </p:blipFill>
        <p:spPr>
          <a:xfrm>
            <a:off x="2819520" y="3625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j0299763"/>
          <p:cNvPicPr/>
          <p:nvPr/>
        </p:nvPicPr>
        <p:blipFill>
          <a:blip r:embed="rId5"/>
          <a:stretch/>
        </p:blipFill>
        <p:spPr>
          <a:xfrm>
            <a:off x="838080" y="2133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j0299763"/>
          <p:cNvPicPr/>
          <p:nvPr/>
        </p:nvPicPr>
        <p:blipFill>
          <a:blip r:embed="rId6"/>
          <a:stretch/>
        </p:blipFill>
        <p:spPr>
          <a:xfrm>
            <a:off x="2819520" y="2057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99763"/>
          <p:cNvPicPr/>
          <p:nvPr/>
        </p:nvPicPr>
        <p:blipFill>
          <a:blip r:embed="rId7"/>
          <a:stretch/>
        </p:blipFill>
        <p:spPr>
          <a:xfrm>
            <a:off x="838080" y="6094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j0299763"/>
          <p:cNvPicPr/>
          <p:nvPr/>
        </p:nvPicPr>
        <p:blipFill>
          <a:blip r:embed="rId8"/>
          <a:stretch/>
        </p:blipFill>
        <p:spPr>
          <a:xfrm>
            <a:off x="2819520" y="6094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8320" y="129528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4734-8856-4445-A22F-3B6BCAC164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8" descr="j0299763"/>
          <p:cNvPicPr/>
          <p:nvPr/>
        </p:nvPicPr>
        <p:blipFill>
          <a:blip r:embed="rId1"/>
          <a:stretch/>
        </p:blipFill>
        <p:spPr>
          <a:xfrm>
            <a:off x="762120" y="152280"/>
            <a:ext cx="838080" cy="69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"/>
          <p:cNvSpPr/>
          <p:nvPr/>
        </p:nvSpPr>
        <p:spPr>
          <a:xfrm>
            <a:off x="2209680" y="15080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Rows × 1 Ball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11" descr="j0299763"/>
          <p:cNvPicPr/>
          <p:nvPr/>
        </p:nvPicPr>
        <p:blipFill>
          <a:blip r:embed="rId2"/>
          <a:stretch/>
        </p:blipFill>
        <p:spPr>
          <a:xfrm>
            <a:off x="762120" y="9907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j0299763"/>
          <p:cNvPicPr/>
          <p:nvPr/>
        </p:nvPicPr>
        <p:blipFill>
          <a:blip r:embed="rId3"/>
          <a:stretch/>
        </p:blipFill>
        <p:spPr>
          <a:xfrm>
            <a:off x="762120" y="18288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j0299763"/>
          <p:cNvPicPr/>
          <p:nvPr/>
        </p:nvPicPr>
        <p:blipFill>
          <a:blip r:embed="rId4"/>
          <a:stretch/>
        </p:blipFill>
        <p:spPr>
          <a:xfrm>
            <a:off x="762120" y="26668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4" descr="j0299763"/>
          <p:cNvPicPr/>
          <p:nvPr/>
        </p:nvPicPr>
        <p:blipFill>
          <a:blip r:embed="rId5"/>
          <a:stretch/>
        </p:blipFill>
        <p:spPr>
          <a:xfrm>
            <a:off x="762120" y="35053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5" descr="j0299763"/>
          <p:cNvPicPr/>
          <p:nvPr/>
        </p:nvPicPr>
        <p:blipFill>
          <a:blip r:embed="rId6"/>
          <a:stretch/>
        </p:blipFill>
        <p:spPr>
          <a:xfrm>
            <a:off x="762120" y="43434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6" descr="j0299763"/>
          <p:cNvPicPr/>
          <p:nvPr/>
        </p:nvPicPr>
        <p:blipFill>
          <a:blip r:embed="rId7"/>
          <a:stretch/>
        </p:blipFill>
        <p:spPr>
          <a:xfrm>
            <a:off x="762120" y="51814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j0299763"/>
          <p:cNvPicPr/>
          <p:nvPr/>
        </p:nvPicPr>
        <p:blipFill>
          <a:blip r:embed="rId8"/>
          <a:stretch/>
        </p:blipFill>
        <p:spPr>
          <a:xfrm>
            <a:off x="762120" y="6019920"/>
            <a:ext cx="838080" cy="69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A023-2FC3-44FC-A913-76681B64DA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95280" y="21495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, 2, 4  and  8 ar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of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274-7210-4F80-BD21-9C5CF4CB76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7200" y="849240"/>
            <a:ext cx="83818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 divides 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4 and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376E-83E2-4C46-921D-187AB6AB57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33520" y="990720"/>
            <a:ext cx="815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 divides 28 exactly and gives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7 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4 = 7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6D00-E744-4738-BB04-297DEFDE11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533520" y="838080"/>
            <a:ext cx="8153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8 divides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1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B696-54CB-43C4-9955-5FFEA9B540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362320" y="129528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1  = 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4  =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7  =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÷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 28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114800" y="1295280"/>
            <a:ext cx="1143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in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3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3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3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3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0935-68F3-46FE-9B55-C88746E2E7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2209680" y="933480"/>
            <a:ext cx="4800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   = 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2   =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4   = 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8   = 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6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038480" y="93348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3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3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3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3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3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3190-67D8-4004-9E83-D3BFD650DD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actor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 number is an exact divisor of  that number i.e. the factor leaves remainder 0 when it divides the numb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6A07-E47C-4A10-8222-C929E7C2B2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S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6 star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6828-09F8-45D6-ADD7-C8447CD84D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3520" y="228600"/>
            <a:ext cx="83055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 and 5 are factors of 20. We can also say that 20 is multiple of 4 and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2 × 12 = 2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 and 12 are factors of 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4 is the multiple of 2 and 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,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umbe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s a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multip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of its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ac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4B2E-EA14-4076-BBF3-CFB1A31E6E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85800" y="5335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1440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number of multiples of a given number is infin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6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EBDA-A8F3-4EF7-8BCC-23AB48B2A6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371600" y="838080"/>
            <a:ext cx="67816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S  OF SOME  NU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mb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E358-90E8-4079-8683-3DFB4A8C0C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990720" y="2362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24"/>
          <p:cNvSpPr/>
          <p:nvPr/>
        </p:nvSpPr>
        <p:spPr>
          <a:xfrm rot="20400000">
            <a:off x="3733560" y="30481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5"/>
          <p:cNvSpPr/>
          <p:nvPr/>
        </p:nvSpPr>
        <p:spPr>
          <a:xfrm rot="1200000">
            <a:off x="4343400" y="30477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20040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0958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ult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28"/>
          <p:cNvSpPr/>
          <p:nvPr/>
        </p:nvSpPr>
        <p:spPr>
          <a:xfrm rot="20400000">
            <a:off x="5943240" y="304812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F32A-A4BD-481D-9093-A84DC5E8B3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E274-9CBC-4506-BA87-DBEE7140D7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33520" y="1676520"/>
            <a:ext cx="7848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F1BE-BEE9-446B-8212-B404B6794F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 OR MULTIP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    5    =   1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    ×     4    =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    ×    10   =   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    ×    6     =   2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    ×    30   =   2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73D1-E945-435A-B474-18A752153F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ate whether the following statements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 is a factor of every number.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umber of factors of a given number is infinite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The number of multiples of 5 is 10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The factors of 65 are 1, 5 and 13 onl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8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Місце для номера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4520-1337-41B3-8709-EA72B70F79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410080" y="1143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cc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8F60-D071-494E-AD7A-3A9AB76CEC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5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smiley%2520face"/>
          <p:cNvPicPr/>
          <p:nvPr/>
        </p:nvPicPr>
        <p:blipFill>
          <a:blip r:embed="rId1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00EA-02E7-442D-AF05-A240F63721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j0097979[1]"/>
          <p:cNvPicPr/>
          <p:nvPr/>
        </p:nvPicPr>
        <p:blipFill>
          <a:blip r:embed="rId1"/>
          <a:stretch/>
        </p:blipFill>
        <p:spPr>
          <a:xfrm>
            <a:off x="15228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j0097979[1]"/>
          <p:cNvPicPr/>
          <p:nvPr/>
        </p:nvPicPr>
        <p:blipFill>
          <a:blip r:embed="rId2"/>
          <a:stretch/>
        </p:blipFill>
        <p:spPr>
          <a:xfrm>
            <a:off x="795816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j0097979[1]"/>
          <p:cNvPicPr/>
          <p:nvPr/>
        </p:nvPicPr>
        <p:blipFill>
          <a:blip r:embed="rId3"/>
          <a:stretch/>
        </p:blipFill>
        <p:spPr>
          <a:xfrm>
            <a:off x="502920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97979[1]"/>
          <p:cNvPicPr/>
          <p:nvPr/>
        </p:nvPicPr>
        <p:blipFill>
          <a:blip r:embed="rId4"/>
          <a:stretch/>
        </p:blipFill>
        <p:spPr>
          <a:xfrm>
            <a:off x="33526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j0097979[1]"/>
          <p:cNvPicPr/>
          <p:nvPr/>
        </p:nvPicPr>
        <p:blipFill>
          <a:blip r:embed="rId5"/>
          <a:stretch/>
        </p:blipFill>
        <p:spPr>
          <a:xfrm>
            <a:off x="17524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j0097979[1]"/>
          <p:cNvPicPr/>
          <p:nvPr/>
        </p:nvPicPr>
        <p:blipFill>
          <a:blip r:embed="rId6"/>
          <a:stretch/>
        </p:blipFill>
        <p:spPr>
          <a:xfrm>
            <a:off x="6477120" y="2819520"/>
            <a:ext cx="1185840" cy="11286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3"/>
          <p:cNvSpPr/>
          <p:nvPr/>
        </p:nvSpPr>
        <p:spPr>
          <a:xfrm>
            <a:off x="609480" y="4952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585"/>
            </a:gs>
            <a:gs pos="100000">
              <a:srgbClr val="dd24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2EA3-E44C-43A8-B025-F2A46F694B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SadFace"/>
          <p:cNvPicPr/>
          <p:nvPr/>
        </p:nvPicPr>
        <p:blipFill>
          <a:blip r:embed="rId1"/>
          <a:stretch/>
        </p:blipFill>
        <p:spPr>
          <a:xfrm>
            <a:off x="2971800" y="2514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F8FF-E15C-4B56-9379-7758BBD7A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j0097979[1]"/>
          <p:cNvPicPr/>
          <p:nvPr/>
        </p:nvPicPr>
        <p:blipFill>
          <a:blip r:embed="rId1"/>
          <a:stretch/>
        </p:blipFill>
        <p:spPr>
          <a:xfrm>
            <a:off x="2819520" y="609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j0097979[1]"/>
          <p:cNvPicPr/>
          <p:nvPr/>
        </p:nvPicPr>
        <p:blipFill>
          <a:blip r:embed="rId2"/>
          <a:stretch/>
        </p:blipFill>
        <p:spPr>
          <a:xfrm>
            <a:off x="4800600" y="6094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j0097979[1]"/>
          <p:cNvPicPr/>
          <p:nvPr/>
        </p:nvPicPr>
        <p:blipFill>
          <a:blip r:embed="rId3"/>
          <a:stretch/>
        </p:blipFill>
        <p:spPr>
          <a:xfrm>
            <a:off x="2895480" y="2133720"/>
            <a:ext cx="1219320" cy="1160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j0097979[1]"/>
          <p:cNvPicPr/>
          <p:nvPr/>
        </p:nvPicPr>
        <p:blipFill>
          <a:blip r:embed="rId4"/>
          <a:stretch/>
        </p:blipFill>
        <p:spPr>
          <a:xfrm>
            <a:off x="4876920" y="2057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j0097979[1]"/>
          <p:cNvPicPr/>
          <p:nvPr/>
        </p:nvPicPr>
        <p:blipFill>
          <a:blip r:embed="rId5"/>
          <a:stretch/>
        </p:blipFill>
        <p:spPr>
          <a:xfrm>
            <a:off x="2895480" y="36576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j0097979[1]"/>
          <p:cNvPicPr/>
          <p:nvPr/>
        </p:nvPicPr>
        <p:blipFill>
          <a:blip r:embed="rId6"/>
          <a:stretch/>
        </p:blipFill>
        <p:spPr>
          <a:xfrm>
            <a:off x="4952880" y="358128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228600" y="53341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91C6-1934-4672-A7B6-6D760B4BE5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j0097979[1]"/>
          <p:cNvPicPr/>
          <p:nvPr/>
        </p:nvPicPr>
        <p:blipFill>
          <a:blip r:embed="rId1"/>
          <a:stretch/>
        </p:blipFill>
        <p:spPr>
          <a:xfrm>
            <a:off x="1676520" y="914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j0097979[1]"/>
          <p:cNvPicPr/>
          <p:nvPr/>
        </p:nvPicPr>
        <p:blipFill>
          <a:blip r:embed="rId2"/>
          <a:stretch/>
        </p:blipFill>
        <p:spPr>
          <a:xfrm>
            <a:off x="182880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j0097979[1]"/>
          <p:cNvPicPr/>
          <p:nvPr/>
        </p:nvPicPr>
        <p:blipFill>
          <a:blip r:embed="rId3"/>
          <a:stretch/>
        </p:blipFill>
        <p:spPr>
          <a:xfrm>
            <a:off x="3809880" y="9144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j0097979[1]"/>
          <p:cNvPicPr/>
          <p:nvPr/>
        </p:nvPicPr>
        <p:blipFill>
          <a:blip r:embed="rId4"/>
          <a:stretch/>
        </p:blipFill>
        <p:spPr>
          <a:xfrm>
            <a:off x="5867280" y="89676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j0097979[1]"/>
          <p:cNvPicPr/>
          <p:nvPr/>
        </p:nvPicPr>
        <p:blipFill>
          <a:blip r:embed="rId5"/>
          <a:stretch/>
        </p:blipFill>
        <p:spPr>
          <a:xfrm>
            <a:off x="3809880" y="27432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j0097979[1]"/>
          <p:cNvPicPr/>
          <p:nvPr/>
        </p:nvPicPr>
        <p:blipFill>
          <a:blip r:embed="rId6"/>
          <a:stretch/>
        </p:blipFill>
        <p:spPr>
          <a:xfrm>
            <a:off x="5791320" y="2743200"/>
            <a:ext cx="1218960" cy="1160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228600" y="4684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B2E3-9742-410A-BD53-AB0B067D7B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13" descr="j0097979[1]"/>
          <p:cNvPicPr/>
          <p:nvPr/>
        </p:nvPicPr>
        <p:blipFill>
          <a:blip r:embed="rId1"/>
          <a:stretch/>
        </p:blipFill>
        <p:spPr>
          <a:xfrm>
            <a:off x="1447920" y="54100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" descr="j0097979[1]"/>
          <p:cNvPicPr/>
          <p:nvPr/>
        </p:nvPicPr>
        <p:blipFill>
          <a:blip r:embed="rId2"/>
          <a:stretch/>
        </p:blipFill>
        <p:spPr>
          <a:xfrm>
            <a:off x="1447920" y="4419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5" descr="j0097979[1]"/>
          <p:cNvPicPr/>
          <p:nvPr/>
        </p:nvPicPr>
        <p:blipFill>
          <a:blip r:embed="rId3"/>
          <a:stretch/>
        </p:blipFill>
        <p:spPr>
          <a:xfrm>
            <a:off x="1447920" y="34290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6" descr="j0097979[1]"/>
          <p:cNvPicPr/>
          <p:nvPr/>
        </p:nvPicPr>
        <p:blipFill>
          <a:blip r:embed="rId4"/>
          <a:stretch/>
        </p:blipFill>
        <p:spPr>
          <a:xfrm>
            <a:off x="1447920" y="25146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j0097979[1]"/>
          <p:cNvPicPr/>
          <p:nvPr/>
        </p:nvPicPr>
        <p:blipFill>
          <a:blip r:embed="rId5"/>
          <a:stretch/>
        </p:blipFill>
        <p:spPr>
          <a:xfrm>
            <a:off x="1447920" y="15238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j0097979[1]"/>
          <p:cNvPicPr/>
          <p:nvPr/>
        </p:nvPicPr>
        <p:blipFill>
          <a:blip r:embed="rId6"/>
          <a:stretch/>
        </p:blipFill>
        <p:spPr>
          <a:xfrm>
            <a:off x="1447920" y="4572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9"/>
          <p:cNvSpPr/>
          <p:nvPr/>
        </p:nvSpPr>
        <p:spPr>
          <a:xfrm>
            <a:off x="3733920" y="2133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8703-D1C7-411B-8462-94F1DB832C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2860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6 = 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2 ×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6 ×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, 2, 3 and 6 a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ver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d1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1306-D353-4348-87BD-A7FBA2362A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FOOTB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8 football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6E73-DEE3-40FE-8EDC-8B5A677F5B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71600" y="762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rangement of 8 in different w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299763"/>
          <p:cNvPicPr/>
          <p:nvPr/>
        </p:nvPicPr>
        <p:blipFill>
          <a:blip r:embed="rId1"/>
          <a:stretch/>
        </p:blipFill>
        <p:spPr>
          <a:xfrm>
            <a:off x="0" y="33210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j0299763"/>
          <p:cNvPicPr/>
          <p:nvPr/>
        </p:nvPicPr>
        <p:blipFill>
          <a:blip r:embed="rId2"/>
          <a:stretch/>
        </p:blipFill>
        <p:spPr>
          <a:xfrm>
            <a:off x="792468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j0299763"/>
          <p:cNvPicPr/>
          <p:nvPr/>
        </p:nvPicPr>
        <p:blipFill>
          <a:blip r:embed="rId3"/>
          <a:stretch/>
        </p:blipFill>
        <p:spPr>
          <a:xfrm>
            <a:off x="6858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j0299763"/>
          <p:cNvPicPr/>
          <p:nvPr/>
        </p:nvPicPr>
        <p:blipFill>
          <a:blip r:embed="rId4"/>
          <a:stretch/>
        </p:blipFill>
        <p:spPr>
          <a:xfrm>
            <a:off x="5715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j0299763"/>
          <p:cNvPicPr/>
          <p:nvPr/>
        </p:nvPicPr>
        <p:blipFill>
          <a:blip r:embed="rId5"/>
          <a:stretch/>
        </p:blipFill>
        <p:spPr>
          <a:xfrm>
            <a:off x="3429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j0299763"/>
          <p:cNvPicPr/>
          <p:nvPr/>
        </p:nvPicPr>
        <p:blipFill>
          <a:blip r:embed="rId6"/>
          <a:stretch/>
        </p:blipFill>
        <p:spPr>
          <a:xfrm>
            <a:off x="2286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j0299763"/>
          <p:cNvPicPr/>
          <p:nvPr/>
        </p:nvPicPr>
        <p:blipFill>
          <a:blip r:embed="rId7"/>
          <a:stretch/>
        </p:blipFill>
        <p:spPr>
          <a:xfrm>
            <a:off x="4572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j0299763"/>
          <p:cNvPicPr/>
          <p:nvPr/>
        </p:nvPicPr>
        <p:blipFill>
          <a:blip r:embed="rId8"/>
          <a:stretch/>
        </p:blipFill>
        <p:spPr>
          <a:xfrm>
            <a:off x="1143000" y="3276720"/>
            <a:ext cx="1143000" cy="9460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5"/>
          <p:cNvSpPr/>
          <p:nvPr/>
        </p:nvSpPr>
        <p:spPr>
          <a:xfrm>
            <a:off x="1828800" y="5105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38088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8:20Z</dcterms:created>
  <dc:creator>Karthik Ramachandran</dc:creator>
  <dc:description/>
  <dc:language>en-US</dc:language>
  <cp:lastModifiedBy>RomaK</cp:lastModifiedBy>
  <dcterms:modified xsi:type="dcterms:W3CDTF">2015-09-04T07:40:24Z</dcterms:modified>
  <cp:revision>58</cp:revision>
  <dc:subject/>
  <dc:title>FACTORS &amp; MULTIPLES</dc:title>
</cp:coreProperties>
</file>