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explode.wav" ContentType="audio/x-wav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1D34-8243-4173-BDE2-8505185EE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Functions are functions which can be represented by graphs similar to the graph on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Functions are functions which can be represented by graphs similar to the graph on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base exponential functions are similar because they all go through the point (0,1), regardless of the size of their 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Functions are written in the for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a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 consta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base exponential functions are similar because they all go through the point (0,1), regardless of the size of their 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Functions are written in the for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a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 consta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olving exponential equations, it is important to have both sides of the equation set to the same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orking with exponential equations, the Laws of Exponents still hold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olving exponential equations, it is important to have both sides of the equation set to the same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orking with exponential equations, the Laws of Exponents still hold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= 4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= 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= 3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= 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= 4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= 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= 3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= 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could see in the graph, the larger the base, the faster the function incr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place a negative sign in front of the x, the graphs will be reflected(flipped) across the 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could see in the graph, the larger the base, the faster the function incr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place a negative sign in front of the x, the graphs will be reflected(flipped) across the 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= 4-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= e-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= 3-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= 2-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= 4-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= e-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= 3-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= 2-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using Microsoft Excel, we can make a table of values and a graph of th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using Microsoft Excel, we can make a table of values and a graph of th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also use Maple 7 to plot exponential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plot (exp(x),x=-5..5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also use Maple 7 to plot exponential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plot (exp(x),x=-5..5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542B-9886-4B6C-9D10-BD6BA363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855E-C814-4A65-9E2F-241704F4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E769-03D2-44F8-A399-35A87C9DF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8FEB-457A-4DC6-9593-939F9731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6908-DD18-44D9-B03D-8CE9A83C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BA71-7210-4529-A950-FE3B5E34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A05D-0C11-4282-8C97-5285099E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6114-DFC9-405C-AAA0-A6ABF2D8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580D-74E2-494D-A5A4-FF0A4F75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786D-7494-48D4-9D0C-F466E939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F2AF-F865-4CBB-83D3-AE744307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CBB1-4F6E-42D6-B6C0-363F426A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E92B-301C-4AC4-A41F-BFF7B14E7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laws%20of%20exponents.ppt" TargetMode="External"/><Relationship Id="rId2" Type="http://schemas.openxmlformats.org/officeDocument/2006/relationships/hyperlink" Target="file:///laws%20of%20exponents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E&amp;D"/>
          <p:cNvPicPr/>
          <p:nvPr/>
        </p:nvPicPr>
        <p:blipFill>
          <a:blip r:embed="rId1"/>
          <a:stretch/>
        </p:blipFill>
        <p:spPr>
          <a:xfrm>
            <a:off x="304920" y="225360"/>
            <a:ext cx="8610480" cy="646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28" descr=""/>
          <p:cNvPicPr/>
          <p:nvPr/>
        </p:nvPicPr>
        <p:blipFill>
          <a:blip r:embed="rId1"/>
          <a:stretch/>
        </p:blipFill>
        <p:spPr>
          <a:xfrm>
            <a:off x="3276720" y="1143000"/>
            <a:ext cx="5715000" cy="43974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27"/>
          <p:cNvSpPr/>
          <p:nvPr/>
        </p:nvSpPr>
        <p:spPr>
          <a:xfrm>
            <a:off x="228600" y="685800"/>
            <a:ext cx="37339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Exponential Functions are functions which can be represented by graphs similar to the graph on the r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685800"/>
            <a:ext cx="899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 base exponential functions are similar because they all go through the point (0,1), regardless of the size of their bas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-95400" y="2590920"/>
            <a:ext cx="93348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Exponential Functions are written in the for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y = ab</a:t>
            </a:r>
            <a:r>
              <a:rPr b="1" lang="en-US" sz="60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= constan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 = bas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x =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2558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solving exponential equations, it is important to have both sides of the equation set to the same b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working with exponential equations, the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Laws of Exponents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ill hold tr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81000" y="1295280"/>
                <a:ext cx="359100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5"/>
              <p:cNvSpPr txBox="1"/>
              <p:nvPr/>
            </p:nvSpPr>
            <p:spPr>
              <a:xfrm>
                <a:off x="3657600" y="1295280"/>
                <a:ext cx="306864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6553080" y="1295280"/>
                <a:ext cx="156708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7"/>
              <p:cNvSpPr txBox="1"/>
              <p:nvPr/>
            </p:nvSpPr>
            <p:spPr>
              <a:xfrm>
                <a:off x="8153280" y="1447920"/>
                <a:ext cx="587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3"/>
              <p:cNvSpPr txBox="1"/>
              <p:nvPr/>
            </p:nvSpPr>
            <p:spPr>
              <a:xfrm>
                <a:off x="1089000" y="4343400"/>
                <a:ext cx="34830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14"/>
              <p:cNvSpPr txBox="1"/>
              <p:nvPr/>
            </p:nvSpPr>
            <p:spPr>
              <a:xfrm>
                <a:off x="4572000" y="4191120"/>
                <a:ext cx="3429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15"/>
              <p:cNvSpPr txBox="1"/>
              <p:nvPr/>
            </p:nvSpPr>
            <p:spPr>
              <a:xfrm>
                <a:off x="609480" y="5410080"/>
                <a:ext cx="29941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6"/>
              <p:cNvSpPr txBox="1"/>
              <p:nvPr/>
            </p:nvSpPr>
            <p:spPr>
              <a:xfrm>
                <a:off x="3657600" y="5486400"/>
                <a:ext cx="2612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17"/>
              <p:cNvSpPr txBox="1"/>
              <p:nvPr/>
            </p:nvSpPr>
            <p:spPr>
              <a:xfrm>
                <a:off x="6248520" y="5410080"/>
                <a:ext cx="19047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Rectangle 18"/>
          <p:cNvSpPr/>
          <p:nvPr/>
        </p:nvSpPr>
        <p:spPr>
          <a:xfrm>
            <a:off x="8077320" y="1371600"/>
            <a:ext cx="761760" cy="1066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9"/>
          <p:cNvSpPr/>
          <p:nvPr/>
        </p:nvSpPr>
        <p:spPr>
          <a:xfrm>
            <a:off x="6248520" y="5410080"/>
            <a:ext cx="1904760" cy="762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523880" y="0"/>
            <a:ext cx="6096240" cy="50418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914400" y="5029200"/>
            <a:ext cx="7315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ellow = 4</a:t>
            </a:r>
            <a:r>
              <a:rPr b="1" lang="en-US" sz="3600" spc="-1" strike="noStrike" baseline="30000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Green = e</a:t>
            </a:r>
            <a:r>
              <a:rPr b="1" lang="en-US" sz="3600" spc="-1" strike="noStrike" baseline="30000">
                <a:solidFill>
                  <a:srgbClr val="339933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lack = 3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d = 2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0" y="1371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As you could see in the graph, the larger the base, the faster the function increa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35053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we place a negative sign in front of the x, the graphs will be reflected(flipped) across the y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447920" y="0"/>
            <a:ext cx="6248160" cy="51688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952560" y="5105520"/>
            <a:ext cx="7238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ellow = 4</a:t>
            </a:r>
            <a:r>
              <a:rPr b="1" lang="en-US" sz="3600" spc="-1" strike="noStrike" baseline="30000">
                <a:solidFill>
                  <a:srgbClr val="ffff00"/>
                </a:solidFill>
                <a:latin typeface="Times New Roman"/>
              </a:rPr>
              <a:t>-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Green = e</a:t>
            </a:r>
            <a:r>
              <a:rPr b="1" lang="en-US" sz="3600" spc="-1" strike="noStrike" baseline="30000">
                <a:solidFill>
                  <a:srgbClr val="339933"/>
                </a:solidFill>
                <a:latin typeface="Times New Roman"/>
              </a:rPr>
              <a:t>-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lack = 3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-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d = 2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-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3"/>
          <p:cNvGraphicFramePr/>
          <p:nvPr/>
        </p:nvGraphicFramePr>
        <p:xfrm>
          <a:off x="457200" y="1752480"/>
          <a:ext cx="2533680" cy="458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2533680" cy="45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4"/>
          <p:cNvGraphicFramePr/>
          <p:nvPr/>
        </p:nvGraphicFramePr>
        <p:xfrm>
          <a:off x="2971800" y="1828800"/>
          <a:ext cx="5867280" cy="444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828800"/>
                    <a:ext cx="5867280" cy="44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Text Box 30"/>
          <p:cNvSpPr/>
          <p:nvPr/>
        </p:nvSpPr>
        <p:spPr>
          <a:xfrm>
            <a:off x="647640" y="304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 using Microsoft Excel, we can make a table of values and a graph of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1"/>
          <p:cNvSpPr/>
          <p:nvPr/>
        </p:nvSpPr>
        <p:spPr>
          <a:xfrm>
            <a:off x="4800600" y="1295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 = 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04920" y="2286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can also use Maple 7 to plot exponential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28600" y="914400"/>
            <a:ext cx="4800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plot (exp(x),x=-5..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8660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3:16:48Z</dcterms:created>
  <dc:creator>Chester Area School</dc:creator>
  <dc:description/>
  <dc:language>en-US</dc:language>
  <cp:lastModifiedBy>RomaK</cp:lastModifiedBy>
  <dcterms:modified xsi:type="dcterms:W3CDTF">2015-09-04T07:39:39Z</dcterms:modified>
  <cp:revision>38</cp:revision>
  <dc:subject/>
  <dc:title>PowerPoint Presentation</dc:title>
</cp:coreProperties>
</file>