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explode.wav" ContentType="audio/x-wav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02B2-2756-4973-82FC-CE6571239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functions which can be represented by graphs similar to the graph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functions which can be represented by graphs similar to the graph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base exponential functions are similar because they all go through the point (0,1), regardless of the size of their 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written in the for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a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 const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base exponential functions are similar because they all go through the point (0,1), regardless of the size of their 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written in the for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a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 const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exponential equations, it is important to have both sides of the equation set to the sam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orking with exponential equations, the Laws of Exponents still hold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exponential equations, it is important to have both sides of the equation set to the sam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orking with exponential equations, the Laws of Exponents still hold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could see in the graph, the larger the base, the faster the function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ace a negative sign in front of the x, the graphs will be reflected(flipped) across the 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could see in the graph, the larger the base, the faster the function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ace a negative sign in front of the x, the graphs will be reflected(flipped) across the 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using Microsoft Excel, we can make a table of values and a graph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using Microsoft Excel, we can make a table of values and a graph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lso use Maple 7 to plot exponential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plot (exp(x),x=-5..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lso use Maple 7 to plot exponential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plot (exp(x),x=-5..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FA84-7E28-4E15-8E91-173AF71C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F60-63C3-45E8-B202-CDF0C67E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953-BB15-406B-92F9-37CDF628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A16-43C5-4131-9602-D7E3AE4B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3D3-1A1E-4B28-B89A-0C55F665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DBF-5910-4B77-BD6B-D5EE3188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FA9F-5ED9-4EE7-82DF-6FA0BB55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6EA-DE8B-412F-BC89-0302834C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B443-CF30-45C5-8D46-D56175C7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C383-4BDC-4CA4-9A2F-4A2103F2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596E-79AF-43F8-9F40-A05C6E21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2FC6-DCC2-4121-8EBB-472B52CD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24DD-B0BB-454B-B4EF-BCD6C0ABA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laws%20of%20exponents.ppt" TargetMode="External"/><Relationship Id="rId2" Type="http://schemas.openxmlformats.org/officeDocument/2006/relationships/hyperlink" Target="file:///laws%20of%20exponents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E&amp;D"/>
          <p:cNvPicPr/>
          <p:nvPr/>
        </p:nvPicPr>
        <p:blipFill>
          <a:blip r:embed="rId1"/>
          <a:stretch/>
        </p:blipFill>
        <p:spPr>
          <a:xfrm>
            <a:off x="304920" y="225360"/>
            <a:ext cx="8610480" cy="64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8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5715000" cy="43974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27"/>
          <p:cNvSpPr/>
          <p:nvPr/>
        </p:nvSpPr>
        <p:spPr>
          <a:xfrm>
            <a:off x="228600" y="685800"/>
            <a:ext cx="3733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Exponential Functions are functions which can be represented by graphs similar to the graph on the 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68580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base exponential functions are similar because they all go through the point (0,1), regardless of the size of their bas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-95400" y="2590920"/>
            <a:ext cx="93348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Exponential Functions are written in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y = ab</a:t>
            </a:r>
            <a:r>
              <a:rPr b="1" lang="en-US" sz="6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= constan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 = bas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x =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2558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solving exponential equations, it is important to have both sides of the equation set to the same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working with exponential equations, the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Laws of Exponents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ill hold tr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81000" y="1295280"/>
                <a:ext cx="35910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3657600" y="1295280"/>
                <a:ext cx="3068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6553080" y="1295280"/>
                <a:ext cx="15670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7"/>
              <p:cNvSpPr txBox="1"/>
              <p:nvPr/>
            </p:nvSpPr>
            <p:spPr>
              <a:xfrm>
                <a:off x="8153280" y="1447920"/>
                <a:ext cx="587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3"/>
              <p:cNvSpPr txBox="1"/>
              <p:nvPr/>
            </p:nvSpPr>
            <p:spPr>
              <a:xfrm>
                <a:off x="1089000" y="4343400"/>
                <a:ext cx="3483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4"/>
              <p:cNvSpPr txBox="1"/>
              <p:nvPr/>
            </p:nvSpPr>
            <p:spPr>
              <a:xfrm>
                <a:off x="4572000" y="4191120"/>
                <a:ext cx="342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5"/>
              <p:cNvSpPr txBox="1"/>
              <p:nvPr/>
            </p:nvSpPr>
            <p:spPr>
              <a:xfrm>
                <a:off x="609480" y="5410080"/>
                <a:ext cx="29941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6"/>
              <p:cNvSpPr txBox="1"/>
              <p:nvPr/>
            </p:nvSpPr>
            <p:spPr>
              <a:xfrm>
                <a:off x="3657600" y="5486400"/>
                <a:ext cx="2612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7"/>
              <p:cNvSpPr txBox="1"/>
              <p:nvPr/>
            </p:nvSpPr>
            <p:spPr>
              <a:xfrm>
                <a:off x="6248520" y="5410080"/>
                <a:ext cx="1904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18"/>
          <p:cNvSpPr/>
          <p:nvPr/>
        </p:nvSpPr>
        <p:spPr>
          <a:xfrm>
            <a:off x="8077320" y="1371600"/>
            <a:ext cx="76176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6248520" y="5410080"/>
            <a:ext cx="1904760" cy="762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523880" y="0"/>
            <a:ext cx="609624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914400" y="502920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ellow = 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Green = e</a:t>
            </a:r>
            <a:r>
              <a:rPr b="1" lang="en-US" sz="3600" spc="-1" strike="noStrike" baseline="30000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lack = 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d = 2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0" y="1371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As you could see in the graph, the larger the base, the faster the function increa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3505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place a negative sign in front of the x, the graphs will be reflected(flipped) across the 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447920" y="0"/>
            <a:ext cx="6248160" cy="5168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952560" y="5105520"/>
            <a:ext cx="7238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ellow = 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-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Green = e</a:t>
            </a:r>
            <a:r>
              <a:rPr b="1" lang="en-US" sz="3600" spc="-1" strike="noStrike" baseline="30000">
                <a:solidFill>
                  <a:srgbClr val="339933"/>
                </a:solidFill>
                <a:latin typeface="Times New Roman"/>
              </a:rPr>
              <a:t>-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lack = 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-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d = 2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-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3"/>
          <p:cNvGraphicFramePr/>
          <p:nvPr/>
        </p:nvGraphicFramePr>
        <p:xfrm>
          <a:off x="457200" y="1752480"/>
          <a:ext cx="2533680" cy="458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2533680" cy="45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4"/>
          <p:cNvGraphicFramePr/>
          <p:nvPr/>
        </p:nvGraphicFramePr>
        <p:xfrm>
          <a:off x="2971800" y="1828800"/>
          <a:ext cx="5867280" cy="444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828800"/>
                    <a:ext cx="5867280" cy="44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 Box 30"/>
          <p:cNvSpPr/>
          <p:nvPr/>
        </p:nvSpPr>
        <p:spPr>
          <a:xfrm>
            <a:off x="647640" y="304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using Microsoft Excel, we can make a table of values and a graph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1"/>
          <p:cNvSpPr/>
          <p:nvPr/>
        </p:nvSpPr>
        <p:spPr>
          <a:xfrm>
            <a:off x="4800600" y="1295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 = 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04920" y="228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also use Maple 7 to plot exponential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28600" y="91440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lot (exp(x),x=-5..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3:16:48Z</dcterms:created>
  <dc:creator>Chester Area School</dc:creator>
  <dc:description/>
  <dc:language>en-US</dc:language>
  <cp:lastModifiedBy>RomaK</cp:lastModifiedBy>
  <dcterms:modified xsi:type="dcterms:W3CDTF">2015-09-04T07:39:39Z</dcterms:modified>
  <cp:revision>38</cp:revision>
  <dc:subject/>
  <dc:title>PowerPoint Presentation</dc:title>
</cp:coreProperties>
</file>