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31A1-7FE3-478B-8287-5B7552A473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6A5-E2D5-49BC-8E29-358563E2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863-9850-4F73-80DA-F7836D22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E3F-0DF3-42F5-8C5B-2729BA94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1CD-D910-40BD-B04C-8C136FE4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C3FF5-A421-4806-90A9-D08BEBA8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B3EDF-109C-4BA1-AA50-6CE71BE8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4B52-D099-4814-8372-E6AC76B1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A8C44-996D-4F6A-A813-A6328CDC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EE9F5-DEB7-4B15-B864-63136742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C759C-AB0F-4FC1-B11B-CB9129CE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D3702-2407-4DDE-8CD6-9D992CB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204-F152-4138-9519-D860906B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777E5-30CA-4844-B773-917F6B66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8446C-720D-484A-BE68-B52ADC9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6086F-CA1B-408D-B87C-1EC05F6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C388E-A390-432A-87E0-43174E67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1F919-DE21-490F-BB19-1F4A2B7F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4C9-1A4D-4A4F-B7A0-08D8E0BA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7D7-0483-4300-970E-4146996F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D36-64FE-48E2-B5BF-44F37403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59B-693C-4137-8BBD-A42A8208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9BD-C504-4F35-AA68-81AD768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3FF-C87E-43C3-95FD-A52A9F78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9C6-D9BA-47CD-A112-494D9669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4917-6A92-405A-A7DF-CCBE7EF3B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78A9-59F8-44BB-B108-6826A8A19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viding F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. Emerlina C. Binu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6400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t the di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ivision sig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 multiplication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ancel if you c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numerato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denom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08260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divide fractions and whole number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Write the whole number as a fraction. Use 1 as the denomin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 3 ÷2/3 =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  Write the whole number as a Fraction.  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 Invert the divisor. Change the division sign to a multiplication sign. 3/1 x 3/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067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 Multiply the numerators and denominator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x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9/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1x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4. Write the improper fraction as a mixed number.   9/2 = 4  and 1/2.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inder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ange an improper fraction to a mixed number, divide the numerator by the denominator. Put the remainder ove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89548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54:18Z</dcterms:created>
  <dc:creator>emerlina binuya</dc:creator>
  <dc:description/>
  <dc:language>en-US</dc:language>
  <cp:lastModifiedBy>RomaK</cp:lastModifiedBy>
  <dcterms:modified xsi:type="dcterms:W3CDTF">2015-09-04T07:39:34Z</dcterms:modified>
  <cp:revision>11</cp:revision>
  <dc:subject/>
  <dc:title>Dividing Fractions</dc:title>
</cp:coreProperties>
</file>