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TYPE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0DC0-0D66-474A-A5E5-E58A19D1B9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7FC-EC98-4ECA-B7B6-D3C69FD2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25C-B2D9-4070-8CDA-0CF7DFC3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4E8-DBA0-4F6A-92E2-A243305B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2E6-EFE5-4E93-922C-8A827733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BADE0-1836-48B5-B031-A08C8EB2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B9FD4-7B4C-4634-A088-B071AA02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05960-AA4D-4FAC-9E1B-D6038723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3F3C0-6CDB-46BD-B8FF-7B44803C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FA85C-ECE0-4E81-A91C-D950A0BD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B5C0E-9CAE-4F3D-A003-B79B3E31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0A378-A9E5-45D2-AB8E-22D8F743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C25-B7E0-4396-9903-058E799C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5C666-E682-409E-9B8B-57AFF55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95ECB-FDDF-42E5-A883-C24D23F6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6B29-BA10-45A6-B3B5-59B80E33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59506-C09F-4A97-BDC0-0110081C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5B0E2-5707-4E70-9FCE-C974AA0E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2D3-B2EB-4466-8523-AC5BD689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F1C-A4BB-4ADE-8312-1EB80BCA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E1C-887E-4524-BB5C-1139A1D3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69F-E301-4EE8-B892-180F79B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222-165D-4E83-9423-4B631605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73A-FA3A-408A-912A-00AA7819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A12-8C9A-44B6-8DE4-060B6646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0D08-F6C9-422B-A476-97C1F7C76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69D7-AD97-440E-80A7-FC7F521D5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viding F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. Emerlina C. Binuy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0574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6400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rt the divis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division sig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 multiplication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cancel if you c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numerato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denomin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Object 4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08260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to divide fractions and whole number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Write the whole number as a fraction. Use 1 as the denomin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ide 3 ÷2/3 =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  Write the whole number as a Fraction.  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 Invert the divisor. Change the division sign to a multiplication sign. 3/1 x 3/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7238880" y="1905120"/>
            <a:ext cx="10670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Object 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3623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228564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 Multiply the numerators and denominators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x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9/2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1x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4. Write the improper fraction as a mixed number.   9/2 = 4  and 1/2.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inder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hange an improper fraction to a mixed number, divide the numerator by the denominator. Put the remainder over the denomina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289548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5:54:18Z</dcterms:created>
  <dc:creator>emerlina binuya</dc:creator>
  <dc:description/>
  <dc:language>en-US</dc:language>
  <cp:lastModifiedBy>RomaK</cp:lastModifiedBy>
  <dcterms:modified xsi:type="dcterms:W3CDTF">2015-09-04T07:39:34Z</dcterms:modified>
  <cp:revision>11</cp:revision>
  <dc:subject/>
  <dc:title>Dividing Fractions</dc:title>
</cp:coreProperties>
</file>