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9A49-BB61-4240-8732-70EC84AA63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074F-293B-4715-8709-5A7E6813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BB88-5A64-4EB5-A623-24F25750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5C7E-9456-402D-8D2D-6BE743E1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57A-E5E1-4371-8347-1A57F14D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F1D4-861C-4465-9481-25C4C5C9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D5E-1CA8-4A42-804F-42641AD5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BE9-782A-4425-8218-EBEA4822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6A9-331D-486F-8123-6C94A097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97B-8C94-4FC7-AB0C-5D720DAE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046-9AF1-4CEC-AA55-2C118D79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3ED-9FE5-4072-9C01-E80A463A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0FF-2573-43DD-B8DD-9E8D3B83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276F-A87A-4882-A910-D05ABBC0D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eight(w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directly proportional to acceleration due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w=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ressure(P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P=F/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2ccf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requency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124080" y="39625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f=1/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cceleration(a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is direct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inverse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04812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a=F/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048120" y="4952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= (</a:t>
            </a: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2514600" y="831960"/>
                <a:ext cx="3962520" cy="36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 flipV="1">
            <a:off x="3505320" y="1600200"/>
            <a:ext cx="1828800" cy="533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3505320" y="3124080"/>
            <a:ext cx="160020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523880" y="1828800"/>
                <a:ext cx="60199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 flipV="1">
            <a:off x="2819520" y="2514600"/>
            <a:ext cx="2361960" cy="76320"/>
          </a:xfrm>
          <a:prstGeom prst="line">
            <a:avLst/>
          </a:prstGeom>
          <a:ln w="572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2971800" y="1752480"/>
            <a:ext cx="3352680" cy="533520"/>
            <a:chOff x="2971800" y="1752480"/>
            <a:chExt cx="3352680" cy="533520"/>
          </a:xfrm>
        </p:grpSpPr>
        <p:sp>
          <p:nvSpPr>
            <p:cNvPr id="60" name="Line 9"/>
            <p:cNvSpPr/>
            <p:nvPr/>
          </p:nvSpPr>
          <p:spPr>
            <a:xfrm flipV="1">
              <a:off x="2971800" y="1752480"/>
              <a:ext cx="2666880" cy="5335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>
              <a:off x="5562720" y="1828800"/>
              <a:ext cx="761760" cy="4572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2286000" y="1295280"/>
                <a:ext cx="4495680" cy="33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200400" y="2666880"/>
            <a:ext cx="2819520" cy="5335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200400" y="2819520"/>
            <a:ext cx="19051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4d4f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42:34Z</dcterms:created>
  <dc:creator>administrator</dc:creator>
  <dc:description/>
  <dc:language>en-US</dc:language>
  <cp:lastModifiedBy>RomaK</cp:lastModifiedBy>
  <dcterms:modified xsi:type="dcterms:W3CDTF">2015-09-04T07:39:27Z</dcterms:modified>
  <cp:revision>10</cp:revision>
  <dc:subject/>
  <dc:title>Directly and inversely proportional</dc:title>
</cp:coreProperties>
</file>