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861E-1AAD-442A-BEFC-AF6450F42D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Value with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decimal that has the sam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3.8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know what kind of decimal it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decimal is determined by the number of places to the righ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xe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decimals are numbers with both whole numbers and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whole number is determined by the number of places to the lef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rea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ad a decimal correctly, first find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to the left of the decimal point; any numbers to the right of a decimal point form a decimal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“and” fo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 2164.511 is read as “two thousand, one hundred sixty-four and five hundred eleven thousandth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afte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extra zeros after the decimal point does not change the val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s 0.2, 0.20, and 0.200 are equivalent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practice problems in which I will work through with you to make sure that you understand the main concepts cov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dec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ty-four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undred thirty-six and sixty-nine hundre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decimal in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4.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92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12.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at place (on the place value chart) is the underlined digit? Write the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7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80.2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2.4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2.1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08A-62D6-437E-9C24-3206629C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D09-BF34-4929-906D-1952904E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BD71E-3F74-4D44-9C7A-60A32CB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EB57C-C0B1-4966-8052-2DDE096A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6A34B-E5A8-4FDC-A79B-AF6A46B1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E4939-D69C-4377-B13A-A29EAA67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1C1E2-FABD-4694-9F80-0620BF86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0B41B-E5F2-4723-BBF6-C0D8512E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E7736-0671-4EED-88F5-8358419B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BF220-72E7-4A5E-B410-A85BE71B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B8673-218D-48F9-9041-9CB3C72E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0633E-0473-4AE1-80CC-900C1E14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678-3F11-4D39-9B6A-37E7D041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BBEEF-6936-464B-8243-DEB6ED4C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FFA74-18D0-4DD1-8D06-3476F82B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F0BF1-29F6-45B8-9B43-D1EA903A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84EBB-7AB6-45F8-B907-152C413F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0DF14-A05F-4052-9137-C777D6E3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DC646-B4B0-4A94-9FBF-6A8A6AB2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2431F-7064-4598-A964-B920BB2C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FBD1A-533D-438D-9296-9530E3B1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EE5ED-0214-4410-8B8A-2A731B3F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F7394-945D-4276-81B0-40E35AAC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704-DD68-4A11-974A-C92388BA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BF84D-DA82-422F-A886-3C04F21B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D92A1-56B5-455B-8FC0-964A477D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92D5F-FD37-42B1-AED8-A74D44FB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6F5BF-ED04-4184-AE75-9DF21E0F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5B6F1-C43D-4CB2-ABF1-9AC16071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FDA1A-7F57-41C8-9355-E7D3EE46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0A6F2-27AE-4F5B-9970-2DB01584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D10DF-C05E-421E-A0D5-972313C3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98F60-4D70-4AA7-B83C-C3DD410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E53C4-4227-4E69-8FD1-185B03DB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E0D9-EC3E-4E74-B7F5-E8CA9E53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64B96-1EB8-4E47-956F-6FE10ADB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2A74F-0D94-4857-9909-139962C0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9F642-8DE3-465C-8BD1-B3BDEAA0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3C47F-5999-4A5C-8653-70302596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287FC-F323-4485-AC6B-782F514B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B8029-B5CC-4248-85D7-76C53D42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EFB25-6BE9-461C-A388-2F49965B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42BD9-011F-4CD3-858C-FBB5B13B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93111-5D3F-40CD-9AEE-601410D6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2694D-D9DA-414B-8222-924C0CF5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649B-B16C-4D89-A26A-61F39B8C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650AF-9C02-4A46-B486-4B5C46B7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F6ECA-2F42-4707-9F37-FA453E1D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78537-8E88-4275-B35A-9603EEC2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FA029-CA5C-47CB-8BB0-8BAACA27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A9501-3E61-4F92-ADA6-CA3DC741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2DB2-C3B4-4A82-9082-199D1EED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1E03-ED5B-4727-BE14-7565DC0F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818C-4029-4837-8C35-BFDD6F21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9752-8F8C-4767-A241-6F65B6DE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00B1-7712-4DB0-A0B9-EFD9B206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856-9904-4254-95F5-69D4051C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79ED-75DA-4082-8E4C-32A02A0D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5A96-849D-49E9-AA61-5F32AC3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BE5E-5E76-4887-9005-1C3AA90A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FC6A-378A-47B1-87DF-B94F3456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DB78-53A5-4D0B-91B2-BFB5D699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D2E7-F05A-4479-ACF2-542CFC91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B7E8-45F8-4B90-8F65-D633E383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70ED-9E8B-4840-879B-23AF42A9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03E8-4B5D-4F54-B46B-40A8E9F9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F8F5-23A4-41C9-A0CB-76BCE559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3FD-76DB-4332-9F7A-FB28430F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11C9-0766-46D9-8FC8-AF084CE2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A3AC-508E-4316-AACE-E575CA0C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AAD2-C036-4B8D-8B72-907404DD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848BC-DA55-4180-A202-0468DDF1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D5BC-B611-4B46-AD7E-FBD87D04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68D9-810B-467A-B260-1FEC45C9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DC14-7559-4821-B689-38BFC6A5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9398-1A1F-48C1-BC95-F36CE585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83F17-8846-42B6-AA7F-980E18DC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F944-3C61-4CAA-BC6D-E0FE2D97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23A-BC80-4EB5-9486-F6A53453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DF2D-6441-46D8-9433-DDFFF597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FA052-0FAE-4361-8D40-C63C7DA9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993C-C31B-4441-B73E-99B53035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EC545-A6CB-4FBD-AF0D-3F327874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4643E-D5A6-45E5-9154-BA230CA9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85B20-0B22-4C5B-BED9-67175D8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7EF0-EE1A-49CF-AEA9-767D50C5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21E03-6925-419E-9B78-83CD92D9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DA3F-E453-4527-9862-7327FFC0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9CFF-84C2-443E-960C-094E13B5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EEE-831E-4040-AEAD-8896C889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5F844-6EEC-42E8-BA67-325BB8A3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766DF-B539-4CEF-981D-14CEDAC7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601BC-B2B1-4B8B-930D-2B5EE578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D50A-BA75-4A21-A85D-118EFEB2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A785-C231-4478-9AC8-136BB01F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A75A3-C693-4654-BC2F-F29BFB7B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FAA3C-2962-422B-AD65-327FE928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57DF8-A63B-45F8-A52B-A42E3CF6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D2572-603C-465D-83A6-09E9C32D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63B2B-A5AD-42EF-A831-E6E80DCE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B23-A60A-4967-9C96-7C6E0D91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F0F16-7393-4D7D-911E-802C02D0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343AA-AC8F-411A-992B-3BD0490A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A794B-B909-4CB6-9FCC-F03505CA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E6776-A656-41E8-AD54-158C39B7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553FB-D53F-463F-9C40-15C1D133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21B56-A3DA-4647-B43E-13CBC67E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799FC-4DD7-4A5E-9150-17D3D5EC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1BA43-4D67-4FFD-BC3D-B1E7DBA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08485-8BA5-4808-8D81-0DC923B9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796B-5372-42E7-8402-435D93B9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BF5-1EA5-4B9C-95AB-B3110156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5B13A-C055-43FD-AE1A-4C9E8F13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083DC-EFE5-43F4-AC6B-53832CC5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E1FC8-74E7-4099-9401-104AEDBB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9521F-32E6-4BCA-9D2D-3A79478E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8BC62-4051-4DF4-9C69-BAC2D8A5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14B3A-26E1-473D-A0EF-83B1B287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EA29-57D9-4F13-AF8B-23E0F30F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67BE1-8FCE-4295-ACBA-D6E3D3C0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B4E48-D6C4-4B17-8E97-CA4B8175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08494-6D57-44E5-8A85-197BFF28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6DF-D8C4-4127-BC6B-372CC022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B61FC-D7AD-455F-A339-ADD4BE72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A3B57-9DD8-4D6E-B8E0-CB7EC1C5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90845-E31A-4D8D-9114-086209D3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C065E-5D7A-40B1-B0C0-6E3FE8BE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37A64-393C-43AF-A262-3D183716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2302B-640F-4C93-8595-7DCBFEC5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8B186-DAFF-4916-A2D6-D6A0E442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8636A-DF5A-4069-87DE-BB3E59AC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A76D3-B83A-4281-B69F-FEB769A5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92E44-85B6-4EAA-9F88-C6494186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31C-BACD-4217-9D29-C32D6872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12631-72DD-4E2C-808B-E79DBFBF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AC26C-4CE6-4916-B6F3-7F09FBF1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CDD8F-3B0D-4BFB-A3BD-9288649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11C7A-F810-4026-A6AB-5491FFA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58F10-95C5-44F5-92C2-39A60772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B3BDE-F1EA-43FC-891D-9E43B842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34540-E9C3-409A-BB34-1A6D56C6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0C331-A0FD-4C67-8815-63A4F8F5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22E87-6341-4545-BD09-90764DEF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6B87C-4BA7-4D78-B03F-87CB3037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61D2-DF61-407E-B480-FF32FE154EC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CEB8-BE53-4BF8-8CAC-D2C6587DE05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1EF4-2B65-40DB-A728-31B7FABEAF73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6088-712A-47DF-BDEE-2DEB18D66B4E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727A-9538-4837-A66A-CA0527F4445B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5C92-0FAE-43BF-80D4-930D9FD27ABB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1F01-3E83-4EAE-8270-024FA7AA4E6D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C725-A5D3-4D22-8646-DBF440FE32E4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5833-CB2B-4033-93E4-9BEEE9B5997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E9C1-8E3B-497B-BC8C-FF5313DED098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8455-7BFF-4421-A680-8DA9F231ED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DE53-6BE4-474E-B51B-404D0269C73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LACE VALUE WITH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f6fc6"/>
                </a:solidFill>
                <a:latin typeface="Mistral"/>
              </a:rPr>
              <a:t>Chapter 1.2</a:t>
            </a:r>
            <a:endParaRPr b="0" lang="en-US" sz="115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4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decimal that has the same numb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5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0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53.8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How do I know what kind of decimal it is?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decimal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09480" y="2895480"/>
          <a:ext cx="7925040" cy="2895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re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advTm="27000"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What are mixe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xed decima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numbers with both whole numbers and decim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whole number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8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How do you rea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ad a decimal correctly, first find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le numbers are to the left of the decimal point; any numbers to the right of a decimal point form a decimal 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 “and” for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 2164.511 is read as “two thousand, one hundred sixty-four </a:t>
            </a:r>
            <a:r>
              <a:rPr b="0" i="1" lang="en-US" sz="2200" spc="-1" strike="noStrike" u="sng">
                <a:solidFill>
                  <a:srgbClr val="04617b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 five hundred eleven thousandths”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9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Zeros after the decimal point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ing extra zeros after the decimal po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e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 change the val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s 0.2, 0.20, and 0.200 are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equivalent decimals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17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Arial"/>
              </a:rPr>
              <a:t>HERE ARE SOME PRACTICE PROBLEMS IN WHICH I WILL WORK THROUGH WITH YOU TO MAKE SURE THAT YOU UNDERSTAND THE MAIN CONCEPTS 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stral"/>
              </a:rPr>
              <a:t>Practice</a:t>
            </a:r>
            <a:endParaRPr b="0" lang="en-US" sz="96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1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the decim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ety-four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hundred thirty-six and sixty-nine hundre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2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each decimal in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884.0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59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2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12.2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.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3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hat place (on the place value chart) is the underlined digit? Write the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76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780.21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2.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1:11:29Z</dcterms:created>
  <dc:creator>Natasha Khimji</dc:creator>
  <dc:description>Decimals</dc:description>
  <cp:keywords>Decimals</cp:keywords>
  <dc:language>en-US</dc:language>
  <cp:lastModifiedBy>RomaK</cp:lastModifiedBy>
  <dcterms:modified xsi:type="dcterms:W3CDTF">2015-09-04T07:39:21Z</dcterms:modified>
  <cp:revision>17</cp:revision>
  <dc:subject>Decimals</dc:subject>
  <dc:title>Decimals</dc:title>
</cp:coreProperties>
</file>