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move the slide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CA1B-1D27-4EB7-95B5-F19F04987E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Value with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decimal that has the sam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53.8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I know what kind of decimal it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e of a decimal is determined by the number of places to the right of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mixed decim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decimals are numbers with both whole numbers and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e of a whole number is determined by the number of places to the left of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number 128.765, 1 is in the hundreds place, 2 is in the tens place, 8 is in the ones place, 7 is in the tenths place, 6 is in the hundredths place, and 5 is in the thousandth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read decim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ad a decimal correctly, first find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are to the left of the decimal point; any numbers to the right of a decimal point form a decimal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“and” for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cimal 2164.511 is read as “two thousand, one hundred sixty-four and five hundred eleven thousandth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s after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extra zeros after the decimal point does not change the valu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cimals 0.2, 0.20, and 0.200 are equivalent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practice problems in which I will work through with you to make sure that you understand the main concepts cover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decim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thousan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nety-four thousan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undred thirty-six and sixty-nine hundre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each decimal in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84.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92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12.2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hat place (on the place value chart) is the underlined digit? Write the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4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7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80.2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2.4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2.1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0B5E-5F3C-4AA7-B235-EC6A7AE0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C1EC-A517-412A-84F9-67CE930D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81DB6-6544-48BF-B3DF-17302A70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5143E-BF91-45CA-8B69-48093EB9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F2497-8E46-4318-A3FE-9F8ACC44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86DE5-1DD4-4754-B83A-58F7FF62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96A76F-233B-4B8A-B2A2-FBCD9193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4F789-5630-4EC0-9F29-BF7341B3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49CE5-A85C-4D8A-B88C-EAC10D35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7E9C1B-E683-4B80-BE11-72837DE6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191352-1995-46EC-88D1-F8101719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DEF89-784B-4085-A4B8-11495F3C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4372-E5D8-4155-81E3-A42A9B79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3A42DA-053B-470E-B4AB-1E5F51D2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0E95FB-EBE7-4DB4-AB06-A59EF49B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4CB4C-3583-4D09-BC5B-0FF3A6A8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3AF5C-E5D8-4329-9019-37B24A37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C5443-8EC1-451F-8538-00E9F2C4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F6548-0FBB-4A7D-94CD-4AE603B1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2E7B3A-0084-4158-B154-0D67B655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2630E-A67A-4DB0-82E4-FAF69141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9585A9-D352-4C46-BBCC-AE8F0E15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B48F95-CD7F-409B-8E1D-F997AD07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E61-7B19-4F7C-8AA2-FAAC6450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377583-334F-4877-9B90-27E0D9DD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D7FC2-AC8D-4849-9708-3AD61966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18A34-FE81-4B2F-A164-1EDADA6D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7048D-FE76-4E4E-85D2-D5F98ABA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2CCBE-DE31-47A9-BCAB-09B6FC30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60069-38BF-4E7A-8CE3-8B9B3EF9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0E48E-53AC-4018-816F-266C914C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9B419-EC5D-4257-AA4D-F837CCBF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A5024-9599-4628-A495-91D90D95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8236C-A51E-4ACA-AAA7-C876D213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3090-E5E4-4246-84CD-37E3DE28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CE78A-8FC5-4AA2-8971-1C10AD0C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F0BD8-F605-4200-931F-17CE4256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85DA2-AA10-466B-AB39-B6266A0D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52C2ED-2B29-41F9-8F0C-EAAE24B1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C98782-7CE3-4E2E-B970-C61AABE4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3A5A1B-8AAE-49E3-95B0-F70A89CD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06BC7E-4562-471F-9A58-2921573D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574630-9ACD-4F93-96D3-A0711E8E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F1F095-16EB-479A-B5D2-47CB2427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68DDEC-E883-4E93-976C-B94FD27C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EF57-BFEE-4D89-AD33-353E0884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430A76-AFAA-4D37-98BF-10AA949D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1394B9-CC35-4C62-A0FD-D67E2B40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242CE5-F117-4DE8-B3F7-8D31EF1B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3BC76D-50CB-49F2-B2A2-1E077F18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281A09-C319-4F71-B5E3-E001545B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2E75-A057-4368-B178-2E624672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792F-F71E-47FC-8DDD-079AA750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0DE4-DD70-4495-9398-B2E490D0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AB58-5907-4059-B83B-A92FEC2A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FA0B-F32C-487A-BA42-C390A123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642B-4B29-4816-A59B-ABDBA21F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4D23-3A1D-4D07-883E-4000AE18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9206-E846-4091-A4CA-30B97052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8575-AAF1-4B28-BC2C-4E88ADF7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EA55-7B72-4056-851A-EAE89579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1FAD-8670-405E-B97D-94E36EDD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8DA7F-9525-47FA-9A3E-F0081C99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0ECE4-50B4-458D-968C-F8B7FDDD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7A7F4-4A49-4470-A90F-4FC27541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2E6D6-DD3E-4AA5-90A5-4F13977B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8BE3F-DE8D-4445-9C4A-B20F741A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957E-E6DE-4474-B7F2-2427D2B6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4B316-EDC9-428A-A76A-22A6A6F6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740E7-91D5-4A21-A086-B6A8A2A4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04C4D-3BD0-46C8-AA67-1FF727C0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2B113-09D5-44D7-A62F-FE748299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42CC3-84A7-4465-BB39-91D6B2C8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A42E2-7BB5-4517-9527-1B61FFB5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1C68A-DC60-4A32-BD5A-0B6A3610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53AF1-EE86-4EEC-921F-76734970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963A3-FE4F-4EBC-BEED-140618C5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823C1-CB1B-4863-9FC3-0D6C1B21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01B-2A3C-4A97-BD0B-88A62166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9AC30-E3CF-438F-B2B4-F64E7E93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DBDFF-DCBC-4AA6-AE6D-49ECA533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59CAD-1D08-438D-97E0-0F319F48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FBDD5-ED09-4DC6-BCF3-DD0BABF5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D6FFF-47AB-4333-91CD-0F82FC65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14281-C96B-4929-9FED-8ABFA1B0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85420-E5B9-4761-913B-30C4A4A6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E9DF1-C5B1-45F9-9E87-53A76AAF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7AC3D-8D21-4FBB-891B-9365885B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FF290-CEC5-4878-B98B-309A587D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56B5-C23C-4125-B610-2F8CF825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B1D12-2A95-4E6D-ABF7-EB9FE4D0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EBF16-0349-45A3-9691-DC9C8944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ED2BE-2307-4557-8686-8B0019B3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957CE-16AF-4E1E-8F37-10A9764E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AD4D8-19C5-4C7C-91D3-43F1C4F4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F0495-4305-413E-9DA8-2AF30CB5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DDC80-117D-418B-89CD-8A7689B7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03F43-CD4B-4EA4-B236-ACD79339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1F887-3797-4BEC-9132-C1650F21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7C110-6119-4EB9-AF26-33419857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A94E-1446-4CD9-B31D-DA8F16AE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ED110-708D-4880-9C36-CAECCCCE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DBB61-8037-423A-9F13-78FA6B28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FDB2B-B4A0-40DA-BADA-2F6BDE2D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985F8-1DE3-4E42-BC81-5D5F8484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27E8D-8B79-4095-ACE6-C3549115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9C5E3-AFE0-42EF-85DF-06ABA53D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70306-6147-4482-AE1F-3FAC2CE7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26720-3046-43C9-A9F0-7C6FBFC8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464D6-C4EE-4F3B-BA2A-D5010E39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EA12A-C173-4260-AB2E-BE595F67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80A-3790-4EA8-B09C-CAACE0DC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B4FC4-5B08-4A9D-B092-474B3184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D959B-B537-498B-A2E5-C86E192E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4AF54-7335-431A-82D8-2F1C8189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BA75C-B064-491C-A42F-FEA14371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00D5C-C063-4623-A5E4-321A3FD5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415ED-809D-49D7-BB43-EE64A006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EC3A3-8883-4718-A423-9C660E32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9899B-8B29-4CB2-A70C-B73FE915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A9CFE-92B3-4399-B7EF-DF41C8E5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912AA-327E-4BC1-B2D7-C98E6414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F166-90A9-4A11-A84A-0F42BB31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5D292-A45D-4BF8-A348-83E62BCA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52F0E-71E4-49FC-80C0-87A3EE91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520EA-C77E-41F0-BBD2-4842F214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CB2A9-21AC-4355-8799-F1BAED3E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A8A6F-402B-4D47-A4DB-21E9C69F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AB7F7-B12A-4251-87A8-CB69243D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9F18C-5370-47C2-95D2-449FC726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B1223-6B56-4BA1-8AE2-E25A4598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FA83F-FEBF-4057-AFFF-E3349CA3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287B1-5C18-485F-AE60-502339FC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4DE7-98B2-43C2-8C33-67E4A921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0AC7A-EC3D-4544-A8A6-049E865C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9572C-25AF-4D34-9F94-ACC4E99C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8B681-65D3-4CE7-B851-B618B670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4AB70-72DF-4A9A-9208-7C659ABE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FD137-5422-41D1-B94E-0F151915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8B8A8-124F-4B25-9E99-75C9E26D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6E0AC-A433-430F-9BFA-7C153C13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C12DA-E474-4A98-A2DC-4C836759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F3EAE7-9DCA-4090-AA1E-87AA92A9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A67C8-5740-48FC-8D23-E212D21D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FD7C-EE12-4D9C-84E5-C8F957311F5D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938F-D6D2-4B28-9F50-346CFB74661F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5278-CE2C-4A42-B917-230EBA24B6A1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42D8-D141-40D5-9DFF-93D10065DA77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EAE4-31A7-4F76-A19D-EBD9908CA2F1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EA94-9F22-41BC-8BD8-0FB660D0B392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5B2F-16F8-4FBF-BFA4-DA4C7B85FA35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D247-7F2B-4EAF-94B4-E5E2A71FFDAB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14C5-C9A4-49D2-9533-6E495646F923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641F-983E-4B51-95FE-A8CE948D04CF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0A27-49CF-4A77-9CFF-C9CF4045307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CC79-2E0E-4C6F-96FA-456F69EF94C7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PLACE VALUE WITH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f6fc6"/>
                </a:solidFill>
                <a:latin typeface="Mistral"/>
              </a:rPr>
              <a:t>Chapter 1.2</a:t>
            </a:r>
            <a:endParaRPr b="0" lang="en-US" sz="11500" spc="-1" strike="noStrike">
              <a:solidFill>
                <a:srgbClr val="08b7bf"/>
              </a:solidFill>
              <a:latin typeface="Mistral"/>
            </a:endParaRPr>
          </a:p>
        </p:txBody>
      </p:sp>
    </p:spTree>
  </p:cSld>
  <p:transition advTm="6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Exercise 4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a decimal that has the same numb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.5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10.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53.8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How do I know what kind of decimal it is?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ame of a decimal is determined by the number of places to the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righ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609480" y="2895480"/>
          <a:ext cx="7925040" cy="289584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l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dred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sand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advTm="27000">
    <p:cover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What are mixed decimals?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ixed decimal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re numbers with both whole numbers and decim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ame of a whole number is determined by the number of places to the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lef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In the number 128.765, 1 is in the hundreds place, 2 is in the tens place, 8 is in the ones place, 7 is in the tenths place, 6 is in the hundredths place, and 5 is in the thousandths place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28000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How do you read decimals?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read a decimal correctly, first find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ole numbers are to the left of the decimal point; any numbers to the right of a decimal point form a decimal fra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y “and” for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The decimal 2164.511 is read as “two thousand, one hundred sixty-four </a:t>
            </a:r>
            <a:r>
              <a:rPr b="0" i="1" lang="en-US" sz="2200" spc="-1" strike="noStrike" u="sng">
                <a:solidFill>
                  <a:srgbClr val="04617b"/>
                </a:solidFill>
                <a:uFillTx/>
                <a:latin typeface="Arial"/>
              </a:rPr>
              <a:t>and</a:t>
            </a: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 five hundred eleven thousandths”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29000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Zeros after the decimal point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ing extra zeros after the decimal poin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es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 change the valu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The decimals 0.2, 0.20, and 0.200 are 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</a:rPr>
              <a:t>equivalent decimals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17000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Arial"/>
              </a:rPr>
              <a:t>HERE ARE SOME PRACTICE PROBLEMS IN WHICH I WILL WORK THROUGH WITH YOU TO MAKE SURE THAT YOU UNDERSTAND THE MAIN CONCEPTS COVE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istral"/>
              </a:rPr>
              <a:t>Practice</a:t>
            </a:r>
            <a:endParaRPr b="0" lang="en-US" sz="9600" spc="-1" strike="noStrike">
              <a:solidFill>
                <a:srgbClr val="08b7bf"/>
              </a:solidFill>
              <a:latin typeface="Mistral"/>
            </a:endParaRPr>
          </a:p>
        </p:txBody>
      </p:sp>
    </p:spTree>
  </p:cSld>
  <p:transition advTm="2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Exercise 1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the decim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ve thousan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inety-four thousan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ree hundred thirty-six and sixty-nine hundre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Exercise 2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each decimal in w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884.01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592.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.2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12.25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0.4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Exercise 3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what place (on the place value chart) is the underlined digit? Write the answ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76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780.21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12.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21:11:29Z</dcterms:created>
  <dc:creator>Natasha Khimji</dc:creator>
  <dc:description>Decimals</dc:description>
  <cp:keywords>Decimals</cp:keywords>
  <dc:language>en-US</dc:language>
  <cp:lastModifiedBy>RomaK</cp:lastModifiedBy>
  <dcterms:modified xsi:type="dcterms:W3CDTF">2015-09-04T07:39:21Z</dcterms:modified>
  <cp:revision>17</cp:revision>
  <dc:subject>Decimals</dc:subject>
  <dc:title>Decimals</dc:title>
</cp:coreProperties>
</file>