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F63C-7B22-43A5-ACAE-ADA2615AA0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diameter of the circle is 10 cm then find its radius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Radius =diameter 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=10 cm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 =5 cm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radius of the circle is 6 cm,then find the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Diameter = 2 x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2 x 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2 cm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BETWEEN CIRCUMFERENCE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Find the circumference (approx) of the circle whose diameter is 10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=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hat is the relation between radius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the relation between circumference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n this fig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 .Radius=diameter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=3X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is 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or OB is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ball,bangle,lemon.c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 :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: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lane,each point of the circle is at equal distance from a fixed point.The fixed point is called the centr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 =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from centre to any point on the circle is called radius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 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passing through the centre of the circle and whose end points lie on the circle is called the diameter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gth of the circle or the distance around it is called 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whose both the ends touches the circumference and passes through the centre is called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 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lation between radius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=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B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6E9-623B-4EF6-A825-6B4B1B43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336-D254-4737-8CE3-B14C2884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E53-724B-4B84-8154-75DC413E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8D4-3EAD-4F4E-9AC2-9CDD773A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ACCB-B3E6-4E81-9713-28EA3192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BD39-C00D-4385-BCAD-4B4A2A9C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873F-9426-4CD3-A82C-A4455A52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3B16-C5A0-4711-8BDA-D7B35660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1B71-6F16-4F18-AC07-683F99E7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C8C5-A3BE-4137-8240-757CDC18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4930-F34E-4B19-9108-4F627E18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773-07CB-4507-A7A5-24194A86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F24D-E6E0-475D-AE05-B524E84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D529-A0EE-46E4-AD64-024EA551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7D4C-BCCA-436F-AC10-1DD6A511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8BAC-B2B0-4754-BF26-6380CD01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1B63-C2E7-4C2C-81A7-3C52D77D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F3C-2974-4800-838B-E57C173D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AC9-1E12-42EC-9891-2FDEE483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F5E-540F-45AB-B0BC-3D1020AB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54D-39B3-4076-BC9F-D46D4096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F75-76AE-41BA-B94C-A6A7F7EC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AA3-789D-4222-BE97-413131D3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444-BCC3-4702-9749-DA02325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3141-E50F-4D1E-87F4-3786577FF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FF15-1D8E-44B5-B181-C3696BE7F4A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3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RomaK</cp:lastModifiedBy>
  <dcterms:modified xsi:type="dcterms:W3CDTF">2015-09-04T07:38:45Z</dcterms:modified>
  <cp:revision>56</cp:revision>
  <dc:subject/>
  <dc:title>the Circle</dc:title>
</cp:coreProperties>
</file>