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64AF-88B6-40D8-A237-3CD190E0497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y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diameter of the circle is 10 cm then find its radius?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0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Radius =diameter 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=10 cm/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radius =5 cm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If radius of the circle is 6 cm,then find the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Diameter = 2 x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2 x  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12 cm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 BETWEEN CIRCUMFERENCE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Find the circumference (approx) of the circle whose diameter is 10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=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 = 3 x 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 x 1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= 3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hat is the relation between radius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What is the relation between circumference and diameter of the circ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In this fig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 .Radius=diameter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. Circumference=3Xdiameter(approx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is 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_________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or OB is 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g. ball,bangle,lemon.co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 :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: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plane,each point of the circle is at equal distance from a fixed point.The fixed point is called the centr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E =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from centre to any point on the circle is called radius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 = O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 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passing through the centre of the circle and whose end points lie on the circle is called the diameter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ngth of the circle or the distance around it is called 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segment whose both the ends touches the circumference and passes through the centre is called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 A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lation between radius and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= 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B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69D-5A44-46A4-BF29-5C0DE7C9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5F0F-1E61-4113-9703-0A4FB940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BFB-0249-42B8-8714-5CD24E6B6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B297-91A5-4FCC-816C-CB9D1A22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A089-54CF-43A1-8DBC-55DF8E5A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4FBA-620F-458A-877D-2D4CA643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5C88-30BB-47FA-9701-B48B720B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E1FC-09BD-4C30-A645-2CE913ED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6549-2196-407C-8CE0-B211E5C2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0DD4-D318-454D-823E-4178B9BF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1037-CCC8-4E5C-BC8E-3439EFD9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6A2E-6DE3-43BA-BC90-C3114AF8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EC48-F9C1-415C-B529-BF9AA4AA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2637-A716-4A66-B545-7EB2FA99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8FA4-4AC6-401C-BC29-F852459C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739B-E3B2-4511-A037-7B040272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4F6F-DDCD-4FE6-B1D6-4B4A2CBC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392F-A8F7-44F0-9415-D16E8EF7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CFD7-88C3-4A24-879C-97887290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C44A-3926-4608-B929-9FA0F9AC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DB9-3F41-4470-96DE-BA9F7437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DD18-E0AE-4BB2-95A8-17674126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BE6A-BA51-4267-AD7E-7FBFF7CD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90F-CAAE-4F13-9135-F143BFC6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7BA1-9264-4A79-BB7C-49D71A8BF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798B-4076-4006-81F9-BC8DA69AAAB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447920" y="0"/>
            <a:ext cx="6781680" cy="68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The Circle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 u="sng">
                <a:solidFill>
                  <a:srgbClr val="eaeaea"/>
                </a:solidFill>
                <a:uFillTx/>
                <a:latin typeface="Monotype Corsiva"/>
              </a:rPr>
              <a:t>By Ranjana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Picture 3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1143000" y="3124080"/>
            <a:ext cx="8001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Eg. If diameter of the circle is 10 cm then find its radiu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4495680" y="37339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257800" y="3657600"/>
            <a:ext cx="2743200" cy="947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Diameter =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10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839160" y="1066680"/>
            <a:ext cx="551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Sol. Radius =diameter 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=10 cm/ 2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        radius =5 cm  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8763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val 2"/>
          <p:cNvSpPr/>
          <p:nvPr/>
        </p:nvSpPr>
        <p:spPr>
          <a:xfrm>
            <a:off x="5029200" y="23623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0" y="34290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7086600" y="4191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676520" y="457200"/>
            <a:ext cx="647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If radius of the circle is 6 cm,then find the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5028840" y="44197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105520" y="38862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 =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6483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1676520" y="1523880"/>
            <a:ext cx="4572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Diameter = 2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x 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2 x  6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  <a:ea typeface="Times New Roman"/>
              </a:rPr>
              <a:t>Diameter = 12 cm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75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295280" y="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CIRCUMFERENCE AND 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600200" y="19810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3124080" y="25909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952880" y="3657600"/>
            <a:ext cx="1524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49528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WordArt 7"/>
          <p:cNvSpPr txBox="1"/>
          <p:nvPr/>
        </p:nvSpPr>
        <p:spPr>
          <a:xfrm>
            <a:off x="3657600" y="2286000"/>
            <a:ext cx="312408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3124080" y="464832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4038480" y="4724280"/>
            <a:ext cx="2895840" cy="5814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1600200" y="1371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666880" y="4419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73152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371600" y="457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Eg. Find the circumference (approx) of the circle whose diameter is 10c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4648320" y="2514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477120" y="3581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4771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WordArt 6"/>
          <p:cNvSpPr txBox="1"/>
          <p:nvPr/>
        </p:nvSpPr>
        <p:spPr>
          <a:xfrm>
            <a:off x="5181480" y="2209680"/>
            <a:ext cx="3124440" cy="676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4648320" y="4572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952880" y="4724280"/>
            <a:ext cx="3505320" cy="106884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DIAMETER=10 C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1371600" y="1447920"/>
            <a:ext cx="4572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 = 3 x 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 x 1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ircumference = 30 c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41148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876312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7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362320" y="14479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0"/>
            <a:ext cx="6019560" cy="58140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Monotype Corsiva"/>
              </a:rPr>
              <a:t>EVALU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295280" y="5335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1. what is the relation between radius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Oval 5"/>
          <p:cNvSpPr/>
          <p:nvPr/>
        </p:nvSpPr>
        <p:spPr>
          <a:xfrm>
            <a:off x="4648320" y="2895480"/>
            <a:ext cx="4114800" cy="3962520"/>
          </a:xfrm>
          <a:prstGeom prst="ellipse">
            <a:avLst/>
          </a:prstGeom>
          <a:solidFill>
            <a:srgbClr val="ff33cc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6629400" y="37339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55308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6705720" y="4724280"/>
            <a:ext cx="2057400" cy="4608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Line 9"/>
          <p:cNvSpPr/>
          <p:nvPr/>
        </p:nvSpPr>
        <p:spPr>
          <a:xfrm flipH="1">
            <a:off x="4648320" y="4724280"/>
            <a:ext cx="21333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2670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88390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Rectangle 12"/>
          <p:cNvSpPr/>
          <p:nvPr/>
        </p:nvSpPr>
        <p:spPr>
          <a:xfrm>
            <a:off x="1295280" y="1905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2. What is the relation between circumference and diameter of the circle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1066680" y="388620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3. In this fig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371600" y="1371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 .Radius=diameter/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1143000" y="289548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Sol. Circumference=3Xdiameter(approx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2209680" y="50292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2209680" y="5715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cent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1314000" y="518148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AB is __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Rectangle 20"/>
          <p:cNvSpPr/>
          <p:nvPr/>
        </p:nvSpPr>
        <p:spPr>
          <a:xfrm>
            <a:off x="1372320" y="5867280"/>
            <a:ext cx="25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 is _________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Rectangle 21"/>
          <p:cNvSpPr/>
          <p:nvPr/>
        </p:nvSpPr>
        <p:spPr>
          <a:xfrm>
            <a:off x="1157400" y="449568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OA or OB is ______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21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895480" y="762120"/>
            <a:ext cx="4114800" cy="396216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5105520" y="2743200"/>
            <a:ext cx="190476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4724280" y="25146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701028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505320" y="51814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CIRCL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676520" y="5943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Eg. ball,bangle,lemon.coi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Oval 7"/>
          <p:cNvSpPr/>
          <p:nvPr/>
        </p:nvSpPr>
        <p:spPr>
          <a:xfrm>
            <a:off x="2666880" y="0"/>
            <a:ext cx="4114800" cy="3962520"/>
          </a:xfrm>
          <a:prstGeom prst="ellipse">
            <a:avLst/>
          </a:prstGeom>
          <a:solidFill>
            <a:srgbClr val="eeb00b"/>
          </a:solidFill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572000" y="1600200"/>
            <a:ext cx="457200" cy="45972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67816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828800" y="4419720"/>
            <a:ext cx="6172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CENTRE : 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: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666520" y="2057400"/>
            <a:ext cx="213372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4800600" y="205740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3962520" y="12952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0b5b"/>
                </a:solidFill>
                <a:latin typeface="Monotype Corsiva"/>
              </a:rPr>
              <a:t>CENT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4952880" y="20574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495680" y="1523880"/>
            <a:ext cx="457200" cy="47016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267080" y="914400"/>
            <a:ext cx="838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267080" y="99072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267080" y="152388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295280" y="3962520"/>
            <a:ext cx="784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aeaea"/>
                </a:solidFill>
                <a:uFillTx/>
                <a:latin typeface="Monotype Corsiva"/>
              </a:rPr>
              <a:t>In a plane,each point of the circle is at equal distance from a fixed point.The fixed point is called the centre of the circle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676520" y="60199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Monotype Corsiva"/>
              </a:rPr>
              <a:t>CENTRE = 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2"/>
          <p:cNvSpPr/>
          <p:nvPr/>
        </p:nvSpPr>
        <p:spPr>
          <a:xfrm>
            <a:off x="2438280" y="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114800" y="182880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495680" y="205740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828800" y="42670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752480" y="441972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The distance from centre to any point on the circle is called radius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3080" y="1828800"/>
            <a:ext cx="457200" cy="459720"/>
          </a:xfrm>
          <a:prstGeom prst="rect">
            <a:avLst/>
          </a:prstGeom>
          <a:noFill/>
          <a:ln cap="sq"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048120" y="57913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RADIUS = O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724280" y="1600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Radiu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Oval 2"/>
          <p:cNvSpPr/>
          <p:nvPr/>
        </p:nvSpPr>
        <p:spPr>
          <a:xfrm>
            <a:off x="2666880" y="3808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724280" y="1905120"/>
            <a:ext cx="457200" cy="469800"/>
          </a:xfrm>
          <a:prstGeom prst="rect">
            <a:avLst/>
          </a:prstGeom>
          <a:noFill/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4419720" y="1371600"/>
            <a:ext cx="533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267080" y="1905120"/>
            <a:ext cx="457200" cy="45972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4648320" y="380880"/>
            <a:ext cx="0" cy="3962520"/>
          </a:xfrm>
          <a:prstGeom prst="line">
            <a:avLst/>
          </a:prstGeom>
          <a:ln cap="sq" w="1260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800600" y="685800"/>
            <a:ext cx="5112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Monotype Corsiva"/>
              </a:rPr>
              <a:t>DI </a:t>
            </a:r>
            <a:r>
              <a:rPr b="0" lang="en-US" sz="2800" spc="-1" strike="noStrike">
                <a:solidFill>
                  <a:srgbClr val="200b5b"/>
                </a:solidFill>
                <a:latin typeface="Monotype Corsiva"/>
              </a:rPr>
              <a:t>AMET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523880" y="4648320"/>
            <a:ext cx="693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passing through the centre of the circle and whose end points lie on the circle is called the diameter of the circ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495680" y="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49568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1981080" y="632448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DIAMETER = AB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7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7"/>
          <p:cNvSpPr/>
          <p:nvPr/>
        </p:nvSpPr>
        <p:spPr>
          <a:xfrm>
            <a:off x="2819520" y="60948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648320" y="167652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6483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143000" y="457200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The length of the circle or the distance around it is called  circumference of the circle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WordArt 12"/>
          <p:cNvSpPr txBox="1"/>
          <p:nvPr/>
        </p:nvSpPr>
        <p:spPr>
          <a:xfrm>
            <a:off x="3352680" y="304920"/>
            <a:ext cx="3124440" cy="67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3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eeb00b"/>
                  </a:solidFill>
                  <a:miter/>
                </a:ln>
                <a:solidFill>
                  <a:srgbClr val="eeb00b"/>
                </a:solidFill>
                <a:latin typeface="Monotype Corsiva"/>
              </a:rPr>
              <a:t>CIRCUMFERENCE</a:t>
            </a:r>
            <a:endParaRPr b="0" lang="en-US" sz="2400" spc="1" strike="noStrike">
              <a:ln cap="sq" w="9360">
                <a:solidFill>
                  <a:srgbClr val="eeb00b"/>
                </a:solidFill>
                <a:miter/>
              </a:ln>
              <a:solidFill>
                <a:srgbClr val="eeb00b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2"/>
          <p:cNvSpPr/>
          <p:nvPr/>
        </p:nvSpPr>
        <p:spPr>
          <a:xfrm>
            <a:off x="2590920" y="228600"/>
            <a:ext cx="4114800" cy="396252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419720" y="129528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4197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 flipH="1">
            <a:off x="2590920" y="2286000"/>
            <a:ext cx="41148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1337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781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143000" y="4113360"/>
            <a:ext cx="8305920" cy="33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Monotype Corsiva"/>
              </a:rPr>
              <a:t>A Line segment whose both the ends touches the circumference and passes through the centre is called diameter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DIAMETER : AB</a:t>
            </a:r>
            <a:r>
              <a:rPr b="0" lang="en-US" sz="3600" spc="-1" strike="noStrike">
                <a:solidFill>
                  <a:srgbClr val="eaeaea"/>
                </a:solidFill>
                <a:latin typeface="Monotype Corsiv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914400" y="60948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aeaea"/>
                </a:solidFill>
                <a:uFillTx/>
                <a:latin typeface="Monotype Corsiva"/>
              </a:rPr>
              <a:t>Relation between radius and diamete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1676520"/>
            <a:ext cx="4114800" cy="3962160"/>
          </a:xfrm>
          <a:prstGeom prst="ellipse">
            <a:avLst/>
          </a:prstGeom>
          <a:solidFill>
            <a:srgbClr val="eeb00b"/>
          </a:solidFill>
          <a:ln w="28440">
            <a:solidFill>
              <a:srgbClr val="200b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400800" y="2743200"/>
            <a:ext cx="152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40080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6629400" y="3733920"/>
            <a:ext cx="198108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H="1">
            <a:off x="4495320" y="3733920"/>
            <a:ext cx="2057400" cy="0"/>
          </a:xfrm>
          <a:prstGeom prst="line">
            <a:avLst/>
          </a:prstGeom>
          <a:ln cap="sq" w="12600">
            <a:solidFill>
              <a:srgbClr val="200b5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40384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53452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1295280" y="1676520"/>
            <a:ext cx="472464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RADIUS =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Monotype Corsiva"/>
              </a:rPr>
              <a:t>DIAMET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otype Corsiva"/>
              </a:rPr>
              <a:t>                          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380988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1371600" y="45720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 = 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A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2286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1:59:43Z</dcterms:created>
  <dc:creator>army1</dc:creator>
  <dc:description/>
  <dc:language>en-US</dc:language>
  <cp:lastModifiedBy>RomaK</cp:lastModifiedBy>
  <dcterms:modified xsi:type="dcterms:W3CDTF">2015-09-04T07:38:45Z</dcterms:modified>
  <cp:revision>56</cp:revision>
  <dc:subject/>
  <dc:title>the Circle</dc:title>
</cp:coreProperties>
</file>