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DA59-B584-440B-BBDD-B4033E8A99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diameter of the circle is 10 cm then find its radius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Radius =diameter 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=10 cm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 =5 cm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radius of the circle is 6 cm,then find the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Diameter = 2 x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2 x 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2 cm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BETWEEN CIRCUMFERENCE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Find the circumference (approx) of the circle whose diameter is 10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=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hat is the relation between radius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the relation between circumference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n this fig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 .Radius=diameter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=3X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is 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or OB is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ball,bangle,lemon.c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 :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: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lane,each point of the circle is at equal distance from a fixed point.The fixed point is called the centr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=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from centre to any point on the circle is called radius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 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passing through the centre of the circle and whose end points lie on the circle is called the diameter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gth of the circle or the distance around it is called 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whose both the ends touches the circumference and passes through the centre is called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 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lation between radius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=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D70-7F8F-4135-9823-FC7C0089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763-290A-448E-86FC-757C19DA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1E9-A2D5-406C-8090-3F17643E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841-DF79-4FC1-945F-9CEC636E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E357-20E7-4A64-BD32-743E375A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EB96-95B9-41BD-AED2-DAC3DBDA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050D-6D1F-4588-B50F-7114F6EC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E08B-B7D9-4FB7-860A-9053D5E7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806D-8EC9-4479-B3DD-C06FE769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F070-B6FD-45BC-B201-27A18BDB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89D1-2108-4957-A3D0-266CFAC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712-3486-4DAF-9FBA-C1BFB8A5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2A7D-7D01-4532-9250-20337D0D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E10C-98F1-43C1-ACB0-7DF768F7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1356-8F5D-4CBA-9741-6CB138F7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A02F-8AF4-4CCD-81C2-E913EFD3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B3C4-2D03-45C7-9363-2F2A8FC1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621B-09A1-4B04-851D-156BC5F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28B-CDCA-415A-8FFC-93C9089C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462-DD9C-465E-A6A0-73964BFE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3D8-F1E2-4F2D-90CE-6872F39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6F1-9B5D-485E-B173-B391C70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85B-3491-445A-81B2-DD230A6F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6D3-6A71-42A3-8517-D6C20ED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6105-DF5F-491C-BC83-AEA60EC77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CC1C-176A-4992-9285-026AC636D05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RomaK</cp:lastModifiedBy>
  <dcterms:modified xsi:type="dcterms:W3CDTF">2015-09-04T07:38:45Z</dcterms:modified>
  <cp:revision>56</cp:revision>
  <dc:subject/>
  <dc:title>the Circle</dc:title>
</cp:coreProperties>
</file>