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CCA0-6553-40D2-B451-A1F59924AA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220-3904-466A-852A-AF97EF89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8C6-2309-4708-A6E2-46199A7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B47-A556-47DA-BC9E-C42180EE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12C-D6D5-4390-85CD-862C5321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659-85E6-4764-A03A-09B804BA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A78-3AC4-4926-911E-E47346A8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1A5-CFEF-4988-A020-06A1B7B5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441-C753-412B-AA4F-F78AAE3D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433-3362-4AE3-91BC-BCB2F474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E9C-E3DE-42B3-912C-CCB3A31A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8F6-290C-4334-A5F3-65B3487C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C1E-734D-4A62-B33F-0D968F63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F417-E2B2-4389-9C63-F608963C6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27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028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9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30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31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33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4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66cc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6fdb5d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dc54ad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038480" y="4648320"/>
            <a:ext cx="1295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590920" y="3429000"/>
            <a:ext cx="1295280" cy="1295280"/>
          </a:xfrm>
          <a:prstGeom prst="ellipse">
            <a:avLst/>
          </a:prstGeom>
          <a:solidFill>
            <a:srgbClr val="078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914400" y="457200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562720" y="3505320"/>
            <a:ext cx="1295280" cy="1295280"/>
          </a:xfrm>
          <a:prstGeom prst="ellipse">
            <a:avLst/>
          </a:prstGeom>
          <a:solidFill>
            <a:srgbClr val="6fdb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7010280" y="4572000"/>
            <a:ext cx="129564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scribed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ea1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c2c6"/>
                </a:solidFill>
                <a:latin typeface="Times New Roman"/>
              </a:rPr>
              <a:t>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2c2c6"/>
                </a:solidFill>
                <a:latin typeface="Times New Roman"/>
              </a:rPr>
              <a:t>arc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648320" y="2220840"/>
            <a:ext cx="380988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9218"/>
                </a:solidFill>
                <a:latin typeface="Times New Roman"/>
              </a:rPr>
              <a:t>arc 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685800" y="2427120"/>
            <a:ext cx="3809880" cy="322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adius (or Radii for pl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4a0c59"/>
                </a:solidFill>
                <a:latin typeface="Times New Roman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685800" y="2179800"/>
            <a:ext cx="3809880" cy="371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passes through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822cd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37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685800" y="226224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5160960" y="198108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4729320" y="198108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Tan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888888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3809880" cy="39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entral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99552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48320" y="2093760"/>
            <a:ext cx="3809880" cy="388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30:45Z</dcterms:created>
  <dc:creator>Academic Computing</dc:creator>
  <dc:description/>
  <dc:language>en-US</dc:language>
  <cp:lastModifiedBy>RomaK</cp:lastModifiedBy>
  <cp:lastPrinted>2002-10-23T17:55:57Z</cp:lastPrinted>
  <dcterms:modified xsi:type="dcterms:W3CDTF">2015-09-04T07:38:27Z</dcterms:modified>
  <cp:revision>47</cp:revision>
  <dc:subject/>
  <dc:title>GEOMETRY</dc:title>
</cp:coreProperties>
</file>