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31B3-DC56-46F3-A27B-1544280A31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ircle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ircle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cribed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ngle whose vertex is on a circle and whose sides are determined by two ch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ngle A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cribed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ngle whose vertex is on a circle and whose sides are determined by two ch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ngle A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igure consisting of two points on a circle and all the points on the circle needed to connect them by a single p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igure consisting of two points on a circle and all the points on the circle needed to connect them by a single p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cepted 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that lies in the interior of an inscribed 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A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cepted 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that lies in the interior of an inscribed 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A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Intercepted 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gle is inside the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 D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Intercepted 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gle is inside the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 D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gle is outside the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 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Intercepted 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gle is outside the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 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Intercepted 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stigating Measures of Angl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a Cir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GSP 4.00 on the deskt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he instructions on the hand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stigating Measures of Angl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a Cir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GSP 4.00 on the deskt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he instructions on the hand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us (or Radii for plur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gment joining the center of a circle to a point on the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us (or Radii for plur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gment joining the center of a circle to a point on the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ord that passes through the center of a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ord that passes through the center of a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gment joining two points on a cir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gment joining two points on a cir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gment joining two points on a cir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gment joining two points on a cir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 that intersects the circle at exactly two po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 that intersects the circle at exactly two po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 that intersects the circle at exactly two po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 that intersects the circle at exactly two po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n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 that intersects a circle at exactly one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n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 that intersects a circle at exactly one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ngle whose vertex is at the center of a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ngle A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ngle whose vertex is at the center of a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ngle A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02E3-F695-43BE-87DD-E0D58CA40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55E0-E287-42A0-9373-5D195CC9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7EF3-6D53-491D-880A-A936FA3F8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7C2F-C25B-4C5E-AE97-96933EE88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290B-A361-4B0F-A4C0-D42F5831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C898-61F9-4391-AAB3-52ECD44A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5712-6F1C-49B2-AB20-721A4FC4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3D19-B23B-440A-840D-1F98A0BA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F49A-7B64-40C5-A321-50E8D1F2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8660-475D-4CD4-9215-6F4BB70C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1984-57C9-421A-B7A7-F6064586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A21E-D4BA-4314-90B1-38DF7CBF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685800" y="1703520"/>
            <a:ext cx="7772400" cy="277560"/>
          </a:xfrm>
          <a:prstGeom prst="rect">
            <a:avLst/>
          </a:prstGeom>
          <a:ln w="0">
            <a:noFill/>
          </a:ln>
        </p:spPr>
      </p:pic>
      <p:sp>
        <p:nvSpPr>
          <p:cNvPr id="1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Line 4"/>
          <p:cNvSpPr/>
          <p:nvPr/>
        </p:nvSpPr>
        <p:spPr>
          <a:xfrm>
            <a:off x="8610480" y="3240"/>
            <a:ext cx="0" cy="6858000"/>
          </a:xfrm>
          <a:prstGeom prst="line">
            <a:avLst/>
          </a:prstGeom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9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1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Line 13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Line 14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Line 16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Line 17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Line 18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Line 19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Line 20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Line 21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Line 22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Line 2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Line 24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47F4-DDBA-4752-93DD-0F2322E34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026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027"/>
          <p:cNvSpPr/>
          <p:nvPr/>
        </p:nvSpPr>
        <p:spPr>
          <a:xfrm>
            <a:off x="0" y="6781680"/>
            <a:ext cx="9067680" cy="7632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028"/>
          <p:cNvSpPr/>
          <p:nvPr/>
        </p:nvSpPr>
        <p:spPr>
          <a:xfrm>
            <a:off x="0" y="0"/>
            <a:ext cx="9067680" cy="7632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029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030"/>
          <p:cNvSpPr/>
          <p:nvPr/>
        </p:nvSpPr>
        <p:spPr>
          <a:xfrm>
            <a:off x="685800" y="2209680"/>
            <a:ext cx="7848720" cy="3886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031"/>
          <p:cNvSpPr/>
          <p:nvPr/>
        </p:nvSpPr>
        <p:spPr>
          <a:xfrm>
            <a:off x="0" y="3240"/>
            <a:ext cx="15228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03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33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033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034"/>
          <p:cNvSpPr/>
          <p:nvPr/>
        </p:nvSpPr>
        <p:spPr>
          <a:xfrm>
            <a:off x="9067680" y="0"/>
            <a:ext cx="0" cy="6858000"/>
          </a:xfrm>
          <a:prstGeom prst="line">
            <a:avLst/>
          </a:prstGeom>
          <a:ln w="4428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66cc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6fdb5d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9933ff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dc54ad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8487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000000"/>
                </a:solidFill>
                <a:latin typeface="Times New Roman"/>
              </a:rPr>
              <a:t>Circle Terminolog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4"/>
          <p:cNvSpPr/>
          <p:nvPr/>
        </p:nvSpPr>
        <p:spPr>
          <a:xfrm>
            <a:off x="4038480" y="4648320"/>
            <a:ext cx="129564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Oval 5"/>
          <p:cNvSpPr/>
          <p:nvPr/>
        </p:nvSpPr>
        <p:spPr>
          <a:xfrm>
            <a:off x="2590920" y="3429000"/>
            <a:ext cx="1295280" cy="1295280"/>
          </a:xfrm>
          <a:prstGeom prst="ellipse">
            <a:avLst/>
          </a:prstGeom>
          <a:solidFill>
            <a:srgbClr val="078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Oval 6"/>
          <p:cNvSpPr/>
          <p:nvPr/>
        </p:nvSpPr>
        <p:spPr>
          <a:xfrm>
            <a:off x="914400" y="4572000"/>
            <a:ext cx="1295280" cy="1295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7"/>
          <p:cNvSpPr/>
          <p:nvPr/>
        </p:nvSpPr>
        <p:spPr>
          <a:xfrm>
            <a:off x="5562720" y="3505320"/>
            <a:ext cx="1295280" cy="1295280"/>
          </a:xfrm>
          <a:prstGeom prst="ellipse">
            <a:avLst/>
          </a:prstGeom>
          <a:solidFill>
            <a:srgbClr val="6fdb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8"/>
          <p:cNvSpPr/>
          <p:nvPr/>
        </p:nvSpPr>
        <p:spPr>
          <a:xfrm>
            <a:off x="7010280" y="4572000"/>
            <a:ext cx="129564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Inscribed Ang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ngle whose vertex is on a circle and whose sides are determined by two ch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ffea18"/>
                </a:solidFill>
                <a:latin typeface="Times New Roman"/>
              </a:rPr>
              <a:t>Angle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7" descr=""/>
          <p:cNvPicPr/>
          <p:nvPr/>
        </p:nvPicPr>
        <p:blipFill>
          <a:blip r:embed="rId1"/>
          <a:stretch/>
        </p:blipFill>
        <p:spPr>
          <a:xfrm>
            <a:off x="685800" y="2198520"/>
            <a:ext cx="3809880" cy="3679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c2c6"/>
                </a:solidFill>
                <a:latin typeface="Times New Roman"/>
              </a:rPr>
              <a:t>Ar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igure consisting of two points on a circle and all the points on the circle needed to connect them by a single pa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12c2c6"/>
                </a:solidFill>
                <a:latin typeface="Times New Roman"/>
              </a:rPr>
              <a:t>arc 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4648320" y="2220840"/>
            <a:ext cx="3809880" cy="3633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Intercepted Ar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rc that lies in the interior of an inscribed an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ff9218"/>
                </a:solidFill>
                <a:latin typeface="Times New Roman"/>
              </a:rPr>
              <a:t>arc 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685800" y="2198520"/>
            <a:ext cx="3809880" cy="3679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Two Intercepted Ar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ngle is inside the cir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2f8b20"/>
                </a:solidFill>
                <a:latin typeface="Times New Roman"/>
              </a:rPr>
              <a:t>arc 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dc54ad"/>
                </a:solidFill>
                <a:latin typeface="Times New Roman"/>
              </a:rPr>
              <a:t>arc D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7" descr=""/>
          <p:cNvPicPr/>
          <p:nvPr/>
        </p:nvPicPr>
        <p:blipFill>
          <a:blip r:embed="rId1"/>
          <a:stretch/>
        </p:blipFill>
        <p:spPr>
          <a:xfrm>
            <a:off x="685800" y="2095560"/>
            <a:ext cx="3809880" cy="3886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ngle is outside the cir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2f8b20"/>
                </a:solidFill>
                <a:latin typeface="Times New Roman"/>
              </a:rPr>
              <a:t>arc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dc54ad"/>
                </a:solidFill>
                <a:latin typeface="Times New Roman"/>
              </a:rPr>
              <a:t>arc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Two Intercepted Ar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8" descr=""/>
          <p:cNvPicPr/>
          <p:nvPr/>
        </p:nvPicPr>
        <p:blipFill>
          <a:blip r:embed="rId1"/>
          <a:stretch/>
        </p:blipFill>
        <p:spPr>
          <a:xfrm>
            <a:off x="685800" y="2427120"/>
            <a:ext cx="3809880" cy="3221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vestigating Measures of Angles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lated to a Circl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on GSP 4.00 on the deskt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 the instructions on the hand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Radius (or Radii for plura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gment joining the center of a circle to a point on the cir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4a0c59"/>
                </a:solidFill>
                <a:latin typeface="Times New Roman"/>
              </a:rPr>
              <a:t>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8" descr=""/>
          <p:cNvPicPr/>
          <p:nvPr/>
        </p:nvPicPr>
        <p:blipFill>
          <a:blip r:embed="rId1"/>
          <a:stretch/>
        </p:blipFill>
        <p:spPr>
          <a:xfrm>
            <a:off x="685800" y="2179800"/>
            <a:ext cx="3809880" cy="3717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Diame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o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passes through the center of a cir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1822cd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4648320" y="2168640"/>
            <a:ext cx="3809880" cy="373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ba2a"/>
                </a:solidFill>
                <a:latin typeface="Times New Roman"/>
              </a:rPr>
              <a:t>Ch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gment joining two points on a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5adc14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9" descr=""/>
          <p:cNvPicPr/>
          <p:nvPr/>
        </p:nvPicPr>
        <p:blipFill>
          <a:blip r:embed="rId1"/>
          <a:stretch/>
        </p:blipFill>
        <p:spPr>
          <a:xfrm>
            <a:off x="685800" y="2262240"/>
            <a:ext cx="3809880" cy="3552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ba2a"/>
                </a:solidFill>
                <a:latin typeface="Times New Roman"/>
              </a:rPr>
              <a:t>Ch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gment joining two points on a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5adc14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Sec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ine that intersects the circle at exactly two poi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f63f1b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9" descr=""/>
          <p:cNvPicPr/>
          <p:nvPr/>
        </p:nvPicPr>
        <p:blipFill>
          <a:blip r:embed="rId1"/>
          <a:stretch/>
        </p:blipFill>
        <p:spPr>
          <a:xfrm>
            <a:off x="5160960" y="1981080"/>
            <a:ext cx="278460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Sec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ine that intersects the circle at exactly two poi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63f1b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13" descr=""/>
          <p:cNvPicPr/>
          <p:nvPr/>
        </p:nvPicPr>
        <p:blipFill>
          <a:blip r:embed="rId1"/>
          <a:stretch/>
        </p:blipFill>
        <p:spPr>
          <a:xfrm>
            <a:off x="4729320" y="1981080"/>
            <a:ext cx="364788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Tang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ine that intersects a circle at exactly one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888888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9" descr=""/>
          <p:cNvPicPr/>
          <p:nvPr/>
        </p:nvPicPr>
        <p:blipFill>
          <a:blip r:embed="rId1"/>
          <a:stretch/>
        </p:blipFill>
        <p:spPr>
          <a:xfrm>
            <a:off x="685800" y="2038320"/>
            <a:ext cx="3809880" cy="3998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entral Ang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ngle whose vertex is at the center of a cir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995528"/>
                </a:solidFill>
                <a:latin typeface="Times New Roman"/>
              </a:rPr>
              <a:t>Angle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1"/>
          <a:stretch/>
        </p:blipFill>
        <p:spPr>
          <a:xfrm>
            <a:off x="4648320" y="2093760"/>
            <a:ext cx="3809880" cy="3889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3T14:30:45Z</dcterms:created>
  <dc:creator>Academic Computing</dc:creator>
  <dc:description/>
  <dc:language>en-US</dc:language>
  <cp:lastModifiedBy>RomaK</cp:lastModifiedBy>
  <cp:lastPrinted>2002-10-23T17:55:57Z</cp:lastPrinted>
  <dcterms:modified xsi:type="dcterms:W3CDTF">2015-09-04T07:38:27Z</dcterms:modified>
  <cp:revision>47</cp:revision>
  <dc:subject/>
  <dc:title>GEOMETRY</dc:title>
</cp:coreProperties>
</file>