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61E6-DCA6-4F74-8799-D88521010D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crib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c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ntercepted 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(or Radii for plur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ord that passes through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ngle 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94C-85F9-4422-B1B5-01D05AD1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0A2-02F6-481D-A8A0-D76A8F0A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E0F-D390-4869-AAE9-9E5CF4E6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A4F-3A11-437B-802C-EEE7255D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799-1B26-45A2-A91E-52BCDBE1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FD7-4169-413F-A47A-C2EEB5CE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C64-2AEB-407F-8AB2-26305CC4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D22-3766-42B2-8425-E5DF4ACC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5D5-43CA-415C-AF5E-9F35B7E9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9CE-CA07-428A-9022-E866B0F0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D19-171D-45D4-9B08-FB625834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C68-8B0D-4981-B230-F8DF1BFE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CC12-D623-4068-8432-453891ADD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2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27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028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29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30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31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32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33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34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66cc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6fdb5d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dc54ad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038480" y="4648320"/>
            <a:ext cx="129564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2590920" y="3429000"/>
            <a:ext cx="1295280" cy="1295280"/>
          </a:xfrm>
          <a:prstGeom prst="ellipse">
            <a:avLst/>
          </a:prstGeom>
          <a:solidFill>
            <a:srgbClr val="078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914400" y="457200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5562720" y="3505320"/>
            <a:ext cx="1295280" cy="1295280"/>
          </a:xfrm>
          <a:prstGeom prst="ellipse">
            <a:avLst/>
          </a:prstGeom>
          <a:solidFill>
            <a:srgbClr val="6fdb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7010280" y="4572000"/>
            <a:ext cx="129564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scribed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on a circle and whose sides are determined by two ch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ea1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2c2c6"/>
                </a:solidFill>
                <a:latin typeface="Times New Roman"/>
              </a:rPr>
              <a:t>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gure consisting of two points on a circle and all the points on the circle needed to connect them by a single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2c2c6"/>
                </a:solidFill>
                <a:latin typeface="Times New Roman"/>
              </a:rPr>
              <a:t>arc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648320" y="2220840"/>
            <a:ext cx="3809880" cy="363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c that lies in the interior of an inscribed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f9218"/>
                </a:solidFill>
                <a:latin typeface="Times New Roman"/>
              </a:rPr>
              <a:t>arc 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3809880" cy="367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in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gle is outside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2f8b20"/>
                </a:solidFill>
                <a:latin typeface="Times New Roman"/>
              </a:rPr>
              <a:t>arc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dc54ad"/>
                </a:solidFill>
                <a:latin typeface="Times New Roman"/>
              </a:rPr>
              <a:t>arc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Two Intercepted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1"/>
          <a:stretch/>
        </p:blipFill>
        <p:spPr>
          <a:xfrm>
            <a:off x="685800" y="2427120"/>
            <a:ext cx="3809880" cy="322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gating Measures of Angl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ted to a Circ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GSP 4.00 on the desk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the instructions on the hand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Radius (or Radii for plu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gment joining the center of a circle to a point on the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4a0c59"/>
                </a:solidFill>
                <a:latin typeface="Times New Roman"/>
              </a:rPr>
              <a:t>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685800" y="2179800"/>
            <a:ext cx="3809880" cy="371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Dia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passes through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1822cd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3809880" cy="373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685800" y="2262240"/>
            <a:ext cx="3809880" cy="35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ba2a"/>
                </a:solidFill>
                <a:latin typeface="Times New Roman"/>
              </a:rPr>
              <a:t>Ch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gment joining two points on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5adc14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1"/>
          <a:stretch/>
        </p:blipFill>
        <p:spPr>
          <a:xfrm>
            <a:off x="5160960" y="1981080"/>
            <a:ext cx="27846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ec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the circle at exactly two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63f1b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1"/>
          <a:stretch/>
        </p:blipFill>
        <p:spPr>
          <a:xfrm>
            <a:off x="4729320" y="1981080"/>
            <a:ext cx="364788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Tan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 that intersects a circle at exactly on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888888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685800" y="2038320"/>
            <a:ext cx="3809880" cy="399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entral 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gle whose vertex is at the center of a cir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995528"/>
                </a:solidFill>
                <a:latin typeface="Times New Roman"/>
              </a:rPr>
              <a:t>Angle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48320" y="2093760"/>
            <a:ext cx="3809880" cy="388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4:30:45Z</dcterms:created>
  <dc:creator>Academic Computing</dc:creator>
  <dc:description/>
  <dc:language>en-US</dc:language>
  <cp:lastModifiedBy>RomaK</cp:lastModifiedBy>
  <cp:lastPrinted>2002-10-23T17:55:57Z</cp:lastPrinted>
  <dcterms:modified xsi:type="dcterms:W3CDTF">2015-09-04T07:38:27Z</dcterms:modified>
  <cp:revision>47</cp:revision>
  <dc:subject/>
  <dc:title>GEOMETRY</dc:title>
</cp:coreProperties>
</file>