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687C-8348-475E-9D87-F158BBA9C8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CARTESIAN COMPONENTS OF VECTORS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ESIAN COMPONENTS OF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position vector of P with coordinates (a, b) i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 = OP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on vector of P with coordinates (a, b)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OP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tate the position vectors of the points with coordinate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P(2, 4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Q(−1, 5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(−1,−7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(8,−4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position vectors of the points with coordin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(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(−1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(−1,−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(8,−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Sketch the position vectors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3i + 4j,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−2i + 5j,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r = −3i − 2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9817e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tch the position ve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3i + 4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−2i + 5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−3i − 2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modulus of any vector r is equal to its length. As we have noted earlier the modulus of r is usually denoted by |r|. When r = ai + bj the modulus can be obtained using Pythagoras’ theorem. If r is the position vector of point P then the modulus is clearly the distance of P from the origin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ulus of any vector r is equal to its length. As we have noted earlier the modulus of r is usually denoted by |r|. When r = ai + bj the modulus can be obtained using Pythagoras’ theorem. If r is the position vector of point P then the modulus is clearly the distance of P from the ori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f r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n |r| = √(a² + b²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|r| = √(a² + b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Point A has coordinates (3, 5). Point B has coordinates (7, 8)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Depict these points on a diagram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State the position vectors of A and B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Find an expression for AB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 Find |AB|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A has coordinates (3, 5). Point B has coordinates (7, 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Depict these points on a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State the position vectors of A and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Find an expression for 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Find |AB|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wo-dimensional Coordinate frames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diagram shows a two-dimensional coordinate frame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point P in the plane of the figure can be defined in terms of its x and y coordinate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-dimensional Coordinate fr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ram shows a two-dimensional coordinate fr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oint P in the plane of the figure can be defined in terms of its x and y coordin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unit vector pointing in the positive direction of the x-axis is denoted by i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direction of the x-axis will be a multiple of i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vector of length l in the direction of the x-axis can be written li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(All these vectors are multiples of i.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nit vector pointing in the positive direction of the x-axis is denoted by 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direction of the x-axis will be a multiple of 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ctor of length l in the direction of the x-axis can be written 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vectors are multiples of i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(All these vectors ar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multiples of j.)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unit vector pointing in the positive direction of the y-axis is denoted by j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direction of the y-axis will be a multiple of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 vector of length l in the direction of the y-axis can be written l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ll these vector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s of j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unit vector pointing in the positive direction of the y-axis is denoted by 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direction of the y-axis will be a multiple of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ctor of length l in the direction of the y-axis can be written l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 represents a unit vector in the direction of the positive x-axi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j represents a unit vector in the direction of the positive y-axi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presents a unit vector in the direction of the positive x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represents a unit vector in the direction of the positive y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raw the vectors 5i and 4j. Use your diagram and the triangle law of addition to add these two vectors together. 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vectors 5i and 4j. Use your diagram and the triangle law of addition to add these two vectors toge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y vector in the xy plane can be expressed in the form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r = ai + bj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The numbers a and b are called the components of r in th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x and y directions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vector in the xy plane can be expressed in th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ai + 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s a and b are called the components of r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and y dir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raw an xy plane and show the vectors p = 2i + 3j,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nd q = 5i +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press p and q using column vector notation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Show the sum p + q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d)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press the resultant p + q in terms of i and j.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n xy plane and show the vectors p = 2i + 3j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q = 5i +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p and q using column vector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sum p + 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resultant p + q in terms of i and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If a = 9i + 7j and b = 8i + 3j,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find: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a) a + b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b) a − b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9817e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= 9i + 7j and b = 8i + 3j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 −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ABC-F477-4F3A-AB90-3DBE8550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E1B-A182-497F-A6C6-A5C27533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0EBF-0A81-4815-B6B9-1F844687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960-2ACD-466A-8679-9C7DF344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4994-6310-4E18-A91E-4F84F64E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4BBA-7592-4DBC-939F-F7EA0140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9B32-080C-4101-BB9A-063F2BCC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C196-6B4B-4894-9244-9BE9D8A7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9E94-E1C3-451A-B437-90E66174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10EE-B3D3-436C-8288-925DEAA9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9B80-29BD-43EC-99AB-16019DF4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422E-1463-4BD8-B1C3-6E245D82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B7D5-F5C0-42C7-8C33-0EF7BBF5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158F-71E8-40B6-8765-FF4A0309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19E0-A088-4BA6-9EFB-9EDDB2E7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F6E9-3ADB-4416-8254-82601AD51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6712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4400" y="152388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984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6712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4400" y="3927600"/>
            <a:ext cx="21589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9FF4-6E63-4C97-94C4-34DD0793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210-EC25-41C8-BA17-B6B75D2C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9F11-7C20-4FEC-A9ED-9B15FD32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1EE-688D-483C-9260-F4AA4B2B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2BDA-B1AD-43B9-9697-8532A278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68C-23E4-44D8-ACDA-91F8BBAE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6040" y="392760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E847-3051-48F2-856B-C9230257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6040" y="1523880"/>
            <a:ext cx="32720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27600"/>
            <a:ext cx="670572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10B9-127E-43D8-8531-933AB6DF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13F8-1BD5-436A-8F76-B26D14DD433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281b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6705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9817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817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1B7F-7FBA-4B9A-AF2E-62087160929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90560" y="378936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be0e3"/>
                </a:solidFill>
                <a:latin typeface="Times New Roman"/>
              </a:rPr>
              <a:t>CARTESIAN COMPONENTS OF VECTORS</a:t>
            </a:r>
            <a:endParaRPr b="0" lang="en-US" sz="36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971640" y="1989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position vector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with coordinates 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, 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) i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O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1547640" y="2421000"/>
            <a:ext cx="360360" cy="0"/>
          </a:xfrm>
          <a:prstGeom prst="line">
            <a:avLst/>
          </a:prstGeom>
          <a:ln w="1584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2268360" y="3284640"/>
            <a:ext cx="36720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tate the position vectors of the points with coordinate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7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(8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5940360" y="2133720"/>
            <a:ext cx="0" cy="4248000"/>
          </a:xfrm>
          <a:prstGeom prst="line">
            <a:avLst/>
          </a:prstGeom>
          <a:ln w="25560">
            <a:solidFill>
              <a:srgbClr val="132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3564000" y="4076640"/>
            <a:ext cx="4751280" cy="0"/>
          </a:xfrm>
          <a:prstGeom prst="line">
            <a:avLst/>
          </a:prstGeom>
          <a:ln w="25560">
            <a:solidFill>
              <a:srgbClr val="132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755640" y="1341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ketch the position vectors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4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5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−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−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826920" y="191628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132d2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826920" y="2276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2d2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826920" y="263700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2d2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43909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</a:t>
            </a:r>
            <a:r>
              <a:rPr b="1" lang="en-GB" sz="2400" spc="-1" strike="noStrike">
                <a:solidFill>
                  <a:srgbClr val="132d2f"/>
                </a:solidFill>
                <a:latin typeface="Times New Roman"/>
              </a:rPr>
              <a:t>modulus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of any vector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equal to its length. As we have noted earlier the modulus o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usually denoted by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When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modulus can be obtained using Pythagoras’ theorem. I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s the position vector of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n the modulus is clearly the distance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from the origin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55640" y="1413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if 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then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|</a:t>
            </a:r>
            <a:r>
              <a:rPr b="1" i="1" lang="en-GB" sz="2800" spc="-1" strike="noStrike">
                <a:solidFill>
                  <a:srgbClr val="132d2f"/>
                </a:solidFill>
                <a:latin typeface="Times New Roman"/>
              </a:rPr>
              <a:t>r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|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√(a</a:t>
            </a:r>
            <a:r>
              <a:rPr b="0" i="1" lang="en-US" sz="2800" spc="-1" strike="noStrike">
                <a:solidFill>
                  <a:srgbClr val="132d2f"/>
                </a:solidFill>
                <a:latin typeface="Times New Roman"/>
                <a:ea typeface="Times New Roman"/>
              </a:rPr>
              <a:t>²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132d2f"/>
                </a:solidFill>
                <a:latin typeface="Times New Roman"/>
                <a:ea typeface="Times New Roman"/>
              </a:rPr>
              <a:t>²)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360036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has coordinates (3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5).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has coordinates (7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8)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Depict these points on a diagram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State the position vectors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Find an expression for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B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 Fi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|AB|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067280" y="2492280"/>
            <a:ext cx="288720" cy="0"/>
          </a:xfrm>
          <a:prstGeom prst="line">
            <a:avLst/>
          </a:prstGeom>
          <a:ln w="936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1979640" y="2852640"/>
            <a:ext cx="288720" cy="0"/>
          </a:xfrm>
          <a:prstGeom prst="line">
            <a:avLst/>
          </a:prstGeom>
          <a:ln w="9360">
            <a:solidFill>
              <a:srgbClr val="132d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34" name="Picture 8" descr=""/>
          <p:cNvPicPr/>
          <p:nvPr/>
        </p:nvPicPr>
        <p:blipFill>
          <a:blip r:embed="rId1"/>
          <a:stretch/>
        </p:blipFill>
        <p:spPr>
          <a:xfrm rot="10800000">
            <a:off x="826920" y="3428640"/>
            <a:ext cx="34308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2087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Two-dimensional Coordinate frames</a:t>
            </a: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168720" cy="2284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755640" y="4221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diagram shows a two-dimensional coordinate frame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point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P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plane of the figure can be defined in terms of its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oordinates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3600360" cy="2052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042920" y="3500280"/>
            <a:ext cx="691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unit vector pointing in the positiv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is denoted by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will be a multiple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vector of length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can be writte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187280" y="1341360"/>
            <a:ext cx="32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(All these vectors are multiples of </a:t>
            </a:r>
            <a:r>
              <a:rPr b="0" i="1" lang="en-GB" sz="1600" spc="-1" strike="noStrike">
                <a:solidFill>
                  <a:srgbClr val="1d4447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2521080" cy="22608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58920" y="1341360"/>
            <a:ext cx="19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(All these vectors are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multiples of </a:t>
            </a:r>
            <a:r>
              <a:rPr b="0" i="1" lang="en-GB" sz="1600" spc="-1" strike="noStrike">
                <a:solidFill>
                  <a:srgbClr val="1d4447"/>
                </a:solidFill>
                <a:latin typeface="Times New Roman"/>
              </a:rPr>
              <a:t>j</a:t>
            </a:r>
            <a:r>
              <a:rPr b="0" lang="en-GB" sz="1600" spc="-1" strike="noStrike">
                <a:solidFill>
                  <a:srgbClr val="1d4447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258920" y="357336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unit vector pointing in the positiv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is denoted by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will be a multiple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 vector of length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 direction of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-axis can be writte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l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32d2f"/>
                </a:solidFill>
                <a:latin typeface="Times New Roman"/>
              </a:rPr>
              <a:t>Key Point</a:t>
            </a:r>
            <a:br>
              <a:rPr sz="4000"/>
            </a:br>
            <a:endParaRPr b="0" lang="en-US" sz="40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523880"/>
            <a:ext cx="7479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32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represents a unit vector in the direction of the positive 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-axis.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32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represents a unit vector in the direction of the positive </a:t>
            </a:r>
            <a:r>
              <a:rPr b="0" i="1" lang="en-GB" sz="3200" spc="-1" strike="noStrike">
                <a:solidFill>
                  <a:srgbClr val="132d2f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132d2f"/>
                </a:solidFill>
                <a:latin typeface="Times New Roman"/>
              </a:rPr>
              <a:t>-axis.</a:t>
            </a: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817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50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Draw the vectors 5</a:t>
            </a:r>
            <a:r>
              <a:rPr b="0" i="1" lang="en-GB" sz="28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and 4</a:t>
            </a:r>
            <a:r>
              <a:rPr b="0" i="1" lang="en-GB" sz="28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132d2f"/>
                </a:solidFill>
                <a:latin typeface="Times New Roman"/>
              </a:rPr>
              <a:t>. Use your diagram and the triangle law of addition to add these two vectors together. </a:t>
            </a:r>
            <a:endParaRPr b="0" lang="en-US" sz="28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411280" y="3213000"/>
            <a:ext cx="36007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755640" y="134136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y vector in the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lane can be expressed in the form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The numbers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a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b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re called the components of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he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irections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6800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755640" y="134136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raw an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xy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plane and show the vectors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2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3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5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Express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using column vector notation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c)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Show the sum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d)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Express the resultant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p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0" i="1" lang="en-GB" sz="2400" spc="-1" strike="noStrike" u="sng">
                <a:solidFill>
                  <a:srgbClr val="132d2f"/>
                </a:solidFill>
                <a:uFillTx/>
                <a:latin typeface="Times New Roman"/>
              </a:rPr>
              <a:t>q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n terms of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456000" cy="2417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 rot="10800000">
            <a:off x="4716000" y="3933360"/>
            <a:ext cx="3457800" cy="2374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755640" y="1341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If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9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7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nd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= 8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i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3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j,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find: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a)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+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2d2f"/>
                </a:solidFill>
                <a:latin typeface="Times New Roman"/>
              </a:rPr>
              <a:t>b)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a</a:t>
            </a:r>
            <a:r>
              <a:rPr b="0" i="1" lang="en-GB" sz="2400" spc="-1" strike="noStrike">
                <a:solidFill>
                  <a:srgbClr val="132d2f"/>
                </a:solidFill>
                <a:latin typeface="Times New Roman"/>
              </a:rPr>
              <a:t> − </a:t>
            </a:r>
            <a:r>
              <a:rPr b="1" i="1" lang="en-GB" sz="2400" spc="-1" strike="noStrike">
                <a:solidFill>
                  <a:srgbClr val="132d2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9817e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32d2f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281b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19:24:33Z</dcterms:created>
  <dc:creator>zafer</dc:creator>
  <dc:description>Cartesian Components maths</dc:description>
  <cp:keywords>Cartesian Components maths</cp:keywords>
  <dc:language>en-US</dc:language>
  <cp:lastModifiedBy>RomaK</cp:lastModifiedBy>
  <dcterms:modified xsi:type="dcterms:W3CDTF">2015-09-04T07:38:21Z</dcterms:modified>
  <cp:revision>7</cp:revision>
  <dc:subject>Cartesian Components maths</dc:subject>
  <dc:title>Cartesian Components maths</dc:title>
</cp:coreProperties>
</file>