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3E4E-6FFA-4B6A-9307-0B83747001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s and Histo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CESS C. BARCE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G SCHOOL, MANAMA, BAH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hosted on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s and Hist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ESS C. BARCE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G SCHOOL, MANAMA, BAH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 hosted on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and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give the graph a tit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key to show what each bar repres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Limit (mi/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Limit on Interstate Ro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give the graph a ti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key to show what each bar repres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Limit (mi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Limit on Interstate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 is a bar graph that shows the frequency of data within equal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pace in between the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 is a bar graph that shows the frequency of data within equal interv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space in between the b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make a 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a 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the number of hours students watch TV in one week Make a histogram of all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below shows the number of hours students watch TV in one week Make a histogram of all the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frequency table of the data. Be sure to use equal interv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frequency table of the data. Be sure to use equal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n appropriate scale and interval for the vertical axis. The greatest value on the scale should be at least as great as the great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 appropriate scale and interval for the vertical axis. The greatest value on the scale should be at least as great as the greatest frequen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bar for each interval. The height of the bar is the frequency for that interval. Bars must touch but not overl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give the graph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bar for each interval. The height of the bar is the frequency for that interval. Bars must touch but not overl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give the graph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now make a bar graph, double bar Graph and a 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ow make a bar graph, double bar Graph and a 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st below shows the results of a typing test in words per minute. Make a histogram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2, 55, 68, 47, 50, 41, 62, 39, 54, 70, 56, 70, 56, 47, 71, 55, 60, 4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st below shows the results of a typing test in words per minute. Make a histogram of the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know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know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graph can be used to display and compar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ale should include all the data values and be easily divided into equal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 graph can be used to display and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le should include all the data values and be easily divided into equal interv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interpret a 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of Mr. Snowden’s students are band me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of Mr. Snowden’s students are not band me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r graph shows Mr. Snowden’s students by gender and band membe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nterpret a 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of Mr. Snowden’s students are band me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of Mr. Snowden’s students are not band me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r graph shows Mr. Snowden’s students by gender and band membersh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used to compare two related set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used to compare two related sets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make a Double-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 scale and interval for the vertical ax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pair of bars for each country’s data. Use different colors to show males and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  give the graph a tit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key to show what each bar repres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a Double-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scale and interval for the vertical ax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air of bars for each country’s data. Use different colors to show males and fema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  give the graph a ti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key to show what each bar repres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shows the highway speed limits on interstate roads  .within three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e highway speed limits on interstate roads  .within thre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 scale and interval for the vertical ax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scale and interval for the vertical ax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pair of bars for each state’s data. Use different colors to show urban and rur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air of bars for each state’s data. Use different colors to show urban and rur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093-7A67-4281-92F5-7B932D80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72A-1EFC-48D0-B603-CA858E5A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D0D-59D5-4802-A808-EC68EA0F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948-169C-43C6-8C31-58C49E77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9BAA-8223-4045-933F-098C8EC5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DD3F-D991-4195-8CC5-8C33989A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66A0-D406-425D-B157-C4D8872F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5162-0696-4A92-9CE0-30BB314E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B933-A559-4DC0-8250-A19D11FD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9472-9359-4D04-A1F3-56A30BBA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122E-9859-4934-8BA2-1806F6A3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60F6-8870-4C1F-A9EB-8CA7AC09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A67B-7AAB-42EA-B8EA-7B14A2CB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7868-2733-4B56-ADF7-BC9216AF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DA78-1993-4463-ABF9-3CCBAEE0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CAA1-A23F-4BB6-93BB-2204D899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ABEA-D0C1-40FC-B066-B775E2C4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294-6F6D-438B-9B4C-1D516F81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D46-8D9B-448B-9310-061A65BE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BE7-8BC7-4EAB-9494-6E599FCB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401-8188-481E-ADCC-AE997860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F73-20A4-4678-8CFA-23FF90B4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74D-72CF-4464-8128-2CE08DE6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A41-6F84-4390-BB75-575024F5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7FC6-368C-472A-806D-748F325F95D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C1E3-B497-44E5-AEE4-C4D88412C02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r Graphs and Histogram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24000" y="3860640"/>
            <a:ext cx="42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PRINCESS C. BARC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APG SCHOOL, MANAMA,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400" y="6324480"/>
            <a:ext cx="321192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werpoint hosted on </a:t>
            </a:r>
            <a:r>
              <a:rPr b="0" lang="en-US" sz="1200" spc="-1" strike="noStrike" u="sng">
                <a:solidFill>
                  <a:srgbClr val="e4005c"/>
                </a:solidFill>
                <a:uFillTx/>
                <a:latin typeface="Times New Roman"/>
                <a:hlinkClick r:id="rId1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3 and 4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3124440" cy="26208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the axes and give the graph a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key to show what each bar repre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3780000" y="1844640"/>
          <a:ext cx="4706640" cy="42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844640"/>
                    <a:ext cx="470664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8"/>
          <p:cNvSpPr/>
          <p:nvPr/>
        </p:nvSpPr>
        <p:spPr>
          <a:xfrm rot="16200000">
            <a:off x="2595240" y="35319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Limit (mi/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7380360" y="213372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7596360" y="2565360"/>
            <a:ext cx="287280" cy="216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7596360" y="2205000"/>
            <a:ext cx="287280" cy="216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427640" y="1341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Limit on Interstate 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istogra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 is a bar graph that shows the frequency of data within equal interv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space in between the b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11280" y="2133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to make a histogram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93108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The table below shows the number of hours students watch TV in one week Make a histogram of all the data</a:t>
            </a: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771640" y="1557360"/>
          <a:ext cx="5805720" cy="5133960"/>
        </p:xfrm>
        <a:graphic>
          <a:graphicData uri="http://schemas.openxmlformats.org/drawingml/2006/table">
            <a:tbl>
              <a:tblPr/>
              <a:tblGrid>
                <a:gridCol w="693720"/>
                <a:gridCol w="2210040"/>
                <a:gridCol w="795240"/>
                <a:gridCol w="2106720"/>
              </a:tblGrid>
              <a:tr h="82008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ours of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Line 55"/>
          <p:cNvSpPr/>
          <p:nvPr/>
        </p:nvSpPr>
        <p:spPr>
          <a:xfrm>
            <a:off x="3564000" y="414972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6"/>
          <p:cNvSpPr/>
          <p:nvPr/>
        </p:nvSpPr>
        <p:spPr>
          <a:xfrm>
            <a:off x="3708360" y="5013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7"/>
          <p:cNvSpPr/>
          <p:nvPr/>
        </p:nvSpPr>
        <p:spPr>
          <a:xfrm>
            <a:off x="3708360" y="5805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9"/>
          <p:cNvSpPr/>
          <p:nvPr/>
        </p:nvSpPr>
        <p:spPr>
          <a:xfrm>
            <a:off x="6588000" y="3357720"/>
            <a:ext cx="36036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0"/>
          <p:cNvSpPr/>
          <p:nvPr/>
        </p:nvSpPr>
        <p:spPr>
          <a:xfrm>
            <a:off x="6588000" y="5013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404640"/>
            <a:ext cx="3124440" cy="18288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frequency table of the data. Be sure to use equal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2852640"/>
          <a:ext cx="4680000" cy="3108600"/>
        </p:xfrm>
        <a:graphic>
          <a:graphicData uri="http://schemas.openxmlformats.org/drawingml/2006/table">
            <a:tbl>
              <a:tblPr/>
              <a:tblGrid>
                <a:gridCol w="504720"/>
                <a:gridCol w="1835280"/>
                <a:gridCol w="641160"/>
                <a:gridCol w="169884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076720" y="1844640"/>
          <a:ext cx="3780000" cy="2816280"/>
        </p:xfrm>
        <a:graphic>
          <a:graphicData uri="http://schemas.openxmlformats.org/drawingml/2006/table">
            <a:tbl>
              <a:tblPr/>
              <a:tblGrid>
                <a:gridCol w="1890720"/>
                <a:gridCol w="188928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Line 77"/>
          <p:cNvSpPr/>
          <p:nvPr/>
        </p:nvSpPr>
        <p:spPr>
          <a:xfrm>
            <a:off x="900000" y="450864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8"/>
          <p:cNvSpPr/>
          <p:nvPr/>
        </p:nvSpPr>
        <p:spPr>
          <a:xfrm>
            <a:off x="971640" y="5013360"/>
            <a:ext cx="35856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9"/>
          <p:cNvSpPr/>
          <p:nvPr/>
        </p:nvSpPr>
        <p:spPr>
          <a:xfrm>
            <a:off x="971640" y="5516640"/>
            <a:ext cx="35856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0"/>
          <p:cNvSpPr/>
          <p:nvPr/>
        </p:nvSpPr>
        <p:spPr>
          <a:xfrm>
            <a:off x="3348000" y="400536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5280" y="-243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2997360"/>
          <a:ext cx="3743280" cy="2815920"/>
        </p:xfrm>
        <a:graphic>
          <a:graphicData uri="http://schemas.openxmlformats.org/drawingml/2006/table">
            <a:tbl>
              <a:tblPr/>
              <a:tblGrid>
                <a:gridCol w="1873440"/>
                <a:gridCol w="186984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620640"/>
            <a:ext cx="8659800" cy="1224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an appropriate scale and interval for the vertical axis. The greatest value on the scale should be at least as great as the greatest freq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37"/>
          <p:cNvGraphicFramePr/>
          <p:nvPr/>
        </p:nvGraphicFramePr>
        <p:xfrm>
          <a:off x="4133880" y="2049480"/>
          <a:ext cx="4583160" cy="43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3880" y="2049480"/>
                    <a:ext cx="458316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392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716360" cy="2665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 bar for each interval. The height of the bar is the frequency for that interval. Bars must touch but not over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Arial"/>
              </a:rPr>
              <a:t>Label the axes and give the graph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4643280" y="404640"/>
          <a:ext cx="4500720" cy="608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404640"/>
                    <a:ext cx="450072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50920" y="3860640"/>
          <a:ext cx="4103640" cy="2816280"/>
        </p:xfrm>
        <a:graphic>
          <a:graphicData uri="http://schemas.openxmlformats.org/drawingml/2006/table">
            <a:tbl>
              <a:tblPr/>
              <a:tblGrid>
                <a:gridCol w="2054160"/>
                <a:gridCol w="204948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6"/>
          <p:cNvGraphicFramePr/>
          <p:nvPr/>
        </p:nvGraphicFramePr>
        <p:xfrm>
          <a:off x="2685960" y="404640"/>
          <a:ext cx="611208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5960" y="404640"/>
                    <a:ext cx="611208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n you now make a bar graph, double bar Graph and a histogram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411280" y="907560"/>
            <a:ext cx="6400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st below shows the results of a typing test in words per minute. Make a histogram of th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2, 55, 68, 47, 50, 41, 62, 39, 54, 70, 56, 70, 56, 47, 71, 55, 60, 4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39"/>
                </a:solidFill>
                <a:latin typeface="Arial"/>
              </a:rPr>
              <a:t>What do you know about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uble bar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ogr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r Grap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836640" y="1596960"/>
          <a:ext cx="470232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596960"/>
                    <a:ext cx="470232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r graph can be used to display and compa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ale should include all the data values and be easily divided into equal 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40080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to interpret a Bar Graph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8920" y="2565360"/>
            <a:ext cx="3340080" cy="4105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of Mr. Snowden’s students are band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of Mr. Snowden’s students are not band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716360" y="2349360"/>
          <a:ext cx="411480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349360"/>
                    <a:ext cx="411480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7"/>
          <p:cNvSpPr/>
          <p:nvPr/>
        </p:nvSpPr>
        <p:spPr>
          <a:xfrm>
            <a:off x="2340000" y="1125360"/>
            <a:ext cx="63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r graph shows Mr. Snowden’s students by gender and band member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uble Bar Grap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2438280" y="1600200"/>
          <a:ext cx="31244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00200"/>
                    <a:ext cx="3124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compare two related set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to make a Double-Bar Graph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87640" y="1773360"/>
            <a:ext cx="5329440" cy="4464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a scale and interval for the vertical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pair of bars for each country’s data. Use different colors to show males and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Arial"/>
              </a:rPr>
              <a:t>Label the axes and   give the graph a ti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key to show what each bar repres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8c0039"/>
                </a:solidFill>
                <a:latin typeface="Arial"/>
              </a:rPr>
              <a:t>The table shows the highway speed limits on interstate roads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.</a:t>
            </a:r>
            <a:r>
              <a:rPr b="0" lang="ar-BH" sz="3200" spc="-1" strike="noStrike">
                <a:solidFill>
                  <a:srgbClr val="8c0039"/>
                </a:solidFill>
                <a:latin typeface="Arial"/>
              </a:rPr>
              <a:t>within three state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484360" y="1916280"/>
          <a:ext cx="6400800" cy="4495680"/>
        </p:xfrm>
        <a:graphic>
          <a:graphicData uri="http://schemas.openxmlformats.org/drawingml/2006/table">
            <a:tbl>
              <a:tblPr/>
              <a:tblGrid>
                <a:gridCol w="2394000"/>
                <a:gridCol w="2001960"/>
                <a:gridCol w="200484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6360" y="1557360"/>
            <a:ext cx="3124080" cy="19000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a scale and interval for the vertical 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4869000" y="1413000"/>
          <a:ext cx="42750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9000" y="1413000"/>
                    <a:ext cx="42750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39640" y="4076640"/>
          <a:ext cx="4276800" cy="2443320"/>
        </p:xfrm>
        <a:graphic>
          <a:graphicData uri="http://schemas.openxmlformats.org/drawingml/2006/table">
            <a:tbl>
              <a:tblPr/>
              <a:tblGrid>
                <a:gridCol w="1600200"/>
                <a:gridCol w="1338480"/>
                <a:gridCol w="13381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66920" y="404640"/>
            <a:ext cx="4824360" cy="1368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 pair of bars for each state’s data. Use different colors to show urban and r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4356000" y="1916280"/>
          <a:ext cx="4591080" cy="45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916280"/>
                    <a:ext cx="4591080" cy="45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79280" y="2492280"/>
          <a:ext cx="4033800" cy="2171880"/>
        </p:xfrm>
        <a:graphic>
          <a:graphicData uri="http://schemas.openxmlformats.org/drawingml/2006/table">
            <a:tbl>
              <a:tblPr/>
              <a:tblGrid>
                <a:gridCol w="1508400"/>
                <a:gridCol w="1263600"/>
                <a:gridCol w="126180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3:29:24Z</dcterms:created>
  <dc:creator>Princess</dc:creator>
  <dc:description/>
  <dc:language>en-US</dc:language>
  <cp:lastModifiedBy>RomaK</cp:lastModifiedBy>
  <dcterms:modified xsi:type="dcterms:W3CDTF">2015-09-04T07:38:01Z</dcterms:modified>
  <cp:revision>14</cp:revision>
  <dc:subject/>
  <dc:title>Bar Graphs and Histograms</dc:title>
</cp:coreProperties>
</file>