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428D2-A601-4AA2-9766-C412BE5F9C1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r Graphs and Histo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NCESS C. BARCEG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G SCHOOL, MANAMA, BAHR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erpoint hosted on www.worldofteaching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ease visit for 100’s more free powerpoi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 Graphs and Histo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ESS C. BARCEG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G SCHOOL, MANAMA, BAH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point hosted on 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ase visit for 100’s more free power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3 and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bel the axes and give the graph a tit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e a key to show what each bar repres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Limit (mi/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b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r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Limit on Interstate Roa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 and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 the axes and give the graph a tit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a key to show what each bar repres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Limit (mi/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b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Limit on Interstate Ro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gr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gram is a bar graph that shows the frequency of data within equal interv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no space in between the ba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gram is a bar graph that shows the frequency of data within equal interval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no space in between the ba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make a histogra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make a histogr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able below shows the number of hours students watch TV in one week Make a histogram of all the 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able below shows the number of hours students watch TV in one week Make a histogram of all the dat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e a frequency table of the data. Be sure to use equal interv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a frequency table of the data. Be sure to use equal interv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ose an appropriate scale and interval for the vertical axis. The greatest value on the scale should be at least as great as the greatest frequen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n appropriate scale and interval for the vertical axis. The greatest value on the scale should be at least as great as the greatest frequenc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a bar for each interval. The height of the bar is the frequency for that interval. Bars must touch but not overla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bel the axes and give the graph tit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bar for each interval. The height of the bar is the frequency for that interval. Bars must touch but not overla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 the axes and give the graph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you now make a bar graph, double bar Graph and a histogra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now make a bar graph, double bar Graph and a histogr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st below shows the results of a typing test in words per minute. Make a histogram of the 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2, 55, 68, 47, 50, 41, 62, 39, 54, 70, 56, 70, 56, 47, 71, 55, 60, 4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st below shows the results of a typing test in words per minute. Make a histogram of the dat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you know ab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r grap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uble bar grap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gra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know ab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 grap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 bar grap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gr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r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r graph can be used to display and compare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cale should include all the data values and be easily divided into equal interv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r graph can be used to display and compare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cale should include all the data values and be easily divided into equal interval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interpret a Bar Grap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of Mr. Snowden’s students are band membe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of Mr. Snowden’s students are not band membe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ar graph shows Mr. Snowden’s students by gender and band membershi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interpret a Bar Grap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of Mr. Snowden’s students are band memb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of Mr. Snowden’s students are not band memb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r graph shows Mr. Snowden’s students by gender and band membershi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uble Bar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be used to compare two related sets of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 Bar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used to compare two related sets of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make a Double-Bar Grap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ose a scale and interval for the vertical ax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a pair of bars for each country’s data. Use different colors to show males and fema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bel the axes and   give the graph a tit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e a key to show what each bar repres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make a Double-Bar Grap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 scale and interval for the vertical ax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pair of bars for each country’s data. Use different colors to show males and femal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 the axes and   give the graph a tit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a key to show what each bar represen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able shows the highway speed limits on interstate roads  .within three sta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able shows the highway speed limits on interstate roads  .within three 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ose a scale and interval for the vertical ax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 scale and interval for the vertical ax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a pair of bars for each state’s data. Use different colors to show urban and rur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pair of bars for each state’s data. Use different colors to show urban and rur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5E87-40F5-4CE1-89EE-F4D99DDF0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DF7B-2064-4B5C-9735-B0978AC18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3ED6-553F-4E77-88D7-11FCD9233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752C-3707-4B4F-897C-AD9BC8756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1E6CE-9E9F-45BC-8B15-50F019D23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799F8-98BA-471A-BB26-C6E72D81D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16E69-FC3F-4DE5-BACA-534652B6A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0A7BA-8722-4388-8FB1-F0B56D341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769D4-1AA2-457B-B34A-F218A9F76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6E72F-710A-4844-AA70-339BAD5EF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B8999-5128-4B7E-81C2-6A86862B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367C-EF48-47D9-AD2C-F2D7FA8CB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B4EC8-5882-4F3A-BAE1-9F8D713E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F5286-E6FA-4151-8854-25C0E628A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C9AA0-F18E-4BDC-ADE9-4BE03D9F9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290C3-4E5A-4352-913A-71C9C49BA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3F18E-B1B0-46AE-B97A-AE44B2D28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D459-96FA-4975-98E4-C561AFC14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2D44-B119-4A73-8771-5DB64B516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0621-84B8-4F1F-8E1A-70397CA15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1DC2-1BA2-4426-A455-57AE24260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6CBE-8E7C-40CB-9281-31CD9B378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6492-B77F-420E-8A39-A82D5D1F1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D858-A202-4648-875D-48CA2072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r" rtl="1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 algn="r" rtl="1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9380A-AD7D-4D5A-993A-4D55277A4676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r" rtl="1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 algn="r" rtl="1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D785A-3B1F-44CB-8347-6311CB4FC760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ar Graphs and Histograms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324000" y="3860640"/>
            <a:ext cx="4249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005c"/>
                </a:solidFill>
                <a:latin typeface="Arial"/>
              </a:rPr>
              <a:t>PRINCESS C. BARCE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005c"/>
                </a:solidFill>
                <a:latin typeface="Arial"/>
              </a:rPr>
              <a:t>APG SCHOOL, MANAMA, BAH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5400" y="6324480"/>
            <a:ext cx="3211920" cy="459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werpoint hosted on </a:t>
            </a:r>
            <a:r>
              <a:rPr b="0" lang="en-US" sz="1200" spc="-1" strike="noStrike" u="sng">
                <a:solidFill>
                  <a:srgbClr val="e4005c"/>
                </a:solidFill>
                <a:uFillTx/>
                <a:latin typeface="Times New Roman"/>
                <a:hlinkClick r:id="rId1"/>
              </a:rPr>
              <a:t>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lease visit for 100’s more free power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tep 3 and 4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78920" y="2133720"/>
            <a:ext cx="3124440" cy="262080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bel the axes and give the graph a tit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ke a key to show what each bar repres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Object 7"/>
          <p:cNvGraphicFramePr/>
          <p:nvPr/>
        </p:nvGraphicFramePr>
        <p:xfrm>
          <a:off x="3780000" y="1844640"/>
          <a:ext cx="4706640" cy="420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1844640"/>
                    <a:ext cx="4706640" cy="420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Text Box 8"/>
          <p:cNvSpPr/>
          <p:nvPr/>
        </p:nvSpPr>
        <p:spPr>
          <a:xfrm rot="16200000">
            <a:off x="2595240" y="353196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d Limit (mi/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7380360" y="2133720"/>
            <a:ext cx="151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b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1"/>
          <p:cNvSpPr/>
          <p:nvPr/>
        </p:nvSpPr>
        <p:spPr>
          <a:xfrm>
            <a:off x="7596360" y="2565360"/>
            <a:ext cx="287280" cy="21600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3"/>
          <p:cNvSpPr/>
          <p:nvPr/>
        </p:nvSpPr>
        <p:spPr>
          <a:xfrm>
            <a:off x="7596360" y="2205000"/>
            <a:ext cx="287280" cy="21600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4"/>
          <p:cNvSpPr/>
          <p:nvPr/>
        </p:nvSpPr>
        <p:spPr>
          <a:xfrm>
            <a:off x="4427640" y="134136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ed Limit on Interstate Ro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1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Histogram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gram is a bar graph that shows the frequency of data within equal interv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no space in between the ba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11280" y="21337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How to make a histogram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79280" y="333360"/>
            <a:ext cx="693108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0039"/>
                </a:solidFill>
                <a:latin typeface="Arial"/>
              </a:rPr>
              <a:t>The table below shows the number of hours students watch TV in one week Make a histogram of all the data</a:t>
            </a:r>
            <a:r>
              <a:rPr b="0" lang="en-US" sz="2800" spc="-1" strike="noStrike">
                <a:solidFill>
                  <a:srgbClr val="8c003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771640" y="1557360"/>
          <a:ext cx="5805720" cy="5133960"/>
        </p:xfrm>
        <a:graphic>
          <a:graphicData uri="http://schemas.openxmlformats.org/drawingml/2006/table">
            <a:tbl>
              <a:tblPr/>
              <a:tblGrid>
                <a:gridCol w="693720"/>
                <a:gridCol w="2210040"/>
                <a:gridCol w="795240"/>
                <a:gridCol w="2106720"/>
              </a:tblGrid>
              <a:tr h="820080"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hours of T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0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I - I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I - I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I - 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I - 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Line 55"/>
          <p:cNvSpPr/>
          <p:nvPr/>
        </p:nvSpPr>
        <p:spPr>
          <a:xfrm>
            <a:off x="3564000" y="4149720"/>
            <a:ext cx="36036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56"/>
          <p:cNvSpPr/>
          <p:nvPr/>
        </p:nvSpPr>
        <p:spPr>
          <a:xfrm>
            <a:off x="3708360" y="5013360"/>
            <a:ext cx="36036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57"/>
          <p:cNvSpPr/>
          <p:nvPr/>
        </p:nvSpPr>
        <p:spPr>
          <a:xfrm>
            <a:off x="3708360" y="5805360"/>
            <a:ext cx="36036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59"/>
          <p:cNvSpPr/>
          <p:nvPr/>
        </p:nvSpPr>
        <p:spPr>
          <a:xfrm>
            <a:off x="6588000" y="3357720"/>
            <a:ext cx="36036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60"/>
          <p:cNvSpPr/>
          <p:nvPr/>
        </p:nvSpPr>
        <p:spPr>
          <a:xfrm>
            <a:off x="6588000" y="5013360"/>
            <a:ext cx="36036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tep 1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26560" y="404640"/>
            <a:ext cx="3124440" cy="182880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ke a frequency table of the data. Be sure to use equal interv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50920" y="2852640"/>
          <a:ext cx="4680000" cy="3108600"/>
        </p:xfrm>
        <a:graphic>
          <a:graphicData uri="http://schemas.openxmlformats.org/drawingml/2006/table">
            <a:tbl>
              <a:tblPr/>
              <a:tblGrid>
                <a:gridCol w="504720"/>
                <a:gridCol w="1835280"/>
                <a:gridCol w="641160"/>
                <a:gridCol w="1698840"/>
              </a:tblGrid>
              <a:tr h="518400"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ber of hours of T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I - I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I - I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I - 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I - 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5076720" y="1844640"/>
          <a:ext cx="3780000" cy="2816280"/>
        </p:xfrm>
        <a:graphic>
          <a:graphicData uri="http://schemas.openxmlformats.org/drawingml/2006/table">
            <a:tbl>
              <a:tblPr/>
              <a:tblGrid>
                <a:gridCol w="1890720"/>
                <a:gridCol w="1889280"/>
              </a:tblGrid>
              <a:tr h="1265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hours of T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-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Line 77"/>
          <p:cNvSpPr/>
          <p:nvPr/>
        </p:nvSpPr>
        <p:spPr>
          <a:xfrm>
            <a:off x="900000" y="4508640"/>
            <a:ext cx="358920" cy="288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78"/>
          <p:cNvSpPr/>
          <p:nvPr/>
        </p:nvSpPr>
        <p:spPr>
          <a:xfrm>
            <a:off x="971640" y="5013360"/>
            <a:ext cx="358560" cy="288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79"/>
          <p:cNvSpPr/>
          <p:nvPr/>
        </p:nvSpPr>
        <p:spPr>
          <a:xfrm>
            <a:off x="971640" y="5516640"/>
            <a:ext cx="358560" cy="288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80"/>
          <p:cNvSpPr/>
          <p:nvPr/>
        </p:nvSpPr>
        <p:spPr>
          <a:xfrm>
            <a:off x="3348000" y="4005360"/>
            <a:ext cx="358920" cy="288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835280" y="-243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tep 2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79280" y="2997360"/>
          <a:ext cx="3743280" cy="2815920"/>
        </p:xfrm>
        <a:graphic>
          <a:graphicData uri="http://schemas.openxmlformats.org/drawingml/2006/table">
            <a:tbl>
              <a:tblPr/>
              <a:tblGrid>
                <a:gridCol w="1873440"/>
                <a:gridCol w="1869840"/>
              </a:tblGrid>
              <a:tr h="1265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ber of hours of T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-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-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</a:tr>
            </a:tbl>
          </a:graphicData>
        </a:graphic>
      </p:graphicFrame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3640" y="620640"/>
            <a:ext cx="8659800" cy="122400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oose an appropriate scale and interval for the vertical axis. The greatest value on the scale should be at least as great as the greatest frequen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Object 37"/>
          <p:cNvGraphicFramePr/>
          <p:nvPr/>
        </p:nvGraphicFramePr>
        <p:xfrm>
          <a:off x="4133880" y="2049480"/>
          <a:ext cx="4583160" cy="432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3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33880" y="2049480"/>
                    <a:ext cx="4583160" cy="43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392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tep 3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-360" y="907920"/>
            <a:ext cx="4716360" cy="266544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aw a bar for each interval. The height of the bar is the frequency for that interval. Bars must touch but not overl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Arial"/>
              </a:rPr>
              <a:t>Label the axes and give the graph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Object 6"/>
          <p:cNvGraphicFramePr/>
          <p:nvPr/>
        </p:nvGraphicFramePr>
        <p:xfrm>
          <a:off x="4643280" y="404640"/>
          <a:ext cx="4500720" cy="608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3280" y="404640"/>
                    <a:ext cx="4500720" cy="608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250920" y="3860640"/>
          <a:ext cx="4103640" cy="2816280"/>
        </p:xfrm>
        <a:graphic>
          <a:graphicData uri="http://schemas.openxmlformats.org/drawingml/2006/table">
            <a:tbl>
              <a:tblPr/>
              <a:tblGrid>
                <a:gridCol w="2054160"/>
                <a:gridCol w="2049480"/>
              </a:tblGrid>
              <a:tr h="1265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ber of hours of T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-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-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Object 6"/>
          <p:cNvGraphicFramePr/>
          <p:nvPr/>
        </p:nvGraphicFramePr>
        <p:xfrm>
          <a:off x="2685960" y="404640"/>
          <a:ext cx="6112080" cy="645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5960" y="404640"/>
                    <a:ext cx="6112080" cy="645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an you now make a bar graph, double bar Graph and a histogram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2411280" y="907560"/>
            <a:ext cx="64008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ist below shows the results of a typing test in words per minute. Make a histogram of the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2, 55, 68, 47, 50, 41, 62, 39, 54, 70, 56, 70, 56, 47, 71, 55, 60, 4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0039"/>
                </a:solidFill>
                <a:latin typeface="Arial"/>
              </a:rPr>
              <a:t>What do you know about</a:t>
            </a:r>
            <a:endParaRPr b="0" lang="en-US" sz="4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r grap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uble bar grap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stogr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Bar Graph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aphicFrame>
        <p:nvGraphicFramePr>
          <p:cNvPr id="99" name="Object 8"/>
          <p:cNvGraphicFramePr/>
          <p:nvPr/>
        </p:nvGraphicFramePr>
        <p:xfrm>
          <a:off x="836640" y="1596960"/>
          <a:ext cx="4702320" cy="448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6640" y="1596960"/>
                    <a:ext cx="4702320" cy="44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715000" y="1600200"/>
            <a:ext cx="3124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ar graph can be used to display and compar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cale should include all the data values and be easily divided into equal interv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40000" y="-360"/>
            <a:ext cx="6400800" cy="107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How to interpret a Bar Graph</a:t>
            </a: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58920" y="2565360"/>
            <a:ext cx="3340080" cy="410544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any of Mr. Snowden’s students are band me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any of Mr. Snowden’s students are not band me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6"/>
          <p:cNvGraphicFramePr/>
          <p:nvPr/>
        </p:nvGraphicFramePr>
        <p:xfrm>
          <a:off x="4716360" y="2349360"/>
          <a:ext cx="4114800" cy="418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2349360"/>
                    <a:ext cx="4114800" cy="418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Text Box 7"/>
          <p:cNvSpPr/>
          <p:nvPr/>
        </p:nvSpPr>
        <p:spPr>
          <a:xfrm>
            <a:off x="2340000" y="1125360"/>
            <a:ext cx="633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ar graph shows Mr. Snowden’s students by gender and band member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Double Bar Graph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aphicFrame>
        <p:nvGraphicFramePr>
          <p:cNvPr id="108" name="Object 4"/>
          <p:cNvGraphicFramePr/>
          <p:nvPr/>
        </p:nvGraphicFramePr>
        <p:xfrm>
          <a:off x="2438280" y="1600200"/>
          <a:ext cx="312444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600200"/>
                    <a:ext cx="312444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15000" y="1600200"/>
            <a:ext cx="3124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used to compare two related sets of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How to make a Double-Bar Graph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987640" y="1773360"/>
            <a:ext cx="5329440" cy="446400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oose a scale and interval for the vertical ax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w a pair of bars for each country’s data. Use different colors to show males and fem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800" spc="-1" strike="noStrike">
                <a:solidFill>
                  <a:srgbClr val="ffffff"/>
                </a:solidFill>
                <a:latin typeface="Arial"/>
              </a:rPr>
              <a:t>Label the axes and   give the graph a tit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a key to show what each bar repres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11280" y="33300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3200" spc="-1" strike="noStrike">
                <a:solidFill>
                  <a:srgbClr val="8c0039"/>
                </a:solidFill>
                <a:latin typeface="Arial"/>
              </a:rPr>
              <a:t>The table shows the highway speed limits on interstate roads </a:t>
            </a: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 .</a:t>
            </a:r>
            <a:r>
              <a:rPr b="0" lang="ar-BH" sz="3200" spc="-1" strike="noStrike">
                <a:solidFill>
                  <a:srgbClr val="8c0039"/>
                </a:solidFill>
                <a:latin typeface="Arial"/>
              </a:rPr>
              <a:t>within three states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484360" y="1916280"/>
          <a:ext cx="6400800" cy="4495680"/>
        </p:xfrm>
        <a:graphic>
          <a:graphicData uri="http://schemas.openxmlformats.org/drawingml/2006/table">
            <a:tbl>
              <a:tblPr/>
              <a:tblGrid>
                <a:gridCol w="2394000"/>
                <a:gridCol w="2001960"/>
                <a:gridCol w="2004840"/>
              </a:tblGrid>
              <a:tr h="12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b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BH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r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ori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 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 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 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mo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 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tep 1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76360" y="1557360"/>
            <a:ext cx="3124080" cy="19000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oose a scale and interval for the vertical ax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Object 6"/>
          <p:cNvGraphicFramePr/>
          <p:nvPr/>
        </p:nvGraphicFramePr>
        <p:xfrm>
          <a:off x="4869000" y="1413000"/>
          <a:ext cx="4275000" cy="49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69000" y="1413000"/>
                    <a:ext cx="4275000" cy="49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539640" y="4076640"/>
          <a:ext cx="4276800" cy="2443320"/>
        </p:xfrm>
        <a:graphic>
          <a:graphicData uri="http://schemas.openxmlformats.org/drawingml/2006/table">
            <a:tbl>
              <a:tblPr/>
              <a:tblGrid>
                <a:gridCol w="1600200"/>
                <a:gridCol w="1338480"/>
                <a:gridCol w="133812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rb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BH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ur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lori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 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 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 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</a:tr>
              <a:tr h="79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mo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 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tep 2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066920" y="404640"/>
            <a:ext cx="4824360" cy="136872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aw a pair of bars for each state’s data. Use different colors to show urban and ru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Object 6"/>
          <p:cNvGraphicFramePr/>
          <p:nvPr/>
        </p:nvGraphicFramePr>
        <p:xfrm>
          <a:off x="4356000" y="1916280"/>
          <a:ext cx="4591080" cy="45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1916280"/>
                    <a:ext cx="4591080" cy="45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179280" y="2492280"/>
          <a:ext cx="4033800" cy="2171880"/>
        </p:xfrm>
        <a:graphic>
          <a:graphicData uri="http://schemas.openxmlformats.org/drawingml/2006/table">
            <a:tbl>
              <a:tblPr/>
              <a:tblGrid>
                <a:gridCol w="1508400"/>
                <a:gridCol w="1263600"/>
                <a:gridCol w="1261800"/>
              </a:tblGrid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rb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BH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ur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lori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 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</a:tr>
              <a:tr h="47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 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 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</a:tr>
              <a:tr h="70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mo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 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1T13:29:24Z</dcterms:created>
  <dc:creator>Princess</dc:creator>
  <dc:description/>
  <dc:language>en-US</dc:language>
  <cp:lastModifiedBy>RomaK</cp:lastModifiedBy>
  <dcterms:modified xsi:type="dcterms:W3CDTF">2015-09-04T07:38:01Z</dcterms:modified>
  <cp:revision>14</cp:revision>
  <dc:subject/>
  <dc:title>Bar Graphs and Histograms</dc:title>
</cp:coreProperties>
</file>