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484A-0A10-4FCE-A60F-64FCC0197BD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 is a bar graph that shows the frequency of data within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pace in between the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ace in between the b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the number of hours students watch TV in one week Make a histogram of all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n appropriate scale and interval for the vertical axis. The greatest value on the scale should be at least as great as the great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 appropriate scale and interval for the vertical axis. The greatest value on the scale should be at least as great as the greatest frequ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bar for each interval. The height of the bar is the frequency for that interval. Bars must touch but not overl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bar for each interval. The height of the bar is the frequency for that interval. Bars must touch but not overl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now make a bar graph, double bar Graph and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st below shows the results of a typing test in words per minute. Make a histogram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2, 55, 68, 47, 50, 41, 62, 39, 54, 70, 56, 70, 56, 47, 71, 55, 60, 4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ale should include all the data values and be easily divided into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interpret a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not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r graph shows Mr. Snowden’s students by gender and band membe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nterpret a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not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Double-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country’s data. Use different colors to show males and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 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Double-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country’s data. Use different colors to show males and fema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 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state’s data. Use different colors to show urban and r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state’s data. Use different colors to show urban and rur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7D0-91D2-49C9-9930-BA3ED60C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B88-6E81-4A39-ACAF-57C279A0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FEC-EA1D-4893-AD94-ECF2EEB9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9FE-7595-4F41-8D82-2080512A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4231-A6FC-47E5-968E-FE17AF41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68AB-2771-44FE-AA26-22D9ECA4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E813-23C7-4856-9BC0-53406DB5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986E-E91A-4E96-9556-CD749702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1C9D-735A-48EB-BCF5-42083BBE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C7B8-DA46-4A16-8008-98E6E01E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7AEC-B0C7-4C7E-87E2-055137F4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84F-D089-440B-96D8-DC9FF541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EDF2-E6BE-44EA-AEEE-53477DA4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2D66-2F6D-44D7-B5D0-531BE7D8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CF19-E32D-419A-A312-D6FC132E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56E7-D32F-445B-976F-79E6E6AC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8B16-89A8-477E-AE21-CE0A85F5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022-272B-4269-AC3D-88A41C59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8CB-FCCB-4FBC-A589-CCDA5168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352-ED4F-4E18-8962-BC615A1F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752-0903-4ACE-90FC-61C83930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124-266A-40B8-BB17-3342525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094-6FC5-4F49-90C1-C8E2A7EB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21A-E38C-406E-9AED-E235959F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9ABC-E42B-4D20-9870-AF74F031C5E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8C02-8685-4008-8341-8EADD93DA63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3860640"/>
            <a:ext cx="42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PRINCESS C. BARC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APG SCHOOL, MANAMA,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400" y="6324480"/>
            <a:ext cx="321192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werpoint hosted on </a:t>
            </a:r>
            <a:r>
              <a:rPr b="0" lang="en-US" sz="1200" spc="-1" strike="noStrike" u="sng">
                <a:solidFill>
                  <a:srgbClr val="e4005c"/>
                </a:solidFill>
                <a:uFillTx/>
                <a:latin typeface="Times New Roman"/>
                <a:hlinkClick r:id="rId1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 and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3124440" cy="2620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the axes and give the graph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key to show what each bar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3780000" y="1844640"/>
          <a:ext cx="4706640" cy="42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844640"/>
                    <a:ext cx="470664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8"/>
          <p:cNvSpPr/>
          <p:nvPr/>
        </p:nvSpPr>
        <p:spPr>
          <a:xfrm rot="16200000">
            <a:off x="2595240" y="35319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380360" y="213372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7596360" y="2565360"/>
            <a:ext cx="287280" cy="216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596360" y="2205000"/>
            <a:ext cx="287280" cy="216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427640" y="134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ist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pace in between the b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11280" y="2133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histogram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9310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771640" y="1557360"/>
          <a:ext cx="5805720" cy="5133960"/>
        </p:xfrm>
        <a:graphic>
          <a:graphicData uri="http://schemas.openxmlformats.org/drawingml/2006/table">
            <a:tbl>
              <a:tblPr/>
              <a:tblGrid>
                <a:gridCol w="693720"/>
                <a:gridCol w="2210040"/>
                <a:gridCol w="795240"/>
                <a:gridCol w="2106720"/>
              </a:tblGrid>
              <a:tr h="8200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Line 55"/>
          <p:cNvSpPr/>
          <p:nvPr/>
        </p:nvSpPr>
        <p:spPr>
          <a:xfrm>
            <a:off x="3564000" y="414972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6"/>
          <p:cNvSpPr/>
          <p:nvPr/>
        </p:nvSpPr>
        <p:spPr>
          <a:xfrm>
            <a:off x="370836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7"/>
          <p:cNvSpPr/>
          <p:nvPr/>
        </p:nvSpPr>
        <p:spPr>
          <a:xfrm>
            <a:off x="3708360" y="5805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9"/>
          <p:cNvSpPr/>
          <p:nvPr/>
        </p:nvSpPr>
        <p:spPr>
          <a:xfrm>
            <a:off x="6588000" y="3357720"/>
            <a:ext cx="36036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0"/>
          <p:cNvSpPr/>
          <p:nvPr/>
        </p:nvSpPr>
        <p:spPr>
          <a:xfrm>
            <a:off x="658800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404640"/>
            <a:ext cx="3124440" cy="1828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frequency table of the data. Be sure to use equal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852640"/>
          <a:ext cx="4680000" cy="3108600"/>
        </p:xfrm>
        <a:graphic>
          <a:graphicData uri="http://schemas.openxmlformats.org/drawingml/2006/table">
            <a:tbl>
              <a:tblPr/>
              <a:tblGrid>
                <a:gridCol w="504720"/>
                <a:gridCol w="1835280"/>
                <a:gridCol w="641160"/>
                <a:gridCol w="16988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076720" y="1844640"/>
          <a:ext cx="3780000" cy="2816280"/>
        </p:xfrm>
        <a:graphic>
          <a:graphicData uri="http://schemas.openxmlformats.org/drawingml/2006/table">
            <a:tbl>
              <a:tblPr/>
              <a:tblGrid>
                <a:gridCol w="1890720"/>
                <a:gridCol w="18892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Line 77"/>
          <p:cNvSpPr/>
          <p:nvPr/>
        </p:nvSpPr>
        <p:spPr>
          <a:xfrm>
            <a:off x="900000" y="450864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8"/>
          <p:cNvSpPr/>
          <p:nvPr/>
        </p:nvSpPr>
        <p:spPr>
          <a:xfrm>
            <a:off x="971640" y="501336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9"/>
          <p:cNvSpPr/>
          <p:nvPr/>
        </p:nvSpPr>
        <p:spPr>
          <a:xfrm>
            <a:off x="971640" y="551664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0"/>
          <p:cNvSpPr/>
          <p:nvPr/>
        </p:nvSpPr>
        <p:spPr>
          <a:xfrm>
            <a:off x="3348000" y="400536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5280" y="-243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2997360"/>
          <a:ext cx="3743280" cy="2815920"/>
        </p:xfrm>
        <a:graphic>
          <a:graphicData uri="http://schemas.openxmlformats.org/drawingml/2006/table">
            <a:tbl>
              <a:tblPr/>
              <a:tblGrid>
                <a:gridCol w="1873440"/>
                <a:gridCol w="186984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8659800" cy="122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n appropriate scale and interval for the vertical axis. The greatest value on the scale should be at least as great as the greatest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37"/>
          <p:cNvGraphicFramePr/>
          <p:nvPr/>
        </p:nvGraphicFramePr>
        <p:xfrm>
          <a:off x="4133880" y="2049480"/>
          <a:ext cx="458316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3880" y="2049480"/>
                    <a:ext cx="458316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92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266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bar for each interval. The height of the bar is the frequency for that interval. Bars must touch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Arial"/>
              </a:rPr>
              <a:t>Label the axes and give the graph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643280" y="404640"/>
          <a:ext cx="4500720" cy="608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450072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50920" y="3860640"/>
          <a:ext cx="4103640" cy="2816280"/>
        </p:xfrm>
        <a:graphic>
          <a:graphicData uri="http://schemas.openxmlformats.org/drawingml/2006/table">
            <a:tbl>
              <a:tblPr/>
              <a:tblGrid>
                <a:gridCol w="2054160"/>
                <a:gridCol w="20494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6"/>
          <p:cNvGraphicFramePr/>
          <p:nvPr/>
        </p:nvGraphicFramePr>
        <p:xfrm>
          <a:off x="2685960" y="404640"/>
          <a:ext cx="611208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5960" y="404640"/>
                    <a:ext cx="61120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411280" y="907560"/>
            <a:ext cx="6400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, 55, 68, 47, 50, 41, 62, 39, 54, 70, 56, 70, 56, 47, 71, 55, 60, 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What do you know about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836640" y="1596960"/>
          <a:ext cx="470232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596960"/>
                    <a:ext cx="47023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08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to interpret a Bar Graph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2565360"/>
            <a:ext cx="3340080" cy="410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not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2349360"/>
          <a:ext cx="411480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7"/>
          <p:cNvSpPr/>
          <p:nvPr/>
        </p:nvSpPr>
        <p:spPr>
          <a:xfrm>
            <a:off x="2340000" y="112536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uble 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438280" y="1600200"/>
          <a:ext cx="3124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3124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Double-Bar Graph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5329440" cy="446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pair of bars for each country’s data. Use different colors to show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Arial"/>
              </a:rPr>
              <a:t>Label the axes and   give the graph a ti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key to show what each bar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The table shows the highway speed limits on interstate roads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.</a:t>
            </a: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within three stat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1916280"/>
          <a:ext cx="6400800" cy="4495680"/>
        </p:xfrm>
        <a:graphic>
          <a:graphicData uri="http://schemas.openxmlformats.org/drawingml/2006/table">
            <a:tbl>
              <a:tblPr/>
              <a:tblGrid>
                <a:gridCol w="2394000"/>
                <a:gridCol w="2001960"/>
                <a:gridCol w="200484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3124080" cy="1900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869000" y="1413000"/>
          <a:ext cx="42750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1413000"/>
                    <a:ext cx="4275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4076640"/>
          <a:ext cx="4276800" cy="2443320"/>
        </p:xfrm>
        <a:graphic>
          <a:graphicData uri="http://schemas.openxmlformats.org/drawingml/2006/table">
            <a:tbl>
              <a:tblPr/>
              <a:tblGrid>
                <a:gridCol w="1600200"/>
                <a:gridCol w="1338480"/>
                <a:gridCol w="1338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404640"/>
            <a:ext cx="4824360" cy="1368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pair of bars for each state’s data. Use different colors to show urban and r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4356000" y="1916280"/>
          <a:ext cx="459108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916280"/>
                    <a:ext cx="459108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9280" y="2492280"/>
          <a:ext cx="4033800" cy="2171880"/>
        </p:xfrm>
        <a:graphic>
          <a:graphicData uri="http://schemas.openxmlformats.org/drawingml/2006/table">
            <a:tbl>
              <a:tblPr/>
              <a:tblGrid>
                <a:gridCol w="1508400"/>
                <a:gridCol w="1263600"/>
                <a:gridCol w="126180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29:24Z</dcterms:created>
  <dc:creator>Princess</dc:creator>
  <dc:description/>
  <dc:language>en-US</dc:language>
  <cp:lastModifiedBy>RomaK</cp:lastModifiedBy>
  <dcterms:modified xsi:type="dcterms:W3CDTF">2015-09-04T07:38:01Z</dcterms:modified>
  <cp:revision>14</cp:revision>
  <dc:subject/>
  <dc:title>Bar Graphs and Histograms</dc:title>
</cp:coreProperties>
</file>