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3C8D-2FAA-403F-B5B2-AB9EDDF20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upper and lower sums can be defin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not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pproximation will give you the actu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approximation can be found to such a degree that it is accurate enough by taking the limit as n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0FC-4099-4F39-B9D1-35AB55AC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B9F-F483-4397-A7D0-C89947B9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6FD-A9B4-4116-BE80-2835BEC9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5D2-C98F-4AD7-8E0E-F318B64E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777-5A44-459B-8F73-D2CCA583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5BA-E232-4F91-8B35-ED3E41BA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E44-10FC-4EA6-9DF0-4A3179A5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8F6-ADD7-4471-BE72-C37CD551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A99-5E78-4137-BDC0-31BF0691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1F6-EB59-4C70-9C87-FE0F9164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0A5-0D33-4023-9BB4-5DD384A3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677-908A-4829-B84C-1DA64A6B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800000"/>
            </a:gs>
            <a:gs pos="100000">
              <a:srgbClr val="2929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FE39-0216-4C4A-90FF-18C04DC7B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4267080" y="3514680"/>
                <a:ext cx="17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5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ubintervals of width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990720" y="4952880"/>
                <a:ext cx="1117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1"/>
          <p:cNvSpPr/>
          <p:nvPr/>
        </p:nvSpPr>
        <p:spPr>
          <a:xfrm>
            <a:off x="20574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057400" y="580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x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152280" y="984240"/>
            <a:ext cx="8152920" cy="5792760"/>
            <a:chOff x="152280" y="984240"/>
            <a:chExt cx="8152920" cy="5792760"/>
          </a:xfrm>
        </p:grpSpPr>
        <p:grpSp>
          <p:nvGrpSpPr>
            <p:cNvPr id="94" name="Group 5"/>
            <p:cNvGrpSpPr/>
            <p:nvPr/>
          </p:nvGrpSpPr>
          <p:grpSpPr>
            <a:xfrm>
              <a:off x="456840" y="1295280"/>
              <a:ext cx="7848360" cy="5105160"/>
              <a:chOff x="456840" y="1295280"/>
              <a:chExt cx="7848360" cy="5105160"/>
            </a:xfrm>
          </p:grpSpPr>
          <mc:AlternateContent>
            <mc:Choice xmlns:a14="http://schemas.microsoft.com/office/drawing/2010/main" Requires="a14">
              <p:sp>
                <p:nvSpPr>
                  <p:cNvPr id="95" name="Object 6"/>
                  <p:cNvSpPr txBox="1"/>
                  <p:nvPr/>
                </p:nvSpPr>
                <p:spPr>
                  <a:xfrm>
                    <a:off x="6933960" y="5833440"/>
                    <a:ext cx="40644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Object 7"/>
                  <p:cNvSpPr txBox="1"/>
                  <p:nvPr/>
                </p:nvSpPr>
                <p:spPr>
                  <a:xfrm>
                    <a:off x="1218960" y="5975280"/>
                    <a:ext cx="4158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8"/>
              <p:cNvGrpSpPr/>
              <p:nvPr/>
            </p:nvGrpSpPr>
            <p:grpSpPr>
              <a:xfrm>
                <a:off x="456840" y="1295280"/>
                <a:ext cx="7848360" cy="4820400"/>
                <a:chOff x="456840" y="1295280"/>
                <a:chExt cx="7848360" cy="4820400"/>
              </a:xfrm>
            </p:grpSpPr>
            <p:grpSp>
              <p:nvGrpSpPr>
                <p:cNvPr id="98" name="Group 9"/>
                <p:cNvGrpSpPr/>
                <p:nvPr/>
              </p:nvGrpSpPr>
              <p:grpSpPr>
                <a:xfrm>
                  <a:off x="550800" y="1811160"/>
                  <a:ext cx="7659000" cy="4304520"/>
                  <a:chOff x="550800" y="1811160"/>
                  <a:chExt cx="7659000" cy="4304520"/>
                </a:xfrm>
              </p:grpSpPr>
              <p:sp>
                <p:nvSpPr>
                  <p:cNvPr id="99" name="Line 10"/>
                  <p:cNvSpPr/>
                  <p:nvPr/>
                </p:nvSpPr>
                <p:spPr>
                  <a:xfrm flipV="1">
                    <a:off x="929160" y="1811160"/>
                    <a:ext cx="0" cy="4304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11"/>
                  <p:cNvSpPr/>
                  <p:nvPr/>
                </p:nvSpPr>
                <p:spPr>
                  <a:xfrm>
                    <a:off x="550800" y="5771520"/>
                    <a:ext cx="765900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Freeform 12"/>
                <p:cNvSpPr/>
                <p:nvPr/>
              </p:nvSpPr>
              <p:spPr>
                <a:xfrm>
                  <a:off x="456840" y="1295280"/>
                  <a:ext cx="7848360" cy="3873960"/>
                </a:xfrm>
                <a:custGeom>
                  <a:avLst/>
                  <a:gdLst>
                    <a:gd name="textAreaLeft" fmla="*/ 0 w 7848360"/>
                    <a:gd name="textAreaRight" fmla="*/ 7848720 w 7848360"/>
                    <a:gd name="textAreaTop" fmla="*/ 0 h 3873960"/>
                    <a:gd name="textAreaBottom" fmla="*/ 3874320 h 3873960"/>
                  </a:gdLst>
                  <a:ahLst/>
                  <a:rect l="textAreaLeft" t="textAreaTop" r="textAreaRight" b="textAreaBottom"/>
                  <a:pathLst>
                    <a:path w="3984" h="2160">
                      <a:moveTo>
                        <a:pt x="0" y="2160"/>
                      </a:moveTo>
                      <a:cubicBezTo>
                        <a:pt x="56" y="1872"/>
                        <a:pt x="112" y="1584"/>
                        <a:pt x="336" y="1344"/>
                      </a:cubicBezTo>
                      <a:cubicBezTo>
                        <a:pt x="560" y="1104"/>
                        <a:pt x="1040" y="768"/>
                        <a:pt x="1344" y="720"/>
                      </a:cubicBezTo>
                      <a:cubicBezTo>
                        <a:pt x="1648" y="672"/>
                        <a:pt x="1720" y="1176"/>
                        <a:pt x="2160" y="1056"/>
                      </a:cubicBezTo>
                      <a:cubicBezTo>
                        <a:pt x="2600" y="936"/>
                        <a:pt x="3664" y="192"/>
                        <a:pt x="3984" y="0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 flipV="1">
                  <a:off x="1401840" y="3447720"/>
                  <a:ext cx="0" cy="2324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7170480" y="1983960"/>
                  <a:ext cx="0" cy="3787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Object 15"/>
                <p:cNvSpPr txBox="1"/>
                <p:nvPr/>
              </p:nvSpPr>
              <p:spPr>
                <a:xfrm>
                  <a:off x="7445520" y="984240"/>
                  <a:ext cx="4032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0"/>
                <p:cNvSpPr txBox="1"/>
                <p:nvPr/>
              </p:nvSpPr>
              <p:spPr>
                <a:xfrm>
                  <a:off x="3581280" y="640080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6"/>
            <p:cNvSpPr/>
            <p:nvPr/>
          </p:nvSpPr>
          <p:spPr>
            <a:xfrm>
              <a:off x="3352680" y="2590560"/>
              <a:ext cx="914400" cy="335268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16200000">
              <a:off x="3657600" y="579132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990360" y="3200400"/>
              <a:ext cx="32767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990360" y="259056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4"/>
                <p:cNvSpPr txBox="1"/>
                <p:nvPr/>
              </p:nvSpPr>
              <p:spPr>
                <a:xfrm>
                  <a:off x="152280" y="2361960"/>
                  <a:ext cx="669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2">
            <a:hlinkClick r:id="" action="ppaction://hlinkshowjump?jump=next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16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19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20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8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Rectangle 10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AutoShape 12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AutoShape 14">
            <a:hlinkClick r:id="" action="ppaction://hlinkshowjump?jump=next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47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743200" y="5334120"/>
                <a:ext cx="28195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previous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57200" y="38862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upper and lower sums can be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2743200" y="4307040"/>
                <a:ext cx="2971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457200" y="4495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ow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pp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t is important to note th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either approximation will give you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ither approximation can be found to such a degree that it is accurate enough by taking the limit as n goes to infin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81480" y="1536840"/>
                <a:ext cx="3505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3325680" y="5486400"/>
                <a:ext cx="261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of a Plane Reg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us was built around two probl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angent li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approximate area, we use rectangl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re rectangles means more accura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7" descr="tutintarecdy1"/>
          <p:cNvPicPr/>
          <p:nvPr/>
        </p:nvPicPr>
        <p:blipFill>
          <a:blip r:embed="rId1"/>
          <a:stretch/>
        </p:blipFill>
        <p:spPr>
          <a:xfrm>
            <a:off x="5105520" y="1228680"/>
            <a:ext cx="3352680" cy="24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utintarecdy5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n over approximate with an upp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under approximate with a low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Picture 4" descr="uppersum"/>
          <p:cNvPicPr/>
          <p:nvPr/>
        </p:nvPicPr>
        <p:blipFill>
          <a:blip r:embed="rId1"/>
          <a:stretch/>
        </p:blipFill>
        <p:spPr>
          <a:xfrm>
            <a:off x="4952880" y="13050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wer sum"/>
          <p:cNvPicPr/>
          <p:nvPr/>
        </p:nvPicPr>
        <p:blipFill>
          <a:blip r:embed="rId2"/>
          <a:stretch/>
        </p:blipFill>
        <p:spPr>
          <a:xfrm>
            <a:off x="4952880" y="3505320"/>
            <a:ext cx="3124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ariables includ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umber of rectangle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dpoint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gardless of the number of rectangles or types of inputs used, the method is basically the sa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y width times height and ad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pper and Lower Sum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pper sum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defined as the area of circum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lower sum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defined as the area of in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ctual area under a curve i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lway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tween these two sums or equal to one or both of th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261040" y="391968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sub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7200" y="3733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subinterval is of width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Group 57"/>
          <p:cNvGrpSpPr/>
          <p:nvPr/>
        </p:nvGrpSpPr>
        <p:grpSpPr>
          <a:xfrm>
            <a:off x="380880" y="1143000"/>
            <a:ext cx="7848360" cy="5486400"/>
            <a:chOff x="380880" y="1143000"/>
            <a:chExt cx="7848360" cy="5486400"/>
          </a:xfrm>
        </p:grpSpPr>
        <mc:AlternateContent>
          <mc:Choice xmlns:a14="http://schemas.microsoft.com/office/drawing/2010/main" Requires="a14">
            <p:sp>
              <p:nvSpPr>
                <p:cNvPr id="75" name="Object 9"/>
                <p:cNvSpPr txBox="1"/>
                <p:nvPr/>
              </p:nvSpPr>
              <p:spPr>
                <a:xfrm>
                  <a:off x="6858000" y="6019920"/>
                  <a:ext cx="406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49"/>
                <p:cNvSpPr txBox="1"/>
                <p:nvPr/>
              </p:nvSpPr>
              <p:spPr>
                <a:xfrm>
                  <a:off x="1143000" y="617220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Group 48"/>
            <p:cNvGrpSpPr/>
            <p:nvPr/>
          </p:nvGrpSpPr>
          <p:grpSpPr>
            <a:xfrm>
              <a:off x="380880" y="1143000"/>
              <a:ext cx="7848360" cy="5180040"/>
              <a:chOff x="380880" y="1143000"/>
              <a:chExt cx="7848360" cy="5180040"/>
            </a:xfrm>
          </p:grpSpPr>
          <p:grpSp>
            <p:nvGrpSpPr>
              <p:cNvPr id="78" name="Group 7"/>
              <p:cNvGrpSpPr/>
              <p:nvPr/>
            </p:nvGrpSpPr>
            <p:grpSpPr>
              <a:xfrm>
                <a:off x="474840" y="1697400"/>
                <a:ext cx="7659000" cy="4625640"/>
                <a:chOff x="474840" y="1697400"/>
                <a:chExt cx="7659000" cy="4625640"/>
              </a:xfrm>
            </p:grpSpPr>
            <p:sp>
              <p:nvSpPr>
                <p:cNvPr id="79" name="Line 4"/>
                <p:cNvSpPr/>
                <p:nvPr/>
              </p:nvSpPr>
              <p:spPr>
                <a:xfrm flipV="1">
                  <a:off x="853200" y="1697400"/>
                  <a:ext cx="0" cy="46256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74840" y="59533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8"/>
              <p:cNvSpPr/>
              <p:nvPr/>
            </p:nvSpPr>
            <p:spPr>
              <a:xfrm>
                <a:off x="380880" y="1143000"/>
                <a:ext cx="7848360" cy="416304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4163040"/>
                  <a:gd name="textAreaBottom" fmla="*/ 4163400 h 416304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 flipV="1">
                <a:off x="1325880" y="3456000"/>
                <a:ext cx="0" cy="249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094520" y="1883160"/>
                <a:ext cx="0" cy="407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6:40Z</dcterms:created>
  <dc:creator>EBRPSS</dc:creator>
  <dc:description/>
  <dc:language>en-US</dc:language>
  <cp:lastModifiedBy>RomaK</cp:lastModifiedBy>
  <dcterms:modified xsi:type="dcterms:W3CDTF">2015-09-04T07:37:44Z</dcterms:modified>
  <cp:revision>9</cp:revision>
  <dc:subject/>
  <dc:title>Slide 1</dc:title>
</cp:coreProperties>
</file>