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4C2E2-776F-4885-A6F8-BE256F6DC2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 Calcul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 Calcul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Approxi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ish to approximate the area under a curve f from a to 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begin by subdividing the interval [a, b] into 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intervals of width                     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imum value of f in the ith subinterv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ximum value of f in the ith subinterv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Approx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sh to approximate the area under a curve f from a to 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begin by subdividing the interval [a, b] into 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intervals of width                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imum value of f in the ith subinter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um value of f in the ith subinter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Approxi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Approx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Approxi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the width of each rectangle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the width of each rectangle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eight of each rectangle is ei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Approxi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Approxi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the width of each rectangle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eight of each rectangle is ei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the upper and lower sums can be defined 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er s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pper s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Approxi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important to note th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ither approximation will give you the actual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ither approximation can be found to such a degree that it is accurate enough by taking the limit as n goes to infin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other wo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of a Plane Reg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us was built around two 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ngent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a Plane 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us was built around two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gent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approximate area, we use rect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rectangles means more accura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pproximate area, we use rect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rectangles means more accur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over approximate with an upper s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 under approximate with a lower s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over approximate with an upper 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under approximate with a lower 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ables inclu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of rectangles u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dpoints u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ables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rectangles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points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ardless of the number of rectangles or types of inputs used, the method is basically the sa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y width times height and ad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ardless of the number of rectangles or types of inputs used, the method is basically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width times height and a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pper and Lower Su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upper sum is defined as the area of circumscribed rect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ower sum is defined as the area of inscribed rect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ctual area under a curve is always between these two sums or equal to one or both of th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per and Lower Su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upper sum is defined as the area of circumscribed rect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ower sum is defined as the area of inscribed rect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ctual area under a curve is always between these two sums or equal to one or both of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Approxi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ish to approximate the area under a curve f from a to 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begin by subdividing the interval [a, b] into n subinterv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subinterval is of width     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Approx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sh to approximate the area under a curve f from a to 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begin by subdividing the interval [a, b] into n subinterv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subinterval is of width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Approxi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Approx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6418-27D3-4265-9E74-E8B8434CB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1D58-B98A-4DC2-800C-32C9C9BCF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DA4A-5846-4692-AA7C-16AB88EBD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6C6A-B6CB-478F-A06D-DF08C9204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D952-1244-4AC4-9E63-B23797E8D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8E77-361C-4DB7-92C7-2E776095A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363E-E051-4E23-8C0D-2F94F0E68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4E1E-15DC-4642-ABA1-C4B605A62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9BE4-3159-4BB5-A73D-22EE316DE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B02E-4315-45B0-B640-CC5879495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862C-77A2-489C-83C2-81CBEA07E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AA55-ED0A-43A6-92AA-9FE4F1DE2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2929"/>
            </a:gs>
            <a:gs pos="50000">
              <a:srgbClr val="800000"/>
            </a:gs>
            <a:gs pos="100000">
              <a:srgbClr val="29292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78BC8-4F6F-4A67-9AF8-38EB698215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AutoShape 7">
            <a:hlinkClick r:id="" action="ppaction://hlinkshowjump?jump=nextslide"/>
          </p:cNvPr>
          <p:cNvSpPr/>
          <p:nvPr/>
        </p:nvSpPr>
        <p:spPr>
          <a:xfrm>
            <a:off x="8381880" y="61722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3794"/>
                </a:moveTo>
                <a:lnTo>
                  <a:pt x="19008" y="10800"/>
                </a:lnTo>
                <a:lnTo>
                  <a:pt x="4995" y="17806"/>
                </a:lnTo>
                <a:close/>
              </a:path>
            </a:pathLst>
          </a:cu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AutoShape 8">
            <a:hlinkClick r:id="" action="ppaction://hlinkshowjump?jump=previousslide"/>
          </p:cNvPr>
          <p:cNvSpPr/>
          <p:nvPr/>
        </p:nvSpPr>
        <p:spPr>
          <a:xfrm>
            <a:off x="0" y="609588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P Calculu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rea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rea Approximation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We wish to approximate the area under a curve </a:t>
            </a: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from a to b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7"/>
              <p:cNvSpPr txBox="1"/>
              <p:nvPr/>
            </p:nvSpPr>
            <p:spPr>
              <a:xfrm>
                <a:off x="4267080" y="3514680"/>
                <a:ext cx="1752840" cy="9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x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8" name="Rectangle 5"/>
          <p:cNvSpPr/>
          <p:nvPr/>
        </p:nvSpPr>
        <p:spPr>
          <a:xfrm>
            <a:off x="457200" y="259092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We begin by subdividing the interval [a, b] into </a:t>
            </a: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ubintervals of width                    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9"/>
              <p:cNvSpPr txBox="1"/>
              <p:nvPr/>
            </p:nvSpPr>
            <p:spPr>
              <a:xfrm>
                <a:off x="990720" y="4952880"/>
                <a:ext cx="111744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</m:e>
                      <m:e/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0" name="Text Box 11"/>
          <p:cNvSpPr/>
          <p:nvPr/>
        </p:nvSpPr>
        <p:spPr>
          <a:xfrm>
            <a:off x="2057400" y="487692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Minimum value of </a:t>
            </a: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f 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in the </a:t>
            </a: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h subinter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2057400" y="580536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Maximum value of </a:t>
            </a: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f 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in the </a:t>
            </a: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h subinter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rea Approximation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grpSp>
        <p:nvGrpSpPr>
          <p:cNvPr id="93" name="Group 21"/>
          <p:cNvGrpSpPr/>
          <p:nvPr/>
        </p:nvGrpSpPr>
        <p:grpSpPr>
          <a:xfrm>
            <a:off x="152280" y="984240"/>
            <a:ext cx="8152920" cy="5792760"/>
            <a:chOff x="152280" y="984240"/>
            <a:chExt cx="8152920" cy="5792760"/>
          </a:xfrm>
        </p:grpSpPr>
        <p:grpSp>
          <p:nvGrpSpPr>
            <p:cNvPr id="94" name="Group 5"/>
            <p:cNvGrpSpPr/>
            <p:nvPr/>
          </p:nvGrpSpPr>
          <p:grpSpPr>
            <a:xfrm>
              <a:off x="456840" y="1295280"/>
              <a:ext cx="7848360" cy="5105160"/>
              <a:chOff x="456840" y="1295280"/>
              <a:chExt cx="7848360" cy="5105160"/>
            </a:xfrm>
          </p:grpSpPr>
          <mc:AlternateContent>
            <mc:Choice xmlns:a14="http://schemas.microsoft.com/office/drawing/2010/main" Requires="a14">
              <p:sp>
                <p:nvSpPr>
                  <p:cNvPr id="95" name="Object 6"/>
                  <p:cNvSpPr txBox="1"/>
                  <p:nvPr/>
                </p:nvSpPr>
                <p:spPr>
                  <a:xfrm>
                    <a:off x="6933960" y="5833440"/>
                    <a:ext cx="406440" cy="530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b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96" name="Object 7"/>
                  <p:cNvSpPr txBox="1"/>
                  <p:nvPr/>
                </p:nvSpPr>
                <p:spPr>
                  <a:xfrm>
                    <a:off x="1218960" y="5975280"/>
                    <a:ext cx="415800" cy="425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a</m:t>
                        </m: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97" name="Group 8"/>
              <p:cNvGrpSpPr/>
              <p:nvPr/>
            </p:nvGrpSpPr>
            <p:grpSpPr>
              <a:xfrm>
                <a:off x="456840" y="1295280"/>
                <a:ext cx="7848360" cy="4820400"/>
                <a:chOff x="456840" y="1295280"/>
                <a:chExt cx="7848360" cy="4820400"/>
              </a:xfrm>
            </p:grpSpPr>
            <p:grpSp>
              <p:nvGrpSpPr>
                <p:cNvPr id="98" name="Group 9"/>
                <p:cNvGrpSpPr/>
                <p:nvPr/>
              </p:nvGrpSpPr>
              <p:grpSpPr>
                <a:xfrm>
                  <a:off x="550800" y="1811160"/>
                  <a:ext cx="7659000" cy="4304520"/>
                  <a:chOff x="550800" y="1811160"/>
                  <a:chExt cx="7659000" cy="4304520"/>
                </a:xfrm>
              </p:grpSpPr>
              <p:sp>
                <p:nvSpPr>
                  <p:cNvPr id="99" name="Line 10"/>
                  <p:cNvSpPr/>
                  <p:nvPr/>
                </p:nvSpPr>
                <p:spPr>
                  <a:xfrm flipV="1">
                    <a:off x="929160" y="1811160"/>
                    <a:ext cx="0" cy="430452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Line 11"/>
                  <p:cNvSpPr/>
                  <p:nvPr/>
                </p:nvSpPr>
                <p:spPr>
                  <a:xfrm>
                    <a:off x="550800" y="5771520"/>
                    <a:ext cx="7659000" cy="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" name="Freeform 12"/>
                <p:cNvSpPr/>
                <p:nvPr/>
              </p:nvSpPr>
              <p:spPr>
                <a:xfrm>
                  <a:off x="456840" y="1295280"/>
                  <a:ext cx="7848360" cy="3873960"/>
                </a:xfrm>
                <a:custGeom>
                  <a:avLst/>
                  <a:gdLst>
                    <a:gd name="textAreaLeft" fmla="*/ 0 w 7848360"/>
                    <a:gd name="textAreaRight" fmla="*/ 7848720 w 7848360"/>
                    <a:gd name="textAreaTop" fmla="*/ 0 h 3873960"/>
                    <a:gd name="textAreaBottom" fmla="*/ 3874320 h 3873960"/>
                  </a:gdLst>
                  <a:ahLst/>
                  <a:rect l="textAreaLeft" t="textAreaTop" r="textAreaRight" b="textAreaBottom"/>
                  <a:pathLst>
                    <a:path w="3984" h="2160">
                      <a:moveTo>
                        <a:pt x="0" y="2160"/>
                      </a:moveTo>
                      <a:cubicBezTo>
                        <a:pt x="56" y="1872"/>
                        <a:pt x="112" y="1584"/>
                        <a:pt x="336" y="1344"/>
                      </a:cubicBezTo>
                      <a:cubicBezTo>
                        <a:pt x="560" y="1104"/>
                        <a:pt x="1040" y="768"/>
                        <a:pt x="1344" y="720"/>
                      </a:cubicBezTo>
                      <a:cubicBezTo>
                        <a:pt x="1648" y="672"/>
                        <a:pt x="1720" y="1176"/>
                        <a:pt x="2160" y="1056"/>
                      </a:cubicBezTo>
                      <a:cubicBezTo>
                        <a:pt x="2600" y="936"/>
                        <a:pt x="3664" y="192"/>
                        <a:pt x="3984" y="0"/>
                      </a:cubicBezTo>
                    </a:path>
                  </a:pathLst>
                </a:custGeom>
                <a:noFill/>
                <a:ln w="38160">
                  <a:solidFill>
                    <a:srgbClr val="ffffff"/>
                  </a:solidFill>
                  <a:round/>
                  <a:headEnd len="med" type="arrow" w="med"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Line 13"/>
                <p:cNvSpPr/>
                <p:nvPr/>
              </p:nvSpPr>
              <p:spPr>
                <a:xfrm flipV="1">
                  <a:off x="1401840" y="3447720"/>
                  <a:ext cx="0" cy="23241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Line 14"/>
                <p:cNvSpPr/>
                <p:nvPr/>
              </p:nvSpPr>
              <p:spPr>
                <a:xfrm>
                  <a:off x="7170480" y="1983960"/>
                  <a:ext cx="0" cy="378792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mc:AlternateContent>
          <mc:Choice xmlns:a14="http://schemas.microsoft.com/office/drawing/2010/main" Requires="a14">
            <p:sp>
              <p:nvSpPr>
                <p:cNvPr id="104" name="Object 15"/>
                <p:cNvSpPr txBox="1"/>
                <p:nvPr/>
              </p:nvSpPr>
              <p:spPr>
                <a:xfrm>
                  <a:off x="7445520" y="984240"/>
                  <a:ext cx="403200" cy="53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5" name="Object 20"/>
                <p:cNvSpPr txBox="1"/>
                <p:nvPr/>
              </p:nvSpPr>
              <p:spPr>
                <a:xfrm>
                  <a:off x="3581280" y="6400800"/>
                  <a:ext cx="457200" cy="376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6" name="Rectangle 16"/>
            <p:cNvSpPr/>
            <p:nvPr/>
          </p:nvSpPr>
          <p:spPr>
            <a:xfrm>
              <a:off x="3352680" y="2590560"/>
              <a:ext cx="914400" cy="3352680"/>
            </a:xfrm>
            <a:prstGeom prst="rect">
              <a:avLst/>
            </a:prstGeom>
            <a:solidFill>
              <a:srgbClr val="bbe0e3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AutoShape 17"/>
            <p:cNvSpPr/>
            <p:nvPr/>
          </p:nvSpPr>
          <p:spPr>
            <a:xfrm rot="16200000">
              <a:off x="3657600" y="5791320"/>
              <a:ext cx="304560" cy="91440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22"/>
            <p:cNvSpPr/>
            <p:nvPr/>
          </p:nvSpPr>
          <p:spPr>
            <a:xfrm flipH="1">
              <a:off x="990360" y="3200400"/>
              <a:ext cx="3276720" cy="0"/>
            </a:xfrm>
            <a:prstGeom prst="line">
              <a:avLst/>
            </a:prstGeom>
            <a:ln w="190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23"/>
            <p:cNvSpPr/>
            <p:nvPr/>
          </p:nvSpPr>
          <p:spPr>
            <a:xfrm flipH="1">
              <a:off x="990360" y="2590560"/>
              <a:ext cx="2362320" cy="0"/>
            </a:xfrm>
            <a:prstGeom prst="line">
              <a:avLst/>
            </a:prstGeom>
            <a:ln w="190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0" name="Object 24"/>
                <p:cNvSpPr txBox="1"/>
                <p:nvPr/>
              </p:nvSpPr>
              <p:spPr>
                <a:xfrm>
                  <a:off x="152280" y="2361960"/>
                  <a:ext cx="669960" cy="1066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d>
                          <m:r>
                            <m:t xml:space="preserve">=</m:t>
                          </m:r>
                        </m:e>
                        <m:e/>
                        <m:e>
                          <m:r>
                            <m:t xml:space="preserve">f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d>
                          <m:r>
                            <m:t xml:space="preserve">=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rea Approximation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o the width of each rectangle is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7"/>
              <p:cNvSpPr txBox="1"/>
              <p:nvPr/>
            </p:nvSpPr>
            <p:spPr>
              <a:xfrm>
                <a:off x="5981760" y="1517760"/>
                <a:ext cx="148572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x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4" name="AutoShape 12">
            <a:hlinkClick r:id="" action="ppaction://hlinkshowjump?jump=nextslide"/>
          </p:cNvPr>
          <p:cNvSpPr/>
          <p:nvPr/>
        </p:nvSpPr>
        <p:spPr>
          <a:xfrm>
            <a:off x="7772400" y="1371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6394" h="21600">
                <a:moveTo>
                  <a:pt x="13197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6394" h="21600">
                <a:moveTo>
                  <a:pt x="10621" y="8224"/>
                </a:moveTo>
                <a:lnTo>
                  <a:pt x="14485" y="8224"/>
                </a:lnTo>
                <a:lnTo>
                  <a:pt x="14485" y="15221"/>
                </a:lnTo>
                <a:lnTo>
                  <a:pt x="15773" y="15221"/>
                </a:lnTo>
                <a:lnTo>
                  <a:pt x="15773" y="16144"/>
                </a:lnTo>
                <a:lnTo>
                  <a:pt x="10621" y="16144"/>
                </a:lnTo>
                <a:lnTo>
                  <a:pt x="10621" y="15221"/>
                </a:lnTo>
                <a:lnTo>
                  <a:pt x="11909" y="15221"/>
                </a:lnTo>
                <a:lnTo>
                  <a:pt x="11909" y="9129"/>
                </a:lnTo>
                <a:lnTo>
                  <a:pt x="10621" y="9129"/>
                </a:lnTo>
                <a:close/>
              </a:path>
            </a:pathLst>
          </a:cu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5"/>
          <p:cNvGrpSpPr/>
          <p:nvPr/>
        </p:nvGrpSpPr>
        <p:grpSpPr>
          <a:xfrm>
            <a:off x="457200" y="1295280"/>
            <a:ext cx="7848360" cy="5105160"/>
            <a:chOff x="457200" y="1295280"/>
            <a:chExt cx="7848360" cy="5105160"/>
          </a:xfrm>
        </p:grpSpPr>
        <mc:AlternateContent>
          <mc:Choice xmlns:a14="http://schemas.microsoft.com/office/drawing/2010/main" Requires="a14">
            <p:sp>
              <p:nvSpPr>
                <p:cNvPr id="116" name="Object 9"/>
                <p:cNvSpPr txBox="1"/>
                <p:nvPr/>
              </p:nvSpPr>
              <p:spPr>
                <a:xfrm>
                  <a:off x="6934320" y="5833440"/>
                  <a:ext cx="406440" cy="530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7" name="Object 10"/>
                <p:cNvSpPr txBox="1"/>
                <p:nvPr/>
              </p:nvSpPr>
              <p:spPr>
                <a:xfrm>
                  <a:off x="1219320" y="5975280"/>
                  <a:ext cx="415800" cy="425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118" name="Group 8"/>
            <p:cNvGrpSpPr/>
            <p:nvPr/>
          </p:nvGrpSpPr>
          <p:grpSpPr>
            <a:xfrm>
              <a:off x="457200" y="1295280"/>
              <a:ext cx="7848360" cy="4820400"/>
              <a:chOff x="457200" y="1295280"/>
              <a:chExt cx="7848360" cy="4820400"/>
            </a:xfrm>
          </p:grpSpPr>
          <p:grpSp>
            <p:nvGrpSpPr>
              <p:cNvPr id="119" name="Group 9"/>
              <p:cNvGrpSpPr/>
              <p:nvPr/>
            </p:nvGrpSpPr>
            <p:grpSpPr>
              <a:xfrm>
                <a:off x="551160" y="1811160"/>
                <a:ext cx="7659000" cy="4304520"/>
                <a:chOff x="551160" y="1811160"/>
                <a:chExt cx="7659000" cy="4304520"/>
              </a:xfrm>
            </p:grpSpPr>
            <p:sp>
              <p:nvSpPr>
                <p:cNvPr id="120" name="Line 10"/>
                <p:cNvSpPr/>
                <p:nvPr/>
              </p:nvSpPr>
              <p:spPr>
                <a:xfrm flipV="1">
                  <a:off x="929520" y="1811160"/>
                  <a:ext cx="0" cy="4304520"/>
                </a:xfrm>
                <a:prstGeom prst="line">
                  <a:avLst/>
                </a:prstGeom>
                <a:ln w="507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Line 11"/>
                <p:cNvSpPr/>
                <p:nvPr/>
              </p:nvSpPr>
              <p:spPr>
                <a:xfrm>
                  <a:off x="551160" y="5771520"/>
                  <a:ext cx="7659000" cy="0"/>
                </a:xfrm>
                <a:prstGeom prst="line">
                  <a:avLst/>
                </a:prstGeom>
                <a:ln w="507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Freeform 12"/>
              <p:cNvSpPr/>
              <p:nvPr/>
            </p:nvSpPr>
            <p:spPr>
              <a:xfrm>
                <a:off x="457200" y="1295280"/>
                <a:ext cx="7848360" cy="3873960"/>
              </a:xfrm>
              <a:custGeom>
                <a:avLst/>
                <a:gdLst>
                  <a:gd name="textAreaLeft" fmla="*/ 0 w 7848360"/>
                  <a:gd name="textAreaRight" fmla="*/ 7848720 w 7848360"/>
                  <a:gd name="textAreaTop" fmla="*/ 0 h 3873960"/>
                  <a:gd name="textAreaBottom" fmla="*/ 3874320 h 3873960"/>
                </a:gdLst>
                <a:ahLst/>
                <a:rect l="textAreaLeft" t="textAreaTop" r="textAreaRight" b="textAreaBottom"/>
                <a:pathLst>
                  <a:path w="3984" h="2160">
                    <a:moveTo>
                      <a:pt x="0" y="2160"/>
                    </a:moveTo>
                    <a:cubicBezTo>
                      <a:pt x="56" y="1872"/>
                      <a:pt x="112" y="1584"/>
                      <a:pt x="336" y="1344"/>
                    </a:cubicBezTo>
                    <a:cubicBezTo>
                      <a:pt x="560" y="1104"/>
                      <a:pt x="1040" y="768"/>
                      <a:pt x="1344" y="720"/>
                    </a:cubicBezTo>
                    <a:cubicBezTo>
                      <a:pt x="1648" y="672"/>
                      <a:pt x="1720" y="1176"/>
                      <a:pt x="2160" y="1056"/>
                    </a:cubicBezTo>
                    <a:cubicBezTo>
                      <a:pt x="2600" y="936"/>
                      <a:pt x="3664" y="192"/>
                      <a:pt x="3984" y="0"/>
                    </a:cubicBezTo>
                  </a:path>
                </a:pathLst>
              </a:custGeom>
              <a:noFill/>
              <a:ln w="38160">
                <a:solidFill>
                  <a:srgbClr val="ffffff"/>
                </a:solidFill>
                <a:round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13"/>
              <p:cNvSpPr/>
              <p:nvPr/>
            </p:nvSpPr>
            <p:spPr>
              <a:xfrm flipV="1">
                <a:off x="1402200" y="3447720"/>
                <a:ext cx="0" cy="23241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14"/>
              <p:cNvSpPr/>
              <p:nvPr/>
            </p:nvSpPr>
            <p:spPr>
              <a:xfrm>
                <a:off x="7170840" y="1983960"/>
                <a:ext cx="0" cy="37879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125" name="Object 11"/>
              <p:cNvSpPr txBox="1"/>
              <p:nvPr/>
            </p:nvSpPr>
            <p:spPr>
              <a:xfrm>
                <a:off x="7445520" y="984240"/>
                <a:ext cx="40320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12"/>
              <p:cNvSpPr txBox="1"/>
              <p:nvPr/>
            </p:nvSpPr>
            <p:spPr>
              <a:xfrm>
                <a:off x="3581280" y="6400800"/>
                <a:ext cx="45720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Rectangle 16"/>
          <p:cNvSpPr/>
          <p:nvPr/>
        </p:nvSpPr>
        <p:spPr>
          <a:xfrm>
            <a:off x="3352680" y="2590920"/>
            <a:ext cx="914400" cy="3352680"/>
          </a:xfrm>
          <a:prstGeom prst="rect">
            <a:avLst/>
          </a:prstGeom>
          <a:solidFill>
            <a:srgbClr val="bbe0e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7"/>
          <p:cNvSpPr/>
          <p:nvPr/>
        </p:nvSpPr>
        <p:spPr>
          <a:xfrm rot="16200000">
            <a:off x="3657240" y="5790600"/>
            <a:ext cx="304920" cy="914400"/>
          </a:xfrm>
          <a:custGeom>
            <a:avLst/>
            <a:gdLst>
              <a:gd name="textAreaLeft" fmla="*/ 194760 w 304920"/>
              <a:gd name="textAreaRight" fmla="*/ 305280 w 3049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2"/>
          <p:cNvSpPr/>
          <p:nvPr/>
        </p:nvSpPr>
        <p:spPr>
          <a:xfrm flipH="1">
            <a:off x="990360" y="3200400"/>
            <a:ext cx="327636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3"/>
          <p:cNvSpPr/>
          <p:nvPr/>
        </p:nvSpPr>
        <p:spPr>
          <a:xfrm flipH="1">
            <a:off x="990360" y="2590920"/>
            <a:ext cx="236196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Object 13"/>
              <p:cNvSpPr txBox="1"/>
              <p:nvPr/>
            </p:nvSpPr>
            <p:spPr>
              <a:xfrm>
                <a:off x="152280" y="2362320"/>
                <a:ext cx="669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</m:e>
                      <m:e/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o the width of each rectangle is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7"/>
              <p:cNvSpPr txBox="1"/>
              <p:nvPr/>
            </p:nvSpPr>
            <p:spPr>
              <a:xfrm>
                <a:off x="5981760" y="1517760"/>
                <a:ext cx="148572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x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5" name="Rectangle 8"/>
          <p:cNvSpPr/>
          <p:nvPr/>
        </p:nvSpPr>
        <p:spPr>
          <a:xfrm>
            <a:off x="457200" y="2514600"/>
            <a:ext cx="8381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he height of each rectangle is ei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9"/>
              <p:cNvSpPr txBox="1"/>
              <p:nvPr/>
            </p:nvSpPr>
            <p:spPr>
              <a:xfrm>
                <a:off x="6907320" y="2538360"/>
                <a:ext cx="87768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7" name="Rectangle 10"/>
          <p:cNvSpPr/>
          <p:nvPr/>
        </p:nvSpPr>
        <p:spPr>
          <a:xfrm>
            <a:off x="457200" y="3200400"/>
            <a:ext cx="8381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9"/>
              <p:cNvSpPr txBox="1"/>
              <p:nvPr/>
            </p:nvSpPr>
            <p:spPr>
              <a:xfrm>
                <a:off x="1393920" y="3224160"/>
                <a:ext cx="95724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9" name="AutoShape 12">
            <a:hlinkClick r:id="" action="ppaction://hlinkshowjump?jump=previousslide"/>
          </p:cNvPr>
          <p:cNvSpPr/>
          <p:nvPr/>
        </p:nvSpPr>
        <p:spPr>
          <a:xfrm>
            <a:off x="7772400" y="1371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6394" h="21600">
                <a:moveTo>
                  <a:pt x="13197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6394" h="21600">
                <a:moveTo>
                  <a:pt x="10621" y="8224"/>
                </a:moveTo>
                <a:lnTo>
                  <a:pt x="14485" y="8224"/>
                </a:lnTo>
                <a:lnTo>
                  <a:pt x="14485" y="15221"/>
                </a:lnTo>
                <a:lnTo>
                  <a:pt x="15773" y="15221"/>
                </a:lnTo>
                <a:lnTo>
                  <a:pt x="15773" y="16144"/>
                </a:lnTo>
                <a:lnTo>
                  <a:pt x="10621" y="16144"/>
                </a:lnTo>
                <a:lnTo>
                  <a:pt x="10621" y="15221"/>
                </a:lnTo>
                <a:lnTo>
                  <a:pt x="11909" y="15221"/>
                </a:lnTo>
                <a:lnTo>
                  <a:pt x="11909" y="9129"/>
                </a:lnTo>
                <a:lnTo>
                  <a:pt x="10621" y="9129"/>
                </a:lnTo>
                <a:close/>
              </a:path>
            </a:pathLst>
          </a:cu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rea Approximation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1" name="AutoShape 14">
            <a:hlinkClick r:id="" action="ppaction://hlinkshowjump?jump=nextslide"/>
          </p:cNvPr>
          <p:cNvSpPr/>
          <p:nvPr/>
        </p:nvSpPr>
        <p:spPr>
          <a:xfrm>
            <a:off x="2666880" y="3048120"/>
            <a:ext cx="838440" cy="685800"/>
          </a:xfrm>
          <a:custGeom>
            <a:avLst/>
            <a:gdLst>
              <a:gd name="textAreaLeft" fmla="*/ 44280 w 838440"/>
              <a:gd name="textAreaRight" fmla="*/ 794160 w 8384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405" h="21600">
                <a:moveTo>
                  <a:pt x="0" y="0"/>
                </a:moveTo>
                <a:lnTo>
                  <a:pt x="26405" y="0"/>
                </a:lnTo>
                <a:lnTo>
                  <a:pt x="26405" y="21600"/>
                </a:lnTo>
                <a:lnTo>
                  <a:pt x="0" y="21600"/>
                </a:lnTo>
                <a:close/>
              </a:path>
              <a:path fill="lightenLess" w="26405" h="21600">
                <a:moveTo>
                  <a:pt x="0" y="0"/>
                </a:moveTo>
                <a:lnTo>
                  <a:pt x="26405" y="0"/>
                </a:lnTo>
                <a:lnTo>
                  <a:pt x="25005" y="1400"/>
                </a:lnTo>
                <a:lnTo>
                  <a:pt x="1400" y="1400"/>
                </a:lnTo>
                <a:close/>
              </a:path>
              <a:path fill="darken" w="26405" h="21600">
                <a:moveTo>
                  <a:pt x="26405" y="0"/>
                </a:moveTo>
                <a:lnTo>
                  <a:pt x="26405" y="21600"/>
                </a:lnTo>
                <a:lnTo>
                  <a:pt x="25005" y="20200"/>
                </a:lnTo>
                <a:lnTo>
                  <a:pt x="25005" y="1400"/>
                </a:lnTo>
                <a:close/>
              </a:path>
              <a:path fill="darkenLess" w="26405" h="21600">
                <a:moveTo>
                  <a:pt x="26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05" y="20200"/>
                </a:lnTo>
                <a:close/>
              </a:path>
              <a:path fill="lighten" w="26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05" h="21600">
                <a:moveTo>
                  <a:pt x="13203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6405" h="21600">
                <a:moveTo>
                  <a:pt x="13203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6405" h="21600">
                <a:moveTo>
                  <a:pt x="10626" y="8224"/>
                </a:moveTo>
                <a:lnTo>
                  <a:pt x="14491" y="8224"/>
                </a:lnTo>
                <a:lnTo>
                  <a:pt x="14491" y="15221"/>
                </a:lnTo>
                <a:lnTo>
                  <a:pt x="15779" y="15221"/>
                </a:lnTo>
                <a:lnTo>
                  <a:pt x="15779" y="16144"/>
                </a:lnTo>
                <a:lnTo>
                  <a:pt x="10626" y="16144"/>
                </a:lnTo>
                <a:lnTo>
                  <a:pt x="10626" y="15221"/>
                </a:lnTo>
                <a:lnTo>
                  <a:pt x="11914" y="15221"/>
                </a:lnTo>
                <a:lnTo>
                  <a:pt x="11914" y="9129"/>
                </a:lnTo>
                <a:lnTo>
                  <a:pt x="10626" y="9129"/>
                </a:lnTo>
                <a:close/>
              </a:path>
            </a:pathLst>
          </a:cu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5"/>
          <p:cNvGrpSpPr/>
          <p:nvPr/>
        </p:nvGrpSpPr>
        <p:grpSpPr>
          <a:xfrm>
            <a:off x="457200" y="1295280"/>
            <a:ext cx="7848360" cy="5105160"/>
            <a:chOff x="457200" y="1295280"/>
            <a:chExt cx="7848360" cy="5105160"/>
          </a:xfrm>
        </p:grpSpPr>
        <mc:AlternateContent>
          <mc:Choice xmlns:a14="http://schemas.microsoft.com/office/drawing/2010/main" Requires="a14">
            <p:sp>
              <p:nvSpPr>
                <p:cNvPr id="143" name="Object 9"/>
                <p:cNvSpPr txBox="1"/>
                <p:nvPr/>
              </p:nvSpPr>
              <p:spPr>
                <a:xfrm>
                  <a:off x="6934320" y="5833440"/>
                  <a:ext cx="406440" cy="530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4" name="Object 10"/>
                <p:cNvSpPr txBox="1"/>
                <p:nvPr/>
              </p:nvSpPr>
              <p:spPr>
                <a:xfrm>
                  <a:off x="1219320" y="5975280"/>
                  <a:ext cx="415800" cy="425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145" name="Group 8"/>
            <p:cNvGrpSpPr/>
            <p:nvPr/>
          </p:nvGrpSpPr>
          <p:grpSpPr>
            <a:xfrm>
              <a:off x="457200" y="1295280"/>
              <a:ext cx="7848360" cy="4820400"/>
              <a:chOff x="457200" y="1295280"/>
              <a:chExt cx="7848360" cy="4820400"/>
            </a:xfrm>
          </p:grpSpPr>
          <p:grpSp>
            <p:nvGrpSpPr>
              <p:cNvPr id="146" name="Group 9"/>
              <p:cNvGrpSpPr/>
              <p:nvPr/>
            </p:nvGrpSpPr>
            <p:grpSpPr>
              <a:xfrm>
                <a:off x="551160" y="1811160"/>
                <a:ext cx="7659000" cy="4304520"/>
                <a:chOff x="551160" y="1811160"/>
                <a:chExt cx="7659000" cy="4304520"/>
              </a:xfrm>
            </p:grpSpPr>
            <p:sp>
              <p:nvSpPr>
                <p:cNvPr id="147" name="Line 10"/>
                <p:cNvSpPr/>
                <p:nvPr/>
              </p:nvSpPr>
              <p:spPr>
                <a:xfrm flipV="1">
                  <a:off x="929520" y="1811160"/>
                  <a:ext cx="0" cy="4304520"/>
                </a:xfrm>
                <a:prstGeom prst="line">
                  <a:avLst/>
                </a:prstGeom>
                <a:ln w="507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Line 11"/>
                <p:cNvSpPr/>
                <p:nvPr/>
              </p:nvSpPr>
              <p:spPr>
                <a:xfrm>
                  <a:off x="551160" y="5771520"/>
                  <a:ext cx="7659000" cy="0"/>
                </a:xfrm>
                <a:prstGeom prst="line">
                  <a:avLst/>
                </a:prstGeom>
                <a:ln w="507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9" name="Freeform 12"/>
              <p:cNvSpPr/>
              <p:nvPr/>
            </p:nvSpPr>
            <p:spPr>
              <a:xfrm>
                <a:off x="457200" y="1295280"/>
                <a:ext cx="7848360" cy="3873960"/>
              </a:xfrm>
              <a:custGeom>
                <a:avLst/>
                <a:gdLst>
                  <a:gd name="textAreaLeft" fmla="*/ 0 w 7848360"/>
                  <a:gd name="textAreaRight" fmla="*/ 7848720 w 7848360"/>
                  <a:gd name="textAreaTop" fmla="*/ 0 h 3873960"/>
                  <a:gd name="textAreaBottom" fmla="*/ 3874320 h 3873960"/>
                </a:gdLst>
                <a:ahLst/>
                <a:rect l="textAreaLeft" t="textAreaTop" r="textAreaRight" b="textAreaBottom"/>
                <a:pathLst>
                  <a:path w="3984" h="2160">
                    <a:moveTo>
                      <a:pt x="0" y="2160"/>
                    </a:moveTo>
                    <a:cubicBezTo>
                      <a:pt x="56" y="1872"/>
                      <a:pt x="112" y="1584"/>
                      <a:pt x="336" y="1344"/>
                    </a:cubicBezTo>
                    <a:cubicBezTo>
                      <a:pt x="560" y="1104"/>
                      <a:pt x="1040" y="768"/>
                      <a:pt x="1344" y="720"/>
                    </a:cubicBezTo>
                    <a:cubicBezTo>
                      <a:pt x="1648" y="672"/>
                      <a:pt x="1720" y="1176"/>
                      <a:pt x="2160" y="1056"/>
                    </a:cubicBezTo>
                    <a:cubicBezTo>
                      <a:pt x="2600" y="936"/>
                      <a:pt x="3664" y="192"/>
                      <a:pt x="3984" y="0"/>
                    </a:cubicBezTo>
                  </a:path>
                </a:pathLst>
              </a:custGeom>
              <a:noFill/>
              <a:ln w="38160">
                <a:solidFill>
                  <a:srgbClr val="ffffff"/>
                </a:solidFill>
                <a:round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Line 13"/>
              <p:cNvSpPr/>
              <p:nvPr/>
            </p:nvSpPr>
            <p:spPr>
              <a:xfrm flipV="1">
                <a:off x="1402200" y="3447720"/>
                <a:ext cx="0" cy="23241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Line 14"/>
              <p:cNvSpPr/>
              <p:nvPr/>
            </p:nvSpPr>
            <p:spPr>
              <a:xfrm>
                <a:off x="7170840" y="1983960"/>
                <a:ext cx="0" cy="37879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152" name="Object 11"/>
              <p:cNvSpPr txBox="1"/>
              <p:nvPr/>
            </p:nvSpPr>
            <p:spPr>
              <a:xfrm>
                <a:off x="7445520" y="984240"/>
                <a:ext cx="40320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12"/>
              <p:cNvSpPr txBox="1"/>
              <p:nvPr/>
            </p:nvSpPr>
            <p:spPr>
              <a:xfrm>
                <a:off x="3581280" y="6400800"/>
                <a:ext cx="45720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4" name="Rectangle 16"/>
          <p:cNvSpPr/>
          <p:nvPr/>
        </p:nvSpPr>
        <p:spPr>
          <a:xfrm>
            <a:off x="3352680" y="2590920"/>
            <a:ext cx="914400" cy="3352680"/>
          </a:xfrm>
          <a:prstGeom prst="rect">
            <a:avLst/>
          </a:prstGeom>
          <a:solidFill>
            <a:srgbClr val="bbe0e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7"/>
          <p:cNvSpPr/>
          <p:nvPr/>
        </p:nvSpPr>
        <p:spPr>
          <a:xfrm rot="16200000">
            <a:off x="3657240" y="5790600"/>
            <a:ext cx="304920" cy="914400"/>
          </a:xfrm>
          <a:custGeom>
            <a:avLst/>
            <a:gdLst>
              <a:gd name="textAreaLeft" fmla="*/ 194760 w 304920"/>
              <a:gd name="textAreaRight" fmla="*/ 305280 w 3049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2"/>
          <p:cNvSpPr/>
          <p:nvPr/>
        </p:nvSpPr>
        <p:spPr>
          <a:xfrm flipH="1">
            <a:off x="990360" y="3200400"/>
            <a:ext cx="327636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3"/>
          <p:cNvSpPr/>
          <p:nvPr/>
        </p:nvSpPr>
        <p:spPr>
          <a:xfrm flipH="1">
            <a:off x="990360" y="2590920"/>
            <a:ext cx="236196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13"/>
              <p:cNvSpPr txBox="1"/>
              <p:nvPr/>
            </p:nvSpPr>
            <p:spPr>
              <a:xfrm>
                <a:off x="152280" y="2362320"/>
                <a:ext cx="669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</m:e>
                      <m:e/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rea Approximation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o the width of each rectangle is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9"/>
              <p:cNvSpPr txBox="1"/>
              <p:nvPr/>
            </p:nvSpPr>
            <p:spPr>
              <a:xfrm>
                <a:off x="2743200" y="5334120"/>
                <a:ext cx="281952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7"/>
              <p:cNvSpPr txBox="1"/>
              <p:nvPr/>
            </p:nvSpPr>
            <p:spPr>
              <a:xfrm>
                <a:off x="5981760" y="1517760"/>
                <a:ext cx="148572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x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3" name="Rectangle 6"/>
          <p:cNvSpPr/>
          <p:nvPr/>
        </p:nvSpPr>
        <p:spPr>
          <a:xfrm>
            <a:off x="457200" y="2514600"/>
            <a:ext cx="8381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he height of each rectangle is ei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9"/>
              <p:cNvSpPr txBox="1"/>
              <p:nvPr/>
            </p:nvSpPr>
            <p:spPr>
              <a:xfrm>
                <a:off x="6907320" y="2538360"/>
                <a:ext cx="87768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5" name="Rectangle 8"/>
          <p:cNvSpPr/>
          <p:nvPr/>
        </p:nvSpPr>
        <p:spPr>
          <a:xfrm>
            <a:off x="457200" y="3200400"/>
            <a:ext cx="8381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9"/>
              <p:cNvSpPr txBox="1"/>
              <p:nvPr/>
            </p:nvSpPr>
            <p:spPr>
              <a:xfrm>
                <a:off x="1393920" y="3224160"/>
                <a:ext cx="95724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7" name="AutoShape 10"/>
          <p:cNvSpPr/>
          <p:nvPr/>
        </p:nvSpPr>
        <p:spPr>
          <a:xfrm>
            <a:off x="7772400" y="1371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6394" h="21600">
                <a:moveTo>
                  <a:pt x="13197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6394" h="21600">
                <a:moveTo>
                  <a:pt x="10621" y="8224"/>
                </a:moveTo>
                <a:lnTo>
                  <a:pt x="14485" y="8224"/>
                </a:lnTo>
                <a:lnTo>
                  <a:pt x="14485" y="15221"/>
                </a:lnTo>
                <a:lnTo>
                  <a:pt x="15773" y="15221"/>
                </a:lnTo>
                <a:lnTo>
                  <a:pt x="15773" y="16144"/>
                </a:lnTo>
                <a:lnTo>
                  <a:pt x="10621" y="16144"/>
                </a:lnTo>
                <a:lnTo>
                  <a:pt x="10621" y="15221"/>
                </a:lnTo>
                <a:lnTo>
                  <a:pt x="11909" y="15221"/>
                </a:lnTo>
                <a:lnTo>
                  <a:pt x="11909" y="9129"/>
                </a:lnTo>
                <a:lnTo>
                  <a:pt x="10621" y="9129"/>
                </a:lnTo>
                <a:close/>
              </a:path>
            </a:pathLst>
          </a:cu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2">
            <a:hlinkClick r:id="" action="ppaction://hlinkshowjump?jump=previousslide"/>
          </p:cNvPr>
          <p:cNvSpPr/>
          <p:nvPr/>
        </p:nvSpPr>
        <p:spPr>
          <a:xfrm>
            <a:off x="2666880" y="3048120"/>
            <a:ext cx="838440" cy="685800"/>
          </a:xfrm>
          <a:custGeom>
            <a:avLst/>
            <a:gdLst>
              <a:gd name="textAreaLeft" fmla="*/ 44280 w 838440"/>
              <a:gd name="textAreaRight" fmla="*/ 794160 w 8384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405" h="21600">
                <a:moveTo>
                  <a:pt x="0" y="0"/>
                </a:moveTo>
                <a:lnTo>
                  <a:pt x="26405" y="0"/>
                </a:lnTo>
                <a:lnTo>
                  <a:pt x="26405" y="21600"/>
                </a:lnTo>
                <a:lnTo>
                  <a:pt x="0" y="21600"/>
                </a:lnTo>
                <a:close/>
              </a:path>
              <a:path fill="lightenLess" w="26405" h="21600">
                <a:moveTo>
                  <a:pt x="0" y="0"/>
                </a:moveTo>
                <a:lnTo>
                  <a:pt x="26405" y="0"/>
                </a:lnTo>
                <a:lnTo>
                  <a:pt x="25005" y="1400"/>
                </a:lnTo>
                <a:lnTo>
                  <a:pt x="1400" y="1400"/>
                </a:lnTo>
                <a:close/>
              </a:path>
              <a:path fill="darken" w="26405" h="21600">
                <a:moveTo>
                  <a:pt x="26405" y="0"/>
                </a:moveTo>
                <a:lnTo>
                  <a:pt x="26405" y="21600"/>
                </a:lnTo>
                <a:lnTo>
                  <a:pt x="25005" y="20200"/>
                </a:lnTo>
                <a:lnTo>
                  <a:pt x="25005" y="1400"/>
                </a:lnTo>
                <a:close/>
              </a:path>
              <a:path fill="darkenLess" w="26405" h="21600">
                <a:moveTo>
                  <a:pt x="26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05" y="20200"/>
                </a:lnTo>
                <a:close/>
              </a:path>
              <a:path fill="lighten" w="26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05" h="21600">
                <a:moveTo>
                  <a:pt x="13203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6405" h="21600">
                <a:moveTo>
                  <a:pt x="13203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6405" h="21600">
                <a:moveTo>
                  <a:pt x="10626" y="8224"/>
                </a:moveTo>
                <a:lnTo>
                  <a:pt x="14491" y="8224"/>
                </a:lnTo>
                <a:lnTo>
                  <a:pt x="14491" y="15221"/>
                </a:lnTo>
                <a:lnTo>
                  <a:pt x="15779" y="15221"/>
                </a:lnTo>
                <a:lnTo>
                  <a:pt x="15779" y="16144"/>
                </a:lnTo>
                <a:lnTo>
                  <a:pt x="10626" y="16144"/>
                </a:lnTo>
                <a:lnTo>
                  <a:pt x="10626" y="15221"/>
                </a:lnTo>
                <a:lnTo>
                  <a:pt x="11914" y="15221"/>
                </a:lnTo>
                <a:lnTo>
                  <a:pt x="11914" y="9129"/>
                </a:lnTo>
                <a:lnTo>
                  <a:pt x="10626" y="9129"/>
                </a:lnTo>
                <a:close/>
              </a:path>
            </a:pathLst>
          </a:cu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3"/>
          <p:cNvSpPr/>
          <p:nvPr/>
        </p:nvSpPr>
        <p:spPr>
          <a:xfrm>
            <a:off x="457200" y="3886200"/>
            <a:ext cx="8381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o the upper and lower sums can be defined 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9"/>
              <p:cNvSpPr txBox="1"/>
              <p:nvPr/>
            </p:nvSpPr>
            <p:spPr>
              <a:xfrm>
                <a:off x="2743200" y="4307040"/>
                <a:ext cx="297180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Rectangle 20"/>
          <p:cNvSpPr/>
          <p:nvPr/>
        </p:nvSpPr>
        <p:spPr>
          <a:xfrm>
            <a:off x="457200" y="4495680"/>
            <a:ext cx="8381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0000"/>
          </a:bodyPr>
          <a:p>
            <a:pPr marL="137160" indent="-137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Lower 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7160" indent="-137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7160" indent="-137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Upper 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rea Approximation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It is important to note that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Neither approximation will give you the </a:t>
            </a: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actual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area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Either approximation can be found to such a degree that it is accurate enough by taking the limit as n goes to infinity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In other words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9"/>
              <p:cNvSpPr txBox="1"/>
              <p:nvPr/>
            </p:nvSpPr>
            <p:spPr>
              <a:xfrm>
                <a:off x="5181480" y="1536840"/>
                <a:ext cx="35053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≤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rea</m:t>
                    </m:r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9"/>
              <p:cNvSpPr txBox="1"/>
              <p:nvPr/>
            </p:nvSpPr>
            <p:spPr>
              <a:xfrm>
                <a:off x="3325680" y="5486400"/>
                <a:ext cx="261792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rea of a Plane Region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Calculus was built around two problem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angent line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Area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rea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o approximate area, we use rectangles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More rectangles means more accuracy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56" name="Picture 7" descr="tutintarecdy1"/>
          <p:cNvPicPr/>
          <p:nvPr/>
        </p:nvPicPr>
        <p:blipFill>
          <a:blip r:embed="rId1"/>
          <a:stretch/>
        </p:blipFill>
        <p:spPr>
          <a:xfrm>
            <a:off x="5105520" y="1228680"/>
            <a:ext cx="3352680" cy="2457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tutintarecdy5"/>
          <p:cNvPicPr/>
          <p:nvPr/>
        </p:nvPicPr>
        <p:blipFill>
          <a:blip r:embed="rId2"/>
          <a:stretch/>
        </p:blipFill>
        <p:spPr>
          <a:xfrm>
            <a:off x="5105520" y="3886200"/>
            <a:ext cx="335268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rea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Can over approximate with an upper sum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Or under approximate with a lower sum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60" name="Picture 4" descr="uppersum"/>
          <p:cNvPicPr/>
          <p:nvPr/>
        </p:nvPicPr>
        <p:blipFill>
          <a:blip r:embed="rId1"/>
          <a:stretch/>
        </p:blipFill>
        <p:spPr>
          <a:xfrm>
            <a:off x="4952880" y="1305000"/>
            <a:ext cx="3124440" cy="2124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lower sum"/>
          <p:cNvPicPr/>
          <p:nvPr/>
        </p:nvPicPr>
        <p:blipFill>
          <a:blip r:embed="rId2"/>
          <a:stretch/>
        </p:blipFill>
        <p:spPr>
          <a:xfrm>
            <a:off x="4952880" y="3505320"/>
            <a:ext cx="312444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rea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Variables include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Number of rectangles used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Endpoints used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rea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Regardless of the number of rectangles or types of inputs used, the method is basically the same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Multiply width times height and add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Upper and Lower Sum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n </a:t>
            </a: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upper sum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is defined as the area of circumscribed rectangle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 </a:t>
            </a: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lower sum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is defined as the area of inscribed rectangle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actual area under a curve is </a:t>
            </a: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always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between these two sums or equal to one or both of them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rea Approximation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We wish to approximate the area under a curve </a:t>
            </a: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from a to b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4"/>
              <p:cNvSpPr txBox="1"/>
              <p:nvPr/>
            </p:nvSpPr>
            <p:spPr>
              <a:xfrm>
                <a:off x="5261040" y="3919680"/>
                <a:ext cx="6062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Rectangle 6"/>
          <p:cNvSpPr/>
          <p:nvPr/>
        </p:nvSpPr>
        <p:spPr>
          <a:xfrm>
            <a:off x="457200" y="259092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We begin by subdividing the interval [a, b] into </a:t>
            </a: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subinterv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457200" y="373392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Each subinterval is of width    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rea Approximation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grpSp>
        <p:nvGrpSpPr>
          <p:cNvPr id="74" name="Group 57"/>
          <p:cNvGrpSpPr/>
          <p:nvPr/>
        </p:nvGrpSpPr>
        <p:grpSpPr>
          <a:xfrm>
            <a:off x="380880" y="1143000"/>
            <a:ext cx="7848360" cy="5486400"/>
            <a:chOff x="380880" y="1143000"/>
            <a:chExt cx="7848360" cy="5486400"/>
          </a:xfrm>
        </p:grpSpPr>
        <mc:AlternateContent>
          <mc:Choice xmlns:a14="http://schemas.microsoft.com/office/drawing/2010/main" Requires="a14">
            <p:sp>
              <p:nvSpPr>
                <p:cNvPr id="75" name="Object 9"/>
                <p:cNvSpPr txBox="1"/>
                <p:nvPr/>
              </p:nvSpPr>
              <p:spPr>
                <a:xfrm>
                  <a:off x="6858000" y="6019920"/>
                  <a:ext cx="406440" cy="569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6" name="Object 49"/>
                <p:cNvSpPr txBox="1"/>
                <p:nvPr/>
              </p:nvSpPr>
              <p:spPr>
                <a:xfrm>
                  <a:off x="1143000" y="6172200"/>
                  <a:ext cx="41580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77" name="Group 48"/>
            <p:cNvGrpSpPr/>
            <p:nvPr/>
          </p:nvGrpSpPr>
          <p:grpSpPr>
            <a:xfrm>
              <a:off x="380880" y="1143000"/>
              <a:ext cx="7848360" cy="5180040"/>
              <a:chOff x="380880" y="1143000"/>
              <a:chExt cx="7848360" cy="5180040"/>
            </a:xfrm>
          </p:grpSpPr>
          <p:grpSp>
            <p:nvGrpSpPr>
              <p:cNvPr id="78" name="Group 7"/>
              <p:cNvGrpSpPr/>
              <p:nvPr/>
            </p:nvGrpSpPr>
            <p:grpSpPr>
              <a:xfrm>
                <a:off x="474840" y="1697400"/>
                <a:ext cx="7659000" cy="4625640"/>
                <a:chOff x="474840" y="1697400"/>
                <a:chExt cx="7659000" cy="4625640"/>
              </a:xfrm>
            </p:grpSpPr>
            <p:sp>
              <p:nvSpPr>
                <p:cNvPr id="79" name="Line 4"/>
                <p:cNvSpPr/>
                <p:nvPr/>
              </p:nvSpPr>
              <p:spPr>
                <a:xfrm flipV="1">
                  <a:off x="853200" y="1697400"/>
                  <a:ext cx="0" cy="4625640"/>
                </a:xfrm>
                <a:prstGeom prst="line">
                  <a:avLst/>
                </a:prstGeom>
                <a:ln w="507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Line 6"/>
                <p:cNvSpPr/>
                <p:nvPr/>
              </p:nvSpPr>
              <p:spPr>
                <a:xfrm>
                  <a:off x="474840" y="5953320"/>
                  <a:ext cx="7659000" cy="0"/>
                </a:xfrm>
                <a:prstGeom prst="line">
                  <a:avLst/>
                </a:prstGeom>
                <a:ln w="507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" name="Freeform 8"/>
              <p:cNvSpPr/>
              <p:nvPr/>
            </p:nvSpPr>
            <p:spPr>
              <a:xfrm>
                <a:off x="380880" y="1143000"/>
                <a:ext cx="7848360" cy="4163040"/>
              </a:xfrm>
              <a:custGeom>
                <a:avLst/>
                <a:gdLst>
                  <a:gd name="textAreaLeft" fmla="*/ 0 w 7848360"/>
                  <a:gd name="textAreaRight" fmla="*/ 7848720 w 7848360"/>
                  <a:gd name="textAreaTop" fmla="*/ 0 h 4163040"/>
                  <a:gd name="textAreaBottom" fmla="*/ 4163400 h 4163040"/>
                </a:gdLst>
                <a:ahLst/>
                <a:rect l="textAreaLeft" t="textAreaTop" r="textAreaRight" b="textAreaBottom"/>
                <a:pathLst>
                  <a:path w="3984" h="2160">
                    <a:moveTo>
                      <a:pt x="0" y="2160"/>
                    </a:moveTo>
                    <a:cubicBezTo>
                      <a:pt x="56" y="1872"/>
                      <a:pt x="112" y="1584"/>
                      <a:pt x="336" y="1344"/>
                    </a:cubicBezTo>
                    <a:cubicBezTo>
                      <a:pt x="560" y="1104"/>
                      <a:pt x="1040" y="768"/>
                      <a:pt x="1344" y="720"/>
                    </a:cubicBezTo>
                    <a:cubicBezTo>
                      <a:pt x="1648" y="672"/>
                      <a:pt x="1720" y="1176"/>
                      <a:pt x="2160" y="1056"/>
                    </a:cubicBezTo>
                    <a:cubicBezTo>
                      <a:pt x="2600" y="936"/>
                      <a:pt x="3664" y="192"/>
                      <a:pt x="3984" y="0"/>
                    </a:cubicBezTo>
                  </a:path>
                </a:pathLst>
              </a:custGeom>
              <a:noFill/>
              <a:ln w="38160">
                <a:solidFill>
                  <a:srgbClr val="ffffff"/>
                </a:solidFill>
                <a:round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Line 11"/>
              <p:cNvSpPr/>
              <p:nvPr/>
            </p:nvSpPr>
            <p:spPr>
              <a:xfrm flipV="1">
                <a:off x="1325880" y="3456000"/>
                <a:ext cx="0" cy="2497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Line 12"/>
              <p:cNvSpPr/>
              <p:nvPr/>
            </p:nvSpPr>
            <p:spPr>
              <a:xfrm>
                <a:off x="7094520" y="1883160"/>
                <a:ext cx="0" cy="40705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84" name="Object 55"/>
              <p:cNvSpPr txBox="1"/>
              <p:nvPr/>
            </p:nvSpPr>
            <p:spPr>
              <a:xfrm>
                <a:off x="7445520" y="984240"/>
                <a:ext cx="40320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1T20:06:40Z</dcterms:created>
  <dc:creator>EBRPSS</dc:creator>
  <dc:description/>
  <dc:language>en-US</dc:language>
  <cp:lastModifiedBy>RomaK</cp:lastModifiedBy>
  <dcterms:modified xsi:type="dcterms:W3CDTF">2015-09-04T07:37:44Z</dcterms:modified>
  <cp:revision>9</cp:revision>
  <dc:subject/>
  <dc:title>Slide 1</dc:title>
</cp:coreProperties>
</file>