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4994-5309-492A-A749-49A314327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C34-E20C-4BB4-9C6E-AFF8E3C1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413-8083-4F90-8A0E-A678E5BC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B18-7ACB-4BEB-8EBF-36C7B721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E18-25DC-4878-A330-21F8C0B3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99C-A4F1-42B1-9B9E-42B63E30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B3B-7B2C-4DCB-9DDA-3642AB5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7B9-44B3-4042-AC3A-A29AF141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D9E-1D24-4654-BFAA-061EA201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C76-98E1-4F8F-B1E3-180C5DB3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B68-D807-4933-8C5C-9CF566ED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6E3-32D6-4883-ACC3-35B8DB5C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294-74C4-464C-9D8C-047622C3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113F-1FC4-423F-9CDC-4BBB7D7AD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upload.wikimedia.org/wikipedia/commons/e/e7/Domenico-Fetti_Archimedes_1620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51" name="Picture 9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Image:Domenico-Fetti Archimedes 162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ipshaker1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law_uffizi_small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ngravingMirrorSmall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90" name="Picture 7" descr="Archimedes may have used mirrors acting as a parabolic reflector to burn ships attacking Syracuse"/>
          <p:cNvPicPr/>
          <p:nvPr/>
        </p:nvPicPr>
        <p:blipFill>
          <a:blip r:embed="rId2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irrorSmall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everMid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8" name="AutoShape 5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pic>
          <p:nvPicPr>
            <p:cNvPr id="112" name="Picture 16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16" name="Picture 17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sp>
        <p:nvSpPr>
          <p:cNvPr id="123" name="Text Box 19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rchimedes_9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6" descr="archimedes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here_cylinder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phere_cylinder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0" name="Picture 7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2" name="Picture 10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rchimedes6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mp_italian_small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7" name="Picture 16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7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9" name="Picture 19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rewMineMed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4" name="Picture 7" descr="The Archimedes' screw can raise water efficiently."/>
          <p:cNvPicPr/>
          <p:nvPr/>
        </p:nvPicPr>
        <p:blipFill>
          <a:blip r:embed="rId2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7" name="Picture 5" descr="Greek_geometer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rchimedesSiege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ap_CarthageRome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nim-b"/>
          <p:cNvPicPr/>
          <p:nvPr/>
        </p:nvPicPr>
        <p:blipFill>
          <a:blip r:embed="rId1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aw_max&amp;fra_2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arris_7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arris_2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RomaK</cp:lastModifiedBy>
  <dcterms:modified xsi:type="dcterms:W3CDTF">2015-09-04T07:36:51Z</dcterms:modified>
  <cp:revision>20</cp:revision>
  <dc:subject/>
  <dc:title>Slide 1</dc:title>
</cp:coreProperties>
</file>