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2F27-1F0C-4088-BC2A-BE9396679BA0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 Calculus A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 Calculus A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we are only finding indefinite solutions, we must indicate the ambiguity of the const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ly, this is done through using a letter to represent any constant.  Generally, we use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we are only finding indefinite solutions, we must indicate the ambiguity of the constant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rmally, this is done through using a letter to represent any constant.  Generally, we use C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ve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ppoCamp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ollowing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lope field shows the general “flow” of a differential equation’s s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, slope fields are used in lieu of actually solving differential equ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slope field shows the general “flow” of a differential equation’s solu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ten, slope fields are used in lieu of actually solving differential equation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construct a slope field, start with a differential equation.  For simplicity’s sake we’ll use                          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than solving the differential equation, we’ll construct a slope f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points in the coordinate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g in the x and y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 is the slope of the tangent line at that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construct a slope field, start with a differential equation.  For simplicity’s sake we’ll use                          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her than solving the differential equation, we’ll construct a slope fiel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ick points in the coordinate plan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g in the x and y valu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esult is the slope of the tangent line at that poi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pe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 a slope field for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ope Fiel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since there is no y in our equation, horizontal rows all contain parallel segments.  The same would be true for vertical columns if there were no x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 a slope field for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equ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inverse op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 and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 and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s and logarith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n inverse operation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includ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ition and subtra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onents and logarith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tion also has an invers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fferenti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also has an inverse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fferenti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function       whose derivative is given by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          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say that           is an antiderivative of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ider the function       whose derivative is given by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           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say that           is an antiderivative of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derivat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ice that we say            is an antiderivative and not the antiderivative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           is an antiderivative of          , we ca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y that      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                            and                             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iderivativ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ice that we say            is an antiderivative and not the antiderivative.  Wh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           is an antiderivative of          , we can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y that      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                            and                             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d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all the earlier equation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a differential equation and could also be written as                    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think of solving a differential equation as being similar to solving any othe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call the earlier equation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called a differential equation and could also be written as                    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 can think of solving a differential equation as being similar to solving any other equati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ing to find y as a function of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only find indefinite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ying to find y as a function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n only find indefinite solu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ial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two basic steps to fol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Isolate the differ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 both sides…in other words, f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tideriv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l Equa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re are two basic steps to follow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Isolate the different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rt both sides…in other words, fi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antideriv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2EA-F6FF-4F73-AE3B-C1672ACE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D5C5-DE16-4CFD-AB8F-430BC19F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1FF-FAC5-4925-BCC9-6A6D6C8C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6371-D95B-49D1-A2C7-C6153E21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16C6-24E2-4E7F-8F46-E6F001F0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4BF-9AA6-4969-BD1A-0F72F705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95C1-F0BF-4D49-A0CC-B4924A7C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552B-7706-4C3E-B675-17AA2826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F9EC-4511-4ED1-B6C7-1761815A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DB9-CCE4-4E7A-9C88-E65AB4A9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4CE1-9DF9-4FD7-A5C1-818A8B99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39B-3E32-48A3-8AE9-55360E62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8E8-C617-400E-806E-8AB53C5F6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7">
            <a:hlinkClick r:id="" action="ppaction://hlinkshowjump?jump=firstslide"/>
          </p:cNvPr>
          <p:cNvSpPr/>
          <p:nvPr/>
        </p:nvSpPr>
        <p:spPr>
          <a:xfrm>
            <a:off x="0" y="5867280"/>
            <a:ext cx="914400" cy="762120"/>
          </a:xfrm>
          <a:custGeom>
            <a:avLst/>
            <a:gdLst>
              <a:gd name="textAreaLeft" fmla="*/ 49320 w 914400"/>
              <a:gd name="textAreaRight" fmla="*/ 865080 w 9144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5914" h="21600">
                <a:moveTo>
                  <a:pt x="0" y="0"/>
                </a:moveTo>
                <a:lnTo>
                  <a:pt x="25914" y="0"/>
                </a:lnTo>
                <a:lnTo>
                  <a:pt x="25914" y="21600"/>
                </a:lnTo>
                <a:lnTo>
                  <a:pt x="0" y="21600"/>
                </a:lnTo>
                <a:close/>
              </a:path>
              <a:path fill="lightenLess" w="25914" h="21600">
                <a:moveTo>
                  <a:pt x="0" y="0"/>
                </a:moveTo>
                <a:lnTo>
                  <a:pt x="25914" y="0"/>
                </a:lnTo>
                <a:lnTo>
                  <a:pt x="24514" y="1400"/>
                </a:lnTo>
                <a:lnTo>
                  <a:pt x="1400" y="1400"/>
                </a:lnTo>
                <a:close/>
              </a:path>
              <a:path fill="darken" w="25914" h="21600">
                <a:moveTo>
                  <a:pt x="25914" y="0"/>
                </a:moveTo>
                <a:lnTo>
                  <a:pt x="25914" y="21600"/>
                </a:lnTo>
                <a:lnTo>
                  <a:pt x="24514" y="20200"/>
                </a:lnTo>
                <a:lnTo>
                  <a:pt x="24514" y="1400"/>
                </a:lnTo>
                <a:close/>
              </a:path>
              <a:path fill="darkenLess" w="25914" h="21600">
                <a:moveTo>
                  <a:pt x="25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14" y="20200"/>
                </a:lnTo>
                <a:close/>
              </a:path>
              <a:path fill="lighten" w="25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14" h="21600">
                <a:moveTo>
                  <a:pt x="12957" y="3837"/>
                </a:moveTo>
                <a:lnTo>
                  <a:pt x="15533" y="6448"/>
                </a:ln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lnTo>
                  <a:pt x="19920" y="10800"/>
                </a:lnTo>
                <a:lnTo>
                  <a:pt x="18266" y="10800"/>
                </a:lnTo>
                <a:lnTo>
                  <a:pt x="18266" y="17989"/>
                </a:lnTo>
                <a:lnTo>
                  <a:pt x="7648" y="17989"/>
                </a:lnTo>
                <a:lnTo>
                  <a:pt x="7648" y="10800"/>
                </a:lnTo>
                <a:lnTo>
                  <a:pt x="5994" y="10800"/>
                </a:lnTo>
                <a:close/>
              </a:path>
              <a:path fill="darkenLess" w="25914" h="21600">
                <a:moveTo>
                  <a:pt x="15533" y="6448"/>
                </a:moveTo>
                <a:lnTo>
                  <a:pt x="15533" y="4707"/>
                </a:lnTo>
                <a:lnTo>
                  <a:pt x="17309" y="4707"/>
                </a:lnTo>
                <a:lnTo>
                  <a:pt x="17309" y="8224"/>
                </a:lnTo>
                <a:close/>
              </a:path>
              <a:path fill="darkenLess" w="25914" h="21600">
                <a:moveTo>
                  <a:pt x="12034" y="14299"/>
                </a:moveTo>
                <a:lnTo>
                  <a:pt x="13880" y="14299"/>
                </a:lnTo>
                <a:lnTo>
                  <a:pt x="13880" y="17989"/>
                </a:lnTo>
                <a:lnTo>
                  <a:pt x="18266" y="17989"/>
                </a:lnTo>
                <a:lnTo>
                  <a:pt x="18266" y="10800"/>
                </a:lnTo>
                <a:lnTo>
                  <a:pt x="7648" y="10800"/>
                </a:lnTo>
                <a:lnTo>
                  <a:pt x="7648" y="17989"/>
                </a:lnTo>
                <a:lnTo>
                  <a:pt x="12034" y="17989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8">
            <a:hlinkClick r:id="" action="ppaction://hlinkshowjump?jump=nextslide"/>
          </p:cNvPr>
          <p:cNvSpPr/>
          <p:nvPr/>
        </p:nvSpPr>
        <p:spPr>
          <a:xfrm>
            <a:off x="7772400" y="594360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3794"/>
                </a:moveTo>
                <a:lnTo>
                  <a:pt x="23801" y="10800"/>
                </a:lnTo>
                <a:lnTo>
                  <a:pt x="9788" y="17806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P Calculus AB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tiderivative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l Equations,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nd Slope Field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ce we are only finding indefinite solutions, we must indicate the ambiguity of the constant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Normally, this is done through using a letter to represent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any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tant.  Generally, we use C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ve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981080" y="1447920"/>
                <a:ext cx="60192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2517840" y="1743120"/>
                <a:ext cx="8348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2209680" y="2743200"/>
                <a:ext cx="17719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AutoShape 8"/>
          <p:cNvSpPr/>
          <p:nvPr/>
        </p:nvSpPr>
        <p:spPr>
          <a:xfrm>
            <a:off x="6324480" y="28195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onsider the following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HippoCampu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slope field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shows the general “flow” of a differential equation’s solution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Often, slope fields are used in lieu of actually solving differential equ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o construct a slope field, start with a differential equation.  For simplicity’s sake we’ll use                          Slope Field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ather than solving the differential equation, we’ll construct a slope fiel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ick points in the coordinate plane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Plug in the x and y values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e result is the slope of the tangent line at that poin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1447920" y="2503440"/>
                <a:ext cx="19746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lope Field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since there is no y in our equation, horizontal rows all contain parallel segments.  The same would be true for vertical columns if there were no x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truct a slope field for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4"/>
              <p:cNvSpPr txBox="1"/>
              <p:nvPr/>
            </p:nvSpPr>
            <p:spPr>
              <a:xfrm>
                <a:off x="5122800" y="3678120"/>
                <a:ext cx="165888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6"/>
          <p:cNvSpPr/>
          <p:nvPr/>
        </p:nvSpPr>
        <p:spPr>
          <a:xfrm>
            <a:off x="4495680" y="2666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equati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4495680" y="1523880"/>
                <a:ext cx="1162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56" name="Object 11"/>
          <p:cNvGraphicFramePr/>
          <p:nvPr/>
        </p:nvGraphicFramePr>
        <p:xfrm>
          <a:off x="2743200" y="2590920"/>
          <a:ext cx="534960" cy="46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3496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" name="Group 14"/>
          <p:cNvGrpSpPr/>
          <p:nvPr/>
        </p:nvGrpSpPr>
        <p:grpSpPr>
          <a:xfrm>
            <a:off x="609480" y="2400480"/>
            <a:ext cx="2133720" cy="952200"/>
            <a:chOff x="609480" y="2400480"/>
            <a:chExt cx="2133720" cy="952200"/>
          </a:xfrm>
        </p:grpSpPr>
        <p:graphicFrame>
          <p:nvGraphicFramePr>
            <p:cNvPr id="59" name="Object 8"/>
            <p:cNvGraphicFramePr/>
            <p:nvPr/>
          </p:nvGraphicFramePr>
          <p:xfrm>
            <a:off x="1914480" y="2400480"/>
            <a:ext cx="828720" cy="952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914480" y="2400480"/>
                      <a:ext cx="828720" cy="95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12"/>
            <p:cNvSpPr/>
            <p:nvPr/>
          </p:nvSpPr>
          <p:spPr>
            <a:xfrm>
              <a:off x="609480" y="2590920"/>
              <a:ext cx="1371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Georgia"/>
                </a:rPr>
                <a:t>Find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ffff"/>
                </a:buClr>
                <a:buFont typeface="Georgi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AutoShape 15"/>
          <p:cNvSpPr/>
          <p:nvPr/>
        </p:nvSpPr>
        <p:spPr>
          <a:xfrm>
            <a:off x="4495680" y="2590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at is an inverse operation?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457200" y="24382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amples includ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838080" y="31240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Addition and subtra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838080" y="3657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Multiplication and divi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838080" y="41911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ponents and logarith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ifferentiation also has an inverse…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57200" y="34290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eorgia"/>
              </a:rPr>
              <a:t>antidefferentia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onsider the function       whose derivative is given by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hat is            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4343400" y="1555920"/>
                <a:ext cx="5014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6"/>
              <p:cNvSpPr txBox="1"/>
              <p:nvPr/>
            </p:nvSpPr>
            <p:spPr>
              <a:xfrm>
                <a:off x="1295280" y="2038320"/>
                <a:ext cx="1416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8"/>
              <p:cNvSpPr txBox="1"/>
              <p:nvPr/>
            </p:nvSpPr>
            <p:spPr>
              <a:xfrm>
                <a:off x="2184480" y="297180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0"/>
              <p:cNvSpPr txBox="1"/>
              <p:nvPr/>
            </p:nvSpPr>
            <p:spPr>
              <a:xfrm>
                <a:off x="2743200" y="403380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1"/>
              <p:cNvSpPr txBox="1"/>
              <p:nvPr/>
            </p:nvSpPr>
            <p:spPr>
              <a:xfrm>
                <a:off x="7162920" y="3957480"/>
                <a:ext cx="9396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Text Box 13"/>
          <p:cNvSpPr/>
          <p:nvPr/>
        </p:nvSpPr>
        <p:spPr>
          <a:xfrm>
            <a:off x="6324480" y="29718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2"/>
          <p:cNvSpPr/>
          <p:nvPr/>
        </p:nvSpPr>
        <p:spPr>
          <a:xfrm>
            <a:off x="6248520" y="2819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4"/>
          <p:cNvSpPr/>
          <p:nvPr/>
        </p:nvSpPr>
        <p:spPr>
          <a:xfrm>
            <a:off x="144000" y="4052880"/>
            <a:ext cx="83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say that           is an antiderivative of          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5"/>
          <p:cNvGraphicFramePr/>
          <p:nvPr/>
        </p:nvGraphicFramePr>
        <p:xfrm>
          <a:off x="3567240" y="2917800"/>
          <a:ext cx="184284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7240" y="2917800"/>
                    <a:ext cx="184284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6" dur="indefinite" restart="never" nodeType="tmRoot">
          <p:childTnLst>
            <p:seq>
              <p:cTn id="47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ntiderivative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Notice that we say            is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tiderivative and not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tiderivative.  Why?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nce            is an antiderivative of          , we can 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ay that      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f                             and                             , find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nd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3759120" y="152388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6"/>
              <p:cNvSpPr txBox="1"/>
              <p:nvPr/>
            </p:nvSpPr>
            <p:spPr>
              <a:xfrm>
                <a:off x="1778040" y="2819520"/>
                <a:ext cx="96516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6172200" y="2814480"/>
                <a:ext cx="939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9"/>
              <p:cNvSpPr txBox="1"/>
              <p:nvPr/>
            </p:nvSpPr>
            <p:spPr>
              <a:xfrm>
                <a:off x="2141640" y="3348000"/>
                <a:ext cx="2278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10"/>
              <p:cNvSpPr txBox="1"/>
              <p:nvPr/>
            </p:nvSpPr>
            <p:spPr>
              <a:xfrm>
                <a:off x="1219320" y="4226040"/>
                <a:ext cx="2349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4343400" y="4191120"/>
                <a:ext cx="24573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12"/>
              <p:cNvSpPr txBox="1"/>
              <p:nvPr/>
            </p:nvSpPr>
            <p:spPr>
              <a:xfrm>
                <a:off x="762120" y="5100480"/>
                <a:ext cx="9032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3"/>
              <p:cNvSpPr txBox="1"/>
              <p:nvPr/>
            </p:nvSpPr>
            <p:spPr>
              <a:xfrm>
                <a:off x="2438280" y="5181480"/>
                <a:ext cx="8319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Recall the earlier equation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s is called a </a:t>
            </a:r>
            <a:r>
              <a:rPr b="0" i="1" lang="en-US" sz="2800" spc="-1" strike="noStrike">
                <a:solidFill>
                  <a:srgbClr val="ffffff"/>
                </a:solidFill>
                <a:latin typeface="Georgia"/>
              </a:rPr>
              <a:t>differential equation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and could also be written as                     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We can think of solving a differential equation as being similar to solving any other equatio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5105520" y="1371600"/>
                <a:ext cx="60156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5"/>
              <p:cNvSpPr txBox="1"/>
              <p:nvPr/>
            </p:nvSpPr>
            <p:spPr>
              <a:xfrm>
                <a:off x="5641920" y="1666800"/>
                <a:ext cx="8352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657600" y="3048120"/>
                <a:ext cx="17524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rying to find y as a function of x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2666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an only find </a:t>
            </a:r>
            <a:r>
              <a:rPr b="0" i="1" lang="en-US" sz="3200" spc="-1" strike="noStrike">
                <a:solidFill>
                  <a:srgbClr val="ffffff"/>
                </a:solidFill>
                <a:latin typeface="Georgia"/>
              </a:rPr>
              <a:t>indefinite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Differential Equation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re are two basic steps to follow: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4400" y="24382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1.  Isolate the different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914400" y="3276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vert both sides…in other words, fin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6200" indent="-28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antiderivati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5:59:17Z</dcterms:created>
  <dc:creator>EBRPSS</dc:creator>
  <dc:description/>
  <dc:language>en-US</dc:language>
  <cp:lastModifiedBy>RomaK</cp:lastModifiedBy>
  <dcterms:modified xsi:type="dcterms:W3CDTF">2015-09-04T07:36:28Z</dcterms:modified>
  <cp:revision>21</cp:revision>
  <dc:subject/>
  <dc:title>AP Calculus AB</dc:title>
</cp:coreProperties>
</file>