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A1CC-680E-434B-BE9D-F66ABEC044F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alculus A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we are only finding indefinite solutions, we must indicate the ambiguity of the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is is done through using a letter to represent any constant.  Generally, we use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we are only finding indefinite solutions, we must indicate the ambiguity of the constan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mally, this is done through using a letter to represent any constant.  Generally, we use 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ppoCamp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ollowi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lope field shows the general “flow” of a differential equation’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, slope fields are used in lieu of actually solving differential eq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lope field shows the general “flow” of a differential equation’s solu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ten, slope fields are used in lieu of actually solving differential equation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struct a slope field, start with a differential equation.  For simplicity’s sake we’ll use                         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than solving the differential equation, we’ll construct a slope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points in the coordinat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in the x and y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 is the slope of the tangent line at that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nstruct a slope field, start with a differential equation.  For simplicity’s sake we’ll use                         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her than solving the differential equation, we’ll construct a slope fie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k points in the coordinate pla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in the x and y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sult is the slope of the tangent line at that po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slope field for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since there is no y in our equation, horizontal rows all contain parallel segments.  The same would be true for vertical columns if there were no x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 a slope field for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equ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inverse op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 and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and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s and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an inverse operation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onents and logarith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tion also has an invers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fferent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tion also has an inverse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fferent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unction       whose derivative is given by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          is an antiderivative of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unction       whose derivative is given by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           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say that           is an antiderivative of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we say            is an antiderivative and not the antiderivative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           is an antiderivative of          , we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that     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                           and                             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we say            is an antiderivative and not the antiderivative.  Wh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           is an antiderivative of          , we c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y that      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                            and                             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all the earlier equatio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a differential equation and could also be written as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think of solving a differential equation as being similar to solving any othe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all the earlier equation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called a differential equation and could also be written as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think of solving a differential equation as being similar to solving any other equ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find y as a function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nly find indefinite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ying to find y as a function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 only find indefinite solu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basic steps to fol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Isolate the differ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 both sides…in other words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tideriv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two basic steps to follow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Isolate the different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rt both sides…in other words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ntideriv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F5D-76E2-4ACF-B196-E006BF73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EE4-C1A8-4346-84F1-CF39E6FF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187-DE54-4B6C-9CFD-805195A5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550-5EA4-429E-B2A5-3DA38C3E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629-9F0B-4222-BD07-2051A7D8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F18-9887-495C-B34C-E34B4DEE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41E-125E-4DA9-9BC8-09630CFB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1EF-31A6-4AAC-BF24-7B79DB1F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49F-409A-463C-A6CF-39665C4F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ECC-47BA-4212-8D25-C81EAEB2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65C-02BA-4652-9B20-8FF90C42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B80-F918-4A3F-BFC8-D1009F17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104C-0427-425C-A55A-9F0824857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>
            <a:off x="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nextslide"/>
          </p:cNvPr>
          <p:cNvSpPr/>
          <p:nvPr/>
        </p:nvSpPr>
        <p:spPr>
          <a:xfrm>
            <a:off x="7772400" y="59436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 AB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tiderivative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l Equation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lope Field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we are only finding indefinite solutions, we must indicate the ambiguity of the constan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rmally, this is done through using a letter to represent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n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tant.  Generally, we use 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ve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981080" y="1447920"/>
                <a:ext cx="601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517840" y="1743120"/>
                <a:ext cx="834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2209680" y="2743200"/>
                <a:ext cx="177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AutoShape 8"/>
          <p:cNvSpPr/>
          <p:nvPr/>
        </p:nvSpPr>
        <p:spPr>
          <a:xfrm>
            <a:off x="6324480" y="28195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ider the followi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ippoCampu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slope fiel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shows the general “flow” of a differential equation’s solutio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ften, slope fields are used in lieu of actually solving differential equ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construct a slope field, start with a differential equation.  For simplicity’s sake we’ll use                          Slope Fiel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ather than solving the differential equation, we’ll construct a slope fiel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ick points in the coordinate pla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lug in the x and y valu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result is the slope of the tangent line at that poin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447920" y="2503440"/>
                <a:ext cx="1974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truct a slope field for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5122800" y="3678120"/>
                <a:ext cx="1658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6"/>
          <p:cNvSpPr/>
          <p:nvPr/>
        </p:nvSpPr>
        <p:spPr>
          <a:xfrm>
            <a:off x="4495680" y="2666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equa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4495680" y="1523880"/>
                <a:ext cx="116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6" name="Object 11"/>
          <p:cNvGraphicFramePr/>
          <p:nvPr/>
        </p:nvGraphicFramePr>
        <p:xfrm>
          <a:off x="2743200" y="2590920"/>
          <a:ext cx="53496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34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Group 14"/>
          <p:cNvGrpSpPr/>
          <p:nvPr/>
        </p:nvGrpSpPr>
        <p:grpSpPr>
          <a:xfrm>
            <a:off x="609480" y="2400480"/>
            <a:ext cx="2133720" cy="952200"/>
            <a:chOff x="609480" y="2400480"/>
            <a:chExt cx="2133720" cy="952200"/>
          </a:xfrm>
        </p:grpSpPr>
        <p:graphicFrame>
          <p:nvGraphicFramePr>
            <p:cNvPr id="59" name="Object 8"/>
            <p:cNvGraphicFramePr/>
            <p:nvPr/>
          </p:nvGraphicFramePr>
          <p:xfrm>
            <a:off x="1914480" y="2400480"/>
            <a:ext cx="828720" cy="95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4480" y="2400480"/>
                      <a:ext cx="828720" cy="95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12"/>
            <p:cNvSpPr/>
            <p:nvPr/>
          </p:nvSpPr>
          <p:spPr>
            <a:xfrm>
              <a:off x="609480" y="259092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eorgia"/>
                </a:rPr>
                <a:t>Fin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15"/>
          <p:cNvSpPr/>
          <p:nvPr/>
        </p:nvSpPr>
        <p:spPr>
          <a:xfrm>
            <a:off x="4495680" y="2590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at is an inverse operation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57200" y="2438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838080" y="3124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838080" y="3657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838080" y="4191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ponents and loga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tion also has an inverse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57200" y="3429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antidefferentia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function       whose derivative is given by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at is            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343400" y="1555920"/>
                <a:ext cx="501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295280" y="2038320"/>
                <a:ext cx="1416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2184480" y="297180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0"/>
              <p:cNvSpPr txBox="1"/>
              <p:nvPr/>
            </p:nvSpPr>
            <p:spPr>
              <a:xfrm>
                <a:off x="2743200" y="403380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7162920" y="395748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Text Box 13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6248520" y="28195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144000" y="4052880"/>
            <a:ext cx="83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say that           is an antiderivative of          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15"/>
          <p:cNvGraphicFramePr/>
          <p:nvPr/>
        </p:nvGraphicFramePr>
        <p:xfrm>
          <a:off x="3567240" y="2917800"/>
          <a:ext cx="1842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7240" y="2917800"/>
                    <a:ext cx="1842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we say            is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tiderivative and not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tiderivative.  Why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nce            is an antiderivative of          , we can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ay that      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                            and                             , fin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d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3759120" y="152388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1778040" y="281952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6172200" y="281448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2141640" y="3348000"/>
                <a:ext cx="2278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219320" y="4226040"/>
                <a:ext cx="2349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4343400" y="4191120"/>
                <a:ext cx="2457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762120" y="5100480"/>
                <a:ext cx="9032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2438280" y="5181480"/>
                <a:ext cx="831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ecall the earlier equation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s is called a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differential equatio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d could also be written as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can think of solving a differential equation as being similar to solving any other equation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5105520" y="1371600"/>
                <a:ext cx="6015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641920" y="1666800"/>
                <a:ext cx="8352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657600" y="3048120"/>
                <a:ext cx="1752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ing to find y as a function of x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2666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n only fin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indefinit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two basic steps to follow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4400" y="2438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.  Isolate the different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14400" y="3276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286200" indent="-286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vert both sides…in other words, fi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6200" indent="-28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tideriv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5:59:17Z</dcterms:created>
  <dc:creator>EBRPSS</dc:creator>
  <dc:description/>
  <dc:language>en-US</dc:language>
  <cp:lastModifiedBy>RomaK</cp:lastModifiedBy>
  <dcterms:modified xsi:type="dcterms:W3CDTF">2015-09-04T07:36:28Z</dcterms:modified>
  <cp:revision>21</cp:revision>
  <dc:subject/>
  <dc:title>AP Calculus AB</dc:title>
</cp:coreProperties>
</file>