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B9A7-144A-4B60-BA9A-5C2F0531E1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and Subtraction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and Subtraction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2.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2.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.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.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5.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5.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8.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8.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2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2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.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.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6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6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.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.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B51-5BD7-433A-9B0C-011170B9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81C-4436-4336-8A3A-3A2D989F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1D27-050F-42FF-B64F-DE487A3E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1156-61CF-4BA4-9D43-8FBC3A57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7AA9-C1B2-4CFA-BE56-083ABA7E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8EFF-6293-49B7-B2FF-54CC6182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482-AB79-4526-B0DC-8E18B5D6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73DE-A605-428A-9B83-30D42D3B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66B8-36F1-4BD5-9AF4-4B2AAE9D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8B6A-9EEE-4D08-9E7A-461EC5B7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69D-7BF9-43EF-B0A1-09A37774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43E-7F14-4F63-9729-495158E1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1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A1C6-48DF-4795-984C-F08A0F1AD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omic Sans MS"/>
              </a:rPr>
              <a:t>Algebra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Addition and Subtraction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0"/>
          <p:cNvGrpSpPr/>
          <p:nvPr/>
        </p:nvGrpSpPr>
        <p:grpSpPr>
          <a:xfrm>
            <a:off x="1066680" y="457200"/>
            <a:ext cx="7010640" cy="5943600"/>
            <a:chOff x="1066680" y="457200"/>
            <a:chExt cx="7010640" cy="5943600"/>
          </a:xfrm>
        </p:grpSpPr>
        <p:pic>
          <p:nvPicPr>
            <p:cNvPr id="51" name="Object 5" descr=""/>
            <p:cNvPicPr/>
            <p:nvPr/>
          </p:nvPicPr>
          <p:blipFill>
            <a:blip r:embed="rId1"/>
            <a:stretch/>
          </p:blipFill>
          <p:spPr>
            <a:xfrm>
              <a:off x="1143000" y="533520"/>
              <a:ext cx="14428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7" descr="abacus"/>
            <p:cNvPicPr/>
            <p:nvPr/>
          </p:nvPicPr>
          <p:blipFill>
            <a:blip r:embed="rId2"/>
            <a:stretch/>
          </p:blipFill>
          <p:spPr>
            <a:xfrm>
              <a:off x="6400800" y="457200"/>
              <a:ext cx="16765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8" descr="BS01099_(p)"/>
            <p:cNvPicPr/>
            <p:nvPr/>
          </p:nvPicPr>
          <p:blipFill>
            <a:blip r:embed="rId3"/>
            <a:stretch/>
          </p:blipFill>
          <p:spPr>
            <a:xfrm>
              <a:off x="1066680" y="487692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" descr="j0130271(p)"/>
            <p:cNvPicPr/>
            <p:nvPr/>
          </p:nvPicPr>
          <p:blipFill>
            <a:blip r:embed="rId4"/>
            <a:stretch/>
          </p:blipFill>
          <p:spPr>
            <a:xfrm>
              <a:off x="6248520" y="4648320"/>
              <a:ext cx="1752480" cy="1752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5.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2.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.1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.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0.6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5.5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0.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8.5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2.9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.4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6.7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.1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9.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5:34:05Z</dcterms:created>
  <dc:creator>staff</dc:creator>
  <dc:description/>
  <dc:language>en-US</dc:language>
  <cp:lastModifiedBy>RomaK</cp:lastModifiedBy>
  <dcterms:modified xsi:type="dcterms:W3CDTF">2015-09-04T07:36:37Z</dcterms:modified>
  <cp:revision>15</cp:revision>
  <dc:subject/>
  <dc:title>Algebra</dc:title>
</cp:coreProperties>
</file>