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Times New Roman"/>
              </a:rPr>
              <a:t>Click to move the slide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1D3E0-F0D1-4836-ACF8-FC5FFBD91A8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eb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ition and Subtraction Equ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eb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ition and Subtraction Equ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 + 23 = 9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 + 23 = 9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 - 9 = 2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 - 9 = 2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6 = a -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6 = a -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6 = a - 6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6 = a - 6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9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96 + y =18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9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96 + y =18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 + 72 =14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 + 72 =14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 - 5 = 6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 - 5 = 6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69 + y = 9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69 + y = 9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91+ y = 9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91+ y = 9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9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 - 75 = 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9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 - 75 = 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65.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1.5 = a - 34.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65.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1.5 = a - 34.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62.9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 - 50.79 =12.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62.9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 - 50.79 =12.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 - 32 = 4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 - 32 = 4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 + 27 = 5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 + 27 = 5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 + 1 = 4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 + 1 = 4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8.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8.73 = a - 9.4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8.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8.73 = a - 9.4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2 = a - 4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2 = a - 4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97 = a -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97 = a -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9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2 + y = 1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9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2 + y = 1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9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 + 69 =16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9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 + 69 =16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81.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2.2 + y = 93.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81.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2.2 + y = 93.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2 + y = 5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2 + y = 5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 + 41=1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 + 41=1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9 = a - 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9 = a - 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0.6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 + 82.13 = 112.7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0.6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 + 82.13 = 112.7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85.5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9.36 + y =114.8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85.5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9.36 + y =114.8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9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7 = a - 9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9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7 = a - 9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60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 -12.3 = 47.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60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 -12.3 = 47.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 + 45 = 9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 + 45 = 9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 = a - 4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 = a - 4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67 = a - 3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67 = a - 3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 - 14 =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 - 14 =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88.5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 + 76.31 = 164.8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88.5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 + 76.31 = 164.8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4 + y =12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4 + y =12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82.9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 + 34.45 = 117.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82.9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 + 34.45 = 117.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9.4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 + 29.25 = 38.6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9.4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 + 29.25 = 38.6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56.7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9.2 = a - 7.5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56.7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9.2 = a - 7.5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77 + y =1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77 + y =1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70 + y= 9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70 + y= 9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9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 - 50 = 4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9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 - 50 = 4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9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3+ y = 1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9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3+ y = 1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 - 32 = 4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 - 32 = 4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0.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 + 19.98 = 30.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0.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 + 19.98 = 30.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69.4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4.58 + y =114.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69.4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4.58 + y =114.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5 + y = 9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5 + y = 9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17B4F-13C4-4C4E-A5C8-48D6EFF0B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8500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2A2FD-6EC7-42B4-8654-8C69ECFC9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8500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9AFB9-BCCF-4E3F-AE4E-9DAF71C2C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8500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7D238-F2D0-44A6-B236-3911BEDC3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8500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EEE4E-4EF4-46CF-B877-5DC865D03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8500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35137-07A0-4EC3-BA07-70B4BC401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8500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C9637-859C-468C-8E08-C1D9D0F63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8500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007CF-B30E-419A-9DB1-0AEAEBA4D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96851-6118-4662-B07F-44DD9D42B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8500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BFFAB-28C7-47D6-9B8E-B9609D3B6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8500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72092-551A-470A-8E25-836674932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8500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DB173-66F2-4615-900F-CF433297A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Times New Roman"/>
              </a:rPr>
              <a:t>Click to edit the title text format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8000"/>
          </a:bodyPr>
          <a:p>
            <a:pPr marL="164520" indent="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lvl="1" marL="164520" indent="-164520" algn="ctr">
              <a:spcBef>
                <a:spcPts val="165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lvl="2" marL="164520" indent="-164520" algn="ctr">
              <a:spcBef>
                <a:spcPts val="165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520" indent="-164520" algn="ctr">
              <a:spcBef>
                <a:spcPts val="165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4520" indent="-164520" algn="ctr">
              <a:spcBef>
                <a:spcPts val="165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4520" indent="-164520" algn="ctr">
              <a:spcBef>
                <a:spcPts val="165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4520" indent="-164520" algn="ctr">
              <a:spcBef>
                <a:spcPts val="165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C160A-1C1E-4CB3-8D1C-8C8A6587DE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Comic Sans MS"/>
              </a:rPr>
              <a:t>Algebra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omic Sans MS"/>
              </a:rPr>
              <a:t>Addition and Subtraction Equ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" name="Group 10"/>
          <p:cNvGrpSpPr/>
          <p:nvPr/>
        </p:nvGrpSpPr>
        <p:grpSpPr>
          <a:xfrm>
            <a:off x="1066680" y="457200"/>
            <a:ext cx="7010640" cy="5943600"/>
            <a:chOff x="1066680" y="457200"/>
            <a:chExt cx="7010640" cy="5943600"/>
          </a:xfrm>
        </p:grpSpPr>
        <p:pic>
          <p:nvPicPr>
            <p:cNvPr id="51" name="Object 5" descr=""/>
            <p:cNvPicPr/>
            <p:nvPr/>
          </p:nvPicPr>
          <p:blipFill>
            <a:blip r:embed="rId1"/>
            <a:stretch/>
          </p:blipFill>
          <p:spPr>
            <a:xfrm>
              <a:off x="1143000" y="533520"/>
              <a:ext cx="1442880" cy="198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" name="Picture 7" descr="abacus"/>
            <p:cNvPicPr/>
            <p:nvPr/>
          </p:nvPicPr>
          <p:blipFill>
            <a:blip r:embed="rId2"/>
            <a:stretch/>
          </p:blipFill>
          <p:spPr>
            <a:xfrm>
              <a:off x="6400800" y="457200"/>
              <a:ext cx="1676520" cy="167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Picture 8" descr="BS01099_(p)"/>
            <p:cNvPicPr/>
            <p:nvPr/>
          </p:nvPicPr>
          <p:blipFill>
            <a:blip r:embed="rId3"/>
            <a:stretch/>
          </p:blipFill>
          <p:spPr>
            <a:xfrm>
              <a:off x="1066680" y="4876920"/>
              <a:ext cx="1524240" cy="15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Picture 9" descr="j0130271(p)"/>
            <p:cNvPicPr/>
            <p:nvPr/>
          </p:nvPicPr>
          <p:blipFill>
            <a:blip r:embed="rId4"/>
            <a:stretch/>
          </p:blipFill>
          <p:spPr>
            <a:xfrm>
              <a:off x="6248520" y="4648320"/>
              <a:ext cx="1752480" cy="17524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Times New Roman"/>
              </a:rPr>
              <a:t>69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x + 23 = 92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0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Times New Roman"/>
              </a:rPr>
              <a:t>35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x - 9 = 26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0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Times New Roman"/>
              </a:rPr>
              <a:t>46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36 = a -10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0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Times New Roman"/>
              </a:rPr>
              <a:t>100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36 = a - 64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0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Times New Roman"/>
              </a:rPr>
              <a:t>91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96 + y =187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0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Times New Roman"/>
              </a:rPr>
              <a:t>70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x + 72 =142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0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Times New Roman"/>
              </a:rPr>
              <a:t>72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x - 5 = 67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0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Times New Roman"/>
              </a:rPr>
              <a:t>26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69 + y = 95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0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Times New Roman"/>
              </a:rPr>
              <a:t>2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91+ y = 93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nodeType="clickEffect" fill="hold">
                      <p:stCondLst>
                        <p:cond delay="0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Times New Roman"/>
              </a:rPr>
              <a:t>94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x - 75 = 19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nodeType="clickEffect" fill="hold">
                      <p:stCondLst>
                        <p:cond delay="0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Times New Roman"/>
              </a:rPr>
              <a:t>65.9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31.5 = a - 34.4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Times New Roman"/>
              </a:rPr>
              <a:t>62.96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x - 50.79 =12.17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0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Times New Roman"/>
              </a:rPr>
              <a:t>81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x - 32 = 49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nodeType="clickEffect" fill="hold">
                      <p:stCondLst>
                        <p:cond delay="0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Times New Roman"/>
              </a:rPr>
              <a:t>28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x + 27 = 55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nodeType="clickEffect" fill="hold">
                      <p:stCondLst>
                        <p:cond delay="0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Times New Roman"/>
              </a:rPr>
              <a:t>47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x + 1 = 48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nodeType="clickEffect" fill="hold">
                      <p:stCondLst>
                        <p:cond delay="0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Times New Roman"/>
              </a:rPr>
              <a:t>28.14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18.73 = a - 9.41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nodeType="clickEffect" fill="hold">
                      <p:stCondLst>
                        <p:cond delay="0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Times New Roman"/>
              </a:rPr>
              <a:t>58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12 = a - 46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nodeType="clickEffect" fill="hold">
                      <p:stCondLst>
                        <p:cond delay="0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Times New Roman"/>
              </a:rPr>
              <a:t>100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97 = a - 3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nodeType="clickEffect" fill="hold">
                      <p:stCondLst>
                        <p:cond delay="0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Times New Roman"/>
              </a:rPr>
              <a:t>94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12 + y = 106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nodeType="clickEffect" fill="hold">
                      <p:stCondLst>
                        <p:cond delay="0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Times New Roman"/>
              </a:rPr>
              <a:t>93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x + 69 =162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nodeType="clickEffect" fill="hold">
                      <p:stCondLst>
                        <p:cond delay="0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Times New Roman"/>
              </a:rPr>
              <a:t>81.4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12.2 + y = 93.6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nodeType="clickEffect" fill="hold">
                      <p:stCondLst>
                        <p:cond delay="0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Times New Roman"/>
              </a:rPr>
              <a:t>15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42 + y = 57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Times New Roman"/>
              </a:rPr>
              <a:t>76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x + 41=117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nodeType="clickEffect" fill="hold">
                      <p:stCondLst>
                        <p:cond delay="0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Times New Roman"/>
              </a:rPr>
              <a:t>70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39 = a - 40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nodeType="clickEffect" fill="hold">
                      <p:stCondLst>
                        <p:cond delay="0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Times New Roman"/>
              </a:rPr>
              <a:t>30.66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x + 82.13 = 112.79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nodeType="clickEffect" fill="hold">
                      <p:stCondLst>
                        <p:cond delay="0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Times New Roman"/>
              </a:rPr>
              <a:t>85.52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29.36 + y =114.88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nodeType="clickEffect" fill="hold">
                      <p:stCondLst>
                        <p:cond delay="0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Times New Roman"/>
              </a:rPr>
              <a:t>98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7 = a - 91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nodeType="clickEffect" fill="hold">
                      <p:stCondLst>
                        <p:cond delay="0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Times New Roman"/>
              </a:rPr>
              <a:t>60.1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x -12.3 = 47.8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nodeType="clickEffect" fill="hold">
                      <p:stCondLst>
                        <p:cond delay="0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Times New Roman"/>
              </a:rPr>
              <a:t>53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x + 45 = 98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nodeType="clickEffect" fill="hold">
                      <p:stCondLst>
                        <p:cond delay="0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Times New Roman"/>
              </a:rPr>
              <a:t>47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4 = a - 43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nodeType="clickEffect" fill="hold">
                      <p:stCondLst>
                        <p:cond delay="0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Times New Roman"/>
              </a:rPr>
              <a:t>100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67 = a - 33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  <p:timing>
    <p:tnLst>
      <p:par>
        <p:cTn id="512" dur="indefinite" restart="never" nodeType="tmRoot">
          <p:childTnLst>
            <p:seq>
              <p:cTn id="513" dur="indefinite" nodeType="mainSeq">
                <p:childTnLst>
                  <p:par>
                    <p:cTn id="514" nodeType="clickEffect" fill="hold">
                      <p:stCondLst>
                        <p:cond delay="0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Times New Roman"/>
              </a:rPr>
              <a:t>31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x - 14 =17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  <p:timing>
    <p:tnLst>
      <p:par>
        <p:cTn id="526" dur="indefinite" restart="never" nodeType="tmRoot">
          <p:childTnLst>
            <p:seq>
              <p:cTn id="527" dur="indefinite" nodeType="mainSeq">
                <p:childTnLst>
                  <p:par>
                    <p:cTn id="528" nodeType="clickEffect" fill="hold">
                      <p:stCondLst>
                        <p:cond delay="0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Times New Roman"/>
              </a:rPr>
              <a:t>88.58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x + 76.31 = 164.89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Times New Roman"/>
              </a:rPr>
              <a:t>99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24 + y =123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  <p:timing>
    <p:tnLst>
      <p:par>
        <p:cTn id="540" dur="indefinite" restart="never" nodeType="tmRoot">
          <p:childTnLst>
            <p:seq>
              <p:cTn id="541" dur="indefinite" nodeType="mainSeq">
                <p:childTnLst>
                  <p:par>
                    <p:cTn id="542" nodeType="clickEffect" fill="hold">
                      <p:stCondLst>
                        <p:cond delay="0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Times New Roman"/>
              </a:rPr>
              <a:t>82.95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x + 34.45 = 117.4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  <p:timing>
    <p:tnLst>
      <p:par>
        <p:cTn id="554" dur="indefinite" restart="never" nodeType="tmRoot">
          <p:childTnLst>
            <p:seq>
              <p:cTn id="555" dur="indefinite" nodeType="mainSeq">
                <p:childTnLst>
                  <p:par>
                    <p:cTn id="556" nodeType="clickEffect" fill="hold">
                      <p:stCondLst>
                        <p:cond delay="0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Times New Roman"/>
              </a:rPr>
              <a:t>9.43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x + 29.25 = 38.68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  <p:timing>
    <p:tnLst>
      <p:par>
        <p:cTn id="568" dur="indefinite" restart="never" nodeType="tmRoot">
          <p:childTnLst>
            <p:seq>
              <p:cTn id="569" dur="indefinite" nodeType="mainSeq">
                <p:childTnLst>
                  <p:par>
                    <p:cTn id="570" nodeType="clickEffect" fill="hold">
                      <p:stCondLst>
                        <p:cond delay="0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nodeType="clickEffect" fill="hold">
                      <p:stCondLst>
                        <p:cond delay="indefinite"/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Times New Roman"/>
              </a:rPr>
              <a:t>56.75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49.2 = a - 7.55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  <p:timing>
    <p:tnLst>
      <p:par>
        <p:cTn id="582" dur="indefinite" restart="never" nodeType="tmRoot">
          <p:childTnLst>
            <p:seq>
              <p:cTn id="583" dur="indefinite" nodeType="mainSeq">
                <p:childTnLst>
                  <p:par>
                    <p:cTn id="584" nodeType="clickEffect" fill="hold">
                      <p:stCondLst>
                        <p:cond delay="0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Times New Roman"/>
              </a:rPr>
              <a:t>28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77 + y =105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  <p:timing>
    <p:tnLst>
      <p:par>
        <p:cTn id="596" dur="indefinite" restart="never" nodeType="tmRoot">
          <p:childTnLst>
            <p:seq>
              <p:cTn id="597" dur="indefinite" nodeType="mainSeq">
                <p:childTnLst>
                  <p:par>
                    <p:cTn id="598" nodeType="clickEffect" fill="hold">
                      <p:stCondLst>
                        <p:cond delay="0"/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nodeType="clickEffect" fill="hold">
                      <p:stCondLst>
                        <p:cond delay="indefinite"/>
                      </p:stCondLst>
                      <p:childTnLst>
                        <p:par>
                          <p:cTn id="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Times New Roman"/>
              </a:rPr>
              <a:t>25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70 + y= 95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  <p:timing>
    <p:tnLst>
      <p:par>
        <p:cTn id="610" dur="indefinite" restart="never" nodeType="tmRoot">
          <p:childTnLst>
            <p:seq>
              <p:cTn id="611" dur="indefinite" nodeType="mainSeq">
                <p:childTnLst>
                  <p:par>
                    <p:cTn id="612" nodeType="clickEffect" fill="hold">
                      <p:stCondLst>
                        <p:cond delay="0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nodeType="clickEffect" fill="hold">
                      <p:stCondLst>
                        <p:cond delay="indefinite"/>
                      </p:stCondLst>
                      <p:childTnLst>
                        <p:par>
                          <p:cTn id="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Times New Roman"/>
              </a:rPr>
              <a:t>96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x - 50 = 45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  <p:timing>
    <p:tnLst>
      <p:par>
        <p:cTn id="624" dur="indefinite" restart="never" nodeType="tmRoot">
          <p:childTnLst>
            <p:seq>
              <p:cTn id="625" dur="indefinite" nodeType="mainSeq">
                <p:childTnLst>
                  <p:par>
                    <p:cTn id="626" nodeType="clickEffect" fill="hold">
                      <p:stCondLst>
                        <p:cond delay="0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Times New Roman"/>
              </a:rPr>
              <a:t>96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23+ y = 119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0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Times New Roman"/>
              </a:rPr>
              <a:t>81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x - 32 = 49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Times New Roman"/>
              </a:rPr>
              <a:t>10.16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x + 19.98 = 30.14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0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Times New Roman"/>
              </a:rPr>
              <a:t>69.47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44.58 + y =114.05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0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Times New Roman"/>
              </a:rPr>
              <a:t>53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45 + y = 98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0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5T15:34:05Z</dcterms:created>
  <dc:creator>staff</dc:creator>
  <dc:description/>
  <dc:language>en-US</dc:language>
  <cp:lastModifiedBy>RomaK</cp:lastModifiedBy>
  <dcterms:modified xsi:type="dcterms:W3CDTF">2015-09-04T07:36:37Z</dcterms:modified>
  <cp:revision>15</cp:revision>
  <dc:subject/>
  <dc:title>Algebra</dc:title>
</cp:coreProperties>
</file>