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FAC5-A573-4273-BC92-5D8DC07E0A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 and Subtraction Equ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5.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2.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0.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5.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8.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2.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.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6.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9.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D523-DB55-42B0-962F-F41DF9F8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BF3F-E296-422F-BAF8-703567D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A538-904D-4921-8B4D-82B0080E4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F324-8E6C-404D-A17C-A715DD72E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4CCD-8A9E-4042-8943-4A8EF929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03CB-61B9-4685-8760-F7A66891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2DF1-27FE-4B16-9FE7-4CF1A0FA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F69-FA57-4F8E-8616-61A4261E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459-3798-43CB-9C80-8CD4CF72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553F-9707-4711-90EB-78B29C6C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7C6-9923-407A-8268-00554060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8500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966-77B1-4480-AC94-6BFFE988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marL="16452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1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20" indent="-164520" algn="ctr">
              <a:spcBef>
                <a:spcPts val="165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BFAD-6DD8-4468-A5E1-836B0334C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 Sans MS"/>
              </a:rPr>
              <a:t>Algebra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 Sans MS"/>
              </a:rPr>
              <a:t>Addition and Subtraction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0"/>
          <p:cNvGrpSpPr/>
          <p:nvPr/>
        </p:nvGrpSpPr>
        <p:grpSpPr>
          <a:xfrm>
            <a:off x="1066680" y="457200"/>
            <a:ext cx="7010640" cy="5943600"/>
            <a:chOff x="1066680" y="457200"/>
            <a:chExt cx="7010640" cy="5943600"/>
          </a:xfrm>
        </p:grpSpPr>
        <p:pic>
          <p:nvPicPr>
            <p:cNvPr id="51" name="Object 5" descr=""/>
            <p:cNvPicPr/>
            <p:nvPr/>
          </p:nvPicPr>
          <p:blipFill>
            <a:blip r:embed="rId1"/>
            <a:stretch/>
          </p:blipFill>
          <p:spPr>
            <a:xfrm>
              <a:off x="1143000" y="533520"/>
              <a:ext cx="14428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abacus"/>
            <p:cNvPicPr/>
            <p:nvPr/>
          </p:nvPicPr>
          <p:blipFill>
            <a:blip r:embed="rId2"/>
            <a:stretch/>
          </p:blipFill>
          <p:spPr>
            <a:xfrm>
              <a:off x="6400800" y="457200"/>
              <a:ext cx="167652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BS01099_(p)"/>
            <p:cNvPicPr/>
            <p:nvPr/>
          </p:nvPicPr>
          <p:blipFill>
            <a:blip r:embed="rId3"/>
            <a:stretch/>
          </p:blipFill>
          <p:spPr>
            <a:xfrm>
              <a:off x="1066680" y="4876920"/>
              <a:ext cx="15242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j0130271(p)"/>
            <p:cNvPicPr/>
            <p:nvPr/>
          </p:nvPicPr>
          <p:blipFill>
            <a:blip r:embed="rId4"/>
            <a:stretch/>
          </p:blipFill>
          <p:spPr>
            <a:xfrm>
              <a:off x="6248520" y="4648320"/>
              <a:ext cx="1752480" cy="175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3 = 9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9 = 2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1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6 = a - 6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6 + y =18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2 =14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 = 6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9 + y 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1+ y = 9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75 = 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5.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1.5 = a - 34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2.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.79 =12.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7 = 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 = 4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.1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8.73 = a - 9.4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= a - 4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97 = a - 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 + y = 10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69 =16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.4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12.2 + y = 93.6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2 + y = 5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1=1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7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39 = a - 4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0.6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82.13 = 112.7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5.52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9.36 + y =114.8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nodeType="clickEffect" fill="hold">
                      <p:stCondLst>
                        <p:cond delay="0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 = a - 91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0.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12.3 = 47.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0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45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 = a - 4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0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67 = a - 3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3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14 =1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0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8.5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76.31 = 164.8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9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4 + y =12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2.9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34.45 = 117.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0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.4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29.25 = 38.6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6.7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9.2 = a - 7.5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7 + y =1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25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70 + y= 9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50 = 4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9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23+ y = 11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81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- 32 = 49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10.16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x + 19.98 = 30.1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69.47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4.58 + y =114.0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53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45 + y = 98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15:34:05Z</dcterms:created>
  <dc:creator>staff</dc:creator>
  <dc:description/>
  <dc:language>en-US</dc:language>
  <cp:lastModifiedBy>RomaK</cp:lastModifiedBy>
  <dcterms:modified xsi:type="dcterms:W3CDTF">2015-09-04T07:36:37Z</dcterms:modified>
  <cp:revision>15</cp:revision>
  <dc:subject/>
  <dc:title>Algebra</dc:title>
</cp:coreProperties>
</file>