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05CA-9647-403E-B1E2-62D5D684FD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and Subtraction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and Subtraction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2.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2.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.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.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5.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5.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8.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8.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2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2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.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.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6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6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.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.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C2A-4E60-41BC-9637-846C2D96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3554-3964-421A-A2B0-69E73171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ADE-4F30-468A-A0D9-D216C9AF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7DEC-11FC-4578-8BAB-BB72DE4F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F4FA-74C9-453A-A200-0DCEB80B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AB2D-B74A-43BC-8DAE-5BDFB525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4455-AE40-4EE3-AD72-19B902D8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578E-6F95-4FBC-84EB-19464B55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BF99-6927-4D2D-8F5A-A711DDCD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8B7-70C0-4F1A-8F67-294A779D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5E35-E055-4673-818C-5E15E53C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7894-069F-413F-8159-F1ECACA1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1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87E7-870D-4DCE-8EC5-74FA0E4B0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omic Sans MS"/>
              </a:rPr>
              <a:t>Algebra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Addition and Subtraction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0"/>
          <p:cNvGrpSpPr/>
          <p:nvPr/>
        </p:nvGrpSpPr>
        <p:grpSpPr>
          <a:xfrm>
            <a:off x="1066680" y="457200"/>
            <a:ext cx="7010640" cy="5943600"/>
            <a:chOff x="1066680" y="457200"/>
            <a:chExt cx="7010640" cy="5943600"/>
          </a:xfrm>
        </p:grpSpPr>
        <p:pic>
          <p:nvPicPr>
            <p:cNvPr id="51" name="Object 5" descr=""/>
            <p:cNvPicPr/>
            <p:nvPr/>
          </p:nvPicPr>
          <p:blipFill>
            <a:blip r:embed="rId1"/>
            <a:stretch/>
          </p:blipFill>
          <p:spPr>
            <a:xfrm>
              <a:off x="1143000" y="533520"/>
              <a:ext cx="14428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7" descr="abacus"/>
            <p:cNvPicPr/>
            <p:nvPr/>
          </p:nvPicPr>
          <p:blipFill>
            <a:blip r:embed="rId2"/>
            <a:stretch/>
          </p:blipFill>
          <p:spPr>
            <a:xfrm>
              <a:off x="6400800" y="457200"/>
              <a:ext cx="16765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8" descr="BS01099_(p)"/>
            <p:cNvPicPr/>
            <p:nvPr/>
          </p:nvPicPr>
          <p:blipFill>
            <a:blip r:embed="rId3"/>
            <a:stretch/>
          </p:blipFill>
          <p:spPr>
            <a:xfrm>
              <a:off x="1066680" y="4876920"/>
              <a:ext cx="15242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" descr="j0130271(p)"/>
            <p:cNvPicPr/>
            <p:nvPr/>
          </p:nvPicPr>
          <p:blipFill>
            <a:blip r:embed="rId4"/>
            <a:stretch/>
          </p:blipFill>
          <p:spPr>
            <a:xfrm>
              <a:off x="6248520" y="4648320"/>
              <a:ext cx="1752480" cy="1752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5.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2.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.1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.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0.6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5.5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0.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8.5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2.9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.4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6.7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.1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9.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5:34:05Z</dcterms:created>
  <dc:creator>staff</dc:creator>
  <dc:description/>
  <dc:language>en-US</dc:language>
  <cp:lastModifiedBy>RomaK</cp:lastModifiedBy>
  <dcterms:modified xsi:type="dcterms:W3CDTF">2015-09-04T07:36:37Z</dcterms:modified>
  <cp:revision>15</cp:revision>
  <dc:subject/>
  <dc:title>Algebra</dc:title>
</cp:coreProperties>
</file>