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CA34-2874-4BAA-B17B-2D9273F47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0B0-3251-4DF3-B204-8214A4BF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E8A-CB94-4D51-83B0-4D6FC293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66F-3E9D-4174-B70E-0AC11D8B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8DC-354B-4465-86D1-1679864C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39B1-2D5A-4929-AFD5-AB3E25FE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C0CF-ACD9-49CA-A346-46597A48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CFA8-5022-484B-BA54-12A98CC9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ADAE-9A96-474E-A950-7AB6A90C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3DF6-ED95-47B1-BF29-FF04BB3F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3F3C-EF31-472A-9270-2B175B38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FCE6-7971-4219-B439-81B98A21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0EB-5535-48BD-A550-8981E700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2B13-543F-44D3-BBA9-8402E9C6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1D5B-69BF-4B78-9938-C955D838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C57F-7165-469D-BB14-B0CBE94B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D881-9B3D-4768-B9C6-DC7FA280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0BDB-2C73-4898-BBA7-E09F8122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096-24B6-400A-9E4B-6AEB9CCE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9D0-D2D5-4268-9EE4-61051398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5DA-BF8C-4861-8A04-83E93CE3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FD1-B6DC-471C-894E-98A3A285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ED6-3828-49BA-A85F-81DFD89C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2CA-6886-4BDE-A9BF-A17BCB6C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F2C-4DD5-4645-BEBF-908EF3E4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4C26-FBA5-4B62-9DB0-C5109698DE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C70C-1DF2-4A3B-94F0-6B489F4E30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6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6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6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0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0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RomaK</cp:lastModifiedBy>
  <dcterms:modified xsi:type="dcterms:W3CDTF">2015-09-04T07:36:20Z</dcterms:modified>
  <cp:revision>169</cp:revision>
  <dc:subject/>
  <dc:title>Inequalities and their Graphs</dc:title>
</cp:coreProperties>
</file>