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C5DE6-514F-4572-A93D-02D2210F2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 Algebr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Gustafson and Fr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view of Basic Alge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ociative – addition, 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tative – addition, 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ve – multiplication is distributed over addi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(b + c) = ab + 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ropertie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ssociative – addition, multi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utative – addition, multi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tributive – multiplication is distributed over additio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 (b + c) = ab + 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ti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 –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 –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 – oppo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 – reciproc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dentitie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ition – zer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ultiplication – o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verse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ition – opposi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ultiplication – reciproc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3: Definition of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NENTS: repeated 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expression: a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the base and n is the ex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nents are NOT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s to multiply “a” n 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3: Definition of Expon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XPONENTS: repeated multi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 the expression: an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 is the base and n is the expon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xponents are NOT fa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eans to multiply “a” n tim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3: Definition of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OF OPERATION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 algebraic expression has more than one operation, the following order appl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r up any group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e ex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multiplication and division from left to r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ddition and subtraction from left to r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3: Definition of Expon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ORDER OF OPERATION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f an algebraic expression has more than one operation, the following order applie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lear up any group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valuate expone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o multiplication and division from left to righ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o addition and subtraction from left to righ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5: Solving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ebraic Expression vs.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ons: a combination of numbers and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ion: a statement that two expressions are eq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5: Solving Equ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lgebraic Expression vs. Equ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xpressions: a combination of numbers and oper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quation: a statement that two expressions are equ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5: Solving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ON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multiplying, the terms do not need to be al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only add like term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5: Solving Equ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XPRESSION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e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Like te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hen multiplying, the terms do not need to be alik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an only add like terms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5: Solving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AN EQUATION IN ONE VARIAB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see fractions, multiply both sides by the LCD. This will eliminate the fr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fy the algebraic expressions on each side of the equal sign (eliminate parentheses and combine like term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e addition property of equality to isolate the variable terms from the constant terms on opposite sides of the equal 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e multiplication property to make the coefficient  of the variable equal to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your results by evalu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5: Solving Equ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O SOLVE AN EQUATION IN ONE VARIABL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f you see fractions, multiply both sides by the LCD. This will eliminate the frac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implify the algebraic expressions on each side of the equal sign (eliminate parentheses and combine like terms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se the addition property of equality to isolate the variable terms from the constant terms on opposite sides of the equal sig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se the multiplication property to make the coefficient  of the variable equal to o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heck your results by evaluat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5: Solving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EQU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AL: if x equals this, then y equals th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TY: always true no matter what numbers you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DICTION: never true no matter what numbers you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S: conditional equations that model a relationship between the varia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5: Solving Equ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YPES OF EQUATION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DITIONAL: if x equals this, then y equals tha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DENTITY: always true no matter what numbers you u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TRADICTION: never true no matter what numbers you u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ORMULAS: conditional equations that model a relationship between the variabl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6 &amp; 1.7: Solving Problems,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PROBLE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(forc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form 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‘ole common sense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: Basic Algebra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 YOUR VOCABULARY! You can’t follow directions if you don’t know what the words in the instructions me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ize the processes and the proper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ll provide formulas for your refer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questions if you are un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check your work to make sure that you answered the question, and that your answer is reason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hapter 1: Basic Algebra Revie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UMMARY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KNOW YOUR VOCABULARY! You can’t follow directions if you don’t know what the words in the instructions mea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emorize the processes and the propert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 will provide formulas for your referen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sk questions if you are unsu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lways check your work to make sure that you answered the question, and that your answer is reasonab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1: The Real Numbe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: collections of ob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l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d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{  }  {x | x &gt; 5}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read “the set of all x such that x is greater than 5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1: The Real Numbe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TS: collections of objec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atur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hole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ation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rration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g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sitive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egative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ven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Odd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se {  }  {x | x &gt; 5}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s read “the set of all x such that x is greater than 5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1: The Real Numbe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: plot on the number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vidual numbers are d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1: The Real Numbe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APHS: plot on the number 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vidual numbers are do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1: The Real Numbe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: plot on the number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vals including end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1: The Real Numbe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APHS: plot on the number 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vals including end poi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1: The Real Numbe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: plot on the number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vals not including end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1: The Real Numbe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APHS: plot on the number 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vals not including end poi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ION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ion (the same as adding a number with the opposite sig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sion (the same as multiplying by the recipro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ends that have opposite sig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 absolute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the sign of the addend with the largest absolute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ends that have the same sig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absolute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the sign of the add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ITION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ends that have opposite sig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ubtract absolute valu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Keep the sign of the addend with the largest absolute val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ends that have the same sig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 absolute valu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Keep the sign of the adde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absolute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actors have the same sign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is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actors have opposite sign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is 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ULTIPLICATION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ultiply absolute valu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f the factors have the same signs,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he product is positi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f the factors have opposite signs,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he product is negati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STICS: measures of central tendenc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TISTICS: measures of central tendenc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ea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edia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A4AA-0755-4974-9459-F81D42BED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73BA-41B3-40E4-9C0A-1052248B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C59F-E45F-47A2-9610-502A10938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0EE3-097B-4960-BD90-34292FCA9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1D408-46BF-42E8-8344-9A5ED580C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23FEF-3DC0-4DA0-8D98-A60EDEF55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23133-5F52-42B4-88C3-C570C395E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73E23-2A04-4026-B214-C80C32568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004B6-56E4-4B2F-AF0D-AB9D4763B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8B247-E6D6-4124-ABD5-0E0F5E3D4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93421-20FB-4AFA-98A0-BD4D778F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A0D0-E101-44BD-A0FE-3833278D7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1218F-E28F-4E7C-96C9-DE2840D6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56837-87D0-45EC-A316-6CBF9400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48B05-CF98-4C70-8C89-33CBD57B8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C6647-CFC4-4521-ACED-BC4C5781B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07EC3-3191-49AD-9D21-F7EADDA98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5311-778C-4160-A770-C7C62729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E4F6-C1A1-4922-8847-2894CCCCD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ECA8-1405-468D-8753-CAD65827F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AAEF-2DA8-49D7-80FF-17049D5E4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1D02-CB22-44C2-ACA2-E050ACAF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A1DF-C016-4CFD-A6B8-5B54F599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29C1-6972-430C-A875-DDC1AA3A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68FA8-AC53-45A0-96F7-CF843096B6D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5B75A-C621-4F4E-B990-3B121759119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ntermediate Algebra</a:t>
            </a:r>
            <a:br>
              <a:rPr sz="4400"/>
            </a:b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by Gustafson and Frisk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pter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Review of Basic Algeb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Properti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23"/>
          <p:cNvSpPr/>
          <p:nvPr/>
        </p:nvSpPr>
        <p:spPr>
          <a:xfrm>
            <a:off x="914400" y="1905120"/>
            <a:ext cx="75438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ociative – addition, multi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tative – addition, multi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24"/>
          <p:cNvSpPr/>
          <p:nvPr/>
        </p:nvSpPr>
        <p:spPr>
          <a:xfrm>
            <a:off x="1066680" y="41148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tributive – multiplication is distributed over additio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(b + c) = ab + 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dentiti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914400" y="1905120"/>
            <a:ext cx="75438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ition – z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ication – 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Placeholder 26"/>
          <p:cNvSpPr/>
          <p:nvPr/>
        </p:nvSpPr>
        <p:spPr>
          <a:xfrm>
            <a:off x="914400" y="358128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vers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914400" y="4343400"/>
            <a:ext cx="75438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ition – oppos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ication – reciproc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3: Definition of Ex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XPONENTS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eated multi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914400" y="2286000"/>
            <a:ext cx="754380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e expression: a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is the base and n is the expon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onents are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ns to multiply “a” n ti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7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3: Definition of Ex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ORDER OF OPERATION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914400" y="1905120"/>
            <a:ext cx="7543800" cy="42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an algebraic expression has more than one operation, the following order appli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ear up any group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aluate expon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multiplication and division from left to righ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addition and subtraction from left to righ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5: Solving Equ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lgebraic Expression vs. Eq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914400" y="2286000"/>
            <a:ext cx="7543800" cy="21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ressions: a combination of numbers and 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quation: a statement that two expressions are eq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5: Solving Equ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XPRESSION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914400" y="2286000"/>
            <a:ext cx="754380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ke te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multiplying, the terms do not need to be ali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an only add like term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5: Solving Equ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O SOLVE AN EQUATION IN ONE VARIAB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914400" y="1905120"/>
            <a:ext cx="784872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you see fractions,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multiply both sides by the LC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This will eliminate the frac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Simplif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he algebraic expressions on each side of the equal sign (eliminate parentheses and combine like term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the addition property of equality to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isolate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variable terms from the constant terms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 opposite sides of the equal sig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the multiplication property to make the coefficient  of the variable equal to o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eck your results by evaluat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29" dur="indefinite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30" dur="indefinite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31" dur="indefinite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35" dur="indefinite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36" dur="indefinite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37" dur="indefinite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41" dur="indefinite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42" dur="indefinite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43" dur="indefinite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47" dur="indefinite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48" dur="indefinite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49" dur="indefinite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53" dur="indefinite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indefinite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indefinite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5: Solving Equ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YPES OF EQUA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914400" y="1905120"/>
            <a:ext cx="7543800" cy="47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DITIONAL: if x equals this, then y equals th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ENTITY: always true no matter what numbers you 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RADICTION: never true no matter what numbers you 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MULAS: conditional equations that model a relationship between the variab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6 &amp; 1.7: Solving Problems,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TYPES OF PROBLEM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914400" y="1905120"/>
            <a:ext cx="7543800" cy="35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ome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c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ysics (forc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iform mo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x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od ‘ole common sense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420" dur="5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Chapter 1: Basic Algebra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SUMMARY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914400" y="1905120"/>
            <a:ext cx="7543800" cy="47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NOW YOUR VOCABULARY!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can’t follow directions if you don’t know what the words in the instructions me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morize the processes and the proper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ill provide formulas for your refere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k questions if you are uns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ways check your work to make sure that you answered the question, and that your answer is reason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1" dur="10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90560" y="274320"/>
            <a:ext cx="6095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1: The Real Number System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SETS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llections of objec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37720" y="2209680"/>
            <a:ext cx="350532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tural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ole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tional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rrational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l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876560" y="2209680"/>
            <a:ext cx="3431880" cy="27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g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itive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gative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en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dd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Content Placeholder 25"/>
          <p:cNvSpPr/>
          <p:nvPr/>
        </p:nvSpPr>
        <p:spPr>
          <a:xfrm>
            <a:off x="914400" y="4800600"/>
            <a:ext cx="7315200" cy="15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8800" indent="-182880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se {  } 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{x | x &gt; 5}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read “the set of all x such that x is greater than 5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828800" indent="-18288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90560" y="274320"/>
            <a:ext cx="6095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1: The Real Number System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GRAPHS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ot on the number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" name="Group 9"/>
          <p:cNvGrpSpPr/>
          <p:nvPr/>
        </p:nvGrpSpPr>
        <p:grpSpPr>
          <a:xfrm>
            <a:off x="1600200" y="4038480"/>
            <a:ext cx="6324480" cy="1178640"/>
            <a:chOff x="1600200" y="4038480"/>
            <a:chExt cx="6324480" cy="1178640"/>
          </a:xfrm>
        </p:grpSpPr>
        <p:sp>
          <p:nvSpPr>
            <p:cNvPr id="126" name="Rectangle 6"/>
            <p:cNvSpPr/>
            <p:nvPr/>
          </p:nvSpPr>
          <p:spPr>
            <a:xfrm>
              <a:off x="3701160" y="457200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7"/>
            <p:cNvSpPr/>
            <p:nvPr/>
          </p:nvSpPr>
          <p:spPr>
            <a:xfrm>
              <a:off x="4408560" y="4574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8"/>
            <p:cNvSpPr/>
            <p:nvPr/>
          </p:nvSpPr>
          <p:spPr>
            <a:xfrm>
              <a:off x="6302880" y="4574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9"/>
            <p:cNvSpPr/>
            <p:nvPr/>
          </p:nvSpPr>
          <p:spPr>
            <a:xfrm>
              <a:off x="5040000" y="4574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10"/>
            <p:cNvSpPr/>
            <p:nvPr/>
          </p:nvSpPr>
          <p:spPr>
            <a:xfrm>
              <a:off x="6934320" y="4574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Rectangle 11"/>
            <p:cNvSpPr/>
            <p:nvPr/>
          </p:nvSpPr>
          <p:spPr>
            <a:xfrm>
              <a:off x="5671440" y="4574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ectangle 12"/>
            <p:cNvSpPr/>
            <p:nvPr/>
          </p:nvSpPr>
          <p:spPr>
            <a:xfrm>
              <a:off x="2841120" y="457200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Line 15"/>
            <p:cNvSpPr/>
            <p:nvPr/>
          </p:nvSpPr>
          <p:spPr>
            <a:xfrm>
              <a:off x="1600200" y="4267080"/>
              <a:ext cx="6324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Line 16"/>
            <p:cNvSpPr/>
            <p:nvPr/>
          </p:nvSpPr>
          <p:spPr>
            <a:xfrm>
              <a:off x="2438280" y="411444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17"/>
            <p:cNvSpPr/>
            <p:nvPr/>
          </p:nvSpPr>
          <p:spPr>
            <a:xfrm>
              <a:off x="3222000" y="40384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18"/>
            <p:cNvSpPr/>
            <p:nvPr/>
          </p:nvSpPr>
          <p:spPr>
            <a:xfrm>
              <a:off x="4005720" y="411444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19"/>
            <p:cNvSpPr/>
            <p:nvPr/>
          </p:nvSpPr>
          <p:spPr>
            <a:xfrm>
              <a:off x="4675320" y="40384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20"/>
            <p:cNvSpPr/>
            <p:nvPr/>
          </p:nvSpPr>
          <p:spPr>
            <a:xfrm>
              <a:off x="5306760" y="411444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21"/>
            <p:cNvSpPr/>
            <p:nvPr/>
          </p:nvSpPr>
          <p:spPr>
            <a:xfrm>
              <a:off x="5938200" y="40384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Line 22"/>
            <p:cNvSpPr/>
            <p:nvPr/>
          </p:nvSpPr>
          <p:spPr>
            <a:xfrm>
              <a:off x="6569640" y="411444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Line 19"/>
            <p:cNvSpPr/>
            <p:nvPr/>
          </p:nvSpPr>
          <p:spPr>
            <a:xfrm>
              <a:off x="7201080" y="40384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Rectangle 12"/>
            <p:cNvSpPr/>
            <p:nvPr/>
          </p:nvSpPr>
          <p:spPr>
            <a:xfrm>
              <a:off x="2057400" y="457200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3" name="TextBox 46"/>
          <p:cNvSpPr/>
          <p:nvPr/>
        </p:nvSpPr>
        <p:spPr>
          <a:xfrm>
            <a:off x="1523880" y="243828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Individual numbers are do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Oval 47"/>
          <p:cNvSpPr/>
          <p:nvPr/>
        </p:nvSpPr>
        <p:spPr>
          <a:xfrm>
            <a:off x="5181480" y="41148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7"/>
          <p:cNvGrpSpPr/>
          <p:nvPr/>
        </p:nvGrpSpPr>
        <p:grpSpPr>
          <a:xfrm>
            <a:off x="1523880" y="4611600"/>
            <a:ext cx="6324840" cy="1178640"/>
            <a:chOff x="1523880" y="4611600"/>
            <a:chExt cx="6324840" cy="1178640"/>
          </a:xfrm>
        </p:grpSpPr>
        <p:sp>
          <p:nvSpPr>
            <p:cNvPr id="146" name="Rectangle 6"/>
            <p:cNvSpPr/>
            <p:nvPr/>
          </p:nvSpPr>
          <p:spPr>
            <a:xfrm>
              <a:off x="3624840" y="514512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Rectangle 7"/>
            <p:cNvSpPr/>
            <p:nvPr/>
          </p:nvSpPr>
          <p:spPr>
            <a:xfrm>
              <a:off x="433260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8"/>
            <p:cNvSpPr/>
            <p:nvPr/>
          </p:nvSpPr>
          <p:spPr>
            <a:xfrm>
              <a:off x="622692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Rectangle 9"/>
            <p:cNvSpPr/>
            <p:nvPr/>
          </p:nvSpPr>
          <p:spPr>
            <a:xfrm>
              <a:off x="496404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Rectangle 10"/>
            <p:cNvSpPr/>
            <p:nvPr/>
          </p:nvSpPr>
          <p:spPr>
            <a:xfrm>
              <a:off x="685836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Rectangle 11"/>
            <p:cNvSpPr/>
            <p:nvPr/>
          </p:nvSpPr>
          <p:spPr>
            <a:xfrm>
              <a:off x="559548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Rectangle 12"/>
            <p:cNvSpPr/>
            <p:nvPr/>
          </p:nvSpPr>
          <p:spPr>
            <a:xfrm>
              <a:off x="2764800" y="514512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Line 15"/>
            <p:cNvSpPr/>
            <p:nvPr/>
          </p:nvSpPr>
          <p:spPr>
            <a:xfrm>
              <a:off x="1523880" y="4840200"/>
              <a:ext cx="6324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Line 16"/>
            <p:cNvSpPr/>
            <p:nvPr/>
          </p:nvSpPr>
          <p:spPr>
            <a:xfrm>
              <a:off x="236196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Line 17"/>
            <p:cNvSpPr/>
            <p:nvPr/>
          </p:nvSpPr>
          <p:spPr>
            <a:xfrm>
              <a:off x="314568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18"/>
            <p:cNvSpPr/>
            <p:nvPr/>
          </p:nvSpPr>
          <p:spPr>
            <a:xfrm>
              <a:off x="392976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Line 19"/>
            <p:cNvSpPr/>
            <p:nvPr/>
          </p:nvSpPr>
          <p:spPr>
            <a:xfrm>
              <a:off x="459936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Line 20"/>
            <p:cNvSpPr/>
            <p:nvPr/>
          </p:nvSpPr>
          <p:spPr>
            <a:xfrm>
              <a:off x="523080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Line 21"/>
            <p:cNvSpPr/>
            <p:nvPr/>
          </p:nvSpPr>
          <p:spPr>
            <a:xfrm>
              <a:off x="586224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Line 22"/>
            <p:cNvSpPr/>
            <p:nvPr/>
          </p:nvSpPr>
          <p:spPr>
            <a:xfrm>
              <a:off x="649332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Line 19"/>
            <p:cNvSpPr/>
            <p:nvPr/>
          </p:nvSpPr>
          <p:spPr>
            <a:xfrm>
              <a:off x="712476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12"/>
            <p:cNvSpPr/>
            <p:nvPr/>
          </p:nvSpPr>
          <p:spPr>
            <a:xfrm>
              <a:off x="1981080" y="514512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Rectangle 2"/>
          <p:cNvSpPr/>
          <p:nvPr/>
        </p:nvSpPr>
        <p:spPr>
          <a:xfrm>
            <a:off x="2590920" y="274680"/>
            <a:ext cx="6095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1: The Real Number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GRAPHS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ot on the number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" name="Group 31"/>
          <p:cNvGrpSpPr/>
          <p:nvPr/>
        </p:nvGrpSpPr>
        <p:grpSpPr>
          <a:xfrm>
            <a:off x="1600200" y="3048120"/>
            <a:ext cx="6324480" cy="1178280"/>
            <a:chOff x="1600200" y="3048120"/>
            <a:chExt cx="6324480" cy="1178280"/>
          </a:xfrm>
        </p:grpSpPr>
        <p:sp>
          <p:nvSpPr>
            <p:cNvPr id="166" name="Rectangle 6"/>
            <p:cNvSpPr/>
            <p:nvPr/>
          </p:nvSpPr>
          <p:spPr>
            <a:xfrm>
              <a:off x="3701160" y="358128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Rectangle 7"/>
            <p:cNvSpPr/>
            <p:nvPr/>
          </p:nvSpPr>
          <p:spPr>
            <a:xfrm>
              <a:off x="440856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Rectangle 8"/>
            <p:cNvSpPr/>
            <p:nvPr/>
          </p:nvSpPr>
          <p:spPr>
            <a:xfrm>
              <a:off x="630288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Rectangle 9"/>
            <p:cNvSpPr/>
            <p:nvPr/>
          </p:nvSpPr>
          <p:spPr>
            <a:xfrm>
              <a:off x="504000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Rectangle 10"/>
            <p:cNvSpPr/>
            <p:nvPr/>
          </p:nvSpPr>
          <p:spPr>
            <a:xfrm>
              <a:off x="693432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Rectangle 11"/>
            <p:cNvSpPr/>
            <p:nvPr/>
          </p:nvSpPr>
          <p:spPr>
            <a:xfrm>
              <a:off x="567144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Rectangle 12"/>
            <p:cNvSpPr/>
            <p:nvPr/>
          </p:nvSpPr>
          <p:spPr>
            <a:xfrm>
              <a:off x="2841120" y="358128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15"/>
            <p:cNvSpPr/>
            <p:nvPr/>
          </p:nvSpPr>
          <p:spPr>
            <a:xfrm>
              <a:off x="1600200" y="3276360"/>
              <a:ext cx="6324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Line 16"/>
            <p:cNvSpPr/>
            <p:nvPr/>
          </p:nvSpPr>
          <p:spPr>
            <a:xfrm>
              <a:off x="243828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Line 17"/>
            <p:cNvSpPr/>
            <p:nvPr/>
          </p:nvSpPr>
          <p:spPr>
            <a:xfrm>
              <a:off x="322200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Line 18"/>
            <p:cNvSpPr/>
            <p:nvPr/>
          </p:nvSpPr>
          <p:spPr>
            <a:xfrm>
              <a:off x="400572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Line 19"/>
            <p:cNvSpPr/>
            <p:nvPr/>
          </p:nvSpPr>
          <p:spPr>
            <a:xfrm>
              <a:off x="467532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20"/>
            <p:cNvSpPr/>
            <p:nvPr/>
          </p:nvSpPr>
          <p:spPr>
            <a:xfrm>
              <a:off x="530676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Line 21"/>
            <p:cNvSpPr/>
            <p:nvPr/>
          </p:nvSpPr>
          <p:spPr>
            <a:xfrm>
              <a:off x="593820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22"/>
            <p:cNvSpPr/>
            <p:nvPr/>
          </p:nvSpPr>
          <p:spPr>
            <a:xfrm>
              <a:off x="656964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19"/>
            <p:cNvSpPr/>
            <p:nvPr/>
          </p:nvSpPr>
          <p:spPr>
            <a:xfrm>
              <a:off x="720108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Rectangle 12"/>
            <p:cNvSpPr/>
            <p:nvPr/>
          </p:nvSpPr>
          <p:spPr>
            <a:xfrm>
              <a:off x="2057400" y="358128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3" name="TextBox 49"/>
          <p:cNvSpPr/>
          <p:nvPr/>
        </p:nvSpPr>
        <p:spPr>
          <a:xfrm>
            <a:off x="1371600" y="220968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Intervals including end poi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Box 51"/>
          <p:cNvSpPr/>
          <p:nvPr/>
        </p:nvSpPr>
        <p:spPr>
          <a:xfrm>
            <a:off x="5791320" y="2895480"/>
            <a:ext cx="3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[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Box 70"/>
          <p:cNvSpPr/>
          <p:nvPr/>
        </p:nvSpPr>
        <p:spPr>
          <a:xfrm>
            <a:off x="4419720" y="4419720"/>
            <a:ext cx="3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[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Box 71"/>
          <p:cNvSpPr/>
          <p:nvPr/>
        </p:nvSpPr>
        <p:spPr>
          <a:xfrm>
            <a:off x="5715000" y="4419720"/>
            <a:ext cx="30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Straight Connector 73"/>
          <p:cNvSpPr/>
          <p:nvPr/>
        </p:nvSpPr>
        <p:spPr>
          <a:xfrm>
            <a:off x="4572000" y="4800600"/>
            <a:ext cx="1295280" cy="0"/>
          </a:xfrm>
          <a:prstGeom prst="line">
            <a:avLst/>
          </a:prstGeom>
          <a:ln w="152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23"/>
          <p:cNvSpPr/>
          <p:nvPr/>
        </p:nvSpPr>
        <p:spPr>
          <a:xfrm>
            <a:off x="5943600" y="3276720"/>
            <a:ext cx="1752480" cy="0"/>
          </a:xfrm>
          <a:prstGeom prst="line">
            <a:avLst/>
          </a:prstGeom>
          <a:ln w="1522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1523880" y="4611600"/>
            <a:ext cx="6324840" cy="1178640"/>
            <a:chOff x="1523880" y="4611600"/>
            <a:chExt cx="6324840" cy="1178640"/>
          </a:xfrm>
        </p:grpSpPr>
        <p:sp>
          <p:nvSpPr>
            <p:cNvPr id="190" name="Rectangle 6"/>
            <p:cNvSpPr/>
            <p:nvPr/>
          </p:nvSpPr>
          <p:spPr>
            <a:xfrm>
              <a:off x="3624840" y="514512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Rectangle 7"/>
            <p:cNvSpPr/>
            <p:nvPr/>
          </p:nvSpPr>
          <p:spPr>
            <a:xfrm>
              <a:off x="433260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Rectangle 8"/>
            <p:cNvSpPr/>
            <p:nvPr/>
          </p:nvSpPr>
          <p:spPr>
            <a:xfrm>
              <a:off x="622692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Rectangle 9"/>
            <p:cNvSpPr/>
            <p:nvPr/>
          </p:nvSpPr>
          <p:spPr>
            <a:xfrm>
              <a:off x="496404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Rectangle 10"/>
            <p:cNvSpPr/>
            <p:nvPr/>
          </p:nvSpPr>
          <p:spPr>
            <a:xfrm>
              <a:off x="685836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Rectangle 11"/>
            <p:cNvSpPr/>
            <p:nvPr/>
          </p:nvSpPr>
          <p:spPr>
            <a:xfrm>
              <a:off x="559548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Rectangle 12"/>
            <p:cNvSpPr/>
            <p:nvPr/>
          </p:nvSpPr>
          <p:spPr>
            <a:xfrm>
              <a:off x="2764800" y="514512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Line 15"/>
            <p:cNvSpPr/>
            <p:nvPr/>
          </p:nvSpPr>
          <p:spPr>
            <a:xfrm>
              <a:off x="1523880" y="4840200"/>
              <a:ext cx="6324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Line 16"/>
            <p:cNvSpPr/>
            <p:nvPr/>
          </p:nvSpPr>
          <p:spPr>
            <a:xfrm>
              <a:off x="236196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Line 17"/>
            <p:cNvSpPr/>
            <p:nvPr/>
          </p:nvSpPr>
          <p:spPr>
            <a:xfrm>
              <a:off x="314568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Line 18"/>
            <p:cNvSpPr/>
            <p:nvPr/>
          </p:nvSpPr>
          <p:spPr>
            <a:xfrm>
              <a:off x="392976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Line 19"/>
            <p:cNvSpPr/>
            <p:nvPr/>
          </p:nvSpPr>
          <p:spPr>
            <a:xfrm>
              <a:off x="459936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20"/>
            <p:cNvSpPr/>
            <p:nvPr/>
          </p:nvSpPr>
          <p:spPr>
            <a:xfrm>
              <a:off x="523080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Line 21"/>
            <p:cNvSpPr/>
            <p:nvPr/>
          </p:nvSpPr>
          <p:spPr>
            <a:xfrm>
              <a:off x="586224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22"/>
            <p:cNvSpPr/>
            <p:nvPr/>
          </p:nvSpPr>
          <p:spPr>
            <a:xfrm>
              <a:off x="649332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Line 19"/>
            <p:cNvSpPr/>
            <p:nvPr/>
          </p:nvSpPr>
          <p:spPr>
            <a:xfrm>
              <a:off x="712476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Rectangle 12"/>
            <p:cNvSpPr/>
            <p:nvPr/>
          </p:nvSpPr>
          <p:spPr>
            <a:xfrm>
              <a:off x="1981080" y="514512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7" name="Rectangle 2"/>
          <p:cNvSpPr/>
          <p:nvPr/>
        </p:nvSpPr>
        <p:spPr>
          <a:xfrm>
            <a:off x="2590920" y="274680"/>
            <a:ext cx="6095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1: The Real Number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GRAPHS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ot on the number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Group 22"/>
          <p:cNvGrpSpPr/>
          <p:nvPr/>
        </p:nvGrpSpPr>
        <p:grpSpPr>
          <a:xfrm>
            <a:off x="1600200" y="3048120"/>
            <a:ext cx="6324480" cy="1178280"/>
            <a:chOff x="1600200" y="3048120"/>
            <a:chExt cx="6324480" cy="1178280"/>
          </a:xfrm>
        </p:grpSpPr>
        <p:sp>
          <p:nvSpPr>
            <p:cNvPr id="210" name="Rectangle 6"/>
            <p:cNvSpPr/>
            <p:nvPr/>
          </p:nvSpPr>
          <p:spPr>
            <a:xfrm>
              <a:off x="3701160" y="358128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Rectangle 7"/>
            <p:cNvSpPr/>
            <p:nvPr/>
          </p:nvSpPr>
          <p:spPr>
            <a:xfrm>
              <a:off x="440856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Rectangle 8"/>
            <p:cNvSpPr/>
            <p:nvPr/>
          </p:nvSpPr>
          <p:spPr>
            <a:xfrm>
              <a:off x="630288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Rectangle 9"/>
            <p:cNvSpPr/>
            <p:nvPr/>
          </p:nvSpPr>
          <p:spPr>
            <a:xfrm>
              <a:off x="504000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Rectangle 10"/>
            <p:cNvSpPr/>
            <p:nvPr/>
          </p:nvSpPr>
          <p:spPr>
            <a:xfrm>
              <a:off x="693432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Rectangle 11"/>
            <p:cNvSpPr/>
            <p:nvPr/>
          </p:nvSpPr>
          <p:spPr>
            <a:xfrm>
              <a:off x="567144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Rectangle 12"/>
            <p:cNvSpPr/>
            <p:nvPr/>
          </p:nvSpPr>
          <p:spPr>
            <a:xfrm>
              <a:off x="2841120" y="358128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Line 15"/>
            <p:cNvSpPr/>
            <p:nvPr/>
          </p:nvSpPr>
          <p:spPr>
            <a:xfrm>
              <a:off x="1600200" y="3276360"/>
              <a:ext cx="6324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Line 16"/>
            <p:cNvSpPr/>
            <p:nvPr/>
          </p:nvSpPr>
          <p:spPr>
            <a:xfrm>
              <a:off x="243828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Line 17"/>
            <p:cNvSpPr/>
            <p:nvPr/>
          </p:nvSpPr>
          <p:spPr>
            <a:xfrm>
              <a:off x="322200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Line 18"/>
            <p:cNvSpPr/>
            <p:nvPr/>
          </p:nvSpPr>
          <p:spPr>
            <a:xfrm>
              <a:off x="400572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Line 19"/>
            <p:cNvSpPr/>
            <p:nvPr/>
          </p:nvSpPr>
          <p:spPr>
            <a:xfrm>
              <a:off x="467532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20"/>
            <p:cNvSpPr/>
            <p:nvPr/>
          </p:nvSpPr>
          <p:spPr>
            <a:xfrm>
              <a:off x="530676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Line 21"/>
            <p:cNvSpPr/>
            <p:nvPr/>
          </p:nvSpPr>
          <p:spPr>
            <a:xfrm>
              <a:off x="593820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22"/>
            <p:cNvSpPr/>
            <p:nvPr/>
          </p:nvSpPr>
          <p:spPr>
            <a:xfrm>
              <a:off x="656964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Line 19"/>
            <p:cNvSpPr/>
            <p:nvPr/>
          </p:nvSpPr>
          <p:spPr>
            <a:xfrm>
              <a:off x="720108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Rectangle 12"/>
            <p:cNvSpPr/>
            <p:nvPr/>
          </p:nvSpPr>
          <p:spPr>
            <a:xfrm>
              <a:off x="2057400" y="358128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7" name="TextBox 40"/>
          <p:cNvSpPr/>
          <p:nvPr/>
        </p:nvSpPr>
        <p:spPr>
          <a:xfrm>
            <a:off x="1219320" y="22096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Intervals not including end poi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Box 41"/>
          <p:cNvSpPr/>
          <p:nvPr/>
        </p:nvSpPr>
        <p:spPr>
          <a:xfrm>
            <a:off x="5791320" y="2895480"/>
            <a:ext cx="3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(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Box 42"/>
          <p:cNvSpPr/>
          <p:nvPr/>
        </p:nvSpPr>
        <p:spPr>
          <a:xfrm>
            <a:off x="4419720" y="4419720"/>
            <a:ext cx="3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(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Box 43"/>
          <p:cNvSpPr/>
          <p:nvPr/>
        </p:nvSpPr>
        <p:spPr>
          <a:xfrm>
            <a:off x="5715000" y="4419720"/>
            <a:ext cx="30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Straight Connector 44"/>
          <p:cNvSpPr/>
          <p:nvPr/>
        </p:nvSpPr>
        <p:spPr>
          <a:xfrm>
            <a:off x="4572000" y="4800600"/>
            <a:ext cx="1371600" cy="0"/>
          </a:xfrm>
          <a:prstGeom prst="line">
            <a:avLst/>
          </a:prstGeom>
          <a:ln w="152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Line 23"/>
          <p:cNvSpPr/>
          <p:nvPr/>
        </p:nvSpPr>
        <p:spPr>
          <a:xfrm>
            <a:off x="5943600" y="3276720"/>
            <a:ext cx="1752480" cy="0"/>
          </a:xfrm>
          <a:prstGeom prst="line">
            <a:avLst/>
          </a:prstGeom>
          <a:ln w="1522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63"/>
          <p:cNvSpPr/>
          <p:nvPr/>
        </p:nvSpPr>
        <p:spPr>
          <a:xfrm>
            <a:off x="762120" y="3803760"/>
            <a:ext cx="701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OPERATION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i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btraction (the same as adding a number with the opposite sig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ltipli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vision (the same as multiplying by the reciproca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DDITION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Content Placeholder 19"/>
          <p:cNvSpPr/>
          <p:nvPr/>
        </p:nvSpPr>
        <p:spPr>
          <a:xfrm>
            <a:off x="914400" y="3962520"/>
            <a:ext cx="75438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ends that have opposite sig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btract absolute val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ep the sign of the addend with the largest absolute val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914400" y="1890720"/>
            <a:ext cx="754380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ends that have the same sig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 absolute val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ep the sign of the adde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ULTIPLICATION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914400" y="2286000"/>
            <a:ext cx="7543800" cy="27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ltiply absolute val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the factors have the same signs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oduct is posi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 factors have opposite signs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duct is neg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STATISTICS: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measures of central tendency</a:t>
            </a: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17"/>
          <p:cNvSpPr/>
          <p:nvPr/>
        </p:nvSpPr>
        <p:spPr>
          <a:xfrm>
            <a:off x="914400" y="2286000"/>
            <a:ext cx="754380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di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22:41:36Z</dcterms:created>
  <dc:creator>melissa.marshall</dc:creator>
  <dc:description/>
  <dc:language>en-US</dc:language>
  <cp:lastModifiedBy>RomaK</cp:lastModifiedBy>
  <dcterms:modified xsi:type="dcterms:W3CDTF">2015-09-04T07:36:20Z</dcterms:modified>
  <cp:revision>169</cp:revision>
  <dc:subject/>
  <dc:title>Inequalities and their Graphs</dc:title>
</cp:coreProperties>
</file>