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1618-31C8-437F-8085-05479ACE53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Times New Roman"/>
              </a:rPr>
              <a:t>Algebra II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Times New Roman"/>
              </a:rPr>
              <a:t>By Monica Yuskaiti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gebra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y Monica Yuskait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e these equations true, false or ope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1 - 3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3 + 4 = 1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4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 – 3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 + v = 1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5 – 6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se equations true, false or o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 3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 + 4 =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4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– 3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+ v =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 – 6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erse operation – the opposite operation used to undo the first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+ 3 = 7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 – 4 = 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 x 6 = 36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6 / 6 =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 operation – the opposite operation used to undo the firs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3 = 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– 4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x 6 = 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/ 6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to solve an addition equ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 the inverse operation for addition which is subt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8 = 12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 - 8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4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+ 8 = 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solve an addition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inverse operation for addition which is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+ 8 = 1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- 8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8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to solve a subtraction equ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 the inverse operation for subtraction which is addi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- 3 = 5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 + 3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8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 - 3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solve a subtraction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inverse operation for subtraction which is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- 3 = 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+ 3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 3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lve these equations using the inverse opera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4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– 5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4 = 1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– 6 = 1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7 = 1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– 8 = 1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these equations using the inverse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4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– 5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4 =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– 6 =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7 =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– 8 =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Commutative Proper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5 + 4 = 9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4 + 5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a + b = c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b + a = 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6 + 3 = 9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3 + 6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x+ y = z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y + x = z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3 + 4 + 1 = 8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1 + 3 + 4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uta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 + 4 = 9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 + 5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+ b = c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 + a =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+ 3 = 9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 + 6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+ y = z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 + x = 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 + 4 + 1 = 8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 + 3 + 4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lve these equations using the commutative proper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7 = 7 +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2 = 2 +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z + 3 = 3 +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+ 6 = 6 + 1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 + 4 = 4 + 2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 + 8 = 8 + 3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z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= 1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 = 2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 = 3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these equations using the commuta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7 = 7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+ 2 = 2 +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 + 3 = 3 +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+ 6 = 6 +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+ 4 = 4 +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+ 8 = 8 +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=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Identity Property of Addi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 + 0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+ 0 = 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 + 0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 + 0 = 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 + 0 =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ntity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+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0 =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0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+ 0 =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+ 0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 the Identity Property of addition to solve these problem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0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 + 0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0 = 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 + 0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 + 0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 + 0 =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 =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Identity Property of addition to solve thes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0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+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+ 0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+ 0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+ 0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+ 0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Subtraction Rules of zer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7 – 7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n – n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4 – 0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n – 0 = 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ubtraction Rules of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7 – 7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 – n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 – 0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 – 0 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quation – A mathematical sentence stating that 2 expressions are equa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 – 3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 + 4 = 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ion – A mathematical sentence stating that 2 expressions are eq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– 3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4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nd the value of n using the rules of subtraction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 - 8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– 9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– 0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– 0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– 7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– 0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7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nd the value of n using the rules of subtra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 - 8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– 9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–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– 0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– 7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– 0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rite an equation for these problems using a variab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mothy got 72 right on his timed test in July.  He got 99 right on this same test in November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Jasmin runs 15 minutes before school and 30 minutes after schoo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ne zinger costs 25 cents.  Issak bought 4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2 + n = 99 or 99 – 72 = 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5 + 30 = 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x 25 = 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equation for these problems using a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othy got 72 right on his timed test in July.  He got 99 right on this same test in Novemb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smin runs 15 minutes before school and 30 minutes after sch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zinger costs 25 cents.  Issak bought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 + n = 99 or 99 – 72 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 + 30 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x 25 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quation – A mathematical sentence with an equals sig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6 – 5 = 1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4 + 3 = 1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ion – A mathematical sentence with an equals sig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– 5 =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 + 3 =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quals Sign (=) Means that the amount is the same on both sid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+ 2 =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 – 2 = 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ls Sign (=) Means that the amount is the same on both s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2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– 2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 Equation is like a balance scale.  Everything must be equal on both sid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 +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quation is like a balance scale.  Everything must be equal on both s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+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amounts are equal on both sides it is a true equ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 +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mounts are equal on both sides it is a true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amounts are unequal on both sides it is a false equ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 +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mounts are unequal on both sides it is a false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+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an amount is unknown on one side of the equation it is an open equ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n amount is unknown on one side of the equation it is an open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you find a number for n you change the open equation to a true equation.  You solve the equ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find a number for n you change the open equation to a true equation.  You solve the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3877-5EF5-43B5-ABEC-EE323E43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26B6-F6CF-4795-8161-4730D312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642A-4EC5-4493-9408-54EACD326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B04F-06BE-4675-A459-B8B0E479D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CCB3-FF16-42D5-A896-00F56744A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83DB-0DBE-4936-B3C5-E7781C71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1A33-03DD-4104-8AAB-FD088124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9CB8-9DD9-4E98-AE21-844ED7BF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723C-B968-436C-BAB8-21D92A1B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9D07-DF8C-4824-9D38-C680CFE7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76D2-1336-46D1-BD23-53B7DD22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EC4F-30C6-432E-AEEB-A35A692E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9F50-C8DD-46E9-8656-CB9F4AA4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4AEB-F034-47EF-951F-5B118102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1EF9-04B1-4A5E-9BA2-539C4A3B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3FBA-FC21-47D9-B723-C644B916C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D95F-5122-4211-A225-A4073F38D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3761-1443-4BE1-8D0C-97ECDD9A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B14C-CAD7-4E2E-B9D0-57FA1626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951D-5189-479B-826A-48FEEF64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39CC-3ACC-47B3-9AD7-B3957AEE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0588-2A05-4EA6-BF14-34D023F5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B0D1-E898-4E48-B2B0-DDF4431C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BFF1-4920-4237-9FBA-79A0C7CA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938E-A9D0-4F71-A79C-BE7B38832E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30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1026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1027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1028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1029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FE07-A932-41A9-A03A-B4411A915DF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Algebra II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By Monica Yuskaiti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re these equations true, false or open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99840" y="2057400"/>
            <a:ext cx="3429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1 - 3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3 + 4 = 1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4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2 – 3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 + v = 1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5 – 6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257800" y="1981080"/>
            <a:ext cx="123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als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334840" y="2666880"/>
            <a:ext cx="105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ru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5333760" y="3429000"/>
            <a:ext cx="127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pe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334120" y="4191120"/>
            <a:ext cx="123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als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5333760" y="4952880"/>
            <a:ext cx="127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pe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5410800" y="5715000"/>
            <a:ext cx="105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ru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Inverse operation – the opposite operation used to undo the first.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4 + 3 = 7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7 – 4 = 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6 x 6 = 36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36 / 6 = 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to solve an addition equation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Use the inverse operation for addition which is subtra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+ 8 = 12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2 - 8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 = 4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+ 8 = 1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3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3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3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3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to solve a subtraction equation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Use the inverse operation for subtraction which is addi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- 3 = 5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5 + 3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 = 8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8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- 3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3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3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3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3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3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3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Solve these equations using the inverse opera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52480" y="1905120"/>
            <a:ext cx="33530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4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5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4 = 1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6 = 1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7 = 1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8 = 1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5792400" y="18288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792400" y="25909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5791680" y="33526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5791680" y="4114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5792400" y="48006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5792400" y="5486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Commutative Property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5 + 4 = 9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4 + 5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+ b = c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 + a = c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6 + 3 = 9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 + 6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+ y = z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y + x = z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 + 4 + 1 = 8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 + 3 + 4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3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3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3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3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olve these equations using the commutative propert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676520" y="20570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7 = 7 +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 + 2 = 2 +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z + 3 = 3 +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g + 6 = 6 + 1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 + 4 = 4 + 2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 + 8 = 8 + 3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172560" y="1981080"/>
            <a:ext cx="133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248520" y="289548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6325200" y="3657600"/>
            <a:ext cx="1305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z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6324480" y="4495680"/>
            <a:ext cx="1617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 = 1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6324840" y="5257800"/>
            <a:ext cx="155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 = 2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6324480" y="60199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 = 3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Identity Property of Addi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8120" y="205740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7 + 0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+ 0 = 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8 + 0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 + 0 = c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2 + 0 =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3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3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3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3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3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3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3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3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3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3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se the Identity Property of addition to solve these problem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980720" y="2057040"/>
            <a:ext cx="31244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0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 + 0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 + 0 = 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v + 0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 + 0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 + 0 =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6401160" y="2057400"/>
            <a:ext cx="133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64771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6478200" y="3657600"/>
            <a:ext cx="149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 = 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6477480" y="449568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6477480" y="5257800"/>
            <a:ext cx="1460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6553080" y="60199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 =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ubtraction Rules of zer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123720" y="2057040"/>
            <a:ext cx="3048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7 – 7 = 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n = 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4 – 0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0 = 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quation – A mathematical sentence stating that 2 expressions are equal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2 – 3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8 + 4 = 1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9250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ind the value of n using the rules of subtraction</a:t>
            </a:r>
            <a:br>
              <a:rPr sz="4400"/>
            </a:b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99840" y="2057040"/>
            <a:ext cx="3048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 - 8 = 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9 = 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0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0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7 = 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0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6020280" y="2057400"/>
            <a:ext cx="133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60199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6019920" y="365760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7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6020280" y="449568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6020280" y="525780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6019920" y="60199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rite an equation for these problems using a variab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imothy got 72 right on his timed test in July.  He got 99 right on this same test in November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75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Jasmin runs 15 minutes before school and 30 minutes after school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75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One zinger costs 25 cents.  Issak bought 4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441800" y="3352680"/>
            <a:ext cx="608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72 + n = 99 or 99 – 72 = 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3275280" y="4952880"/>
            <a:ext cx="277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5 + 30 = 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3351240" y="6095880"/>
            <a:ext cx="245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4 x 25 = 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quation – A mathematical sentence with an equals sign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6 – 5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4 + 3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8000"/>
          </a:bodyPr>
          <a:p>
            <a:pPr marL="198720" indent="-198720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quals Sign (=) Means that the amount is the same on both side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-198720">
              <a:lnSpc>
                <a:spcPct val="8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4 + 2 = 6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-198720">
              <a:lnSpc>
                <a:spcPct val="8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5 – 2 = 3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n Equation is like a balance scale.  Everything must be equal on both sides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685800" y="2438280"/>
            <a:ext cx="7848720" cy="39625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1828800" y="2590920"/>
          <a:ext cx="573408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73408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6"/>
          <p:cNvSpPr/>
          <p:nvPr/>
        </p:nvSpPr>
        <p:spPr>
          <a:xfrm>
            <a:off x="2287800" y="419112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10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792400" y="4267080"/>
            <a:ext cx="160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5 + 5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Oval 8"/>
          <p:cNvSpPr/>
          <p:nvPr/>
        </p:nvSpPr>
        <p:spPr>
          <a:xfrm>
            <a:off x="4114800" y="3429000"/>
            <a:ext cx="1143000" cy="9907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en the amounts are equal on both sides it is a true equation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85800" y="2438280"/>
            <a:ext cx="7848720" cy="39625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6" name="Object 4"/>
          <p:cNvGraphicFramePr/>
          <p:nvPr/>
        </p:nvGraphicFramePr>
        <p:xfrm>
          <a:off x="1828800" y="2590920"/>
          <a:ext cx="573408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73408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5"/>
          <p:cNvSpPr/>
          <p:nvPr/>
        </p:nvSpPr>
        <p:spPr>
          <a:xfrm>
            <a:off x="2287800" y="419112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12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5792400" y="4267080"/>
            <a:ext cx="160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6 + 6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Oval 7"/>
          <p:cNvSpPr/>
          <p:nvPr/>
        </p:nvSpPr>
        <p:spPr>
          <a:xfrm>
            <a:off x="4114800" y="3429000"/>
            <a:ext cx="1143000" cy="9907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en the amounts are unequal on both sides it is a false equation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685800" y="2438280"/>
            <a:ext cx="7848720" cy="39625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3" name="Object 4"/>
          <p:cNvGraphicFramePr/>
          <p:nvPr/>
        </p:nvGraphicFramePr>
        <p:xfrm>
          <a:off x="1828800" y="2590920"/>
          <a:ext cx="573408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73408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5"/>
          <p:cNvSpPr/>
          <p:nvPr/>
        </p:nvSpPr>
        <p:spPr>
          <a:xfrm>
            <a:off x="2287440" y="41911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5792400" y="4267080"/>
            <a:ext cx="160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2 + 2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Oval 7"/>
          <p:cNvSpPr/>
          <p:nvPr/>
        </p:nvSpPr>
        <p:spPr>
          <a:xfrm>
            <a:off x="4114800" y="3429000"/>
            <a:ext cx="1143000" cy="9907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en an amount is unknown on one side of the equation it is an open equation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685800" y="2438280"/>
            <a:ext cx="7848720" cy="39625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1828800" y="2590920"/>
          <a:ext cx="573408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73408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 Box 5"/>
          <p:cNvSpPr/>
          <p:nvPr/>
        </p:nvSpPr>
        <p:spPr>
          <a:xfrm>
            <a:off x="2287440" y="41911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5792400" y="4267080"/>
            <a:ext cx="16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n + 2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Oval 7"/>
          <p:cNvSpPr/>
          <p:nvPr/>
        </p:nvSpPr>
        <p:spPr>
          <a:xfrm>
            <a:off x="4114800" y="3429000"/>
            <a:ext cx="1143000" cy="9907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en you find a number for n you change the open equation to a true equation.  You solve the equation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85800" y="2438280"/>
            <a:ext cx="7848720" cy="39625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828800" y="2590920"/>
          <a:ext cx="573408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73408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Text Box 5"/>
          <p:cNvSpPr/>
          <p:nvPr/>
        </p:nvSpPr>
        <p:spPr>
          <a:xfrm>
            <a:off x="2287440" y="41911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5792400" y="4267080"/>
            <a:ext cx="16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n + 2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4114800" y="3429000"/>
            <a:ext cx="1143000" cy="9907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5562720" y="4267080"/>
            <a:ext cx="914400" cy="91440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14:00:10Z</dcterms:created>
  <dc:creator>Monica/Bob Yuskaitis</dc:creator>
  <dc:description/>
  <dc:language>en-US</dc:language>
  <cp:lastModifiedBy>RomaK</cp:lastModifiedBy>
  <dcterms:modified xsi:type="dcterms:W3CDTF">2015-09-04T07:36:14Z</dcterms:modified>
  <cp:revision>6</cp:revision>
  <dc:subject/>
  <dc:title>Algebra I</dc:title>
</cp:coreProperties>
</file>