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5DA7A-355C-46D4-8B95-39C11AA0E26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Times New Roman"/>
              </a:rPr>
              <a:t>Algebra II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Times New Roman"/>
              </a:rPr>
              <a:t>By Monica Yuskaiti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lgebra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y Monica Yuskait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re these equations true, false or open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1 - 3 = 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3 + 4 = 1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+ 4 = 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2 – 3 = 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 + v = 13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5 – 6 = 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als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ru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pe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als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pe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ru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se equations true, false or op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- 3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 + 4 =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+ 4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– 3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+ v =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 – 6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ini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verse operation – the opposite operation used to undo the first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 + 3 = 7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 – 4 = 3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6 x 6 = 36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6 / 6 = 6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rse operation – the opposite operation used to undo the firs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+ 3 = 7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– 4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x 6 = 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 / 6 =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 to solve an addition equ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e the inverse operation for addition which is subtra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 + 8 = 12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2 - 8 = 4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 = 4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 + 8 = 1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solve an addition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inverse operation for addition which is 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+ 8 = 1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- 8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4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+ 8 =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 to solve a subtraction equ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e the inverse operation for subtraction which is addi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 - 3 = 5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 + 3 = 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 = 8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8 - 3 = 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solve a subtraction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inverse operation for subtraction which is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- 3 = 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+ 3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- 3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olve these equations using the inverse opera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+ 4 = 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– 5 = 4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+ 4 = 1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– 6 = 13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+ 7 = 1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– 8 = 1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 these equations using the inverse op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+ 4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– 5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+ 4 =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– 6 =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+ 7 =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– 8 =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Commutative Propert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5 + 4 = 9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4 + 5 = 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a + b = c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b + a = c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6 + 3 = 9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3 + 6 = 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x+ y = z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y + x = z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3 + 4 + 1 = 8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1 + 3 + 4 = 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mmutat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 + 4 = 9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 + 5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+ b = c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 + a =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 + 3 = 9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 + 6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+ y = z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 + x = 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 + 4 + 1 = 8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 + 3 + 4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olve these equations using the commutative propert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+ 7 = 7 + 4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 + 2 = 2 + 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z + 3 = 3 + 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 + 6 = 6 + 1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 + 4 = 4 + 2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 + 8 = 8 + 3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= 4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 = 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z = 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 = 1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 = 2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 = 3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 these equations using the commutat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+ 7 = 7 +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+ 2 = 2 +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 + 3 = 3 +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 + 6 = 6 +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+ 4 = 4 +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+ 8 = 8 + 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 =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=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= 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Identity Property of Addi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 + 0 = 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+ 0 = a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8 + 0 = 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 + 0 = c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 + 0 = 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dentity Property of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+ 0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+ 0 =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+ 0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+ 0 =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+ 0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e the Identity Property of addition to solve these problem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+ 0 = 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 + 0 = 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 + 0 = 3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 + 0 = 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 + 0 = 4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 + 0 = 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= 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 = 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 = 3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 = 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 = 4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 = 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Identity Property of addition to solve these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+ 0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 + 0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+ 0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 + 0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 + 0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+ 0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cc"/>
                </a:solidFill>
                <a:latin typeface="Times New Roman"/>
              </a:rPr>
              <a:t>Subtraction Rules of zero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cc"/>
                </a:solidFill>
                <a:latin typeface="Times New Roman"/>
              </a:rPr>
              <a:t>7 – 7 = 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cc"/>
                </a:solidFill>
                <a:latin typeface="Times New Roman"/>
              </a:rPr>
              <a:t>n – n = 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cc"/>
                </a:solidFill>
                <a:latin typeface="Times New Roman"/>
              </a:rPr>
              <a:t>4 – 0 = 4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cc"/>
                </a:solidFill>
                <a:latin typeface="Times New Roman"/>
              </a:rPr>
              <a:t>n – 0 = 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ubtraction Rules of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7 – 7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 – n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 – 0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 – 0 =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ini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quation – A mathematical sentence stating that 2 expressions are equa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2 – 3 = 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8 + 4 = 1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ation – A mathematical sentence stating that 2 expressions are equ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– 3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+ 4 =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Find the value of n using the rules of subtraction</a:t>
            </a:r>
            <a:br>
              <a:rPr sz="1200"/>
            </a:b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n  - 8 = 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n – 9 = 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n – 0 = 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n – 0 = 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n – 7 = 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n – 0 = 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n = 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n = 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n = 7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n = 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n = 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n = 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nd the value of n using the rules of subtrac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  - 8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 – 9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 – 0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 – 0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 – 7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 – 0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 = 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rite an equation for these problems using a variabl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imothy got 72 right on his timed test in July.  He got 99 right on this same test in November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Jasmin runs 15 minutes before school and 30 minutes after schoo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ne zinger costs 25 cents.  Issak bought 4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2 + n = 99 or 99 – 72 = 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5 + 30 = 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 x 25 = 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an equation for these problems using a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othy got 72 right on his timed test in July.  He got 99 right on this same test in Novemb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smin runs 15 minutes before school and 30 minutes after scho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zinger costs 25 cents.  Issak bought 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2 + n = 99 or 99 – 72 =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 + 30 =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x 25 =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ini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quation – A mathematical sentence with an equals sig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6 – 5 = 1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4 + 3 = 1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ation – A mathematical sentence with an equals sig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 – 5 =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 + 3 =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ini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quals Sign (=) Means that the amount is the same on both sid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 + 2 = 6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 – 2 = 3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als Sign (=) Means that the amount is the same on both si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+ 2 =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– 2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 Equation is like a balance scale.  Everything must be equal on both sid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 + 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quation is like a balance scale.  Everything must be equal on both si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+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the amounts are equal on both sides it is a true equat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6 + 6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amounts are equal on both sides it is a true 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+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the amounts are unequal on both sides it is a false equat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 + 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amounts are unequal on both sides it is a false 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+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an amount is unknown on one side of the equation it is an open equat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+ 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n amount is unknown on one side of the equation it is an open 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+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you find a number for n you change the open equation to a true equation.  You solve the equat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+ 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you find a number for n you change the open equation to a true equation.  You solve the 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+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41AA-861B-42A6-B136-C39B1AC0B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B8DE-7AA9-42E0-9421-03C2D0BA6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3B1E-BEEB-4B92-B2B8-186F96976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19DA-F74A-4EBE-93BC-FBDEBBA34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16346-4E36-4555-9AB9-3E908B131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82955-8CAC-4512-85A3-5ACEC846F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A041C-1F73-4E83-AED4-9F486CC61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9B1E6-8B78-4077-AF95-388A56CF7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DCA87-A382-4D3B-9641-44B31874F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19D80-7F31-4499-80CE-C025C3224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C9B3C-653C-4ABD-A348-E7F17A4B6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AB2E-13F3-4CE5-BCE4-15D204A95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75FB1-9722-4D76-AEF1-EA674D66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CA09E-C3C5-436F-A8DB-F7D041D8C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CC524-6C3E-48A4-AD3A-D89BC9E5C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DB6E7-9BC8-4BE2-BD57-A78E0212C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E32F4-FFA9-46D6-992C-FC895D83F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6914-5C4B-4DDC-9B85-1CF361F9E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9D6F-AF0D-48B5-A69B-6ACE4E95A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2470-6DFE-4384-A098-5113E132A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1E70-AB0F-4DEA-BF6B-36ACB499D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D018-CAB7-4B20-8700-7473FAFD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925B-B019-4576-A58C-D65981934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6736-C778-4CDD-8EE6-3300250A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2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3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4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91404-B4D7-46BC-A79F-F4FD652EC7B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030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1026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1027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1028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1029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4A1C6-2733-4EB5-9A8A-82BBA87F7E1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Algebra II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By Monica Yuskaiti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Are these equations true, false or open?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99840" y="2057400"/>
            <a:ext cx="3429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1 - 3 = 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3 + 4 = 1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+ 4 = 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2 – 3 = 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3 + v = 13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5 – 6 = 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5257800" y="1981080"/>
            <a:ext cx="1238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fals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5334840" y="2666880"/>
            <a:ext cx="105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ru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5333760" y="3429000"/>
            <a:ext cx="127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ope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5334120" y="4191120"/>
            <a:ext cx="1238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fals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5333760" y="4952880"/>
            <a:ext cx="127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ope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5410800" y="5715000"/>
            <a:ext cx="105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ru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Definition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Inverse operation – the opposite operation used to undo the first.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4 + 3 = 7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7 – 4 = 3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6 x 6 = 36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36 / 6 = 6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3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3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3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3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3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3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How to solve an addition equation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Use the inverse operation for addition which is subtrac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+ 8 = 12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12 - 8 = 4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 = 4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 u="sng">
                <a:solidFill>
                  <a:srgbClr val="ffcc66"/>
                </a:solidFill>
                <a:uFillTx/>
                <a:latin typeface="Times New Roman"/>
              </a:rPr>
              <a:t>4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+ 8 = 1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3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3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3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3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3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3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How to solve a subtraction equation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Use the inverse operation for subtraction which is addi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- 3 = 5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5 + 3 = 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 = 8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 u="sng">
                <a:solidFill>
                  <a:srgbClr val="ffcc66"/>
                </a:solidFill>
                <a:uFillTx/>
                <a:latin typeface="Times New Roman"/>
              </a:rPr>
              <a:t>8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- 3 = 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3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3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3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3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3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3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Solve these equations using the inverse operation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52480" y="1905120"/>
            <a:ext cx="335304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+ 4 = 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– 5 = 4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+ 4 = 1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– 6 = 13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+ 7 = 1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– 8 = 1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5792400" y="18288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5792400" y="25909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5791680" y="335268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3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5791680" y="41148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5792400" y="48006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5792400" y="54864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Commutative Property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5 + 4 = 9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4 + 5 = 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 + b = c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b + a = c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6 + 3 = 9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3 + 6 = 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x+ y = z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y + x = z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3 + 4 + 1 = 8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 + 3 + 4 = 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3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3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3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3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3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3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3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3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olve these equations using the commutative propert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676520" y="205704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+ 7 = 7 + 4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 + 2 = 2 + 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z + 3 = 3 + 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g + 6 = 6 + 11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 + 4 = 4 + 20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 + 8 = 8 + 3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6172560" y="1981080"/>
            <a:ext cx="133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 = 4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6248520" y="2895480"/>
            <a:ext cx="1617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 = 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6325200" y="3657600"/>
            <a:ext cx="1305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z = 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6324480" y="4495680"/>
            <a:ext cx="1617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g = 11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6324840" y="5257800"/>
            <a:ext cx="1555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 = 20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6324480" y="6019920"/>
            <a:ext cx="1600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 = 3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he Identity Property of Addi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8120" y="205740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7 + 0 = 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 + 0 = 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8 + 0 = 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 + 0 = c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2 + 0 = 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3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3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3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3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3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3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3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3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3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3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Use the Identity Property of addition to solve these problem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980720" y="2057040"/>
            <a:ext cx="31244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+ 0 = 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b + 0 = 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 + 0 = 3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v + 0 = 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w + 0 = 4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r + 0 = 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6401160" y="2057400"/>
            <a:ext cx="133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 = 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6477120" y="2819520"/>
            <a:ext cx="1617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 = 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6478200" y="3657600"/>
            <a:ext cx="1491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 = 3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6477480" y="4495680"/>
            <a:ext cx="133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v = 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6477480" y="5257800"/>
            <a:ext cx="1460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 = 4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6553080" y="6019920"/>
            <a:ext cx="1600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 = 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ubtraction Rules of zero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123720" y="2057040"/>
            <a:ext cx="3048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7 – 7 = 0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– n = 0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4 – 0 = 4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– 0 = 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Definition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Equation – A mathematical sentence stating that 2 expressions are equal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2 – 3 = 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8 + 4 = 1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3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3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3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3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92504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Find the value of n using the rules of subtraction</a:t>
            </a:r>
            <a:br>
              <a:rPr sz="4400"/>
            </a:b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99840" y="2057040"/>
            <a:ext cx="30481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 - 8 = 0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– 9 = 0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– 0 = 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– 0 = 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– 7 = 0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– 0 = 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6020280" y="2057400"/>
            <a:ext cx="133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 = 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6019920" y="2819520"/>
            <a:ext cx="1617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 = 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6019920" y="3657600"/>
            <a:ext cx="1371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 = 7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6020280" y="4495680"/>
            <a:ext cx="133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 = 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Text Box 8"/>
          <p:cNvSpPr/>
          <p:nvPr/>
        </p:nvSpPr>
        <p:spPr>
          <a:xfrm>
            <a:off x="6020280" y="5257800"/>
            <a:ext cx="133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 = 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6019920" y="6019920"/>
            <a:ext cx="1600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 = 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rite an equation for these problems using a variabl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20574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Timothy got 72 right on his timed test in July.  He got 99 right on this same test in November.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75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Jasmin runs 15 minutes before school and 30 minutes after school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75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One zinger costs 25 cents.  Issak bought 4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1441800" y="3352680"/>
            <a:ext cx="608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72 + n = 99 or 99 – 72 = 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3275280" y="4952880"/>
            <a:ext cx="277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15 + 30 = 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3351240" y="6095880"/>
            <a:ext cx="2459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4 x 25 = 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Definition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Equation – A mathematical sentence with an equals sign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6 – 5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= 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1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4 + 3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= 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3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3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3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3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3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Definition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8000"/>
          </a:bodyPr>
          <a:p>
            <a:pPr marL="198720" indent="-198720">
              <a:lnSpc>
                <a:spcPct val="8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Equals Sign (=) Means that the amount is the same on both side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19872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198720" indent="-198720">
              <a:lnSpc>
                <a:spcPct val="8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4 + 2 = 6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198720" indent="-198720">
              <a:lnSpc>
                <a:spcPct val="8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5 – 2 = 3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1987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1987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3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3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3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3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3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3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An Equation is like a balance scale.  Everything must be equal on both sides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685800" y="2438280"/>
            <a:ext cx="7848720" cy="3962520"/>
          </a:xfrm>
          <a:prstGeom prst="rect">
            <a:avLst/>
          </a:prstGeom>
          <a:solidFill>
            <a:srgbClr val="ffff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09" name="Object 4"/>
          <p:cNvGraphicFramePr/>
          <p:nvPr/>
        </p:nvGraphicFramePr>
        <p:xfrm>
          <a:off x="1828800" y="2590920"/>
          <a:ext cx="5734080" cy="358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590920"/>
                    <a:ext cx="5734080" cy="35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Text Box 6"/>
          <p:cNvSpPr/>
          <p:nvPr/>
        </p:nvSpPr>
        <p:spPr>
          <a:xfrm>
            <a:off x="2287800" y="419112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10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5792400" y="4267080"/>
            <a:ext cx="160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5 + 5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Oval 8"/>
          <p:cNvSpPr/>
          <p:nvPr/>
        </p:nvSpPr>
        <p:spPr>
          <a:xfrm>
            <a:off x="4114800" y="3429000"/>
            <a:ext cx="1143000" cy="99072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=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hen the amounts are equal on both sides it is a true equation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685800" y="2438280"/>
            <a:ext cx="7848720" cy="3962520"/>
          </a:xfrm>
          <a:prstGeom prst="rect">
            <a:avLst/>
          </a:prstGeom>
          <a:solidFill>
            <a:srgbClr val="ffff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16" name="Object 4"/>
          <p:cNvGraphicFramePr/>
          <p:nvPr/>
        </p:nvGraphicFramePr>
        <p:xfrm>
          <a:off x="1828800" y="2590920"/>
          <a:ext cx="5734080" cy="358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590920"/>
                    <a:ext cx="5734080" cy="35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Text Box 5"/>
          <p:cNvSpPr/>
          <p:nvPr/>
        </p:nvSpPr>
        <p:spPr>
          <a:xfrm>
            <a:off x="2287800" y="419112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12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5792400" y="4267080"/>
            <a:ext cx="160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6 + 6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Oval 7"/>
          <p:cNvSpPr/>
          <p:nvPr/>
        </p:nvSpPr>
        <p:spPr>
          <a:xfrm>
            <a:off x="4114800" y="3429000"/>
            <a:ext cx="1143000" cy="99072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=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hen the amounts are unequal on both sides it is a false equation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685800" y="2438280"/>
            <a:ext cx="7848720" cy="3962520"/>
          </a:xfrm>
          <a:prstGeom prst="rect">
            <a:avLst/>
          </a:prstGeom>
          <a:solidFill>
            <a:srgbClr val="ffff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23" name="Object 4"/>
          <p:cNvGraphicFramePr/>
          <p:nvPr/>
        </p:nvGraphicFramePr>
        <p:xfrm>
          <a:off x="1828800" y="2590920"/>
          <a:ext cx="5734080" cy="358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590920"/>
                    <a:ext cx="5734080" cy="35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5"/>
          <p:cNvSpPr/>
          <p:nvPr/>
        </p:nvSpPr>
        <p:spPr>
          <a:xfrm>
            <a:off x="2287440" y="419112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8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5792400" y="4267080"/>
            <a:ext cx="160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2 + 2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Oval 7"/>
          <p:cNvSpPr/>
          <p:nvPr/>
        </p:nvSpPr>
        <p:spPr>
          <a:xfrm>
            <a:off x="4114800" y="3429000"/>
            <a:ext cx="1143000" cy="99072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=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hen an amount is unknown on one side of the equation it is an open equation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685800" y="2438280"/>
            <a:ext cx="7848720" cy="3962520"/>
          </a:xfrm>
          <a:prstGeom prst="rect">
            <a:avLst/>
          </a:prstGeom>
          <a:solidFill>
            <a:srgbClr val="ffff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30" name="Object 4"/>
          <p:cNvGraphicFramePr/>
          <p:nvPr/>
        </p:nvGraphicFramePr>
        <p:xfrm>
          <a:off x="1828800" y="2590920"/>
          <a:ext cx="5734080" cy="358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590920"/>
                    <a:ext cx="5734080" cy="35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Text Box 5"/>
          <p:cNvSpPr/>
          <p:nvPr/>
        </p:nvSpPr>
        <p:spPr>
          <a:xfrm>
            <a:off x="2287440" y="419112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7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5792400" y="4267080"/>
            <a:ext cx="163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n + 2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Oval 7"/>
          <p:cNvSpPr/>
          <p:nvPr/>
        </p:nvSpPr>
        <p:spPr>
          <a:xfrm>
            <a:off x="4114800" y="3429000"/>
            <a:ext cx="1143000" cy="99072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=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hen you find a number for n you change the open equation to a true equation.  You solve the equation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685800" y="2438280"/>
            <a:ext cx="7848720" cy="3962520"/>
          </a:xfrm>
          <a:prstGeom prst="rect">
            <a:avLst/>
          </a:prstGeom>
          <a:solidFill>
            <a:srgbClr val="ffff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37" name="Object 4"/>
          <p:cNvGraphicFramePr/>
          <p:nvPr/>
        </p:nvGraphicFramePr>
        <p:xfrm>
          <a:off x="1828800" y="2590920"/>
          <a:ext cx="5734080" cy="358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590920"/>
                    <a:ext cx="5734080" cy="35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Text Box 5"/>
          <p:cNvSpPr/>
          <p:nvPr/>
        </p:nvSpPr>
        <p:spPr>
          <a:xfrm>
            <a:off x="2287440" y="419112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7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5792400" y="4267080"/>
            <a:ext cx="163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n + 2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Oval 7"/>
          <p:cNvSpPr/>
          <p:nvPr/>
        </p:nvSpPr>
        <p:spPr>
          <a:xfrm>
            <a:off x="4114800" y="3429000"/>
            <a:ext cx="1143000" cy="99072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=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Oval 8"/>
          <p:cNvSpPr/>
          <p:nvPr/>
        </p:nvSpPr>
        <p:spPr>
          <a:xfrm>
            <a:off x="5562720" y="4267080"/>
            <a:ext cx="914400" cy="91440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2T14:00:10Z</dcterms:created>
  <dc:creator>Monica/Bob Yuskaitis</dc:creator>
  <dc:description/>
  <dc:language>en-US</dc:language>
  <cp:lastModifiedBy>RomaK</cp:lastModifiedBy>
  <dcterms:modified xsi:type="dcterms:W3CDTF">2015-09-04T07:36:14Z</dcterms:modified>
  <cp:revision>6</cp:revision>
  <dc:subject/>
  <dc:title>Algebra I</dc:title>
</cp:coreProperties>
</file>