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96AF-4C98-4FD0-AA86-288D2B73C2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C25-A626-4F8A-A618-60246804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E52-9CB6-4826-AA1C-ABC88995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187-A06A-4E0A-AEAC-A2F8C72E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BD7-AA52-4D34-ADCB-8F0DDD57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2F2E-0AA9-469C-AA8F-E46B6FB8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D4E0-15CA-422E-B4A8-7E93F433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F6C0-3FDB-4397-AA60-CD27208C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4D6F-A645-453E-9B86-D53F7392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C50C-0354-4DAB-8BA6-52C6B23C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7C11-1907-4BA8-B6F4-FEF7D614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9994-7C8C-4261-9601-8801C7A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BC4-FB00-4EE8-A29A-4536C7E3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0A7F-3BED-4523-B336-F8221163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21AA-2F5C-42E9-A5ED-60605D92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149-1A06-463B-970C-5F43C209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A520-4E3B-4542-B103-E0307BC3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9ABF-BB55-4D38-AEC3-17852AA5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401-F0A8-4BC8-B78A-CC3994B0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2AE-575D-433C-B8EC-2A0885A4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71D-C57E-4756-BD6A-2AF9D6F1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9DF-A7C9-45F2-9B3E-52F33CEA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E67-2369-4C45-B033-36F6660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F73-81CD-4446-A7FF-DB8F3468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48F-4E14-48BD-9978-81EF5093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66EE-DCB2-4E03-9B7D-12046FBD26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3A8E-5075-4FE1-9B31-E2E921DC6E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re these equations true, false or ope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57800" y="198108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4840" y="266688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3760" y="342900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34120" y="4191120"/>
            <a:ext cx="123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3760" y="495288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10800" y="571500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3 = 7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 – 4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6 x 6 = 36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6 / 6 =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n addi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= 12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2 - 8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4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+ 8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 subtrac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 3 =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 +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8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Solve these equations using the inverse oper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3353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792400" y="1828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924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791680" y="3352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791680" y="4114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92400" y="4800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792400" y="5486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Commutative Propert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e these equations using the commutative proper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72560" y="198108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248520" y="289548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25200" y="3657600"/>
            <a:ext cx="13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24480" y="4495680"/>
            <a:ext cx="161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 =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324840" y="5257800"/>
            <a:ext cx="15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=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3244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 =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Identity Property of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81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e the Identity Property of addition to solve these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40116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771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478200" y="3657600"/>
            <a:ext cx="149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774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477480" y="5257800"/>
            <a:ext cx="146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530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btraction Rules of z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23720" y="20570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nd the value of n using the rules of subtra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2028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019920" y="3657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0202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0202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equation for these problems using a vari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1800" y="3352680"/>
            <a:ext cx="60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2 + n = 99 or 99 – 72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75280" y="495288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5 + 3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351240" y="609588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x 25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6 –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4 + 3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 Equation is like a balance scale.  Everything must be equal on both sides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 + 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equal on both sides it is a tru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5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6 + 6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unequal on both sides it is a fals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2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an amount is unknown on one side of the equation it is an open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562720" y="4267080"/>
            <a:ext cx="914400" cy="9144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RomaK</cp:lastModifiedBy>
  <dcterms:modified xsi:type="dcterms:W3CDTF">2015-09-04T07:36:14Z</dcterms:modified>
  <cp:revision>6</cp:revision>
  <dc:subject/>
  <dc:title>Algebra I</dc:title>
</cp:coreProperties>
</file>