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6438-33A2-43FF-A9F8-15DC31AC89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gebra 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br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se Word Phr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s plu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decrease b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 less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b increased by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a number &amp;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These Word Phr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s plus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decrease by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1 less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b increased by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a number &amp;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 -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3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+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e each algebraic expression when x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 -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e each algebraic expression when x =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4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– x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2 - 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is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te This T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is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te This T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Algebraic Expression for These Sit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tt’s brother is 2 years younger than Sco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two numbers is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 between two numbers is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+ c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– n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n Algebraic Expression for These Situ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ott’s brother is 2 years younger than Scot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two numbers is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ifference between two numbers is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-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+ c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– n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– A variable is a letter or symbol that represents a number (unknown quantit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+ n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riable – A variable is a letter or symbol that represents a number (unknown quantity)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n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able can use any letter of the alphab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variable can use any letter of the alphab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–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- 2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expression – a group of numbers, symbols, and variables that express an operation or a series of ope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gebraic expression – a group of numbers, symbols, and variables that express an operation or a series of opera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–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e an algebraic expression – To find the value of an algebraic expression by substituting numbers for vari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+ 8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– 3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e an algebraic expression – To find the value of an algebraic expression by substituting numbers for variab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2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8 =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– 3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= 5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– 3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ify – Combine like terms and complete all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 + 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 x 2) +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+ 8 =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mplify – Combine like terms and complete all oper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 + 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m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2 x 2) + 8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8 = 12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Lead to 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ds That Lead to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re tha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rea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toge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Lead to 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ds That Lead to 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crea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any mo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se Word Phr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decrease by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less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increased by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a number &amp;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These Word Phr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n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decrease by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less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increased by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a number &amp;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-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+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AA91-72A2-4888-9476-BF44B324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A789-F852-4292-A31A-3815DE31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65F-53BD-42AD-BDAB-B82DDAB3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20C-9E6C-4267-A37E-07F9DA5B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C9BE-CCA5-4E50-800B-1A5683CB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C50E-7B32-4321-94F3-24E111A6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561A-26FD-49A7-8E0E-678990B8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1C22-4675-4E83-8626-FD20515E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78D4-D9D1-4CD9-839B-14833BC0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1213-0635-430C-9ABA-C66FCB5B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B973-92B2-4EAE-9BE9-2F621EF6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FB4-3824-42D3-AEB1-FDD6E505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FD65-4253-41DC-B68E-7C412CC9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D87F-1468-4A6D-9952-69D4D4A9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9B2B-EE09-4FC0-B953-C532F80E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8328-8204-4C22-BC66-8C9580C4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BA4C-9EDF-4B0D-BC99-1632D867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2F0-1C09-42AD-8871-5CEC1077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650-AE50-4F42-A3D3-C963A6FA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4363-83B1-4BE9-8AD4-E44DD945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0717-EEA6-4844-BAAD-DBCAFAB4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4D42-EA56-4D7B-9E99-93AB8533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D06-4FF4-4A99-9DD4-8D0B7CF1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D18-E800-400C-AF2B-97E04ABC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C5F1-CEF2-4425-96F8-583E2A4ABE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EED3-D907-432C-8D06-A7A33B36CF1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Algebra I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r. Clut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llegas Middle Scho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bra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006-200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lgebraic Expression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 These Word Phr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s plus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decrease by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1 less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b increased by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um of a number &amp;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18840" y="2004840"/>
            <a:ext cx="127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+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9343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 -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933960" y="3657600"/>
            <a:ext cx="148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 - 3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9346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 +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9346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934320" y="60958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z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valuate each algebraic expression when x = 10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2438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4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– x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-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2 -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4320" y="2057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199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019920" y="3657600"/>
            <a:ext cx="74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249600" y="45720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249600" y="52578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01992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lete This T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38280" y="2209680"/>
          <a:ext cx="4419720" cy="38102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 - 3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44"/>
          <p:cNvSpPr/>
          <p:nvPr/>
        </p:nvSpPr>
        <p:spPr>
          <a:xfrm>
            <a:off x="5487480" y="2971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45"/>
          <p:cNvSpPr/>
          <p:nvPr/>
        </p:nvSpPr>
        <p:spPr>
          <a:xfrm>
            <a:off x="5487480" y="3733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46"/>
          <p:cNvSpPr/>
          <p:nvPr/>
        </p:nvSpPr>
        <p:spPr>
          <a:xfrm>
            <a:off x="5334480" y="4495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47"/>
          <p:cNvSpPr/>
          <p:nvPr/>
        </p:nvSpPr>
        <p:spPr>
          <a:xfrm>
            <a:off x="5334120" y="5257800"/>
            <a:ext cx="74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lete This T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38280" y="2209680"/>
          <a:ext cx="4419720" cy="38102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+ 6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23"/>
          <p:cNvSpPr/>
          <p:nvPr/>
        </p:nvSpPr>
        <p:spPr>
          <a:xfrm>
            <a:off x="5410800" y="2971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541080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5410800" y="4495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5410080" y="525780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n Algebraic Expression for These Situ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cott’s brother is 2 years younger than Scot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sum of two numbers is 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difference between two numbers is 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115160" y="274320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-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114080" y="4267080"/>
            <a:ext cx="24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 + c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114800" y="5638680"/>
            <a:ext cx="23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– n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ariable – A variable is a letter or symbol that represents a number (unknown quantity)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variable can use any letter of the alphabe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+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–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- 2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gebraic expression – a group of numbers, symbols, and variables that express an operation or a series of operatio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 + 8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– 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valuate an algebraic expression – To find the value of an algebraic expression by substituting numbers for variabl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+ 8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 = 2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 + 8 = 1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– 3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= 5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5 – 3 = 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mplify – Combine like terms and complete all opera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+ 8 + m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 m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2 x 2) + 8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+ 8 = 12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Words That Lead to Addi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re tha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creas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togeth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Words That Lead to Subtrac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ecreas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fferen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in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many mo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lgebraic Expression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 These Word Phr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632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n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decrease by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 less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increased by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um of a number &amp;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918480" y="2004840"/>
            <a:ext cx="161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1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9343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 -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934320" y="3657600"/>
            <a:ext cx="120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 -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9346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9346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934320" y="60958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 +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4:00:10Z</dcterms:created>
  <dc:creator>Mr. Clutter</dc:creator>
  <dc:description/>
  <dc:language>en-US</dc:language>
  <cp:lastModifiedBy>RomaK</cp:lastModifiedBy>
  <dcterms:modified xsi:type="dcterms:W3CDTF">2015-09-04T07:36:07Z</dcterms:modified>
  <cp:revision>8</cp:revision>
  <dc:subject/>
  <dc:title>Algebra- Definitions</dc:title>
</cp:coreProperties>
</file>