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EA50-C334-4916-9EC7-EB4229203F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 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s plu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b increased by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 -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3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each algebraic expression when x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 -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each algebraic expression when x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lgebraic Expression for These Sit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tt’s brother is 2 years younger than Sc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wo numbers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 between two numbers is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+ c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– n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Algebraic Expression for These Sit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-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c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– 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+ n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n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can use any letter of th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2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+ 8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– 3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8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3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ify – Combine like terms and complete all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 +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x 2)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+ 8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+ 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2 x 2)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ncreased by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1FC-E0DB-47D0-B506-38E23C85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586-4FFF-47AE-9FD8-68FD207F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997-A3AD-48D7-8FB3-84BDA4DB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40D-55CE-4A5A-B5F1-49E48743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CF57-6626-488C-85F1-5C1D7DB9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C58B-B572-43C5-B284-63D448E9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5D70-4DDC-4ED2-A2F9-614A7022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1F5D-4EBD-42F7-979D-41BAF634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A1F3-0D3E-4F0E-A32C-113FB057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6004-D2EA-4271-B7F0-E31AAB9F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D81F-1F90-4ECD-BFD3-335DAEE9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484-26A7-47C2-9686-56851656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5B95-E32C-4E7A-9807-85A2168A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30FD-68AD-4751-A42B-1AA01FB5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9155-D6B9-4F6C-8D4E-4E0ECB78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44DB-7C68-47A2-8130-F65E97C7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3340-7EE1-47F5-9F77-24872E80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AFF-C4F8-474D-9A61-17C5C170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F11-56AB-462C-975E-18891267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9D3-1119-4A10-BFAD-DFFF407D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61D-123A-4D23-9B9C-81A70316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FF2-23BE-4E36-A801-8FEFC8EC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B77-9241-45DF-957E-31A3E6D8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305-6EE8-4058-8B16-8984D03C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F738-B110-49DF-AB3A-AA095F0977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F05C-469C-4704-8E8C-121602FCAB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18840" y="200484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+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 -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933960" y="3657600"/>
            <a:ext cx="14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3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+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valuate each algebraic expression when x = 10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4320" y="2057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019920" y="3657600"/>
            <a:ext cx="7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249600" y="45720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249600" y="52578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 - 3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44"/>
          <p:cNvSpPr/>
          <p:nvPr/>
        </p:nvSpPr>
        <p:spPr>
          <a:xfrm>
            <a:off x="5487480" y="2971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45"/>
          <p:cNvSpPr/>
          <p:nvPr/>
        </p:nvSpPr>
        <p:spPr>
          <a:xfrm>
            <a:off x="5487480" y="3733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533448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47"/>
          <p:cNvSpPr/>
          <p:nvPr/>
        </p:nvSpPr>
        <p:spPr>
          <a:xfrm>
            <a:off x="5334120" y="5257800"/>
            <a:ext cx="7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+ 6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23"/>
          <p:cNvSpPr/>
          <p:nvPr/>
        </p:nvSpPr>
        <p:spPr>
          <a:xfrm>
            <a:off x="5410800" y="2971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541080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41080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5410080" y="525780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Algebraic Expression for These Situ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115160" y="2743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-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114080" y="426708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+ c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114800" y="5638680"/>
            <a:ext cx="23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– 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–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- 2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+ 8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+ 8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= 2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 + 8 = 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= 5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5 – 3 =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+ m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m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2 x 2) + 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8 = 1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Addi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Subtrac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918480" y="2004840"/>
            <a:ext cx="16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1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-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934320" y="3657600"/>
            <a:ext cx="120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r. Clutter</dc:creator>
  <dc:description/>
  <dc:language>en-US</dc:language>
  <cp:lastModifiedBy>RomaK</cp:lastModifiedBy>
  <dcterms:modified xsi:type="dcterms:W3CDTF">2015-09-04T07:36:07Z</dcterms:modified>
  <cp:revision>8</cp:revision>
  <dc:subject/>
  <dc:title>Algebra- Definitions</dc:title>
</cp:coreProperties>
</file>