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223A-361A-4660-80EE-5DFAB5BF1AE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llegas Middle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gebra I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r. Clutt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llegas Middle Schoo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br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6-200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lgebraic Express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ese Word Phr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s plus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decrease by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1 less than a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b increased by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m of a number &amp;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 more than a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+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 -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- 3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+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 +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rite Algebraic Expressions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 These Word Phr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number s plus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number decrease by 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1 less than a numb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number b increased by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um of a number &amp; 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9 more than a numb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 +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 - 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- 3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 +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z +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e each algebraic expression when x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+ 4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+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– 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-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2 -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valuate each algebraic expression when x = 1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+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+ 4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+ 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– x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-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2 - 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is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lete This Tab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is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lete This Tab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n Algebraic Expression for These Sit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ott’s brother is 2 years younger than Sco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m of two numbers is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fference between two numbers is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+ c =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– n =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rite an Algebraic Expression for These Situa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cott’s brother is 2 years younger than Scot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um of two numbers is 1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difference between two numbers is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 -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 + c = 1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– n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– A variable is a letter or symbol that represents a number (unknown quantit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+ n =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ariable – A variable is a letter or symbol that represents a number (unknown quantity)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 + n = 1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ariable can use any letter of the alphab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+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–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variable can use any letter of the alphab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–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 - 2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ic expression – a group of numbers, symbols, and variables that express an operation or a series of oper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–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gebraic expression – a group of numbers, symbols, and variables that express an operation or a series of operatio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+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 – 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e an algebraic expression – To find the value of an algebraic expression by substituting numbers for varia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+ 8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+ 8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– 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= 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– 3 =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valuate an algebraic expression – To find the value of an algebraic expression by substituting numbers for variabl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+ 8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= 2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 + 8 = 1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 – 3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 = 5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 – 3 =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ify – Combine like terms and complete all ope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+ 8 + 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 x 2) + 8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+ 8 = 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mplify – Combine like terms and complete all opera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=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+ 8 + 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 m +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2 x 2) + 8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 + 8 = 12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s That Lead to Add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ords That Lead to Addi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re tha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creas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togeth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s That Lead to Sub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r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m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ords That Lead to Subt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creas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fferen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n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many mo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lgebraic Express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ese Word Phr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 more than a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decrease by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less than a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increased by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m of a number &amp;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ore than a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+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-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+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+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rite Algebraic Expressions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 These Word Phr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n more than a numb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number decrease by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 less than a numb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number increased by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um of a number &amp;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 more than a numb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1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 -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- 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+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EC4A-ACC5-4AA2-8F31-FE48A5A23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6385-7D87-4C22-835F-377ECF06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EA55-888C-419C-AB84-B47CD0A60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AEA6-C0C7-4471-9692-5E36A39EE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58B2-6398-4767-AF3C-51DCE65FC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338E0-BD2F-48ED-880F-F31F6FBB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6B24-A6F7-4712-82AC-997799BD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9ABE-D62E-40D0-A3AF-5723DC43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5C81-51F2-4C07-8D5C-EBC8004C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EFE8-14F0-4042-96E6-ECB5EABC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CD1D-548E-4B18-8B91-9697C06A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5278-E7DE-4EC0-BC50-22E449F2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218A5-7091-4F75-8BCF-88988128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F012-DBEA-46FF-A7D9-BA7A66B5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9E5B-227C-41F7-AD4E-D6CD141D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CF9FA-46C2-46D2-8B13-83A5B69D5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371C-EAB8-4A46-BFAE-272B711A3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7667-CF7F-43F3-B9AF-2D04A54A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ADFA-8723-4FC2-AA92-CE6746BD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94C6-FC82-41E9-B345-20FA29ED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4535-05C8-4FAF-A8E4-58A1F74C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40EA-BD50-4F73-9F5F-DB3BF5B7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9B33-DA9B-40C6-B1CB-AB133425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6B03-1956-4121-81C2-D8131466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AFF3-CF5C-4C1E-A0C9-90271B36C1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30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1026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1027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1028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1029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9091-E8BD-466B-9927-DBD1FB89BDB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Algebra I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r. Clutt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illegas Middle Schoo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ibra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006-200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rite Algebraic Expressions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or These Word Phras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60" y="2057040"/>
            <a:ext cx="6629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number s plus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number decrease by 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31 less than a numb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number b increased by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sum of a number &amp; 6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9 more than a numb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6918840" y="2004840"/>
            <a:ext cx="127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 +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6934320" y="281952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 - 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6933960" y="3657600"/>
            <a:ext cx="1488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x - 3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6934680" y="449568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 +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6934680" y="525780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+ 6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6934320" y="609588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z +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valuate each algebraic expression when x = 10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09680" y="2057040"/>
            <a:ext cx="2438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x +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x + 4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x + x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x – x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x -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42 - x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4320" y="20574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6019920" y="281952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5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6019920" y="3657600"/>
            <a:ext cx="742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2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6249600" y="4572000"/>
            <a:ext cx="461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6249600" y="5257800"/>
            <a:ext cx="461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6019920" y="601992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3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mplete This Tab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438280" y="2209680"/>
          <a:ext cx="4419720" cy="3810240"/>
        </p:xfrm>
        <a:graphic>
          <a:graphicData uri="http://schemas.openxmlformats.org/drawingml/2006/table">
            <a:tbl>
              <a:tblPr/>
              <a:tblGrid>
                <a:gridCol w="2210040"/>
                <a:gridCol w="22096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n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n - 3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0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1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2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Text Box 44"/>
          <p:cNvSpPr/>
          <p:nvPr/>
        </p:nvSpPr>
        <p:spPr>
          <a:xfrm>
            <a:off x="5487480" y="29718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Text Box 45"/>
          <p:cNvSpPr/>
          <p:nvPr/>
        </p:nvSpPr>
        <p:spPr>
          <a:xfrm>
            <a:off x="5487480" y="37339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Text Box 46"/>
          <p:cNvSpPr/>
          <p:nvPr/>
        </p:nvSpPr>
        <p:spPr>
          <a:xfrm>
            <a:off x="5334480" y="44956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Text Box 47"/>
          <p:cNvSpPr/>
          <p:nvPr/>
        </p:nvSpPr>
        <p:spPr>
          <a:xfrm>
            <a:off x="5334120" y="5257800"/>
            <a:ext cx="74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2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mplete This Tab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438280" y="2209680"/>
          <a:ext cx="4419720" cy="3810240"/>
        </p:xfrm>
        <a:graphic>
          <a:graphicData uri="http://schemas.openxmlformats.org/drawingml/2006/table">
            <a:tbl>
              <a:tblPr/>
              <a:tblGrid>
                <a:gridCol w="2210040"/>
                <a:gridCol w="22096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x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x + 6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0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1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2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Text Box 23"/>
          <p:cNvSpPr/>
          <p:nvPr/>
        </p:nvSpPr>
        <p:spPr>
          <a:xfrm>
            <a:off x="5410800" y="2971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Text Box 24"/>
          <p:cNvSpPr/>
          <p:nvPr/>
        </p:nvSpPr>
        <p:spPr>
          <a:xfrm>
            <a:off x="5410800" y="37339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Text Box 25"/>
          <p:cNvSpPr/>
          <p:nvPr/>
        </p:nvSpPr>
        <p:spPr>
          <a:xfrm>
            <a:off x="5410800" y="44956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2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Text Box 26"/>
          <p:cNvSpPr/>
          <p:nvPr/>
        </p:nvSpPr>
        <p:spPr>
          <a:xfrm>
            <a:off x="5410080" y="5257800"/>
            <a:ext cx="74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3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rite an Algebraic Expression for These Situa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cott’s brother is 2 years younger than Scott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he sum of two numbers is 1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he difference between two numbers is 5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4115160" y="2743200"/>
            <a:ext cx="114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 -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4114080" y="4267080"/>
            <a:ext cx="246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 + c = 1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4114800" y="5638680"/>
            <a:ext cx="233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 – n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Variable – A variable is a letter or symbol that represents a number (unknown quantity)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8 +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= 1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variable can use any letter of the alphabet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+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–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- 2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lgebraic expression – a group of numbers, symbols, and variables that express an operation or a series of operation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m + 8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r – 3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valuate an algebraic expression – To find the value of an algebraic expression by substituting numbers for variable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m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+ 8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m = 2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2 + 8 = 1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r – 3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r = 5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5 – 3 = 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3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3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3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3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implify – Combine like terms and complete all operatio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 =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+ 8 + m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2 m +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(2 x 2) + 8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4 + 8 = 12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3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3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3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Words That Lead to Addition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um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ore tha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ncrease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lu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ltogeth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3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3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3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3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3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Words That Lead to Subtraction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ecrease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es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ifferenc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inu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ow many mor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3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3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3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3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3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3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rite Algebraic Expressions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or These Word Phras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2057040"/>
            <a:ext cx="6324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en more than a numb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number decrease by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6 less than a numb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number increased by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sum of a number &amp;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4 more than a numb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6918480" y="2004840"/>
            <a:ext cx="161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+ 1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934320" y="281952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 -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934320" y="3657600"/>
            <a:ext cx="120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x - 6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6934680" y="449568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+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6934680" y="525780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+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6934320" y="609588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y +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2T14:00:10Z</dcterms:created>
  <dc:creator>Mr. Clutter</dc:creator>
  <dc:description/>
  <dc:language>en-US</dc:language>
  <cp:lastModifiedBy>RomaK</cp:lastModifiedBy>
  <dcterms:modified xsi:type="dcterms:W3CDTF">2015-09-04T07:36:07Z</dcterms:modified>
  <cp:revision>8</cp:revision>
  <dc:subject/>
  <dc:title>Algebra- Definitions</dc:title>
</cp:coreProperties>
</file>