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4440" y="686880"/>
            <a:ext cx="4569120" cy="34261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163FC-1AC7-432E-A9CF-94F7882E5B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Gloss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pter T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rabol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xis (axis of symmetry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xis of a parabola is th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tical or horizontal line through the vertex of the parabol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function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function defined by an equation of the form f(x) = ax2 + bx + c, for real numbers a, b, and c, 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turn t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roductory Algebr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d b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James Q. Jaco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erstition Mountain Camp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entral Arizona Colle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adratic equ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quadratic equation is 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quation that can be written in the form ax2 + bx + c = 0, where a, b, and c are real numbers,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a 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criminan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quantity under the radical in the quadratic formula, b2 - 4ac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mplex number a + bi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ith b  0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l par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real part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inary par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imaginary part of th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a + bi is b.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ndard form of a complex numb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tandard form of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plex number is a +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4440" y="687240"/>
            <a:ext cx="4569120" cy="342612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of a complex number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jugate of a complex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umber a + bi is a - bi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320040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911840"/>
            <a:ext cx="250236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847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91184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3200400"/>
            <a:ext cx="37926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911840"/>
            <a:ext cx="7772400" cy="15627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a50021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79000"/>
          </a:bodyPr>
          <a:p>
            <a:pPr marL="270720"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1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2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3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4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5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lvl="6" marL="270720" indent="-270720" algn="ctr">
              <a:spcBef>
                <a:spcPts val="799"/>
              </a:spcBef>
              <a:buClr>
                <a:srgbClr val="cc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199.104.225.69/smc/jacobs/mat090/default.htm" TargetMode="External"/><Relationship Id="rId2" Type="http://schemas.openxmlformats.org/officeDocument/2006/relationships/hyperlink" Target="http://199.104.225.69/smc/jacobs/default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1426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Introductory Algebra</a:t>
            </a:r>
            <a:br>
              <a:rPr sz="6000"/>
            </a:br>
            <a:r>
              <a:rPr b="1" lang="en-US" sz="6000" spc="-1" strike="noStrike">
                <a:solidFill>
                  <a:srgbClr val="a50021"/>
                </a:solidFill>
                <a:latin typeface="Times New Roman"/>
              </a:rPr>
              <a:t> </a:t>
            </a:r>
            <a:r>
              <a:rPr b="1" lang="en-US" sz="5400" spc="-1" strike="noStrike">
                <a:solidFill>
                  <a:srgbClr val="a50021"/>
                </a:solidFill>
                <a:latin typeface="Times New Roman"/>
              </a:rPr>
              <a:t>Glossary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hapter Ten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parabola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graph of a second-degree (quadratic) equation in two variables is called a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axis (axis of symmetry)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axis of a parabola is the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vertical or horizontal line through the vertex of the parabol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function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function defined by an equation of the form f(x) =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, for real numbers a, b, and c, 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a50021"/>
                </a:solidFill>
                <a:latin typeface="Times New Roman"/>
              </a:rPr>
              <a:t>Return to</a:t>
            </a: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 </a:t>
            </a:r>
            <a:br>
              <a:rPr sz="5400"/>
            </a:br>
            <a:r>
              <a:rPr b="0" lang="en-US" sz="5400" spc="-1" strike="noStrike" u="sng">
                <a:solidFill>
                  <a:srgbClr val="0000ff"/>
                </a:solidFill>
                <a:uFillTx/>
                <a:latin typeface="Times New Roman"/>
                <a:hlinkClick r:id="rId1"/>
              </a:rPr>
              <a:t>Introductory Algebra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6600"/>
                </a:solidFill>
                <a:latin typeface="Times New Roman"/>
              </a:rPr>
              <a:t>Created by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0000ff"/>
                </a:solidFill>
                <a:uFillTx/>
                <a:latin typeface="Times New Roman"/>
                <a:hlinkClick r:id="rId2"/>
              </a:rPr>
              <a:t>James Q. Jacobs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Superstition Mountain Campus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Times New Roman"/>
              </a:rPr>
              <a:t>Central Arizona College</a:t>
            </a:r>
            <a:endParaRPr b="0" lang="en-US" sz="32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quadratic equation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quadratic equation is an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equation that can be written in the form ax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+ bx + c = 0, where a, b, and c are real numbers,</a:t>
            </a:r>
            <a:br>
              <a:rPr sz="4000"/>
            </a:b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a 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discriminan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quantity under the radical in the quadratic formula, b</a:t>
            </a:r>
            <a:r>
              <a:rPr b="0" lang="en-US" sz="4000" spc="-1" strike="noStrike" baseline="30000">
                <a:solidFill>
                  <a:srgbClr val="cc660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- 4ac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ny number that can be written in the form a + bi, where a and b are real numbers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A complex number a + bi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with b </a:t>
            </a:r>
            <a:r>
              <a:rPr b="0" lang="en-US" sz="4000" spc="-1" strike="noStrike">
                <a:solidFill>
                  <a:srgbClr val="cc6600"/>
                </a:solidFill>
                <a:latin typeface="Symbol"/>
                <a:ea typeface="Symbol"/>
              </a:rPr>
              <a:t>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0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real part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real part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imaginary part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imaginary part of the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a + bi is b. </a:t>
            </a:r>
            <a:br>
              <a:rPr sz="4000"/>
            </a:b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standard form of a complex number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standard form of a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complex number is a +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a50021"/>
                </a:solidFill>
                <a:latin typeface="Times New Roman"/>
              </a:rPr>
              <a:t>conjugate of a complex number  </a:t>
            </a:r>
            <a:endParaRPr b="0" lang="en-US" sz="5400" spc="-1" strike="noStrike">
              <a:solidFill>
                <a:srgbClr val="a50021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3200400"/>
            <a:ext cx="77724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The conjugate of a complex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6600"/>
                </a:solidFill>
                <a:latin typeface="Times New Roman"/>
              </a:rPr>
              <a:t>number a + bi is a - bi. </a:t>
            </a:r>
            <a:endParaRPr b="0" lang="en-US" sz="4000" spc="-1" strike="noStrike">
              <a:solidFill>
                <a:srgbClr val="cc66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23:25:39Z</dcterms:created>
  <dc:creator>cacsmc</dc:creator>
  <dc:description/>
  <dc:language>en-US</dc:language>
  <cp:lastModifiedBy>RomaK</cp:lastModifiedBy>
  <dcterms:modified xsi:type="dcterms:W3CDTF">2015-09-04T07:35:50Z</dcterms:modified>
  <cp:revision>14</cp:revision>
  <dc:subject/>
  <dc:title>Introductory Algebra</dc:title>
</cp:coreProperties>
</file>