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3230-E203-4EAC-A4AD-FD0A41B085A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lgebra</a:t>
            </a: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Gr. 6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the difference between an expression and an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has an equal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xplain the difference between an expression and an equatio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Equation has an equal sign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9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(9 + 3)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9s - s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ich expression represents the number of stamps Sarah has left?</a:t>
            </a:r>
            <a:br>
              <a:rPr sz="1200"/>
            </a:b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s, in each envelope. She sells 3 of the envelop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9s - 3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area of the wall that Keesha will paint?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 l x 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  18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  64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 10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is the area of the wall that Keesha will paint?    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 =  l x w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  80 square fe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should replace 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.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. 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.  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hat number should replace n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. 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Write an expression for the number of hummingbirds Lewis saw on Saturda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h. On Saturday, he saw 3 more than twice the number of hummingbirds he saw on Friday. Write your answer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+ 2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ECA6-0AF3-4ED7-ACED-B77DAB726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357-7D9D-479C-8CB5-D4412082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48A3-C93C-49CC-A511-00979F9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188-A278-412E-826C-0B8D4052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5CBE-FCD5-4C95-BDF3-3690A29A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7C1F-4072-4B4B-9E79-C0408091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8FD2-9973-41A6-8E6F-926575EB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BEF-81AB-4C11-AE5B-AC8C6866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21B8-CCA3-4A4F-838E-67D430D3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C2A1-1333-4FEB-8373-75111992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35B0-04AB-496A-B2C9-C26C1781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6E9-CE86-423A-9903-B554FF5C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66EA-DD62-4E7E-8BF0-A683FB86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C1C5-8B15-412D-BD2B-86941B25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5C09-3269-48ED-A94F-E5BD343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CA1A-3780-4767-BC9A-70ED11A30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C99D-8FB4-4860-8C1E-09C5B880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620-F6C8-4998-AE8B-790FB416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7FCA-5ACC-4C0A-A1C3-4848DD7D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5D1-D5E0-469A-92C4-E72AF85E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AC2-35B5-45A6-A7EC-30064330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42D9-AA70-48E0-B0B8-C40023D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EB9-2596-43C5-8A45-C4C7A01D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0AB8-42DD-42AB-92B5-EA41470B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5DB4-6007-474F-8F30-5D874616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E239-C809-4288-B669-26B1407CD15C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6666"/>
                </a:solidFill>
                <a:latin typeface="Verdana"/>
              </a:rPr>
              <a:t>Algebra</a:t>
            </a:r>
            <a:br>
              <a:rPr sz="5200"/>
            </a:br>
            <a:r>
              <a:rPr b="0" lang="en-US" sz="3600" spc="-1" strike="noStrike">
                <a:solidFill>
                  <a:srgbClr val="006666"/>
                </a:solidFill>
                <a:latin typeface="Verdana"/>
              </a:rPr>
              <a:t>Gr. 6</a:t>
            </a:r>
            <a:br>
              <a:rPr sz="52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#1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22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Explain the difference between an expression and an equation?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0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Answer: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99"/>
                </a:solidFill>
                <a:latin typeface="Verdana"/>
              </a:rPr>
              <a:t>Equation has an equal sign.</a:t>
            </a:r>
            <a:r>
              <a:rPr b="0" lang="en-US" sz="36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3200" spc="-1" strike="noStrike">
                <a:solidFill>
                  <a:srgbClr val="006666"/>
                </a:solidFill>
                <a:latin typeface="Verdana"/>
              </a:rPr>
              <a:t>Which expression represents the number of stamps Sarah has left?</a:t>
            </a:r>
            <a:br>
              <a:rPr sz="4000"/>
            </a:b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Sarah collects stamps and keeps them in envelopes. She had 9 envelopes with a certain number of stamp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s,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n each envelope. She sells 3 of the envelop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 9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(9 + 3) 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 9s - s - 3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9s - 3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hat is the area of the wall that Keesha will paint?    </a:t>
            </a:r>
            <a:r>
              <a:rPr b="1" i="1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.  Keesha will paint one rectangular wall of her bedroom. The wall measures  10 feet by 8 feet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= 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l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x </a:t>
            </a:r>
            <a:r>
              <a:rPr b="0" i="1" lang="en-US" sz="2800" spc="-1" strike="noStrike">
                <a:solidFill>
                  <a:srgbClr val="006699"/>
                </a:solidFill>
                <a:latin typeface="Verdana"/>
              </a:rPr>
              <a:t>w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.    18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B.    64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D.   100 square fee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  80 square fee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What number should replace n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If 47 - n = 29, what number should replace n to make the sentence true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A.  1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.  21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D.  22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B.  18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Write an expression for the number of hummingbirds Lewis saw on Saturday.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On Friday, Lewis saw a certain number of hummingbirds, 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h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. On Saturday, he saw 3 more than twice the number of hummingbirds he saw on Friday. Write your answer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Answer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3 + 2h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21:48:15Z</dcterms:created>
  <dc:creator>ESLL Program Honolulu District</dc:creator>
  <dc:description/>
  <dc:language>en-US</dc:language>
  <cp:lastModifiedBy>RomaK</cp:lastModifiedBy>
  <dcterms:modified xsi:type="dcterms:W3CDTF">2015-09-04T07:35:40Z</dcterms:modified>
  <cp:revision>9</cp:revision>
  <dc:subject/>
  <dc:title>Percent</dc:title>
</cp:coreProperties>
</file>