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F96E-0BF2-4C32-A362-3BB4346366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lgebra</a:t>
            </a: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Gr. 6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difference between an expression and an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has an equal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xplain the difference between an expression and an equatio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quation has an equal sign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9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(9 + 3)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9s - 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area of the wall that Keesha will paint?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 l x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 18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  64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10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is the area of the wall that Keesha will paint?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 =  l x 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should replace 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number should replace 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+ 2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B2A-4FCE-4422-98B2-C1DBDB44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069-0E10-49CC-B625-841AB1DB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BC0-5324-4F31-A517-1CE5A095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DDC-3DDC-49F1-B927-F9C1EE72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63BB-BB2A-4A31-818A-09324C12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241A-0C2A-4C2B-8769-E3D2DA1A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E948-BCC8-4765-A63C-3E826A98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1B2B-0958-4BFE-8080-65157C82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5DBF-9CDD-4DA3-A8E9-0E73C66F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1369-9EB3-4298-92A7-5958A82A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B32F-55E5-47FA-8355-C9CE7724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3CE6-17AE-4A3A-B8F8-D70FA512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B4D3-9CA4-4CEA-ADAD-F2796E9E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80B1-47BB-4F25-9F08-0E5EFB3B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BFE2-8C12-4915-ADEC-4B4F02AB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7F41-B659-46DB-A6EE-148AA785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4BF4-5FB5-4E5D-B5D5-F8ADEACD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B06-BF30-468E-B993-29BCAF70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7B9-DD9F-4A58-BADB-910FE6CD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C88-5C2B-4135-890B-AD76598E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A21-C209-4BAD-927E-EAB6E2BD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A55-E983-45DA-9CF7-BA5657E1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6B8-4FD4-4DDA-B7D8-5721E8CC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E63-BEDB-46A5-85D4-165C62E0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4E12-E92D-4B37-BF5C-85101E3C2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000F-5FA4-472D-A1E1-319D6D1CADB8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Algebra</a:t>
            </a:r>
            <a:br>
              <a:rPr sz="52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r. 6</a:t>
            </a:r>
            <a:br>
              <a:rPr sz="52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2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Explain the difference between an expression and an equation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Equation has an equal sign.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Which expression represents the number of stamps Sarah has left?</a:t>
            </a:r>
            <a:br>
              <a:rPr sz="40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s,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n each envelope. She sells 3 of the envelop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hat is the area of the wall that Keesha will paint?    </a:t>
            </a:r>
            <a:r>
              <a:rPr b="1" i="1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 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l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x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What number should replace n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rite an expression for the number of hummingbirds Lewis saw on Saturda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h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. On Saturday, he saw 3 more than twice the number of hummingbirds he saw on Friday. Write your answ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35:40Z</dcterms:modified>
  <cp:revision>9</cp:revision>
  <dc:subject/>
  <dc:title>Percent</dc:title>
</cp:coreProperties>
</file>