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75FF9-5EA8-40AF-8081-C905DB77D5E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ge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Algebra</a:t>
            </a:r>
            <a:br>
              <a:rPr sz="1200"/>
            </a:b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Gr. 6</a:t>
            </a:r>
            <a:br>
              <a:rPr sz="1200"/>
            </a:b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#1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 the difference between an expression and an equa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ation has an equal sig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Explain the difference between an expression and an equation?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Answer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Equation has an equal sign.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expression represents the number of stamps Sarah has left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rah collects stamps and keeps them in envelopes. She had 9 envelopes with a certain number of stamps, s, in each envelope. She sells 3 of the envelop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  9s -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 (9 + 3)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 9s - 3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.   9s - s -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Which expression represents the number of stamps Sarah has left?</a:t>
            </a:r>
            <a:br>
              <a:rPr sz="1200"/>
            </a:b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Sarah collects stamps and keeps them in envelopes. She had 9 envelopes with a certain number of stamps, s, in each envelope. She sells 3 of the envelopes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A.   9s - 3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B.  (9 + 3) s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C.  9s - 3s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D.   9s - s - 3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 9s - 3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Answer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C.  9s - 3s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area of the wall that Keesha will paint?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 Keesha will paint one rectangular wall of her bedroom. The wall measures  10 feet by 8 fee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=  l x 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   18 square fe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   64 square fe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   80 square fe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.   100 square fe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What is the area of the wall that Keesha will paint?    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2.  Keesha will paint one rectangular wall of her bedroom. The wall measures  10 feet by 8 feet.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A =  l x w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A.    18 square feet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B.    64 square feet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C.    80 square feet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D.   100 square feet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   80 square fe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Answer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C.    80 square feet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number should replace 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47 - n = 29, what number should replace n to make the sentence tru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 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 2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.  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What number should replace n?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If 47 - n = 29, what number should replace n to make the sentence true?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A.  12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B.  18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C.  21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D.  22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 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Answer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B.  18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an expression for the number of hummingbirds Lewis saw on Satur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Friday, Lewis saw a certain number of hummingbirds, h. On Saturday, he saw 3 more than twice the number of hummingbirds he saw on Friday. Write your answ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Write an expression for the number of hummingbirds Lewis saw on Saturday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On Friday, Lewis saw a certain number of hummingbirds, h. On Saturday, he saw 3 more than twice the number of hummingbirds he saw on Friday. Write your answer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+ 2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Answer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3 + 2h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C872-0530-43F3-A6A1-478AA0EB5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9C8B-4AF0-40AB-9431-DCB93D33C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25DA-57AA-4173-B779-6FAF5270E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9F37-B5CE-474E-89FE-96BE7CADF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E1C97-0A27-4FB0-8276-A29D92D3B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4D6A2-C2AE-4CC0-A6E0-EFE417A24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7C29E-2885-494F-836B-8416DA30A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1B4B7-3A71-418E-8A18-F67650793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F992F-748B-4D60-9395-2F916AE8C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9FF85-FB69-486C-B986-9B4D4D64E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89D21-5DAA-4AF7-8E93-B6F6DAE47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149C-6048-4E5C-B853-7F73CD707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FB6C4-097B-43C6-AF38-2E3ECB20D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CC46C-F1D9-4BC4-88A8-DEE7CC26E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03D4A-49F6-4FED-B8EA-22DA9535F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87F6F-B523-421B-8557-8D61B10CF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93F8D-ABB0-491B-AC3A-BCE1D6356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E95C-B73C-424F-A84A-3E874B9EB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4FC1-CE55-4D0C-9D92-DC7C82685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1C7C-3B67-4F62-A2A2-3F3E0C427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3ED4-61AE-46D9-AFDB-42C200931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BEC3-54AA-45C8-BA22-8F68B19B5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A3E3-1B73-4C3D-B872-794644FF9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A300-C9D6-4927-A58F-19F836215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4E092-A830-40E7-B885-B458FE4426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E007E-4BB0-47AB-8479-8A5FD42AA542}" type="slidenum">
              <a:rPr b="0" lang="en-US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6666"/>
                </a:solidFill>
                <a:latin typeface="Verdana"/>
              </a:rPr>
              <a:t>Algebra</a:t>
            </a:r>
            <a:br>
              <a:rPr sz="5200"/>
            </a:b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Gr. 6</a:t>
            </a:r>
            <a:br>
              <a:rPr sz="5200"/>
            </a:b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#1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225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Verdana"/>
              </a:rPr>
              <a:t>Explain the difference between an expression and an equation?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08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Verdana"/>
              </a:rPr>
              <a:t>Answer: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Verdana"/>
              </a:rPr>
              <a:t>Equation has an equal sign.</a:t>
            </a: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157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3200" spc="-1" strike="noStrike">
                <a:solidFill>
                  <a:srgbClr val="006666"/>
                </a:solidFill>
                <a:latin typeface="Verdana"/>
              </a:rPr>
              <a:t>Which expression represents the number of stamps Sarah has left?</a:t>
            </a:r>
            <a:br>
              <a:rPr sz="4000"/>
            </a:b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Sarah collects stamps and keeps them in envelopes. She had 9 envelopes with a certain number of stamps, </a:t>
            </a:r>
            <a:r>
              <a:rPr b="1" i="1" lang="en-US" sz="3200" spc="-1" strike="noStrike">
                <a:solidFill>
                  <a:srgbClr val="006699"/>
                </a:solidFill>
                <a:latin typeface="Verdana"/>
              </a:rPr>
              <a:t>s,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in each envelope. She sells 3 of the envelopes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A.   9s - 3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B.  (9 + 3) 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.  9s - 3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D.   9s - s - 3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Answer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.  9s - 3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Verdana"/>
              </a:rPr>
              <a:t>What is the area of the wall that Keesha will paint?    </a:t>
            </a:r>
            <a:r>
              <a:rPr b="1" i="1" lang="en-US" sz="40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2.  Keesha will paint one rectangular wall of her bedroom. The wall measures  10 feet by 8 feet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i="1" lang="en-US" sz="2800" spc="-1" strike="noStrike">
                <a:solidFill>
                  <a:srgbClr val="006699"/>
                </a:solidFill>
                <a:latin typeface="Verdana"/>
              </a:rPr>
              <a:t>A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=  </a:t>
            </a:r>
            <a:r>
              <a:rPr b="0" i="1" lang="en-US" sz="2800" spc="-1" strike="noStrike">
                <a:solidFill>
                  <a:srgbClr val="006699"/>
                </a:solidFill>
                <a:latin typeface="Verdana"/>
              </a:rPr>
              <a:t>l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x </a:t>
            </a:r>
            <a:r>
              <a:rPr b="0" i="1" lang="en-US" sz="2800" spc="-1" strike="noStrike">
                <a:solidFill>
                  <a:srgbClr val="006699"/>
                </a:solidFill>
                <a:latin typeface="Verdana"/>
              </a:rPr>
              <a:t>w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A.    18 square fee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B.    64 square fee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C.    80 square fee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D.   100 square fee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Answer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.    80 square fee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What number should replace n?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If 47 - n = 29, what number should replace n to make the sentence true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A.  12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B.  18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.  21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D.  22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Answer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B.  18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72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Verdana"/>
              </a:rPr>
              <a:t>Write an expression for the number of hummingbirds Lewis saw on Saturday.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On Friday, Lewis saw a certain number of hummingbirds, </a:t>
            </a:r>
            <a:r>
              <a:rPr b="1" i="1" lang="en-US" sz="3200" spc="-1" strike="noStrike">
                <a:solidFill>
                  <a:srgbClr val="006699"/>
                </a:solidFill>
                <a:latin typeface="Verdana"/>
              </a:rPr>
              <a:t>h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. On Saturday, he saw 3 more than twice the number of hummingbirds he saw on Friday. Write your answer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Answer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3 + 2h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9T21:48:15Z</dcterms:created>
  <dc:creator>ESLL Program Honolulu District</dc:creator>
  <dc:description/>
  <dc:language>en-US</dc:language>
  <cp:lastModifiedBy>RomaK</cp:lastModifiedBy>
  <dcterms:modified xsi:type="dcterms:W3CDTF">2015-09-04T07:35:40Z</dcterms:modified>
  <cp:revision>9</cp:revision>
  <dc:subject/>
  <dc:title>Percent</dc:title>
</cp:coreProperties>
</file>