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1FBB0-321B-48B9-AC2F-812726754F0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racteristics of the Greek H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acteristics of the Greek H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 to the Under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o had to confront death and come back stronger and rejuven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ere mortal, so confronting death allowed them to face their own mort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vel to the Under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ro had to confront death and come back stronger and rejuvena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ere mortal, so confronting death allowed them to face their own mort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ed a Prin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invariable married a princess, but instead of marital bliss, this frequently brought turmoil and unhapp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ried a Princ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invariable married a princess, but instead of marital bliss, this frequently brought turmoil and unhappi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oble De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o had larger than life attributes, but he also had larger than life fla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tle would have called this hamartia, and it was usually brought on by hybr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few heroes could come to grips with their gifts and their mortality, but that humanity is part of their app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ppeal is what allowed their societies to forgive them and is also what kept the heroes alive for thousands of years after their de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oble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ro had larger than life attributes, but he also had larger than life f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istotle would have called this hamartia, and it was usually brought on by hyb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few heroes could come to grips with their gifts and their mortality, but that humanity is part of their appe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appeal is what allowed their societies to forgive them and is also what kept the heroes alive for thousands of years after their de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think of the word hero, what comes to mi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ked men in spandex, tights, and c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tured loners with no one to l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 cars, hot women, and high-tech gadg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der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e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e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we think of the word hero, what comes to m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ked men in spandex, tights, and ca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rtured loners with no one to l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ol cars, hot women, and high-tech gadg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er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der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e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hero in Greek Myth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one immortal pa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born into royal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an unusual conception or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favored by the g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the subject of a prophe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abandoned at birth or while very you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ing an amazing feat at a young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ing on a qu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ing to the under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ying a prin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ing an ignoble de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kes a hero in Greek Myth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ing one immortal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born into royal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ing an unusual conception or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favored by the g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the subject of a prophes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abandoned at birth or while very you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ing an amazing feat at a young 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ing on a qu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veling to the under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rying a princ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ing an ignoble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usual Conception /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are often called “Demi-gods” because one parent is immortal and the other is mor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famous heroes were the offspring of Zeus or Poseidon, but sometimes the parent was a goddess such as Aphrodite or Thet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urther complicate things, often the heroes’ actual births involved strange comp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usual Conception /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are often called “Demi-gods” because one parent is immortal and the other is mor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famous heroes were the offspring of Zeus or Poseidon, but sometimes the parent was a goddess such as Aphrodite or Thet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urther complicate things, often the heroes’ actual births involved strange complic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to Royal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ere almost always the offspring of a princess or que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the god responsible for the hero either came disguised as the husband of the queen, or the princess slept with a god and a mortal on the same n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riably the hero was claimed by his earthly father as well as his Olympian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to Royal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ere almost always the offspring of a princess or quee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ically the god responsible for the hero either came disguised as the husband of the queen, or the princess slept with a god and a mortal on the same n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ariably the hero was claimed by his earthly father as well as his Olympian 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hesy / Abandoned </a:t>
            </a:r>
            <a:br>
              <a:rPr sz="1200"/>
            </a:br>
            <a:r>
              <a:rPr b="0" lang="en-US" sz="1200" spc="-1" strike="noStrike">
                <a:solidFill>
                  <a:srgbClr val="000000"/>
                </a:solidFill>
                <a:latin typeface="Calibri"/>
              </a:rPr>
              <a:t>at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tes or the oracle often had something to say about the birth of a h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he prediction so frightened the parents that they abandoned the child in the wilderness, but since the heroic child was favored by the gods, he was saved and raised by someone other than his pa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rough no fault of the parents, the child needed to be raised away from ho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hesy / Abandoned </a:t>
            </a:r>
            <a:br>
              <a:rPr sz="1200"/>
            </a:br>
            <a:r>
              <a:rPr b="0" lang="en-US" sz="1200" spc="-1" strike="noStrike">
                <a:solidFill>
                  <a:srgbClr val="ffffff"/>
                </a:solidFill>
                <a:latin typeface="Arial"/>
              </a:rPr>
              <a:t>at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tes or the oracle often had something to say about the birth of a h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the prediction so frightened the parents that they abandoned the child in the wilderness, but since the heroic child was favored by the gods, he was saved and raised by someone other than his pa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rough no fault of the parents, the child needed to be raised away from ho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ing an amazing feat at a young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ng heroes invariable found a way to “strut their stuff” when they were wee tyk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acles killed two snakes as a youngster, Theseus moved a huge rock and fought what he thought was a 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vents were a hea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hat great things were in store for our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ing an amazing feat at a young 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heroes invariable found a way to “strut their stuff” when they were wee tyk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acles killed two snakes as a youngster, Theseus moved a huge rock and fought what he thought was a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events were a hea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p that great things were in store for our hero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heroes were the offspring of gods,   usually they were favored by the g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ild of Zeus would get help on a quest by Zeus or another Olymp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gifts such as helmets, winged sandals, and golden bridles were loaned to the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y the G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heroes were the offspring of gods,   usually they were favored by the go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ild of Zeus would get help on a quest by Zeus or another Olymp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gifts such as helmets, winged sandals, and golden bridles were loaned to the hero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vored by the G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s, Kleos and Arist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made the world a safer place by defeating a monster, killing an evil king, or righting a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anted their names to live forever since they could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s must be sung that would perpetuate the stories of their great d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s, Kleos and Ariste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made the world a safer place by defeating a monster, killing an evil king, or righting a wro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anted their names to live forever since they could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gs must be sung that would perpetuate the stories of their great d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BCB64-B17E-4374-BF44-992327D69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5A07C-F41F-48D0-A188-E930FE163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EF3DB-149C-4481-A27D-08561D5CE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BBB82-0253-44D0-8097-EF3D9C92D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3958CD-0CE6-4B8C-9BDE-B4B1E036C6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AE8CA-AD41-449C-81E3-62327185F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F11C3-F74C-4786-8B48-6DE65CF5D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35515-2545-47B8-A9EB-B33CA1B73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843F9-6144-4C70-92FC-5FC03626A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A942B-6C08-4B01-8022-DDDE911F5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F8121-A1D3-4E14-A681-7794EC0BE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EF78C-2FD7-44F2-B761-E8BCACC9D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7431E-B11B-4AA6-89CA-7EA929C9C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978FE-A1EE-46E9-BE1B-1F9903FE7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09CFC-6D41-426E-8992-79A439EBD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8C77A8-7D25-4A44-83DE-88806D27BE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E044BE-1DAC-4D19-93DB-4481B635E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8513A-1B31-45ED-8E52-7CD928F3B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4EFB4-A770-42B4-AFCB-CAFF79B09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745C9-EDEB-4E83-9A13-C27A155E6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BFC31-6A7C-46D8-8FA8-473D79DE5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17319-590F-49B2-B7CB-F9EC207FC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95ED6-5B34-4372-AA82-727248C3E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CDAF4-08BE-4F40-9D5C-F26036146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72C6-4938-41C0-BE7A-7DC0FADB3A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00F1C-4EAE-44B1-8B64-7BC469D5DC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perseus.tufts.edu/Herakles/Hicons/fronth.gif"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380880"/>
            <a:ext cx="7772400" cy="19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The Characteristics of the Greek Hero</a:t>
            </a:r>
            <a:endParaRPr b="1" lang="en-US" sz="54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Arial"/>
            </a:endParaRPr>
          </a:p>
        </p:txBody>
      </p:sp>
      <p:pic>
        <p:nvPicPr>
          <p:cNvPr id="107" name="Picture 5" descr="f42ece0um1"/>
          <p:cNvPicPr/>
          <p:nvPr/>
        </p:nvPicPr>
        <p:blipFill>
          <a:blip r:embed="rId1"/>
          <a:stretch/>
        </p:blipFill>
        <p:spPr>
          <a:xfrm>
            <a:off x="152280" y="2590920"/>
            <a:ext cx="8839440" cy="426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avel to the Underworld</a:t>
            </a: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ro had to confront death and come back stronger and rejuvenated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es were mortal, so confronting death allowed them to face their own mort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 name="Picture 5" descr="35660~Orpheus-with-a-Harp-Playing-to-Pluto-and-Persephone-in-the-Underworld-Posters"/>
          <p:cNvPicPr/>
          <p:nvPr/>
        </p:nvPicPr>
        <p:blipFill>
          <a:blip r:embed="rId1"/>
          <a:stretch/>
        </p:blipFill>
        <p:spPr>
          <a:xfrm>
            <a:off x="1981080" y="4191120"/>
            <a:ext cx="5029200" cy="249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0456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arried a Princess</a:t>
            </a:r>
            <a:endParaRPr b="1" lang="en-US" sz="4400" spc="-1" strike="noStrike">
              <a:solidFill>
                <a:srgbClr val="ffffb7"/>
              </a:solidFill>
              <a:latin typeface="Arial Black"/>
            </a:endParaRPr>
          </a:p>
        </p:txBody>
      </p:sp>
      <p:sp>
        <p:nvSpPr>
          <p:cNvPr id="135" name="PlaceHolder 2"/>
          <p:cNvSpPr>
            <a:spLocks noGrp="1"/>
          </p:cNvSpPr>
          <p:nvPr>
            <p:ph/>
          </p:nvPr>
        </p:nvSpPr>
        <p:spPr>
          <a:xfrm>
            <a:off x="838080" y="2286000"/>
            <a:ext cx="4114800" cy="45720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es invariable married a princess, but instead of marital bliss, this frequently brought turmoil and unhappiness</a:t>
            </a:r>
            <a:endParaRPr b="0" lang="en-US" sz="3200" spc="-1" strike="noStrike">
              <a:solidFill>
                <a:srgbClr val="ffffff"/>
              </a:solidFill>
              <a:latin typeface="Arial"/>
            </a:endParaRPr>
          </a:p>
        </p:txBody>
      </p:sp>
      <p:pic>
        <p:nvPicPr>
          <p:cNvPr id="136" name="Picture 5" descr="Princess_Belle-Etoile_-_illustration_by_Walter_Crane_-_Project_Gutenberg_eText_18344"/>
          <p:cNvPicPr/>
          <p:nvPr/>
        </p:nvPicPr>
        <p:blipFill>
          <a:blip r:embed="rId1"/>
          <a:stretch/>
        </p:blipFill>
        <p:spPr>
          <a:xfrm>
            <a:off x="5029200" y="1905120"/>
            <a:ext cx="4114800" cy="49528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6">
                                  <p:stCondLst>
                                    <p:cond delay="0"/>
                                  </p:stCondLst>
                                  <p:childTnLst>
                                    <p:animScale>
                                      <p:cBhvr>
                                        <p:cTn id="18" dur="2000" fill="hold"/>
                                        <p:tgtEl>
                                          <p:spTgt spid="13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gnoble Death</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ro had larger than life attributes, but he also had larger than life flaw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istotle would have called this hamartia, and it was usually brought on by hybri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few heroes could come to grips with their gifts and their mortality, but that humanity is part of their appea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appeal is what allowed their societies to forgive them and is also what kept the heroes alive for thousands of years after their death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When we think of the word hero, what comes to mind?</a:t>
            </a:r>
            <a:endParaRPr b="1" lang="en-US" sz="40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ked men in spandex, tights, and cape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rtured loners with no one to love?</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l cars, hot women, and high-tech gadget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man?</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man?</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der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e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man?</a:t>
            </a:r>
            <a:endParaRPr b="0" lang="en-US" sz="2800" spc="-1" strike="noStrike">
              <a:solidFill>
                <a:srgbClr val="ffffff"/>
              </a:solidFill>
              <a:latin typeface="Arial"/>
            </a:endParaRPr>
          </a:p>
        </p:txBody>
      </p:sp>
      <p:pic>
        <p:nvPicPr>
          <p:cNvPr id="110" name="Picture 5" descr="392pxsupermanbatmansecretfilescvfh8"/>
          <p:cNvPicPr/>
          <p:nvPr/>
        </p:nvPicPr>
        <p:blipFill>
          <a:blip r:embed="rId1"/>
          <a:stretch/>
        </p:blipFill>
        <p:spPr>
          <a:xfrm>
            <a:off x="4800600" y="3352680"/>
            <a:ext cx="320040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ppt_x"/>
                                          </p:val>
                                        </p:tav>
                                        <p:tav tm="100000">
                                          <p:val>
                                            <p:strVal val="#ppt_x"/>
                                          </p:val>
                                        </p:tav>
                                      </p:tavLst>
                                    </p:anim>
                                    <p:anim calcmode="lin" valueType="num">
                                      <p:cBhvr additive="base">
                                        <p:cTn id="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2000" fill="hold"/>
                                        <p:tgtEl>
                                          <p:spTgt spid="1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makes a hero in Greek Mythology?</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one immortal paren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born into royalty</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an unusual conception or birth</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favored by the god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the subject of a prophesy</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abandoned at birth or while very young</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ing an amazing feat at a young age</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ing on a ques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veling to the underworld</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rying a princes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ing an ignoble de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usual Conception / Birth</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es are often called “Demi-gods” because one parent is immortal and the other is mortal</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mous heroes were the offspring of Zeus or Poseidon, but sometimes the parent was a goddess such as Aphrodite or Theti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further complicate things, often the heroes’ actual births involved strange complications</a:t>
            </a:r>
            <a:endParaRPr b="0" lang="en-US" sz="2800" spc="-1" strike="noStrike">
              <a:solidFill>
                <a:srgbClr val="ffffff"/>
              </a:solidFill>
              <a:latin typeface="Arial"/>
            </a:endParaRPr>
          </a:p>
        </p:txBody>
      </p:sp>
      <p:pic>
        <p:nvPicPr>
          <p:cNvPr id="115" name="Picture 5" descr="fronth">
            <a:hlinkClick r:id="rId1"/>
          </p:cNvPr>
          <p:cNvPicPr/>
          <p:nvPr/>
        </p:nvPicPr>
        <p:blipFill>
          <a:blip r:embed="rId2"/>
          <a:stretch/>
        </p:blipFill>
        <p:spPr>
          <a:xfrm>
            <a:off x="3733920" y="5181480"/>
            <a:ext cx="175248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orn into Royalty</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es were almost always the offspring of a princess or queen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ly the god responsible for the hero either came disguised as the husband of the queen, or the princess slept with a god and a mortal on the same nigh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ariably the hero was claimed by his earthly father as well as his Olympian o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8" name="Picture 5" descr="koenigskrone370"/>
          <p:cNvPicPr/>
          <p:nvPr/>
        </p:nvPicPr>
        <p:blipFill>
          <a:blip r:embed="rId1"/>
          <a:stretch/>
        </p:blipFill>
        <p:spPr>
          <a:xfrm>
            <a:off x="6400800" y="0"/>
            <a:ext cx="2533680" cy="1828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44440"/>
            <a:ext cx="632448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Prophesy / Abandoned </a:t>
            </a:r>
            <a:br>
              <a:rPr sz="3600"/>
            </a:br>
            <a:r>
              <a:rPr b="1" lang="en-US" sz="3600" spc="-1" strike="noStrike">
                <a:solidFill>
                  <a:srgbClr val="ffffb7"/>
                </a:solidFill>
                <a:latin typeface="Arial Black"/>
              </a:rPr>
              <a:t>at Birth</a:t>
            </a:r>
            <a:endParaRPr b="1" lang="en-US" sz="36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tes or the oracle often had something to say about the birth of a hero</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the prediction so frightened the parents that they abandoned the child in the wilderness, but since the heroic child was favored by the gods, he was saved and raised by someone other than his parent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times, through no fault of the parents, the child needed to be raised away from home </a:t>
            </a:r>
            <a:endParaRPr b="0" lang="en-US" sz="2800" spc="-1" strike="noStrike">
              <a:solidFill>
                <a:srgbClr val="ffffff"/>
              </a:solidFill>
              <a:latin typeface="Arial"/>
            </a:endParaRPr>
          </a:p>
        </p:txBody>
      </p:sp>
      <p:pic>
        <p:nvPicPr>
          <p:cNvPr id="121" name="Picture 5" descr="delphi_site"/>
          <p:cNvPicPr/>
          <p:nvPr/>
        </p:nvPicPr>
        <p:blipFill>
          <a:blip r:embed="rId1"/>
          <a:stretch/>
        </p:blipFill>
        <p:spPr>
          <a:xfrm>
            <a:off x="6019920" y="0"/>
            <a:ext cx="312408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080"/>
            <a:ext cx="83851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erforming an amazing feat at a young age</a:t>
            </a:r>
            <a:endParaRPr b="1" lang="en-US" sz="4000" spc="-1" strike="noStrike">
              <a:solidFill>
                <a:srgbClr val="ffffb7"/>
              </a:solidFill>
              <a:latin typeface="Arial Black"/>
            </a:endParaRPr>
          </a:p>
        </p:txBody>
      </p:sp>
      <p:sp>
        <p:nvSpPr>
          <p:cNvPr id="123" name="PlaceHolder 2"/>
          <p:cNvSpPr>
            <a:spLocks noGrp="1"/>
          </p:cNvSpPr>
          <p:nvPr>
            <p:ph/>
          </p:nvPr>
        </p:nvSpPr>
        <p:spPr>
          <a:xfrm>
            <a:off x="228240" y="1828440"/>
            <a:ext cx="5181480" cy="487692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ng heroes invariable found a way to “strut their stuff” when they were wee tyke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acles killed two snakes as a youngster, Theseus moved a huge rock and fought what he thought was a lio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events were a heads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hat great things were in store for our heroes</a:t>
            </a:r>
            <a:endParaRPr b="0" lang="en-US" sz="2800" spc="-1" strike="noStrike">
              <a:solidFill>
                <a:srgbClr val="ffffff"/>
              </a:solidFill>
              <a:latin typeface="Arial"/>
            </a:endParaRPr>
          </a:p>
        </p:txBody>
      </p:sp>
      <p:pic>
        <p:nvPicPr>
          <p:cNvPr id="124" name="Picture 5" descr="herc01r"/>
          <p:cNvPicPr/>
          <p:nvPr/>
        </p:nvPicPr>
        <p:blipFill>
          <a:blip r:embed="rId1"/>
          <a:stretch/>
        </p:blipFill>
        <p:spPr>
          <a:xfrm>
            <a:off x="5715000" y="1828800"/>
            <a:ext cx="342900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10_Shipton"/>
          <p:cNvPicPr/>
          <p:nvPr/>
        </p:nvPicPr>
        <p:blipFill>
          <a:blip r:embed="rId1"/>
          <a:stretch/>
        </p:blipFill>
        <p:spPr>
          <a:xfrm>
            <a:off x="914400" y="1752480"/>
            <a:ext cx="7772400" cy="4819680"/>
          </a:xfrm>
          <a:prstGeom prst="rect">
            <a:avLst/>
          </a:prstGeom>
          <a:ln w="0">
            <a:noFill/>
          </a:ln>
        </p:spPr>
      </p:pic>
      <p:sp>
        <p:nvSpPr>
          <p:cNvPr id="126" name="PlaceHolder 1"/>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heroes were the offspring of gods,   usually they were favored by the god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ild of Zeus would get help on a quest by Zeus or another Olympia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 gifts such as helmets, winged sandals, and golden bridles were loaned to the heroes</a:t>
            </a:r>
            <a:endParaRPr b="0" lang="en-US" sz="3200" spc="-1" strike="noStrike">
              <a:solidFill>
                <a:srgbClr val="ffffff"/>
              </a:solidFill>
              <a:latin typeface="Arial"/>
            </a:endParaRPr>
          </a:p>
        </p:txBody>
      </p:sp>
      <p:sp>
        <p:nvSpPr>
          <p:cNvPr id="127"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avored by the God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5" descr="chimera"/>
          <p:cNvPicPr/>
          <p:nvPr/>
        </p:nvPicPr>
        <p:blipFill>
          <a:blip r:embed="rId1"/>
          <a:stretch/>
        </p:blipFill>
        <p:spPr>
          <a:xfrm>
            <a:off x="4191120" y="3544920"/>
            <a:ext cx="4952880" cy="3313080"/>
          </a:xfrm>
          <a:prstGeom prst="rect">
            <a:avLst/>
          </a:prstGeom>
          <a:ln w="0">
            <a:noFill/>
          </a:ln>
        </p:spPr>
      </p:pic>
      <p:sp>
        <p:nvSpPr>
          <p:cNvPr id="129" name="PlaceHolder 1"/>
          <p:cNvSpPr>
            <a:spLocks noGrp="1"/>
          </p:cNvSpPr>
          <p:nvPr>
            <p:ph type="title"/>
          </p:nvPr>
        </p:nvSpPr>
        <p:spPr>
          <a:xfrm>
            <a:off x="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Quests, Kleos and Aristea </a:t>
            </a:r>
            <a:endParaRPr b="1" lang="en-US" sz="4400" spc="-1" strike="noStrike">
              <a:solidFill>
                <a:srgbClr val="ffffb7"/>
              </a:solidFill>
              <a:latin typeface="Arial Black"/>
            </a:endParaRPr>
          </a:p>
        </p:txBody>
      </p:sp>
      <p:sp>
        <p:nvSpPr>
          <p:cNvPr id="130" name="PlaceHolder 2"/>
          <p:cNvSpPr>
            <a:spLocks noGrp="1"/>
          </p:cNvSpPr>
          <p:nvPr>
            <p:ph/>
          </p:nvPr>
        </p:nvSpPr>
        <p:spPr>
          <a:xfrm>
            <a:off x="-360" y="1218960"/>
            <a:ext cx="8007480" cy="4190760"/>
          </a:xfrm>
          <a:prstGeom prst="rect">
            <a:avLst/>
          </a:prstGeom>
          <a:noFill/>
          <a:ln w="0">
            <a:noFill/>
          </a:ln>
        </p:spPr>
        <p:txBody>
          <a:bodyPr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roes made the world a safer place by defeating a monster, killing an evil king, or righting a wrong</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roes wanted their names to live forever since they could not.</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ongs must be sung that would perpetuate</a:t>
            </a:r>
            <a:r>
              <a:rPr b="0" lang="en-US" sz="3200" spc="-1" strike="noStrike">
                <a:solidFill>
                  <a:srgbClr val="006600"/>
                </a:solidFill>
                <a:latin typeface="Arial"/>
              </a:rPr>
              <a:t> </a:t>
            </a:r>
            <a:r>
              <a:rPr b="0" lang="en-US" sz="3200" spc="-1" strike="noStrike">
                <a:solidFill>
                  <a:srgbClr val="ffff66"/>
                </a:solidFill>
                <a:latin typeface="Arial"/>
              </a:rPr>
              <a:t>the stories of their great deeds</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23:28:07Z</dcterms:created>
  <dc:creator> </dc:creator>
  <dc:description/>
  <dc:language>en-US</dc:language>
  <cp:lastModifiedBy>RomaK</cp:lastModifiedBy>
  <dcterms:modified xsi:type="dcterms:W3CDTF">2015-09-02T09:27:41Z</dcterms:modified>
  <cp:revision>18</cp:revision>
  <dc:subject/>
  <dc:title>The Characteristics of the Greek Hero</dc:title>
</cp:coreProperties>
</file>