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8.wmf" ContentType="image/x-wmf"/>
  <Override PartName="/ppt/media/image3.jpeg" ContentType="image/jpe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30.wmf" ContentType="image/x-wmf"/>
  <Override PartName="/ppt/media/image33.wmf" ContentType="image/x-wmf"/>
  <Override PartName="/ppt/media/image12.jpeg" ContentType="image/jpeg"/>
  <Override PartName="/ppt/media/image34.wmf" ContentType="image/x-wmf"/>
  <Override PartName="/ppt/media/image35.wmf" ContentType="image/x-wmf"/>
  <Override PartName="/ppt/media/image15.png" ContentType="image/png"/>
  <Override PartName="/ppt/media/image36.wmf" ContentType="image/x-wmf"/>
  <Override PartName="/ppt/media/image16.png" ContentType="image/png"/>
  <Override PartName="/ppt/media/image37.wmf" ContentType="image/x-wmf"/>
  <Override PartName="/ppt/media/image17.png" ContentType="image/png"/>
  <Override PartName="/ppt/media/image31.wmf" ContentType="image/x-wmf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9.png" ContentType="image/png"/>
  <Override PartName="/ppt/media/image21.jpeg" ContentType="image/jpeg"/>
  <Override PartName="/ppt/media/image3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BF63-5206-4C9E-9D2B-8329B26CAF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plays were performed during religious ceremonies held in honor of Dionysus, the Greek god of wine and revelry (altars generally on st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ks would shut down for days, people would travel from all around to see the drama competitions—even prisoners were temporarily released to see the pl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gedy means “goat song” (relates to Dionysian ritu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plays were performed during religious ceremonies held in honor of Dionysus, the Greek god of wine and revelry (altars generally on st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ks would shut down for days, people would travel from all around to see the drama competitions—even prisoners were temporarily released to see the pl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gedy means “goat song” (relates to Dionysian ritu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nd how were the dramas per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amphi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 chorus who described most of the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ll the fighting and movement going on off stag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.With tragedy first, then comedy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nd how were the dramas per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amphi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 chorus who described most of the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ll the fighting and movement going on off stag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.With tragedy first, then comedy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jor Greek Drama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jor Greek Drama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phocles’ Antig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 in Thebes (a city in ancient Gree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 is the daughter of Oedipus and Joca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’s brothers, Eteokles and Polyneces, took opposite sides in a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eokles and Polyneces killed each other in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’s uncle, Kreon, became king of Th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phocles’ Antig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 in Thebes (a city in ancient Gree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 is the daughter of Oedipus and Joca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’s brothers, Eteokles and Polyneces, took opposite sides in a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eokles and Polyneces killed each other in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’s uncle, Kreon, became king of Th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Only The Boxed Por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Only The Boxed Por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ipides’ Me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is a princess from Colc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marries Jason, who is in Colchis on a quest for the Golden Fle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betrays her father and murders her brother for her love of J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has magical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takes Medea back to his homeland, Corinth, where they have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takes another wife, the king of Corinth’s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ipides’ Me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is a princess from Colc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marries Jason, who is in Colchis on a quest for the Golden Fle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betrays her father and murders her brother for her love of J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has magical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takes Medea back to his homeland, Corinth, where they have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takes another wife, the king of Corinth’s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’s Voyage on the 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and Medea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inth:  Where Jason and Medea settle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’s Voyage on the 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and Medea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inth:  Where Jason and Medea settle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ths played a key ro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reek dr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ths played a key ro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reek dr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 – Why they were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fied religious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redibility to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h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istic (more than one g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ed around the twelve Olympians (primary Greek go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 – Why they were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fied religious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redibility to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h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istic (more than one g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ed around the twelve Olympians (primary Greek go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cho tried to get Narcissus to love her, she was den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ddened, she shriveled to nothing, her existence melting into a r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her voice rem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, the ech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cho tried to get Narcissus to love her, she was den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ddened, she shriveled to nothing, her existence melting into a r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her voice rem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, the ech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justify religious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nysian cults in ancient Greece were founded to worship Dionysus, god of grapes, vegetation, and w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justify religious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nysian cults in ancient Greece were founded to worship Dionysus, god of grapes, vegetation, and w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ive credibility to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s used myths to create family trees for their leaders, enforcing the made-up idea that the emperors were related to the gods and were, then, demi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ive credibility to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s used myths to create family trees for their leaders, enforcing the made-up idea that the emperors were related to the gods and were, then, demi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ive h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cient citizens of Greece would sacrifice and pray to an ORA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racle was a priest or priestess who would send a message to the gods from mortals who brought their requ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hope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unleashing suffering, famine, disease, and many other evils, the last thing Pandora let out was H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ive h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cient citizens of Greece would sacrifice and pray to an ORA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racle was a priest or priestess who would send a message to the gods from mortals who brought their requ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hope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unleashing suffering, famine, disease, and many other evils, the last thing Pandora let out was H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acle at Delp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amous oracle in Greek myth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acle at Delp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amous oracle in Greek myth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Olympu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 Olympia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Olympu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 Olympia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lympians Are the 12 Main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lympians Are the 12 Main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ments of the Olymp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ments of the Olymp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has thousands of inhabited islands and dramatic mountain r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has a rich culture and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acy was founded in Gre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archal (male dominated)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y, as a practice, began in Greece (Socrates, Plato, Aristot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has thousands of inhabited islands and dramatic mountain r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has a rich culture and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acy was founded in Gre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archal (male dominated)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y, as a practice, began in Greece (Socrates, Plato, Aristot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ei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br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qu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ei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br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qu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ther to Zeus and Posei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Underworld (Tarta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 of Pers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ther to Zeus and Posei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Underworld (Tarta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 of Pers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d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d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phaes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fts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s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phaes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fts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s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enger to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eves &amp; scoundr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enger to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eves &amp; scoundr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ny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ying (Revel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ny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ying (Revel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en of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en of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arv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 to Pers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arv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 to Pers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s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s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d in Europe in the Aeg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d in Europe in the Aeg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h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wis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h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wis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rod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love and beau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rod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love and beau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unting and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unting and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Main Portions of Greek Theat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ne – Portion of stage where actors performed (included 1-3 doors in and 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chestra – “Dancing Place” where chorus sang to the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atron – Seating for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Main Portions of Greek Theat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ne – Portion of stage where actors performed (included 1-3 doors in and 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chestra – “Dancing Place” where chorus sang to the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atron – Seating for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F61E-433B-4D8E-AED7-A1D2A890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596E-3FFB-4088-A587-0C974D19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9274-FBB8-4C3C-8B1E-B49554317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9B2B-D9B7-478B-8F65-3CFADCF4B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AEF3-C88A-49BC-A2BF-0B0AC363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5436-287E-4E68-8196-5956CD91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4457-9A86-4F26-B547-D82120FE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A5DA-D24B-4E68-886B-8A43F8AB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A2B3-249D-4F1F-B128-CA72EDE6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EC1A-EB2C-4C72-B910-C8C8D90F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985C-985D-4059-95A3-A6BFACA6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CD53-A56B-46E0-8FE3-A0E1B812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9F1D-9C26-4FEC-8175-36081C448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CopprplGoth Bd BT"/>
              </a:rPr>
              <a:t>Greek Theat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3657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k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hercules copy"/>
          <p:cNvPicPr/>
          <p:nvPr/>
        </p:nvPicPr>
        <p:blipFill>
          <a:blip r:embed="rId1"/>
          <a:stretch/>
        </p:blipFill>
        <p:spPr>
          <a:xfrm>
            <a:off x="5105520" y="1600200"/>
            <a:ext cx="3797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k plays were performed during religious ceremonies held in honor of Dionysus, the Greek god of wine and revelry (altars generally on st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ks would shut down for days, people would travel from all around to see the drama competitions—even prisoners were temporarily released to see the p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ge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ns “goat song” (relates to Dionysian ritu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dion"/>
          <p:cNvPicPr/>
          <p:nvPr/>
        </p:nvPicPr>
        <p:blipFill>
          <a:blip r:embed="rId1"/>
          <a:stretch/>
        </p:blipFill>
        <p:spPr>
          <a:xfrm>
            <a:off x="4952880" y="4572000"/>
            <a:ext cx="3810240" cy="2076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theatrepic2"/>
          <p:cNvPicPr/>
          <p:nvPr/>
        </p:nvPicPr>
        <p:blipFill>
          <a:blip r:embed="rId2"/>
          <a:stretch/>
        </p:blipFill>
        <p:spPr>
          <a:xfrm>
            <a:off x="457200" y="1219320"/>
            <a:ext cx="556272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Where and how were the dramas perform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theatre copy"/>
          <p:cNvPicPr/>
          <p:nvPr/>
        </p:nvPicPr>
        <p:blipFill>
          <a:blip r:embed="rId1"/>
          <a:stretch/>
        </p:blipFill>
        <p:spPr>
          <a:xfrm>
            <a:off x="609480" y="2057400"/>
            <a:ext cx="4445280" cy="29718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5486400" y="2057400"/>
            <a:ext cx="3063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In an amphithea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ith a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horus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ho described most of the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ith m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ith all the fighting and movement going on off stage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.With tragedy first, then comedy l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Greek Drama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eschyl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524 B.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even Against Theb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opho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496 B.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ntig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Oedi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Eurip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480 B.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Med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Dramat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Bo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Wr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phocles’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ntig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in Thebes (a city in ancient Gree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one is the daughter of Oedipus and Joca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one’s brothers, Eteokles and Polyneces, took opposite sides in a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eokles and Polyneces killed each other in ba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one’s uncle, Kreon, became king of The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thebeshouse"/>
          <p:cNvPicPr/>
          <p:nvPr/>
        </p:nvPicPr>
        <p:blipFill>
          <a:blip r:embed="rId1"/>
          <a:stretch/>
        </p:blipFill>
        <p:spPr>
          <a:xfrm>
            <a:off x="838080" y="306360"/>
            <a:ext cx="7620120" cy="63723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1905120" y="3886200"/>
            <a:ext cx="6553080" cy="2666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905120" y="2057400"/>
            <a:ext cx="655308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py Only The Boxed Portio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ipides’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e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ea is a princess from Colc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ea marries Jason, who is in Colchis on a quest for the Golden Fle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ea betrays her father and murders her brother for her love of J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ea has magical p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son takes Medea back to his homeland, Corinth, where they have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son takes another wife, the king of Corinth’s daug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son’s Voyage on the Ar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argovoyage1"/>
          <p:cNvPicPr/>
          <p:nvPr/>
        </p:nvPicPr>
        <p:blipFill>
          <a:blip r:embed="rId1"/>
          <a:stretch/>
        </p:blipFill>
        <p:spPr>
          <a:xfrm>
            <a:off x="609480" y="1160640"/>
            <a:ext cx="7848720" cy="5351400"/>
          </a:xfrm>
          <a:prstGeom prst="rect">
            <a:avLst/>
          </a:prstGeom>
          <a:ln w="0">
            <a:noFill/>
          </a:ln>
        </p:spPr>
      </p:pic>
      <p:sp>
        <p:nvSpPr>
          <p:cNvPr id="100" name="Oval 6"/>
          <p:cNvSpPr/>
          <p:nvPr/>
        </p:nvSpPr>
        <p:spPr>
          <a:xfrm>
            <a:off x="8001000" y="2438280"/>
            <a:ext cx="38088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4267080" y="4191120"/>
            <a:ext cx="38124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 flipV="1">
            <a:off x="7924680" y="3124080"/>
            <a:ext cx="22860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6781680" y="4921200"/>
            <a:ext cx="1828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son and Medea m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 flipH="1" flipV="1">
            <a:off x="4724280" y="4495680"/>
            <a:ext cx="106704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4648320" y="5835600"/>
            <a:ext cx="2895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inth:  Where Jason and Medea settle 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Greecefla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1523880"/>
            <a:ext cx="2687760" cy="15336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7"/>
          <p:cNvSpPr/>
          <p:nvPr/>
        </p:nvSpPr>
        <p:spPr>
          <a:xfrm>
            <a:off x="5105520" y="1447920"/>
            <a:ext cx="281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457200" y="3130560"/>
            <a:ext cx="2819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epidavros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80880" y="3660840"/>
            <a:ext cx="3505320" cy="2892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pandora copy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181480" y="1981080"/>
            <a:ext cx="29037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ths played a key ro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Greek dr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4">
                                      <p:cBhvr additive="repl">
                                        <p:cTn id="18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25">
                                      <p:cBhvr additive="repl">
                                        <p:cTn id="18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view of Greek Thea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Greeceflag"/>
          <p:cNvPicPr/>
          <p:nvPr/>
        </p:nvPicPr>
        <p:blipFill>
          <a:blip r:embed="rId1"/>
          <a:stretch/>
        </p:blipFill>
        <p:spPr>
          <a:xfrm>
            <a:off x="457200" y="1523880"/>
            <a:ext cx="2687760" cy="15336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5105520" y="1447920"/>
            <a:ext cx="281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57200" y="3130560"/>
            <a:ext cx="2819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epidavros"/>
          <p:cNvPicPr/>
          <p:nvPr/>
        </p:nvPicPr>
        <p:blipFill>
          <a:blip r:embed="rId2"/>
          <a:stretch/>
        </p:blipFill>
        <p:spPr>
          <a:xfrm>
            <a:off x="380880" y="3660840"/>
            <a:ext cx="3505320" cy="2892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pandora copy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181480" y="1981080"/>
            <a:ext cx="29037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yths – Why they were writ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ified religious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ve credibility to 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ve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theistic (more than one g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ed around the twelve Olympians (primary Greek go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100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1000" autoRev="1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1000" autoRev="1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1000" autoRev="1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1000" autoRev="1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1000" autoRev="1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greekpillar"/>
          <p:cNvPicPr/>
          <p:nvPr/>
        </p:nvPicPr>
        <p:blipFill>
          <a:blip r:embed="rId1"/>
          <a:stretch/>
        </p:blipFill>
        <p:spPr>
          <a:xfrm>
            <a:off x="6934320" y="22860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en Echo tried to get Narcissus to love her, she was den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ddened, she shriveled to nothing, her existence melting into a r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ly her voice rema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ence, the ech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greekhead"/>
          <p:cNvPicPr/>
          <p:nvPr/>
        </p:nvPicPr>
        <p:blipFill>
          <a:blip r:embed="rId2"/>
          <a:stretch/>
        </p:blipFill>
        <p:spPr>
          <a:xfrm>
            <a:off x="5486400" y="2438280"/>
            <a:ext cx="25527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justify religious pract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29714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onysian cults in ancient Greece were founded to worship Dionysus, god of grapes, vegetation, and w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greekpillar"/>
          <p:cNvPicPr/>
          <p:nvPr/>
        </p:nvPicPr>
        <p:blipFill>
          <a:blip r:embed="rId1"/>
          <a:stretch/>
        </p:blipFill>
        <p:spPr>
          <a:xfrm>
            <a:off x="6934320" y="30492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give credibility to lea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mans used myths to create family trees for their leaders, enforcing the made-up idea that the emperors were related to the gods and were, then, demig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greekpillar"/>
          <p:cNvPicPr/>
          <p:nvPr/>
        </p:nvPicPr>
        <p:blipFill>
          <a:blip r:embed="rId1"/>
          <a:stretch/>
        </p:blipFill>
        <p:spPr>
          <a:xfrm>
            <a:off x="7086600" y="228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parthenon"/>
          <p:cNvPicPr/>
          <p:nvPr/>
        </p:nvPicPr>
        <p:blipFill>
          <a:blip r:embed="rId2"/>
          <a:stretch/>
        </p:blipFill>
        <p:spPr>
          <a:xfrm>
            <a:off x="1219320" y="2133720"/>
            <a:ext cx="26287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give h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52120" y="1184400"/>
            <a:ext cx="403884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cient citizens of Greece would sacrifice and pray to an ORA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racle was a priest or priestess who would send a message to the gods from mortals who brought their requ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greekpillar"/>
          <p:cNvPicPr/>
          <p:nvPr/>
        </p:nvPicPr>
        <p:blipFill>
          <a:blip r:embed="rId1"/>
          <a:stretch/>
        </p:blipFill>
        <p:spPr>
          <a:xfrm>
            <a:off x="380880" y="1371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pandora copy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943600" y="228600"/>
            <a:ext cx="2903400" cy="46832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8"/>
          <p:cNvSpPr/>
          <p:nvPr/>
        </p:nvSpPr>
        <p:spPr>
          <a:xfrm>
            <a:off x="2971800" y="5029200"/>
            <a:ext cx="594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Where DID hope come fr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After unleashing suffering, famine, disease, and many other evils, the last thing Pandora let out was HO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86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acle at Delp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oracle copy"/>
          <p:cNvPicPr/>
          <p:nvPr/>
        </p:nvPicPr>
        <p:blipFill>
          <a:blip r:embed="rId1"/>
          <a:stretch/>
        </p:blipFill>
        <p:spPr>
          <a:xfrm>
            <a:off x="1219320" y="1828800"/>
            <a:ext cx="7010280" cy="4302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1371600" y="466236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famous oracle in Greek myth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unt Olympu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mtolympus copy"/>
          <p:cNvPicPr/>
          <p:nvPr/>
        </p:nvPicPr>
        <p:blipFill>
          <a:blip r:embed="rId1"/>
          <a:stretch/>
        </p:blipFill>
        <p:spPr>
          <a:xfrm>
            <a:off x="1273320" y="1676520"/>
            <a:ext cx="2879640" cy="44956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4632480" y="1523880"/>
            <a:ext cx="3444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Wher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Olympi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li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Who are the Olympia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he Olympians Are the 12 Main G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olympiansketch copy"/>
          <p:cNvPicPr/>
          <p:nvPr/>
        </p:nvPicPr>
        <p:blipFill>
          <a:blip r:embed="rId1"/>
          <a:stretch/>
        </p:blipFill>
        <p:spPr>
          <a:xfrm>
            <a:off x="2768760" y="1600200"/>
            <a:ext cx="36050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godslovewill"/>
          <p:cNvPicPr/>
          <p:nvPr/>
        </p:nvPicPr>
        <p:blipFill>
          <a:blip r:embed="rId1"/>
          <a:stretch/>
        </p:blipFill>
        <p:spPr>
          <a:xfrm>
            <a:off x="152280" y="249120"/>
            <a:ext cx="6705720" cy="65073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 rot="5400000">
            <a:off x="4829400" y="263376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Temperaments of the Olymp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e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of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Mythology - Zeus 1"/>
          <p:cNvPicPr/>
          <p:nvPr/>
        </p:nvPicPr>
        <p:blipFill>
          <a:blip r:embed="rId1"/>
          <a:stretch/>
        </p:blipFill>
        <p:spPr>
          <a:xfrm>
            <a:off x="5370480" y="1600200"/>
            <a:ext cx="2594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ce has thousands of inhabited islands and dramatic mountain r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ce has a rich culture and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cracy was founded in Gre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riarchal (male dominated)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, as a practice, began in Greece (Socrates, Plato, Aristot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ei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us’s br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of the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qu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Mythology - Poseidon"/>
          <p:cNvPicPr/>
          <p:nvPr/>
        </p:nvPicPr>
        <p:blipFill>
          <a:blip r:embed="rId1"/>
          <a:stretch/>
        </p:blipFill>
        <p:spPr>
          <a:xfrm>
            <a:off x="1674720" y="1600200"/>
            <a:ext cx="1602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ther to Zeus and Posei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of the Underworld (Tartar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sband of Pers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Mythology - Ptolemy"/>
          <p:cNvPicPr/>
          <p:nvPr/>
        </p:nvPicPr>
        <p:blipFill>
          <a:blip r:embed="rId1"/>
          <a:stretch/>
        </p:blipFill>
        <p:spPr>
          <a:xfrm>
            <a:off x="4975200" y="1600200"/>
            <a:ext cx="33829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of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Mythology - Mars"/>
          <p:cNvPicPr/>
          <p:nvPr/>
        </p:nvPicPr>
        <p:blipFill>
          <a:blip r:embed="rId1"/>
          <a:stretch/>
        </p:blipFill>
        <p:spPr>
          <a:xfrm>
            <a:off x="1212840" y="1600200"/>
            <a:ext cx="2525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phaes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of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fts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s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Mythology - Hephaestus"/>
          <p:cNvPicPr/>
          <p:nvPr/>
        </p:nvPicPr>
        <p:blipFill>
          <a:blip r:embed="rId1"/>
          <a:stretch/>
        </p:blipFill>
        <p:spPr>
          <a:xfrm>
            <a:off x="5372280" y="1600200"/>
            <a:ext cx="25905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of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 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Mythology - Orpheus"/>
          <p:cNvPicPr/>
          <p:nvPr/>
        </p:nvPicPr>
        <p:blipFill>
          <a:blip r:embed="rId1"/>
          <a:stretch/>
        </p:blipFill>
        <p:spPr>
          <a:xfrm>
            <a:off x="1378080" y="1600200"/>
            <a:ext cx="21952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enger to the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eves &amp; scoundr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Mythology - Mercury 3"/>
          <p:cNvPicPr/>
          <p:nvPr/>
        </p:nvPicPr>
        <p:blipFill>
          <a:blip r:embed="rId1"/>
          <a:stretch/>
        </p:blipFill>
        <p:spPr>
          <a:xfrm>
            <a:off x="4648320" y="1757520"/>
            <a:ext cx="4038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ony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of W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ying (Revel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Mythology - Dionysus"/>
          <p:cNvPicPr/>
          <p:nvPr/>
        </p:nvPicPr>
        <p:blipFill>
          <a:blip r:embed="rId1"/>
          <a:stretch/>
        </p:blipFill>
        <p:spPr>
          <a:xfrm>
            <a:off x="1025640" y="1600200"/>
            <a:ext cx="2900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en of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ri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bi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Mythology - Venus 1"/>
          <p:cNvPicPr/>
          <p:nvPr/>
        </p:nvPicPr>
        <p:blipFill>
          <a:blip r:embed="rId1"/>
          <a:stretch/>
        </p:blipFill>
        <p:spPr>
          <a:xfrm>
            <a:off x="4648320" y="2921040"/>
            <a:ext cx="403848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Har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uitfu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m to Perse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Noblewoman 2"/>
          <p:cNvPicPr/>
          <p:nvPr/>
        </p:nvPicPr>
        <p:blipFill>
          <a:blip r:embed="rId1"/>
          <a:stretch/>
        </p:blipFill>
        <p:spPr>
          <a:xfrm>
            <a:off x="855720" y="1600200"/>
            <a:ext cx="3240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st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H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Peasant 19"/>
          <p:cNvPicPr/>
          <p:nvPr/>
        </p:nvPicPr>
        <p:blipFill>
          <a:blip r:embed="rId1"/>
          <a:stretch/>
        </p:blipFill>
        <p:spPr>
          <a:xfrm>
            <a:off x="5254560" y="1600200"/>
            <a:ext cx="28256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d in Europe in the Aege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greece"/>
          <p:cNvPicPr/>
          <p:nvPr/>
        </p:nvPicPr>
        <p:blipFill>
          <a:blip r:embed="rId1"/>
          <a:stretch/>
        </p:blipFill>
        <p:spPr>
          <a:xfrm>
            <a:off x="4191120" y="1676520"/>
            <a:ext cx="4724280" cy="4724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greecesmalleurope"/>
          <p:cNvPicPr/>
          <p:nvPr/>
        </p:nvPicPr>
        <p:blipFill>
          <a:blip r:embed="rId2"/>
          <a:stretch/>
        </p:blipFill>
        <p:spPr>
          <a:xfrm>
            <a:off x="914400" y="28195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h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wis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al 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Mythology - Athena 1"/>
          <p:cNvPicPr/>
          <p:nvPr/>
        </p:nvPicPr>
        <p:blipFill>
          <a:blip r:embed="rId1"/>
          <a:stretch/>
        </p:blipFill>
        <p:spPr>
          <a:xfrm>
            <a:off x="1352520" y="1600200"/>
            <a:ext cx="22464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hrod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love and beau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Mythology - Venus 2"/>
          <p:cNvPicPr/>
          <p:nvPr/>
        </p:nvPicPr>
        <p:blipFill>
          <a:blip r:embed="rId1"/>
          <a:stretch/>
        </p:blipFill>
        <p:spPr>
          <a:xfrm>
            <a:off x="5716440" y="1600200"/>
            <a:ext cx="19018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hunting and the m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" descr="Mythology - Artemis"/>
          <p:cNvPicPr/>
          <p:nvPr/>
        </p:nvPicPr>
        <p:blipFill>
          <a:blip r:embed="rId1"/>
          <a:stretch/>
        </p:blipFill>
        <p:spPr>
          <a:xfrm>
            <a:off x="863640" y="1600200"/>
            <a:ext cx="3224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5"/>
          <p:cNvSpPr/>
          <p:nvPr/>
        </p:nvSpPr>
        <p:spPr>
          <a:xfrm>
            <a:off x="1066680" y="1676520"/>
            <a:ext cx="693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be0e3"/>
                </a:solidFill>
                <a:latin typeface="Arial"/>
              </a:rPr>
              <a:t>The En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santorini2"/>
          <p:cNvPicPr/>
          <p:nvPr/>
        </p:nvPicPr>
        <p:blipFill>
          <a:blip r:embed="rId1"/>
          <a:stretch/>
        </p:blipFill>
        <p:spPr>
          <a:xfrm>
            <a:off x="457200" y="1219320"/>
            <a:ext cx="4075200" cy="518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santorinipic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457200" y="106668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Greecefla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1523880"/>
            <a:ext cx="2687760" cy="15336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5105520" y="1447920"/>
            <a:ext cx="281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my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457200" y="3130560"/>
            <a:ext cx="2819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epidavros"/>
          <p:cNvPicPr/>
          <p:nvPr/>
        </p:nvPicPr>
        <p:blipFill>
          <a:blip r:embed="rId2"/>
          <a:stretch/>
        </p:blipFill>
        <p:spPr>
          <a:xfrm>
            <a:off x="380880" y="3660840"/>
            <a:ext cx="3505320" cy="2892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pandora copy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5181480" y="1981080"/>
            <a:ext cx="29037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herodos"/>
          <p:cNvPicPr/>
          <p:nvPr/>
        </p:nvPicPr>
        <p:blipFill>
          <a:blip r:embed="rId1"/>
          <a:stretch/>
        </p:blipFill>
        <p:spPr>
          <a:xfrm>
            <a:off x="1981080" y="1371600"/>
            <a:ext cx="5257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50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theaterdiagram"/>
          <p:cNvPicPr/>
          <p:nvPr/>
        </p:nvPicPr>
        <p:blipFill>
          <a:blip r:embed="rId1"/>
          <a:stretch/>
        </p:blipFill>
        <p:spPr>
          <a:xfrm>
            <a:off x="3505320" y="1457280"/>
            <a:ext cx="4876560" cy="46386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609480" y="1219320"/>
            <a:ext cx="259092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ree Main Portions of Greek Theat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ene – Portion of stage where actors performed (included 1-3 doors in and o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chestra – “Dancing Place” where chorus sang to the au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atron – Seating for au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theaterpic1"/>
          <p:cNvPicPr/>
          <p:nvPr/>
        </p:nvPicPr>
        <p:blipFill>
          <a:blip r:embed="rId1"/>
          <a:stretch/>
        </p:blipFill>
        <p:spPr>
          <a:xfrm>
            <a:off x="152280" y="900000"/>
            <a:ext cx="883944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04:20:55Z</dcterms:created>
  <dc:creator>Adam Carter</dc:creator>
  <dc:description/>
  <dc:language>en-US</dc:language>
  <cp:lastModifiedBy>RomaK</cp:lastModifiedBy>
  <dcterms:modified xsi:type="dcterms:W3CDTF">2015-09-02T09:26:24Z</dcterms:modified>
  <cp:revision>28</cp:revision>
  <dc:subject/>
  <dc:title>Greek Theatre</dc:title>
</cp:coreProperties>
</file>