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stars10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2001them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4780-061E-40E1-BFFC-3B07A80A6A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7128-615E-4A87-841B-A58C48EE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937-66F6-4C2E-9832-5806F42B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B35-E3FD-40F9-B600-0ECB6234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339-862D-47CB-8DAD-8564D39C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E718-D3C9-4FA0-B838-DD783880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F1E8-36A6-4174-BAB9-9E729542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8815-B5E0-4862-BB35-DA6E3812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9568-43CC-45D1-9191-74D03526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6EBE-F403-4D87-99BE-752C43C7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02A2-92A8-4669-AE2F-9E679598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2EBB-8086-4566-8927-7424F9CC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47D-5FB0-4A66-ACEF-FB9BB2A4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5BF7-5FF0-4164-97A0-42ABA47C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D786-E306-4E80-A755-0841519C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F2B5-FFA3-42E9-A3FC-CCE8D1FC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DF39-4BA2-4CEF-8A2F-1FC5D0F1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7506-B4DF-4004-8B84-CC653A95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A41-BDAF-44B4-B290-1F5F795A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E9E-2E51-4DFC-81AE-C0E61D83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3724-E90A-4946-846A-D06675F4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8B8-039A-4ED3-8AF2-DA24614F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3985-08F1-491D-A0FD-286C56E4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0DE8-64CE-408D-8DD3-1071F038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957-1E2C-469F-A499-8FC3C023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A3A9-781E-4D76-9D0C-1D385A4F358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87BC-D1D1-41B2-A8D3-B557ECD1C80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tars10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2001the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-15840"/>
            <a:ext cx="863748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d9f3"/>
                </a:solidFill>
                <a:uFillTx/>
                <a:latin typeface="Arial"/>
              </a:rPr>
              <a:t>Greek Mythology, Monsters and Exotic Worlds, Part I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6" name="Picture 1027" descr="homer"/>
          <p:cNvPicPr/>
          <p:nvPr/>
        </p:nvPicPr>
        <p:blipFill>
          <a:blip r:embed="rId1"/>
          <a:stretch/>
        </p:blipFill>
        <p:spPr>
          <a:xfrm>
            <a:off x="3200400" y="1981080"/>
            <a:ext cx="2970360" cy="3589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28"/>
          <p:cNvSpPr/>
          <p:nvPr/>
        </p:nvSpPr>
        <p:spPr>
          <a:xfrm>
            <a:off x="149400" y="2057400"/>
            <a:ext cx="280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03480" y="197496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89440" y="2874960"/>
            <a:ext cx="85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-145440" y="4232160"/>
            <a:ext cx="76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442160" y="478944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63760" y="583236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54880" y="221760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303200" y="2689200"/>
            <a:ext cx="73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343520" y="3575160"/>
            <a:ext cx="72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67520" y="4603680"/>
            <a:ext cx="897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 The moon monolith scene takes place at the moon cra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. Kubrick evidently scoured the list of moon crater nam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is a real crater name - and chose Tycho, the name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st nearly resembled Troy. Both names are short, both beg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th T, and both contain the additional letters o and 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symbolizes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88160" y="2103480"/>
            <a:ext cx="84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moon monolith is inside the walls of a pit. The pit's walls 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walls of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69080" y="2989440"/>
            <a:ext cx="790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astronauts in the pit, symbolizing the Trojans, curious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spect the object that stands within the wall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85280" y="3889440"/>
            <a:ext cx="75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mething comes out of the monolith - a powerful sig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amed at Jupi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5400" y="4818240"/>
            <a:ext cx="885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ymbolized Trojans reel in pain. The surface story has n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ed for them to reel in pain, no need for the signal to be painfu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 even audible. Kubrick had the astronauts fall back in pai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cause he wanted to symbolize the pain of the dying Trojan warrior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71240" y="2046240"/>
            <a:ext cx="82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244880" y="2903400"/>
            <a:ext cx="78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’s last name is Bowman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dysseus was the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270440" y="3903840"/>
            <a:ext cx="777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) When HAL locks Dave out of th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Discover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the myth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299600" y="570384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16880" y="1989000"/>
            <a:ext cx="63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453680" y="2631960"/>
            <a:ext cx="76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457280" y="361800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433160" y="4745160"/>
            <a:ext cx="750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e movie is about creation by design –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omputers and their part in them - computers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n misfunction and cause destruction - or w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at all part of the plan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Different Analog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71680" y="207504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the movie came out in 1968, and peopl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TIL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on’t kn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halseye"/>
          <p:cNvPicPr/>
          <p:nvPr/>
        </p:nvPicPr>
        <p:blipFill>
          <a:blip r:embed="rId1"/>
          <a:stretch/>
        </p:blipFill>
        <p:spPr>
          <a:xfrm>
            <a:off x="3198960" y="3084480"/>
            <a:ext cx="3174840" cy="3175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64880" y="3689280"/>
            <a:ext cx="301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watch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tac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see how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815160" y="3274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s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ou can’t have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without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Ilia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35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30920" y="217476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38840" y="327672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6" descr="trojan%20horse"/>
          <p:cNvPicPr/>
          <p:nvPr/>
        </p:nvPicPr>
        <p:blipFill>
          <a:blip r:embed="rId1"/>
          <a:stretch/>
        </p:blipFill>
        <p:spPr>
          <a:xfrm>
            <a:off x="4191120" y="2971800"/>
            <a:ext cx="26049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Trojan Ho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09040" y="225108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1768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37400" y="396252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10840" y="5146560"/>
            <a:ext cx="82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1500 Words Or L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57480" y="2022480"/>
            <a:ext cx="84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-26640" y="2708280"/>
            <a:ext cx="92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3400" y="4232160"/>
            <a:ext cx="96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33440" y="5908680"/>
            <a:ext cx="855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r Hero Soldiers 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32720" y="225108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mol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41720" y="354636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10120" y="45370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10480" y="575640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ust One More Adventure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59640" y="20988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7800" y="3048120"/>
            <a:ext cx="844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55680" y="590868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tory ends.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What happened the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63600" y="20224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a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8200" y="2784600"/>
            <a:ext cx="879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83960" y="2057400"/>
            <a:ext cx="881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such a story, we can notice, the traveler keeps coming up agains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unexpected; in other words, dangers and distractions keep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vertaking one. Now "over" plus "take" add up to what in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nguages derived from Latin gets called SURPRISE; while com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pon or up against gets called ADVENTURE. So the odyssey we ha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en defining turns out to be a classic plot of adventure and surprise.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13200" y="4803840"/>
            <a:ext cx="85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Odysse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9" name="Picture 3" descr="2001"/>
          <p:cNvPicPr/>
          <p:nvPr/>
        </p:nvPicPr>
        <p:blipFill>
          <a:blip r:embed="rId1"/>
          <a:stretch/>
        </p:blipFill>
        <p:spPr>
          <a:xfrm>
            <a:off x="1008000" y="1649520"/>
            <a:ext cx="7394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2001the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05:32:03Z</dcterms:created>
  <dc:creator>Classics TAs</dc:creator>
  <dc:description/>
  <dc:language>en-US</dc:language>
  <cp:lastModifiedBy>RomaK</cp:lastModifiedBy>
  <dcterms:modified xsi:type="dcterms:W3CDTF">2015-09-02T09:26:15Z</dcterms:modified>
  <cp:revision>24</cp:revision>
  <dc:subject/>
  <dc:title>Greek Mythology, Monsters and Exotic Worlds, Part I </dc:title>
</cp:coreProperties>
</file>