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stars10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2001them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0AAE-4B59-4815-BBD1-7B2E914793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Mythology, Monsters and Exotic Worlds, Part I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BRICK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fraught with analogies to classical stories and the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watching the movie, see if you agree or disagre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our parall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“The Dawn of Man” – the first scene in the mov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keys meet the monolith, and humanity is chan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ver – is it for good or i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as Pandora’s Box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The Monolith as a futuristic Trojan Ho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ene on the moon when Dr. Floyd visits the Monol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onard Wheat has drawn the following analogies to th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and the Hor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The moon monolith scene takes place at the moon cr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. Kubrick evidently scoured the list of moon crater na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is a real crater name - and chose Tycho, the name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early resembled Troy. Both names are short, both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, and both contain the additional letters o and 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cho symbolizes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he moon monolith is inside the walls of a pit. The pit's wall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Tro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astronauts in the pit, symbolizing the Trojans, curious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pect the object that stands within the wa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omething comes out of the monolith - a powerful sig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ed at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The symbolized Trojans reel in pain. The surface story has n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for them to reel in pain, no need for the signal to be painfu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even audible. Kubrick had the astronauts fall back in pa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he wanted to symbolize the pain of the dying Trojan warrio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dventures/misadventures of Dave are to read as thos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’s last name is Bowman  Odysseus was the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-ma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When HAL locks Dave out of the Discovery, the mytho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ical roles are reveresed from the Polyphemus st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an relies on brute strength while the mon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es on geni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When Dave enters the Monolith, he forgets himself and 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; the Monolith serving as a the lotus-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A Space 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The Prometheus myth and the Creation of 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olith brings man a gift, a gift that soon proves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yond his control (as does Promethe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 are created perfectly in a Golden Age, then quick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generate into the Iron Age (HAL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ie is about creation by design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nd their part in them - computers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misfunction and cause destruction - or w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ll part of the pl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1: Different Ana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atch, keep these in mind, but also see what your mind t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  the movie came out in 1968, and people STILL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me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watch 2010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Year We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, see h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hey puzz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 one lin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ve Bowma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have an Odyssey without an Ili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liad is the story of the Trojan War – a long, bloody confli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ing ten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roy finally f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jan H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gets all the credit for the Trojan Horse, which fin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the Greeks to capture Troy, thus setting off the e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 of myths surrounding the return (or dispersal)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es of the war (eg. Menelaus, Diomedes, Aene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gil’s famous 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dquid id est, timeo Danaos et dona fer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rse appears as a gift to the Trojans, but a gift fraugh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gers (keep this theme in mind when we get to Kubr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dyssey in 1500 Words Or 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dysseus visits the Lotus-Eaters.  Where were they going ag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visits the land of Polyphemus.  In a fit of pique, 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es to tell the Cyclopes his real name, thereby brin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 the wrath of Poseidon upon him and hi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olus, king of the winds, gives Odysseus enough wind to ge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he’s going.  His companions open the bag at the wr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and get blown off co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visits the Laistrygones, thereby making his men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mean, they REALLY became lun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ero Soldier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ends up on Circe’s island.  With a little help from mo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ves his men from a life of sw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The Sirens’ Song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 version of “between a rock and a hard place” – Scy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Charyd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’s men slaughter the Sun’s cattle.  Zeus then proceed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ink their boat when they leave the harb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One More Adventu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getting blown back to Charydis, Odysseus paddles abou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ne days, winding up with Calypso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van Sickle sums this adventure up thusl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re he gets carried for another nine days to another island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 nymph Calypso receives him in her vine-girt cave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. For seven years, then, he remained there, required to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ve to the goddess by night, but sitting by day on the shor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ng for his distant ho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ysseus finally gets home, bloodily reclaims his palace, and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ry ends.  What happened t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odysse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MYTHEME in our odyssey plot involves getting t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etting started, then getting through or over any hurdles, obstacl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ls, or getting out of baited traps along the way), the seco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THEME involves getting what you went to get once you get the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the third MYTHEME involves getting away with it in spit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uards; and the fourth MYTHEME involves getting back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me from, again, as on the way out, getting past dangers, whi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harder now because the prize you're bringing back m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ore likely to get ripped off.” (van Sick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Wonderfu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ch a story, we can notice, the traveler keeps coming up again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expected; in other words, dangers and distractions kee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taking one. Now "over" plus "take" add up to what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s derived from Latin gets called SURPRISE; while co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or up against gets called ADVENTURE. So the odyssey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n defining turns out to be a classic plot of adventure and surpris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e can turn our attentions to Kubrick’s freaky future mindtri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001: A Space Odyss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2B7-71D5-46DC-BD35-9BFD8AA1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ADD-2FA0-4009-8E8D-79B77C8E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A6F3-9A3B-49C7-A39A-84B2509F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17B2-B8D0-46C9-B26C-D0A8CFBA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8F24-BA18-4878-94AA-5A0720266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4B10-A082-4B7A-A5CC-28772288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C01A-7B03-440E-BB76-242F8A45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85E-7395-454A-A082-40644A81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CCF2-F6EF-47C1-9D9F-F7099101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1D9D-3A44-4CC0-B8AA-210DD5C4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6EDA-747F-4244-B895-34A18D79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62C4-52B3-4D14-AC04-6C82FF63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1300-C5D5-4DEB-BD3F-FFDF033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1421-3E80-4C01-93F7-A582E612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45D7-749D-4581-8249-19385766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82E8-4C97-4340-BF21-2B00674B4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48A8-6F73-4D6B-A308-9465C76D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7636-E2F4-4C75-941F-4B9D1F05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073-1640-4C74-BB14-31B40E00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50A-CFFF-4F0E-87C4-D958677F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546-204E-41AC-B916-AC05AF9B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CF8-9FD9-4537-AF06-A6B8745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EF86-B932-4C5F-8619-A9791A4A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3079-AB61-42EB-BAAE-F4B8908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BE0-EA54-41E5-A4EC-17CB8239343A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4DCF-0DF5-43B1-9B3B-2B12E6D0E97F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stars10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5840"/>
            <a:ext cx="8637480" cy="192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d9f3"/>
                </a:solidFill>
                <a:uFillTx/>
                <a:latin typeface="Arial"/>
              </a:rPr>
              <a:t>Greek Mythology, Monsters and Exotic Worlds, Part I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6" name="Picture 1027" descr="homer"/>
          <p:cNvPicPr/>
          <p:nvPr/>
        </p:nvPicPr>
        <p:blipFill>
          <a:blip r:embed="rId1"/>
          <a:stretch/>
        </p:blipFill>
        <p:spPr>
          <a:xfrm>
            <a:off x="3200400" y="1981080"/>
            <a:ext cx="2970360" cy="3589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28"/>
          <p:cNvSpPr/>
          <p:nvPr/>
        </p:nvSpPr>
        <p:spPr>
          <a:xfrm>
            <a:off x="149400" y="2057400"/>
            <a:ext cx="2806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OME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NL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UBRICK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2001: A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3480" y="1974960"/>
            <a:ext cx="83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vie is fraught with analogies to classical stories and them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89440" y="2874960"/>
            <a:ext cx="857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are watching the movie, see if you agree or disagree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ollowing four paralle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-145440" y="4232160"/>
            <a:ext cx="76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 “The Dawn of Man” – the first scene in the movi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442160" y="4789440"/>
            <a:ext cx="740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keys meet the monolith, and humanity is chang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ever – is it for good or i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63760" y="5832360"/>
            <a:ext cx="42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as Pandora’s Box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4880" y="2217600"/>
            <a:ext cx="57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  The Monolith as a futuristic Trojan Ho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03200" y="2689200"/>
            <a:ext cx="739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cene on the moon when Dr. Floyd visits the Monol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n the moo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343520" y="3575160"/>
            <a:ext cx="72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onard Wheat has drawn the following analogies to thi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cene and the Hors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7520" y="4603680"/>
            <a:ext cx="897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) The moon monolith scene takes place at the moon cra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. Kubrick evidently scoured the list of moon crater nam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is a real crater name - and chose Tycho, the name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ost nearly resembled Troy. Both names are short, both 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with T, and both contain the additional letters o and 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ycho symbolizes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88160" y="210348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moon monolith is inside the walls of a pit. The pit's walls 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walls of Troy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69080" y="2989440"/>
            <a:ext cx="790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astronauts in the pit, symbolizing the Trojans, curious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spect the object that stands within the wall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85280" y="3889440"/>
            <a:ext cx="75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mething comes out of the monolith - a powerful sign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amed at Jupi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5400" y="4818240"/>
            <a:ext cx="8853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.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symbolized Trojans reel in pain. The surface story has n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eed for them to reel in pain, no need for the signal to be painfu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r even audible. Kubrick had the astronauts fall back in pai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cause he wanted to symbolize the pain of the dying Trojan warriors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71240" y="2046240"/>
            <a:ext cx="823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adventures/misadventures of Dave are to read as thos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244880" y="2903400"/>
            <a:ext cx="78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’s last name is Bowman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Odysseus was the origi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ow-ma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270440" y="3903840"/>
            <a:ext cx="777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) When HAL locks Dave out of th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Discover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the mytho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gical roles are reveresed from the Polyphemus stor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uman relies on brute strength while the monst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elies on geni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299600" y="5703840"/>
            <a:ext cx="77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) When Dave enters the Monolith, he forgets himself and h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ission; the Monolith serving as a the lotus-plan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Ana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416880" y="1989000"/>
            <a:ext cx="63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  The Prometheus myth and the Creation of Ma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53680" y="2631960"/>
            <a:ext cx="76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Monolith brings man a gift, a gift that soon proves to b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eyond his control (as does Prometheu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457280" y="361800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n are created perfectly in a Golden Age, then quick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generate into the Iron Age (HAL?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433160" y="4745160"/>
            <a:ext cx="750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e movie is about creation by design –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omputers and their part in them - computers tha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n misfunction and cause destruction - or w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hat all part of the plan?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Different Analog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571680" y="2075040"/>
            <a:ext cx="84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 you watch, keep these in mind, but also see what your mind tel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</a:t>
            </a:r>
            <a:r>
              <a:rPr b="0" lang="en-US" sz="2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ovie came out in 1968, and people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STILL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don’t kno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t mea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halseye"/>
          <p:cNvPicPr/>
          <p:nvPr/>
        </p:nvPicPr>
        <p:blipFill>
          <a:blip r:embed="rId1"/>
          <a:stretch/>
        </p:blipFill>
        <p:spPr>
          <a:xfrm>
            <a:off x="3198960" y="3084480"/>
            <a:ext cx="3174840" cy="31752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64880" y="3689280"/>
            <a:ext cx="3018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n you watch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2010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The Year We Mak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tac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 see how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 they puzz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 one line fr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ve Bowman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6815160" y="327492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tars1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You can’t have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without an </a:t>
            </a: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Ili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533520" y="213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30920" y="217476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Iliad is the story of the Trojan War – a long, bloody conflic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sting ten year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38840" y="3276720"/>
            <a:ext cx="340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w did Troy finally fall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6" descr="trojan%20horse"/>
          <p:cNvPicPr/>
          <p:nvPr/>
        </p:nvPicPr>
        <p:blipFill>
          <a:blip r:embed="rId1"/>
          <a:stretch/>
        </p:blipFill>
        <p:spPr>
          <a:xfrm>
            <a:off x="4191120" y="2971800"/>
            <a:ext cx="260496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Trojan Ho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09040" y="225108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gets all the credit for the Trojan Horse, which finall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lows the Greeks to capture Troy, thus setting off the e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ycle of myths surrounding the return (or dispersal) of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roes of the war (eg. Menelaus, Diomedes, Aenea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17680" y="426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37400" y="3962520"/>
            <a:ext cx="679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Vergil’s famous line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quidquid id est, timeo Danaos et dona fere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10840" y="5146560"/>
            <a:ext cx="82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orse appears as a gift to the Trojans, but a gift fraught wi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ngers (keep this theme in mind when we get to Kubric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in 1500 Words Or L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57480" y="2022480"/>
            <a:ext cx="84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 Odysseus visits the Lotus-Eaters.  Where were they going again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-26640" y="2708280"/>
            <a:ext cx="92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ur hero visits the land of Polyphemus.  In a fit of pique, 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ecides to tell the Cyclopes his real name, thereby bring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own the wrath of Poseidon upon him and his me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3400" y="4232160"/>
            <a:ext cx="962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eolus, king of the winds, gives Odysseus enough wind to get hi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he’s going.  His companions open the bag at the wro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 and get blown off cour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3440" y="5908680"/>
            <a:ext cx="855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visits the Laistrygones, thereby making his men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 mean, they REALLY became lunch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r Hero Soldiers 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432720" y="225108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ends up on Circe’s island.  With a little help from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mol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 saves his men from a life of swin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41720" y="3546360"/>
            <a:ext cx="29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.  The Sirens’ Song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10120" y="4537080"/>
            <a:ext cx="85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reek version of “between a rock and a hard place” – Scyll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nd Charydi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10480" y="5756400"/>
            <a:ext cx="85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’s men slaughter the Sun’s cattle.  Zeus then proceed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sink their boat when they leave the harbor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ust One More Adventure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59640" y="2098800"/>
            <a:ext cx="87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fter getting blown back to Charydis, Odysseus paddles about fo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ine days, winding up with Calypso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7800" y="3048120"/>
            <a:ext cx="8449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van Sickle sums this adventure up thusly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rom there he gets carried for another nine days to another island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ere the nymph Calypso receives him in her vine-girt cave b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ea. For seven years, then, he remained there, required to mak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ve to the goddess by night, but sitting by day on the shor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nging for his distant home.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355680" y="5908680"/>
            <a:ext cx="855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SzPct val="70000"/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dysseus finally gets home, bloodily reclaims his palace, and…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story ends. 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What happened the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63600" y="20224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is an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odyssey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58200" y="2784600"/>
            <a:ext cx="87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first MYTHEME in our odyssey plot involves getting t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getting started, then getting through or over any hurdles, obstacles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rils, or getting out of baited traps along the way), the seco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YTHEME involves getting what you went to get once you get there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ile the third MYTHEME involves getting away with it in spite of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guards; and the fourth MYTHEME involves getting back whe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me from, again, as on the way out, getting past dangers, whic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y be harder now because the prize you're bringing back mak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more likely to get ripped off.” (van Sickl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mething Wonderful.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83960" y="2057400"/>
            <a:ext cx="881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n such a story, we can notice, the traveler keeps coming up against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he unexpected; in other words, dangers and distractions keep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vertaking one. Now "over" plus "take" add up to what in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anguages derived from Latin gets called SURPRISE; while com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upon or up against gets called ADVENTURE. So the odyssey we hav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een defining turns out to be a classic plot of adventure and surprise.”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13200" y="4803840"/>
            <a:ext cx="850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w we can turn our attentions to Kubrick’s freaky future mindtrip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2001: A Space Odysse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Picture 3" descr="2001"/>
          <p:cNvPicPr/>
          <p:nvPr/>
        </p:nvPicPr>
        <p:blipFill>
          <a:blip r:embed="rId1"/>
          <a:stretch/>
        </p:blipFill>
        <p:spPr>
          <a:xfrm>
            <a:off x="1008000" y="1649520"/>
            <a:ext cx="7394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the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9T05:32:03Z</dcterms:created>
  <dc:creator>Classics TAs</dc:creator>
  <dc:description/>
  <dc:language>en-US</dc:language>
  <cp:lastModifiedBy>RomaK</cp:lastModifiedBy>
  <dcterms:modified xsi:type="dcterms:W3CDTF">2015-09-02T09:26:15Z</dcterms:modified>
  <cp:revision>24</cp:revision>
  <dc:subject/>
  <dc:title>Greek Mythology, Monsters and Exotic Worlds, Part I </dc:title>
</cp:coreProperties>
</file>