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9ACA-2E21-46E7-BBD8-9398679BE0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9EC-D871-43A7-A652-C63B3E5E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A2C-45AA-4F60-BD88-6D0D7096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86A-FA94-4A3A-A8DF-89A07123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37E-A6C3-4E33-AD06-67C0C129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CCEA-BE33-497C-8597-9181F1BF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1831-5B4C-4FC9-B61B-2D36E92A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4A72-23FE-4B50-A3BC-B73B6DA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1269-1C35-44C5-AA1B-2E0F9419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136E-E315-479E-BFA9-5545D884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78DD-21EA-4FBB-814B-98618F9A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0429-54FF-446F-ADBA-E5C40813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502-3FF3-4C21-875A-2AE4AEE0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E8C9-FEAE-41E9-8F28-20B5342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5DAC-366E-45CC-A7F7-D2D67D22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8139-1E40-4E04-9AE1-F9B30BF7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61D5-5C54-4449-998B-0EA3F5DD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9E6F-CED0-4895-AFFF-820CD110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981-A52A-414E-8FCF-0000F568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D00-DF59-40C2-8A64-AC3ECFF1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E5E-A64B-4630-9ACC-09657DBD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E12-5B48-4040-8EE6-F80A9563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0B4-8D2A-4755-9568-EE711F8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C08-6A9E-4E00-9ADD-3DDBF071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995-54CA-45E3-9347-5F0CA274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2119-6829-4C81-A588-FB0913CC71B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3E04-BA9B-4B1E-834D-947A1845998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tars1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5840"/>
            <a:ext cx="86374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6" name="Picture 1027" descr="homer"/>
          <p:cNvPicPr/>
          <p:nvPr/>
        </p:nvPicPr>
        <p:blipFill>
          <a:blip r:embed="rId1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8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3680" y="2631960"/>
            <a:ext cx="76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57280" y="361800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halseye"/>
          <p:cNvPicPr/>
          <p:nvPr/>
        </p:nvPicPr>
        <p:blipFill>
          <a:blip r:embed="rId1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6" descr="trojan%20horse"/>
          <p:cNvPicPr/>
          <p:nvPr/>
        </p:nvPicPr>
        <p:blipFill>
          <a:blip r:embed="rId1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Picture 3" descr="2001"/>
          <p:cNvPicPr/>
          <p:nvPr/>
        </p:nvPicPr>
        <p:blipFill>
          <a:blip r:embed="rId1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RomaK</cp:lastModifiedBy>
  <dcterms:modified xsi:type="dcterms:W3CDTF">2015-09-02T09:26:15Z</dcterms:modified>
  <cp:revision>24</cp:revision>
  <dc:subject/>
  <dc:title>Greek Mythology, Monsters and Exotic Worlds, Part I </dc:title>
</cp:coreProperties>
</file>