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C0B5-B169-4C38-9D1B-CF60CE49B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Greek G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Michael Xav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 Grah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is Rinet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cient 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: Michael Xa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 G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 Rin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the harve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shipped with festiva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grain and ferti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the harv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shipped with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grain and fert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light and prophec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in brother of Artem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ther was Let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light and prophe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brother of Artem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was L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war and wisdom. (civilized wa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hens was named after 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from Zeus’s hea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ar and wisdom. (civilized w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s was named after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from Zeus’s h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CAME FIR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ods were not the first rulers of the unive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gends say that the Titans ruled the universe fir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nus, the top titan, used to eat his children for fear of losing pow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CAME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ds were not the first rulers of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s say that the Titans ruled the univers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nus, the top titan, used to eat his children for fear of losing p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y promiscuo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kness: girls, girls, girl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mank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promisc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ness: girls, girls, gir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man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en and mother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si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marri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and mother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si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marri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st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d war and massac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d war and massac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love and beau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from the foam i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tured as the most beautiful being in the unive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from the foam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d as the most beautiful being in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the under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r of the myriad rivers (river of lamentation, river of hate, etc.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under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 of the myriad rivers (river of lamentation, river of hate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EID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the se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brot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led earthquak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I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earthqu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the h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n as the “Mistress of Animal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daugh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ught death with her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the h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as the “Mistress of Animal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death with her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49F-031C-4073-BF4B-8CEF041E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FBCE-8860-478E-93C0-035615F2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D235-0984-41F5-98E8-A10F8DC4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B07-2B49-4E12-B2F3-65664CAC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ABC4-89B5-4747-B1C4-DF645B01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CD5-037E-4863-86CF-0B2CF900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1C4-1C9C-4933-B4DF-5522D653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A1D-9437-40FC-B7B2-DC3C528D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68D-3A6D-413E-9F31-41231CE0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7F3F-2DC8-4EE3-9205-B0D9A77E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A996-BEAD-4EA6-B3E5-45B74DD3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BCD-7C72-4C77-835F-B7F271F8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8504-11EE-4BEA-A3CF-D6FA243171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0000"/>
                </a:solidFill>
                <a:latin typeface="Lucida Console"/>
              </a:rPr>
              <a:t>Ancient Greek Go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9" name="Picture 4" descr="j0302953"/>
          <p:cNvPicPr/>
          <p:nvPr/>
        </p:nvPicPr>
        <p:blipFill>
          <a:blip r:embed="rId1"/>
          <a:stretch/>
        </p:blipFill>
        <p:spPr>
          <a:xfrm>
            <a:off x="3200400" y="1371600"/>
            <a:ext cx="3098880" cy="4341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0" y="1600200"/>
            <a:ext cx="2286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By: Michael Xav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Mark Gra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Chris Rine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M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the harv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shipped with festiv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grain and fert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Demeter"/>
          <p:cNvPicPr/>
          <p:nvPr/>
        </p:nvPicPr>
        <p:blipFill>
          <a:blip r:embed="rId1"/>
          <a:stretch/>
        </p:blipFill>
        <p:spPr>
          <a:xfrm>
            <a:off x="4857840" y="1600200"/>
            <a:ext cx="3666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light and prophe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in brother of Artem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her was Le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Apollo"/>
          <p:cNvPicPr/>
          <p:nvPr/>
        </p:nvPicPr>
        <p:blipFill>
          <a:blip r:embed="rId1"/>
          <a:stretch/>
        </p:blipFill>
        <p:spPr>
          <a:xfrm>
            <a:off x="5740560" y="1523880"/>
            <a:ext cx="2044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HE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war and wisdom. (civilized w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hens was named after 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from Zeus’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Athena"/>
          <p:cNvPicPr/>
          <p:nvPr/>
        </p:nvPicPr>
        <p:blipFill>
          <a:blip r:embed="rId1"/>
          <a:stretch/>
        </p:blipFill>
        <p:spPr>
          <a:xfrm>
            <a:off x="5686560" y="1600200"/>
            <a:ext cx="215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O CAME FIRS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ds were not the first rulers of the unive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ends say that the Titans ruled the universe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nus, the top titan, used to eat his children for fear of losing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of the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promisc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: girls, girls, girl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mank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ZEUS"/>
          <p:cNvPicPr/>
          <p:nvPr/>
        </p:nvPicPr>
        <p:blipFill>
          <a:blip r:embed="rId1"/>
          <a:stretch/>
        </p:blipFill>
        <p:spPr>
          <a:xfrm>
            <a:off x="2133720" y="304920"/>
            <a:ext cx="518148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Zeus"/>
          <p:cNvPicPr/>
          <p:nvPr/>
        </p:nvPicPr>
        <p:blipFill>
          <a:blip r:embed="rId2"/>
          <a:stretch/>
        </p:blipFill>
        <p:spPr>
          <a:xfrm>
            <a:off x="5313240" y="1752480"/>
            <a:ext cx="229716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R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en and mother of the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si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marri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Hera"/>
          <p:cNvPicPr/>
          <p:nvPr/>
        </p:nvPicPr>
        <p:blipFill>
          <a:blip r:embed="rId1"/>
          <a:stretch/>
        </p:blipFill>
        <p:spPr>
          <a:xfrm>
            <a:off x="5813280" y="1676520"/>
            <a:ext cx="2025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st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d war and massac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6" descr="Ares"/>
          <p:cNvPicPr/>
          <p:nvPr/>
        </p:nvPicPr>
        <p:blipFill>
          <a:blip r:embed="rId1"/>
          <a:stretch/>
        </p:blipFill>
        <p:spPr>
          <a:xfrm>
            <a:off x="5678640" y="1676520"/>
            <a:ext cx="2003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phrod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love and beau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from the foam in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d as the most beautiful being in the uni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Aphrodite"/>
          <p:cNvPicPr/>
          <p:nvPr/>
        </p:nvPicPr>
        <p:blipFill>
          <a:blip r:embed="rId1"/>
          <a:stretch/>
        </p:blipFill>
        <p:spPr>
          <a:xfrm>
            <a:off x="5575320" y="1676520"/>
            <a:ext cx="2616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AD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the under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br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r of the myriad rivers (river of lamentation, river of hat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Hades"/>
          <p:cNvPicPr/>
          <p:nvPr/>
        </p:nvPicPr>
        <p:blipFill>
          <a:blip r:embed="rId1"/>
          <a:stretch/>
        </p:blipFill>
        <p:spPr>
          <a:xfrm>
            <a:off x="5578560" y="1676520"/>
            <a:ext cx="1987560" cy="4419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EID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the s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br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ed earthquak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6" descr="Poseidon"/>
          <p:cNvPicPr/>
          <p:nvPr/>
        </p:nvPicPr>
        <p:blipFill>
          <a:blip r:embed="rId1"/>
          <a:stretch/>
        </p:blipFill>
        <p:spPr>
          <a:xfrm>
            <a:off x="5513400" y="1676520"/>
            <a:ext cx="2101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TEM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the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as the “Mistress of Anima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d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ught death with her arr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Artemis"/>
          <p:cNvPicPr/>
          <p:nvPr/>
        </p:nvPicPr>
        <p:blipFill>
          <a:blip r:embed="rId1"/>
          <a:stretch/>
        </p:blipFill>
        <p:spPr>
          <a:xfrm>
            <a:off x="5786280" y="1676520"/>
            <a:ext cx="1584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9:26:26Z</dcterms:created>
  <dc:creator>CHS_LIBRARY</dc:creator>
  <dc:description/>
  <dc:language>en-US</dc:language>
  <cp:lastModifiedBy>RomaK</cp:lastModifiedBy>
  <dcterms:modified xsi:type="dcterms:W3CDTF">2015-09-02T09:26:01Z</dcterms:modified>
  <cp:revision>10</cp:revision>
  <dc:subject/>
  <dc:title>Ancient Greek Gods</dc:title>
</cp:coreProperties>
</file>