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56DA-D17A-4CC4-B2D5-8C6475E45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Greek G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: Michael Xav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k Grah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ris Rinett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cient Greek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: Michael Xav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k G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is Rin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the harve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shipped with festiva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grain and fertil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the harv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shipped with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grain and fert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light and prophec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in brother of Artem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ther was Let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light and prophe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in brother of Artem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was L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war and wisdom. (civilized wa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hens was named after 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from Zeus’s hea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war and wisdom. (civilized w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hens was named after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from Zeus’s he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CAME FIR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ods were not the first rulers of the unive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gends say that the Titans ruled the universe firs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onus, the top titan, used to eat his children for fear of losing pow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CAME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ds were not the first rulers of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s say that the Titans ruled the univers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nus, the top titan, used to eat his children for fear of losing p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y promiscuo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kness: girls, girls, girl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mank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promisc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kness: girls, girls, gir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man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en and mother of the go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sis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marri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en and mother of the g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si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marri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st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d war and massac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st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d war and massac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love and beau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from the foam i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tured as the most beautiful being in the univer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hro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love and beau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from the foam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d as the most beautiful being in the un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the under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ler of the myriad rivers (river of lamentation, river of hate, etc.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under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 of the myriad rivers (river of lamentation, river of hate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EID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 of the se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broth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led earthquak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EI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f the s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br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earthqu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dess of the hu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n as the “Mistress of Animal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eus’s daugh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ught death with her ar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M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dess of the h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as the “Mistress of Animal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us’s d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ught death with her ar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992-C467-4036-B4C9-68D7897E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E58A-7732-486C-B0B7-C6476777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274-5EC3-4E62-B7C6-3994747E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E0E6-3BE0-42B4-9842-6B2DC6E0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A75-F52C-491D-937D-69394509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59E7-FD6F-4FFB-A8AF-293EAA52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BB6-454B-4E66-9634-255EEAAC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8065-BF25-4943-80E5-BEE9A37C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441B-AF99-4A8D-B1AD-90797A35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C01-9AD1-4CEE-BDFA-0473ADA7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26B-D128-4A85-90E5-428104A9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80E-6207-4252-B594-6D958CD6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9BD5-C18D-44AA-BCF1-A0449A3924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0000"/>
                </a:solidFill>
                <a:latin typeface="Lucida Console"/>
              </a:rPr>
              <a:t>Ancient Greek God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9" name="Picture 4" descr="j0302953"/>
          <p:cNvPicPr/>
          <p:nvPr/>
        </p:nvPicPr>
        <p:blipFill>
          <a:blip r:embed="rId1"/>
          <a:stretch/>
        </p:blipFill>
        <p:spPr>
          <a:xfrm>
            <a:off x="3200400" y="1371600"/>
            <a:ext cx="3098880" cy="43419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0" y="1600200"/>
            <a:ext cx="2286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By: Michael Xav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Mark Grah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d80000"/>
                </a:solidFill>
                <a:latin typeface="Arial"/>
              </a:rPr>
              <a:t>Chris Rinet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MET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the harv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shipped with festiv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grain and fert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Demeter"/>
          <p:cNvPicPr/>
          <p:nvPr/>
        </p:nvPicPr>
        <p:blipFill>
          <a:blip r:embed="rId1"/>
          <a:stretch/>
        </p:blipFill>
        <p:spPr>
          <a:xfrm>
            <a:off x="4857840" y="1600200"/>
            <a:ext cx="3666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POLL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light and prophec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in brother of Artem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her was Le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Apollo"/>
          <p:cNvPicPr/>
          <p:nvPr/>
        </p:nvPicPr>
        <p:blipFill>
          <a:blip r:embed="rId1"/>
          <a:stretch/>
        </p:blipFill>
        <p:spPr>
          <a:xfrm>
            <a:off x="5740560" y="1523880"/>
            <a:ext cx="2044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THE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war and wisdom. (civilized w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hens was named after 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from Zeus’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6" descr="Athena"/>
          <p:cNvPicPr/>
          <p:nvPr/>
        </p:nvPicPr>
        <p:blipFill>
          <a:blip r:embed="rId1"/>
          <a:stretch/>
        </p:blipFill>
        <p:spPr>
          <a:xfrm>
            <a:off x="5686560" y="1600200"/>
            <a:ext cx="215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O CAME FIRST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ods were not the first rulers of the univer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ends say that the Titans ruled the universe f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nus, the top titan, used to eat his children for fear of losing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us managed to keep from being eaten and killed Cronus, thus beginning the reign of the g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of the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promiscu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ness: girls, girls, girl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mank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ZEUS"/>
          <p:cNvPicPr/>
          <p:nvPr/>
        </p:nvPicPr>
        <p:blipFill>
          <a:blip r:embed="rId1"/>
          <a:stretch/>
        </p:blipFill>
        <p:spPr>
          <a:xfrm>
            <a:off x="2133720" y="304920"/>
            <a:ext cx="518148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Zeus"/>
          <p:cNvPicPr/>
          <p:nvPr/>
        </p:nvPicPr>
        <p:blipFill>
          <a:blip r:embed="rId2"/>
          <a:stretch/>
        </p:blipFill>
        <p:spPr>
          <a:xfrm>
            <a:off x="5313240" y="1752480"/>
            <a:ext cx="2297160" cy="4724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R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en and mother of the go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si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marri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6" descr="Hera"/>
          <p:cNvPicPr/>
          <p:nvPr/>
        </p:nvPicPr>
        <p:blipFill>
          <a:blip r:embed="rId1"/>
          <a:stretch/>
        </p:blipFill>
        <p:spPr>
          <a:xfrm>
            <a:off x="5813280" y="1676520"/>
            <a:ext cx="2025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st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ved war and massac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6" descr="Ares"/>
          <p:cNvPicPr/>
          <p:nvPr/>
        </p:nvPicPr>
        <p:blipFill>
          <a:blip r:embed="rId1"/>
          <a:stretch/>
        </p:blipFill>
        <p:spPr>
          <a:xfrm>
            <a:off x="5678640" y="1676520"/>
            <a:ext cx="20034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phrodi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love and beau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from the foam in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d as the most beautiful being in the univer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Aphrodite"/>
          <p:cNvPicPr/>
          <p:nvPr/>
        </p:nvPicPr>
        <p:blipFill>
          <a:blip r:embed="rId1"/>
          <a:stretch/>
        </p:blipFill>
        <p:spPr>
          <a:xfrm>
            <a:off x="5575320" y="1676520"/>
            <a:ext cx="26161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AD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the under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br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ler of the myriad rivers (river of lamentation, river of hate, etc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Hades"/>
          <p:cNvPicPr/>
          <p:nvPr/>
        </p:nvPicPr>
        <p:blipFill>
          <a:blip r:embed="rId1"/>
          <a:stretch/>
        </p:blipFill>
        <p:spPr>
          <a:xfrm>
            <a:off x="5578560" y="1676520"/>
            <a:ext cx="1987560" cy="4419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EIDE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 of the s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br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led earthquak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6" descr="Poseidon"/>
          <p:cNvPicPr/>
          <p:nvPr/>
        </p:nvPicPr>
        <p:blipFill>
          <a:blip r:embed="rId1"/>
          <a:stretch/>
        </p:blipFill>
        <p:spPr>
          <a:xfrm>
            <a:off x="5513400" y="1676520"/>
            <a:ext cx="2101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TEMI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ddess of the h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nown as the “Mistress of Animal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us’s dau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ught death with her arr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Artemis"/>
          <p:cNvPicPr/>
          <p:nvPr/>
        </p:nvPicPr>
        <p:blipFill>
          <a:blip r:embed="rId1"/>
          <a:stretch/>
        </p:blipFill>
        <p:spPr>
          <a:xfrm>
            <a:off x="5786280" y="1676520"/>
            <a:ext cx="1584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9:26:26Z</dcterms:created>
  <dc:creator>CHS_LIBRARY</dc:creator>
  <dc:description/>
  <dc:language>en-US</dc:language>
  <cp:lastModifiedBy>RomaK</cp:lastModifiedBy>
  <dcterms:modified xsi:type="dcterms:W3CDTF">2015-09-02T09:26:01Z</dcterms:modified>
  <cp:revision>10</cp:revision>
  <dc:subject/>
  <dc:title>Ancient Greek Gods</dc:title>
</cp:coreProperties>
</file>