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7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7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322D-25D8-45F7-BFAD-58828AFD0E3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k Gods and Goddes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Kimberly Zink and Tiffany Eyer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Gods and Godd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Kimberly Zink and Tiffany Ey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 was the god of music and healing who fought man medic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son of Zeus and Leto.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twin sister named Artem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pollo’s daily task is to harness his chariot with four horses attached and drive the sun across the sk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famous for the oracle at Delphi.</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 was the god of music and healing who fought ma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son of Zeus and L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twin sister named Arte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ollo’s daily task is to harness his chariot with four horses attached and drive the sun across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amous for the oracle at Del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 is the goddess of love, desire and beau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has a magical gift that compels anyone she wishes to desire her deep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represented sex affection and the attraction that binds people togethe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 is the goddess of love, desire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has a magical gift that compels anyone she wishes to desire her de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represented sex affection and the attraction that binds peopl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 is the god of the under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brother of Ze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ife was Persepho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lmet Hades wears is invisib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 is the 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ife was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lmet Hades wears is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won the draw and became the Supreme ruler of go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lord of the sky and the r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eapon is a thunderbolt which he hurlers at those who don’t like hi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married to Hera but is famous for cheating on 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won the draw and became the Supreme ruler of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lord of the sky and the 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eapon is a thunderbolt which he hurlers at those who don’t like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married to Hera but is famous for cheating on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god of w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son of Zeus and He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n’t like his par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arried a blood stained spea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handsome and very cru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god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son of Zeus and H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n’t like his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rried a blood stained s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handsome and very cr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FD2F136-71AD-4D4D-B90C-E605B005D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C9C903-E71D-4FE4-9399-6237809F1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E9B7B7-DDF4-4CAE-9915-63B7BF94EF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365C7E-1A10-4B0F-AF27-EF1221E92E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F6B4F3-FBE8-4EED-9E66-D15593BE4C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B8CBFB-EF7B-4DCC-83EE-B06E179A0A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305D5A-CD31-4D38-A8E9-8EDB247F3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C3A3F8-881B-4118-AB0C-0033DDA241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F95E92-A54B-4D72-81FE-5B4597751E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974090-C5D8-49C6-B4F0-F73205EAFD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95B810-F552-48AF-B1C7-BB7D8D0580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77554F2-5C40-4A9E-90FB-68DAC0722E9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F82E69-3DAA-417A-AB61-931091734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F368257-E2C1-4A72-A543-A24F80CD93A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A2B7C89-D480-4B92-A744-062B9291259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32C5958-C34C-459E-843A-5E7267F1C0C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34BA164-B145-49E1-8DB3-D3DC37BB0E4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4A50E74-1794-4A1E-A3B9-2BF132FA6F1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3739B4-9096-4867-9F38-35AC6769D56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4425B6A-10AA-4DA7-9824-AC5B3F07F78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EBC91D2-EE36-4B34-A31B-44D1D3721EE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5773BAE-549D-42CD-9DEF-1132FDB01D8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D878AA2-CBD4-4B5F-8D80-BADA53015B5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7AF2E02-7E9F-44D7-8445-387CB3F81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EF82CDE-8D33-44AE-957A-3126F49F30A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EF0022-9707-44F1-ACFB-7B1F1CEF9A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2E2DD4-4A6C-47F7-B4A5-E29BC9F02F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F41B8C-E359-41F9-92F6-6495AAFB8E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18BB1C-A131-47E3-BF43-05BCD37ED3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A60208-D1FD-420D-916A-345F83B0CC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94CF23-03C9-409E-9DF2-E70D375166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189317-CFF7-474E-B9FA-F5115EF521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39FED3-3E3B-43FD-AA9D-E97A625FE9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E5E211-6B02-457A-BC96-C9150C8692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D552C-EE30-4121-B94F-39ACAAB14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36F97C-49FB-4AED-BEEC-B9412BEF2E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8A1C1C-B9C7-4A56-AB55-2B3306B058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0A05E2-E2E9-4500-A13C-48540892DC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A1FBFB-FE4C-47D9-9858-570D17D505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5075B1-1CE2-4ADD-AD0A-D6A7E81D79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4EC73A-8CE3-4EF3-B1F2-984D7B4AE5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122E1F-BDAC-4D6F-AD99-10F4D3A6F4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464B0D-2255-4899-8307-4F875EB5D4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F1C3C6-2B2B-41CE-80A9-1F6EF7E649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DAFEF6-F075-4BAA-9193-6DE92EFB73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B37AC-4B29-4868-B613-CB3A1A9E1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2E31A2-20AA-4803-9C4B-194FBBB630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F77C8D-8B45-4B86-A26B-65BBB6BBBC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1B2933-AB60-465B-BDAF-327AA9C754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1DEC73-B4EA-4821-91C2-E6F145D34F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EAFE79-AAD1-4352-9A41-BD9CB59D8A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14B494-9DC7-4484-B299-D7E536126ED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CF8330B-324F-4D21-9CBB-9A68DC9277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985D43-90F6-4807-8B41-88C2AFB447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550FE2-8778-40B0-A5F1-D26F5B3B34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3D3DEA-F411-4A63-A1EC-3DC088D982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0B950-8C8C-4DE8-AC68-7113D9469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6E3774-B3DF-4FE1-BAC1-18AFDF5C45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839517-EC99-427A-9D45-E8836141F9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C39056-930B-454A-959C-090718EE13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21C4D6-E9A3-40C5-B3DB-94CAB5F097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870AAD-3A6B-4ADD-9B32-73D3965DC4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995D1A-8BE6-4207-8FD8-BDF4E27CA1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95D5FE-C05C-4F4C-9E6C-1286A36E461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EDF45DA1-2FFF-4AC2-AFC5-0D86238B75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1867624E-0F85-4D90-B896-33D39C4F678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51DCF87-8287-40C4-BDC5-2E4AA0EEB3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B702B-346E-4376-8B48-C1F403692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4763A72-9759-4881-AD2B-0895E7B83E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0C329C7C-C42F-46E7-B199-DEE1D1BBF2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92DBF38B-73B5-41BA-A482-783F5F8EB5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5DEDE9A1-75FC-4182-BBD6-EDF22EE151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280DC3A-6BDB-4065-BA6C-249DB43BC5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A3CE543E-7049-4CD6-971A-B07C58AE9B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55B8344C-0B9C-4671-8665-25E7674C08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31B1D34F-74C5-4C8C-86E1-9856629E4B0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4C600A57-7AC1-4266-B9B5-0EAE491CB27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B3234-1098-4A03-9D28-B87550A16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E26C9-DE32-44C9-A319-77010A34F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16903-7CF0-4FC7-9470-EC997CC5B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0B277C-7B15-4C06-99D9-3C5A35456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2ABAB-064C-4421-A62F-A0D7C8490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7B2EE-9AC7-4D60-A175-E6CC5BF8F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0B7B9-B277-441F-99BC-8D52F3073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0774D-1217-4FF3-9F3D-4E314CDF8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E15FC-0FD0-49F4-A08A-14712224A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BD137B-2E2F-4C41-9199-6B7FCF0AFD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857B5-A589-4D71-A890-1CCE22F0C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AE3AA7-3932-4B7B-9EC7-83E2EBDC3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84C80-21BB-4E55-9E6F-A7DFD3EF3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C98A7F-36BD-455A-94C4-FF90D9096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470584-90EB-46F2-8F2B-AB7D1A034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053703-C1F0-42A0-A382-D782FCF2E9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561A9-3E5F-46EF-B703-F41D7BC96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3B1F1-7885-4FA9-AF56-67C03F12B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0F632-9320-4B00-9AD2-2F2FD496A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1E044-F4E2-4601-82A0-E66A69DE93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C03628-83B4-4C68-B9B7-1AA5106B58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37BC26-EB76-421A-B301-9F6E703494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C7E2D1-BFDE-40AF-AE66-093BD89EB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C3904C-451D-431B-B74C-EC73D82C9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7ADAD1-B189-46B1-B967-559BFB3395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0B717E-7921-457E-88A2-067F55D4F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3DACC-AD49-4104-A095-6F90FDDFAD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0B3085-F207-44E4-96ED-6084F2071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8DB6D8-7E7C-4F16-A744-10E439432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22CAA-141F-4A49-9E03-8CDE7517D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98550-B4E6-43D1-A779-6A5A92413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C5DD2-24D3-42EB-A011-5FDEB7484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089E0-9ED0-41A6-904B-C71EE5816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EAF84F-4A1E-49CB-8246-C55C260C2B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929CC3-D814-473C-AE8F-DFCE7F03F5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1D0EBA-358C-46BE-99D2-184F758269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E6A6AA-EB0C-4157-9DE6-5B9DF295C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8605A-FAAE-49B2-A457-1FAD2F694E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FE85E0-FC7C-47BD-BC52-CEBCCFFC80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D3F0EF-C2D6-442D-94E5-F20012EF6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5BFCF6-36FF-428D-898B-FEA5C94FE1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1ECDA-3B80-41E9-922D-C04252E89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EC31E4-CE29-44CF-BAE8-D0B614950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3409D-8B85-47B3-8D58-1E3A17E50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C341E-C1C4-4218-AF06-0F6E98783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4032B3-346B-4474-A2E0-0AC70C37B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30DC49-DAB8-4A38-A644-EDB7A4755B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0D8523-4A10-40B0-A1E7-46E95BC97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924E30-B736-43D8-BCF3-6A55DBA85A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54101C-FC4D-42B7-8BAF-DD409CB7BF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57F979-4BB2-4C49-A0F1-D6EC16CF8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F746A7-8CB7-4F6A-9846-0251970DE2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D112A0-DD32-413B-95B2-ED0E9BC23A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3B4355-DE98-4A68-BBAE-653EC17D0E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E4D7A5-0F3E-46E0-8995-0F56F0B573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B7BF2-01C3-4910-B3BF-31300F2B8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C5195-1ECC-4263-9EA3-E843201A81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D8431-CF54-4C90-8A95-558EA416D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ECB723-2508-4D9A-9259-5CF72E52A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FA7518-16D6-4D21-BCDB-A9D512B06C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B35826-0C7F-460A-9F29-6D1B7C2B48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61723F-61CB-4B7E-97D8-BC84301700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498C82-16F6-4ECE-A432-212FF5FFF0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B03461-DA38-4FD5-A655-B3D629F05B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AD9BC6-0986-4317-B705-1E28FD64DD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48A0B9-5088-4CDF-8005-AE50C01DFE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8E7566-3F25-4907-B203-7D63A813D6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6E7196-E449-46E8-8B91-44B65C9EE8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5AF5AE-3AD6-4A05-9A48-507A0F216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620479-1E46-4177-BFB7-FAC97F276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0EE958-1B2E-43A6-A6C6-F80C69CDC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03E4B-6B39-45ED-94CF-47370728A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BAABFF-5D27-495B-BDF8-ECF04D031F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35E5A5-EA7C-4688-B07A-07FF821F68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BDF2F9-4C0E-43C2-A883-920325C9DE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D57C26-FD9C-4E62-858B-F36AD62E46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6121F0-D97C-4A2F-B016-5E8A97AEB2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343BB-3AE0-4A4F-B463-DE90619622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1233DA-AF11-4D52-8131-54E8EC6477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0A7F19-17BD-45F8-8531-92AE58994E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54C35E-EFCA-4717-92EC-A1F6C3708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13EFDB-1A1E-4740-A035-5388941900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6972C-2BD8-465A-B1C5-1040828BA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1AED09-D232-49E6-9195-721B30F47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8C44F2-CFD4-41D2-9245-77D27E440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6C368D-8D8D-42CE-8F00-CC93FC3EB6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E1EA32-CDC9-4C49-A271-5E761A25B4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66A0D9-D9E6-4B90-8C89-02671308C2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ADC748-EBF8-44EE-9D44-CCDB545BBE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7129B5-B6E0-4343-894B-CCEA0B88A7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234117-DEE7-4F8A-9B01-94CDB50EE8C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D1FA-4BF7-4F65-81E6-4C9DEFA6F83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4"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5"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7221-269F-49C1-AA18-EBEE9841FB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6"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23" name="Group 2"/>
          <p:cNvGrpSpPr/>
          <p:nvPr/>
        </p:nvGrpSpPr>
        <p:grpSpPr>
          <a:xfrm>
            <a:off x="0" y="0"/>
            <a:ext cx="8458200" cy="5943600"/>
            <a:chOff x="0" y="0"/>
            <a:chExt cx="8458200" cy="5943600"/>
          </a:xfrm>
        </p:grpSpPr>
        <p:sp>
          <p:nvSpPr>
            <p:cNvPr id="524"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5"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1890-4DA8-4AD5-A49E-570125AEC0A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67" name="Group 2"/>
          <p:cNvGrpSpPr/>
          <p:nvPr/>
        </p:nvGrpSpPr>
        <p:grpSpPr>
          <a:xfrm>
            <a:off x="0" y="0"/>
            <a:ext cx="9144000" cy="6934320"/>
            <a:chOff x="0" y="0"/>
            <a:chExt cx="9144000" cy="6934320"/>
          </a:xfrm>
        </p:grpSpPr>
        <p:sp>
          <p:nvSpPr>
            <p:cNvPr id="5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67EB-7A7D-4D65-938D-1DC1568CAF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27" name="Group 2"/>
          <p:cNvGrpSpPr/>
          <p:nvPr/>
        </p:nvGrpSpPr>
        <p:grpSpPr>
          <a:xfrm>
            <a:off x="3800520" y="1789200"/>
            <a:ext cx="5348160" cy="5056200"/>
            <a:chOff x="3800520" y="1789200"/>
            <a:chExt cx="5348160" cy="5056200"/>
          </a:xfrm>
        </p:grpSpPr>
        <p:sp>
          <p:nvSpPr>
            <p:cNvPr id="62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63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6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4"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5"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6"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4B9B-DFC4-44AD-BC9F-87DFC34D04B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703" name="Group 2"/>
          <p:cNvGrpSpPr/>
          <p:nvPr/>
        </p:nvGrpSpPr>
        <p:grpSpPr>
          <a:xfrm>
            <a:off x="-6480" y="20520"/>
            <a:ext cx="9144000" cy="6858000"/>
            <a:chOff x="-6480" y="20520"/>
            <a:chExt cx="9144000" cy="6858000"/>
          </a:xfrm>
        </p:grpSpPr>
        <p:sp>
          <p:nvSpPr>
            <p:cNvPr id="704"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5"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06"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7" name="Group 6"/>
          <p:cNvGrpSpPr/>
          <p:nvPr/>
        </p:nvGrpSpPr>
        <p:grpSpPr>
          <a:xfrm>
            <a:off x="-1440" y="6033960"/>
            <a:ext cx="7844400" cy="850680"/>
            <a:chOff x="-1440" y="6033960"/>
            <a:chExt cx="7844400" cy="850680"/>
          </a:xfrm>
        </p:grpSpPr>
        <p:sp>
          <p:nvSpPr>
            <p:cNvPr id="708"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9" name="Group 8"/>
            <p:cNvGrpSpPr/>
            <p:nvPr/>
          </p:nvGrpSpPr>
          <p:grpSpPr>
            <a:xfrm>
              <a:off x="3944880" y="6033960"/>
              <a:ext cx="3898080" cy="850680"/>
              <a:chOff x="3944880" y="6033960"/>
              <a:chExt cx="3898080" cy="850680"/>
            </a:xfrm>
          </p:grpSpPr>
          <p:sp>
            <p:nvSpPr>
              <p:cNvPr id="710"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1"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2"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3"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4"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15"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716" name="Group 15"/>
          <p:cNvGrpSpPr/>
          <p:nvPr/>
        </p:nvGrpSpPr>
        <p:grpSpPr>
          <a:xfrm>
            <a:off x="627120" y="6021360"/>
            <a:ext cx="5684760" cy="849240"/>
            <a:chOff x="627120" y="6021360"/>
            <a:chExt cx="5684760" cy="849240"/>
          </a:xfrm>
        </p:grpSpPr>
        <p:sp>
          <p:nvSpPr>
            <p:cNvPr id="717"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8"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9"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0"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1"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2"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6"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DC95-590A-4C36-8F83-DCA69B57469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27" name="PlaceHolder 5"/>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4FAB-3F7E-46C6-96F0-7D0E2E2DDB7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BA78-6484-4895-B61E-362AE2698E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9" name="Group 2"/>
          <p:cNvGrpSpPr/>
          <p:nvPr/>
        </p:nvGrpSpPr>
        <p:grpSpPr>
          <a:xfrm>
            <a:off x="0" y="0"/>
            <a:ext cx="7242120" cy="1981080"/>
            <a:chOff x="0" y="0"/>
            <a:chExt cx="7242120" cy="1981080"/>
          </a:xfrm>
        </p:grpSpPr>
        <p:sp>
          <p:nvSpPr>
            <p:cNvPr id="140"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6224-EC9F-4257-98A5-8DC74B2D8BC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0" y="0"/>
            <a:ext cx="9144000" cy="6934320"/>
            <a:chOff x="0" y="0"/>
            <a:chExt cx="9144000" cy="6934320"/>
          </a:xfrm>
        </p:grpSpPr>
        <p:sp>
          <p:nvSpPr>
            <p:cNvPr id="184"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5"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6"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7"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8"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1"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2"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5"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0"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1"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81F8-7BD9-446B-B4D6-31553B625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43" name="Group 2"/>
          <p:cNvGrpSpPr/>
          <p:nvPr/>
        </p:nvGrpSpPr>
        <p:grpSpPr>
          <a:xfrm>
            <a:off x="3800520" y="1789200"/>
            <a:ext cx="5348160" cy="5056200"/>
            <a:chOff x="3800520" y="1789200"/>
            <a:chExt cx="5348160" cy="5056200"/>
          </a:xfrm>
        </p:grpSpPr>
        <p:sp>
          <p:nvSpPr>
            <p:cNvPr id="24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24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27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8377-5162-48E2-8B8C-B855DAE4DF9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19" name="Group 2"/>
          <p:cNvGrpSpPr/>
          <p:nvPr/>
        </p:nvGrpSpPr>
        <p:grpSpPr>
          <a:xfrm>
            <a:off x="0" y="0"/>
            <a:ext cx="9144000" cy="6858000"/>
            <a:chOff x="0" y="0"/>
            <a:chExt cx="9144000" cy="6858000"/>
          </a:xfrm>
        </p:grpSpPr>
        <p:sp>
          <p:nvSpPr>
            <p:cNvPr id="32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6"/>
          <p:cNvGrpSpPr/>
          <p:nvPr/>
        </p:nvGrpSpPr>
        <p:grpSpPr>
          <a:xfrm>
            <a:off x="0" y="6019920"/>
            <a:ext cx="7848720" cy="857160"/>
            <a:chOff x="0" y="6019920"/>
            <a:chExt cx="7848720" cy="857160"/>
          </a:xfrm>
        </p:grpSpPr>
        <p:sp>
          <p:nvSpPr>
            <p:cNvPr id="32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5" name="Group 8"/>
            <p:cNvGrpSpPr/>
            <p:nvPr/>
          </p:nvGrpSpPr>
          <p:grpSpPr>
            <a:xfrm>
              <a:off x="3946680" y="6019920"/>
              <a:ext cx="3902040" cy="857160"/>
              <a:chOff x="3946680" y="6019920"/>
              <a:chExt cx="3902040" cy="857160"/>
            </a:xfrm>
          </p:grpSpPr>
          <p:sp>
            <p:nvSpPr>
              <p:cNvPr id="32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32" name="Group 15"/>
          <p:cNvGrpSpPr/>
          <p:nvPr/>
        </p:nvGrpSpPr>
        <p:grpSpPr>
          <a:xfrm>
            <a:off x="627120" y="6021360"/>
            <a:ext cx="5684760" cy="849240"/>
            <a:chOff x="627120" y="6021360"/>
            <a:chExt cx="5684760" cy="849240"/>
          </a:xfrm>
        </p:grpSpPr>
        <p:sp>
          <p:nvSpPr>
            <p:cNvPr id="33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BBB7-B9BC-4260-8397-08E708A10B5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80" name="Group 2"/>
          <p:cNvGrpSpPr/>
          <p:nvPr/>
        </p:nvGrpSpPr>
        <p:grpSpPr>
          <a:xfrm>
            <a:off x="0" y="0"/>
            <a:ext cx="9140760" cy="6850080"/>
            <a:chOff x="0" y="0"/>
            <a:chExt cx="9140760" cy="6850080"/>
          </a:xfrm>
        </p:grpSpPr>
        <p:grpSp>
          <p:nvGrpSpPr>
            <p:cNvPr id="381" name="Group 3"/>
            <p:cNvGrpSpPr/>
            <p:nvPr/>
          </p:nvGrpSpPr>
          <p:grpSpPr>
            <a:xfrm>
              <a:off x="2743200" y="3540240"/>
              <a:ext cx="6392880" cy="3309840"/>
              <a:chOff x="2743200" y="3540240"/>
              <a:chExt cx="6392880" cy="3309840"/>
            </a:xfrm>
          </p:grpSpPr>
          <p:sp>
            <p:nvSpPr>
              <p:cNvPr id="38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C102-E534-4ED6-9E3C-78F1602366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2"/>
          <p:cNvGrpSpPr/>
          <p:nvPr/>
        </p:nvGrpSpPr>
        <p:grpSpPr>
          <a:xfrm>
            <a:off x="0" y="2438280"/>
            <a:ext cx="9009000" cy="1052640"/>
            <a:chOff x="0" y="2438280"/>
            <a:chExt cx="9009000" cy="1052640"/>
          </a:xfrm>
        </p:grpSpPr>
        <p:grpSp>
          <p:nvGrpSpPr>
            <p:cNvPr id="431" name="Group 3"/>
            <p:cNvGrpSpPr/>
            <p:nvPr/>
          </p:nvGrpSpPr>
          <p:grpSpPr>
            <a:xfrm>
              <a:off x="290520" y="2546280"/>
              <a:ext cx="711360" cy="474840"/>
              <a:chOff x="290520" y="2546280"/>
              <a:chExt cx="711360" cy="474840"/>
            </a:xfrm>
          </p:grpSpPr>
          <p:sp>
            <p:nvSpPr>
              <p:cNvPr id="4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nvGrpSpPr>
            <p:cNvPr id="434" name="Group 6"/>
            <p:cNvGrpSpPr/>
            <p:nvPr/>
          </p:nvGrpSpPr>
          <p:grpSpPr>
            <a:xfrm>
              <a:off x="414360" y="2968560"/>
              <a:ext cx="737640" cy="474840"/>
              <a:chOff x="414360" y="2968560"/>
              <a:chExt cx="737640" cy="474840"/>
            </a:xfrm>
          </p:grpSpPr>
          <p:sp>
            <p:nvSpPr>
              <p:cNvPr id="4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sp>
          <p:nvSpPr>
            <p:cNvPr id="4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Garamond"/>
              </a:endParaRPr>
            </a:p>
          </p:txBody>
        </p:sp>
      </p:grpSp>
      <p:sp>
        <p:nvSpPr>
          <p:cNvPr id="4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B263-A834-46CD-8E21-3C139B81C78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k Gods and Goddesses</a:t>
            </a:r>
            <a:endParaRPr b="0" lang="en-US" sz="4400" spc="-1" strike="noStrike">
              <a:solidFill>
                <a:srgbClr val="ffffff"/>
              </a:solidFill>
              <a:latin typeface="Tahoma"/>
            </a:endParaRPr>
          </a:p>
        </p:txBody>
      </p:sp>
      <p:sp>
        <p:nvSpPr>
          <p:cNvPr id="7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Kimberly Zink and Tiffany Eyerly</a:t>
            </a:r>
            <a:endParaRPr b="0" lang="en-US" sz="3200" spc="-1" strike="noStrike">
              <a:solidFill>
                <a:srgbClr val="ffffff"/>
              </a:solidFill>
              <a:latin typeface="Tahoma"/>
            </a:endParaRPr>
          </a:p>
        </p:txBody>
      </p:sp>
      <p:pic>
        <p:nvPicPr>
          <p:cNvPr id="773" name="vvmx241.wav" descr=""/>
          <p:cNvPicPr/>
          <p:nvPr/>
        </p:nvPicPr>
        <p:blipFill>
          <a:blip r:embed="rId1"/>
          <a:stretch/>
        </p:blipFill>
        <p:spPr>
          <a:xfrm>
            <a:off x="8534520" y="5791320"/>
            <a:ext cx="304560" cy="304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09"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35072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Apollo</a:t>
            </a:r>
            <a:endParaRPr b="0" lang="en-US" sz="5400" spc="-1" strike="noStrike">
              <a:solidFill>
                <a:srgbClr val="333399"/>
              </a:solidFill>
              <a:latin typeface="Tahoma"/>
            </a:endParaRPr>
          </a:p>
        </p:txBody>
      </p:sp>
      <p:sp>
        <p:nvSpPr>
          <p:cNvPr id="775" name="PlaceHolder 2"/>
          <p:cNvSpPr>
            <a:spLocks noGrp="1"/>
          </p:cNvSpPr>
          <p:nvPr>
            <p:ph/>
          </p:nvPr>
        </p:nvSpPr>
        <p:spPr>
          <a:xfrm>
            <a:off x="533520" y="2017440"/>
            <a:ext cx="4952880" cy="445932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ollo was the god of music and healing who fought man medicin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the son of Zeus and Leto.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has a twin sister named Artemi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pollo’s daily task is to harness his chariot with four horses attached and drive the sun across the sk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famous for the oracle at Delphi.</a:t>
            </a:r>
            <a:endParaRPr b="0" lang="en-US" sz="2000" spc="-1" strike="noStrike">
              <a:solidFill>
                <a:srgbClr val="000000"/>
              </a:solidFill>
              <a:latin typeface="Tahoma"/>
            </a:endParaRPr>
          </a:p>
        </p:txBody>
      </p:sp>
      <p:pic>
        <p:nvPicPr>
          <p:cNvPr id="776" name="Picture 6" descr="a_apollo"/>
          <p:cNvPicPr/>
          <p:nvPr/>
        </p:nvPicPr>
        <p:blipFill>
          <a:blip r:embed="rId1"/>
          <a:stretch/>
        </p:blipFill>
        <p:spPr>
          <a:xfrm>
            <a:off x="5334120" y="2209680"/>
            <a:ext cx="3396960" cy="3962520"/>
          </a:xfrm>
          <a:prstGeom prst="rect">
            <a:avLst/>
          </a:prstGeom>
          <a:ln w="0">
            <a:noFill/>
          </a:ln>
        </p:spPr>
      </p:pic>
      <p:pic>
        <p:nvPicPr>
          <p:cNvPr id="777" name="vwchw2m1[1].wav" descr=""/>
          <p:cNvPicPr/>
          <p:nvPr/>
        </p:nvPicPr>
        <p:blipFill>
          <a:blip r:embed="rId2"/>
          <a:stretch/>
        </p:blipFill>
        <p:spPr>
          <a:xfrm>
            <a:off x="6781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682"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Aphrodite</a:t>
            </a:r>
            <a:endParaRPr b="1" lang="en-US" sz="4800" spc="-1" strike="noStrike">
              <a:solidFill>
                <a:srgbClr val="e5e5ff"/>
              </a:solidFill>
              <a:latin typeface="Garamond"/>
            </a:endParaRPr>
          </a:p>
        </p:txBody>
      </p:sp>
      <p:sp>
        <p:nvSpPr>
          <p:cNvPr id="77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hrodite is the goddess of love, desire and beaut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has a magical gift that compels anyone she wishes to desire her deepl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represented sex affection and the attraction that binds people together. </a:t>
            </a:r>
            <a:endParaRPr b="0" lang="en-US" sz="2000" spc="-1" strike="noStrike">
              <a:solidFill>
                <a:srgbClr val="ffffff"/>
              </a:solidFill>
              <a:latin typeface="Garamond"/>
            </a:endParaRPr>
          </a:p>
        </p:txBody>
      </p:sp>
      <p:pic>
        <p:nvPicPr>
          <p:cNvPr id="780" name="Picture 9" descr="aphro2"/>
          <p:cNvPicPr/>
          <p:nvPr/>
        </p:nvPicPr>
        <p:blipFill>
          <a:blip r:embed="rId1"/>
          <a:stretch/>
        </p:blipFill>
        <p:spPr>
          <a:xfrm>
            <a:off x="380880" y="1905120"/>
            <a:ext cx="4038840" cy="4038480"/>
          </a:xfrm>
          <a:prstGeom prst="rect">
            <a:avLst/>
          </a:prstGeom>
          <a:ln w="0">
            <a:noFill/>
          </a:ln>
        </p:spPr>
      </p:pic>
      <p:pic>
        <p:nvPicPr>
          <p:cNvPr id="781" name="w1zvssap[1].wav" descr=""/>
          <p:cNvPicPr/>
          <p:nvPr/>
        </p:nvPicPr>
        <p:blipFill>
          <a:blip r:embed="rId2"/>
          <a:stretch/>
        </p:blipFill>
        <p:spPr>
          <a:xfrm>
            <a:off x="7620120" y="6095880"/>
            <a:ext cx="304560" cy="30492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3425"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des</a:t>
            </a:r>
            <a:endParaRPr b="0" lang="en-US" sz="4400" spc="-1" strike="noStrike">
              <a:solidFill>
                <a:srgbClr val="ffffcc"/>
              </a:solidFill>
              <a:latin typeface="Tahoma"/>
            </a:endParaRPr>
          </a:p>
        </p:txBody>
      </p:sp>
      <p:sp>
        <p:nvSpPr>
          <p:cNvPr id="783"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des is the god of the underworl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the brother of Ze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ife was Persephon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lmet Hades wears is invisib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784" name="Picture 8" descr="hades"/>
          <p:cNvPicPr/>
          <p:nvPr/>
        </p:nvPicPr>
        <p:blipFill>
          <a:blip r:embed="rId1"/>
          <a:stretch/>
        </p:blipFill>
        <p:spPr>
          <a:xfrm>
            <a:off x="5257800" y="1828800"/>
            <a:ext cx="3352680" cy="4343400"/>
          </a:xfrm>
          <a:prstGeom prst="rect">
            <a:avLst/>
          </a:prstGeom>
          <a:ln w="0">
            <a:noFill/>
          </a:ln>
        </p:spPr>
      </p:pic>
      <p:pic>
        <p:nvPicPr>
          <p:cNvPr id="785" name="jsbj257.wav" descr=""/>
          <p:cNvPicPr/>
          <p:nvPr/>
        </p:nvPicPr>
        <p:blipFill>
          <a:blip r:embed="rId2"/>
          <a:stretch/>
        </p:blipFill>
        <p:spPr>
          <a:xfrm>
            <a:off x="8001000" y="6324480"/>
            <a:ext cx="304920" cy="304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970"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Zeus </a:t>
            </a:r>
            <a:endParaRPr b="1" lang="en-US" sz="4400" spc="-1" strike="noStrike">
              <a:solidFill>
                <a:srgbClr val="feec94"/>
              </a:solidFill>
              <a:latin typeface="Times New Roman"/>
            </a:endParaRPr>
          </a:p>
        </p:txBody>
      </p:sp>
      <p:pic>
        <p:nvPicPr>
          <p:cNvPr id="787" name="Picture 8" descr="zeusx"/>
          <p:cNvPicPr/>
          <p:nvPr/>
        </p:nvPicPr>
        <p:blipFill>
          <a:blip r:embed="rId1"/>
          <a:stretch/>
        </p:blipFill>
        <p:spPr>
          <a:xfrm>
            <a:off x="685800" y="1523880"/>
            <a:ext cx="3733920" cy="4496040"/>
          </a:xfrm>
          <a:prstGeom prst="rect">
            <a:avLst/>
          </a:prstGeom>
          <a:ln w="0">
            <a:noFill/>
          </a:ln>
        </p:spPr>
      </p:pic>
      <p:sp>
        <p:nvSpPr>
          <p:cNvPr id="7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eus won the draw and became the Supreme ruler of go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is the lord of the sky and the ra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weapon is a thunderbolt which he hurlers at those who don’t like hi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married to Hera but is famous for cheating on her.</a:t>
            </a:r>
            <a:endParaRPr b="0" lang="en-US" sz="2400" spc="-1" strike="noStrike">
              <a:solidFill>
                <a:srgbClr val="ffffff"/>
              </a:solidFill>
              <a:latin typeface="Times New Roman"/>
            </a:endParaRPr>
          </a:p>
        </p:txBody>
      </p:sp>
      <p:pic>
        <p:nvPicPr>
          <p:cNvPr id="789" name="xprmklnm[1].wav" descr=""/>
          <p:cNvPicPr/>
          <p:nvPr/>
        </p:nvPicPr>
        <p:blipFill>
          <a:blip r:embed="rId2"/>
          <a:stretch/>
        </p:blipFill>
        <p:spPr>
          <a:xfrm>
            <a:off x="8153280" y="6172200"/>
            <a:ext cx="381240" cy="3808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9">
                                  <p:stCondLst>
                                    <p:cond delay="0"/>
                                  </p:stCondLst>
                                  <p:childTnLst>
                                    <p:set>
                                      <p:cBhvr>
                                        <p:cTn id="30" dur="1" fill="hold">
                                          <p:stCondLst>
                                            <p:cond delay="0"/>
                                          </p:stCondLst>
                                        </p:cTn>
                                        <p:tgtEl>
                                          <p:spTgt spid="786"/>
                                        </p:tgtEl>
                                        <p:attrNameLst>
                                          <p:attrName>style.visibility</p:attrName>
                                        </p:attrNameLst>
                                      </p:cBhvr>
                                      <p:to>
                                        <p:strVal val="visible"/>
                                      </p:to>
                                    </p:set>
                                    <p:animEffect filter="dissolve" transition="in">
                                      <p:cBhvr additive="repl">
                                        <p:cTn id="31" dur="500"/>
                                        <p:tgtEl>
                                          <p:spTgt spid="78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36" dur="500"/>
                                        <p:tgtEl>
                                          <p:spTgt spid="78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41" dur="500"/>
                                        <p:tgtEl>
                                          <p:spTgt spid="78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46" dur="500"/>
                                        <p:tgtEl>
                                          <p:spTgt spid="78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1" dur="500"/>
                                        <p:tgtEl>
                                          <p:spTgt spid="788">
                                            <p:txEl>
                                              <p:pRg st="3" end="3"/>
                                            </p:txEl>
                                          </p:spTgt>
                                        </p:tgtEl>
                                      </p:cBhvr>
                                    </p:animEffec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624"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es</a:t>
            </a:r>
            <a:endParaRPr b="0" lang="en-US" sz="4400" spc="-1" strike="noStrike">
              <a:solidFill>
                <a:srgbClr val="dbbd71"/>
              </a:solidFill>
              <a:latin typeface="Arial"/>
            </a:endParaRPr>
          </a:p>
        </p:txBody>
      </p:sp>
      <p:sp>
        <p:nvSpPr>
          <p:cNvPr id="791"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god of war.</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son of Zeus and He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idn’t like his parents.</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carried a blood stained spear.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handsome and very cruel. </a:t>
            </a:r>
            <a:endParaRPr b="0" lang="en-US" sz="2800" spc="-1" strike="noStrike">
              <a:solidFill>
                <a:srgbClr val="ffffff"/>
              </a:solidFill>
              <a:latin typeface="Tahoma"/>
            </a:endParaRPr>
          </a:p>
        </p:txBody>
      </p:sp>
      <p:pic>
        <p:nvPicPr>
          <p:cNvPr id="792" name="Picture 8" descr="h50"/>
          <p:cNvPicPr/>
          <p:nvPr/>
        </p:nvPicPr>
        <p:blipFill>
          <a:blip r:embed="rId1"/>
          <a:stretch/>
        </p:blipFill>
        <p:spPr>
          <a:xfrm>
            <a:off x="4657680" y="1676520"/>
            <a:ext cx="4191120" cy="4724280"/>
          </a:xfrm>
          <a:prstGeom prst="rect">
            <a:avLst/>
          </a:prstGeom>
          <a:ln w="0">
            <a:noFill/>
          </a:ln>
        </p:spPr>
      </p:pic>
      <p:pic>
        <p:nvPicPr>
          <p:cNvPr id="793" name="vvsrpkbf[1].wav" descr=""/>
          <p:cNvPicPr/>
          <p:nvPr/>
        </p:nvPicPr>
        <p:blipFill>
          <a:blip r:embed="rId2"/>
          <a:stretch/>
        </p:blipFill>
        <p:spPr>
          <a:xfrm>
            <a:off x="7543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349" fill="hold"/>
                                        <p:tgtEl>
                                          <p:spTgt spid="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sp>
        <p:nvSpPr>
          <p:cNvPr id="7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3200" spc="-1" strike="noStrike">
              <a:solidFill>
                <a:srgbClr val="ffffff"/>
              </a:solidFill>
              <a:latin typeface="Arial"/>
            </a:endParaRPr>
          </a:p>
        </p:txBody>
      </p:sp>
      <p:pic>
        <p:nvPicPr>
          <p:cNvPr id="796" name="j021272.wav" descr=""/>
          <p:cNvPicPr/>
          <p:nvPr/>
        </p:nvPicPr>
        <p:blipFill>
          <a:blip r:embed="rId1"/>
          <a:stretch/>
        </p:blipFill>
        <p:spPr>
          <a:xfrm>
            <a:off x="4419720" y="3276720"/>
            <a:ext cx="304560" cy="304560"/>
          </a:xfrm>
          <a:prstGeom prst="rect">
            <a:avLst/>
          </a:prstGeom>
          <a:ln w="0">
            <a:noFill/>
          </a:ln>
        </p:spPr>
      </p:pic>
      <p:pic>
        <p:nvPicPr>
          <p:cNvPr id="797" name="j021273.wav" descr=""/>
          <p:cNvPicPr/>
          <p:nvPr/>
        </p:nvPicPr>
        <p:blipFill>
          <a:blip r:embed="rId2"/>
          <a:stretch/>
        </p:blipFill>
        <p:spPr>
          <a:xfrm>
            <a:off x="8001000" y="6095880"/>
            <a:ext cx="304920" cy="304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4716" fill="hold"/>
                                        <p:tgtEl>
                                          <p:spTgt spid="796"/>
                                        </p:tgtEl>
                                      </p:cBhvr>
                                    </p:cmd>
                                  </p:childTnLst>
                                </p:cTn>
                              </p:par>
                            </p:childTnLst>
                          </p:cTn>
                        </p:par>
                        <p:par>
                          <p:cTn id="67" nodeType="afterEffect" fill="hold">
                            <p:stCondLst>
                              <p:cond delay="4716"/>
                            </p:stCondLst>
                            <p:childTnLst>
                              <p:par>
                                <p:cTn id="68" nodeType="afterEffect" fill="hold" presetClass="mediacall" presetID="1">
                                  <p:stCondLst>
                                    <p:cond delay="0"/>
                                  </p:stCondLst>
                                  <p:childTnLst>
                                    <p:cmd type="call" cmd="playFrom(0.0)">
                                      <p:cBhvr>
                                        <p:cTn id="69" dur="4716" fill="hold"/>
                                        <p:tgtEl>
                                          <p:spTgt spid="7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7:31:09Z</dcterms:created>
  <dc:creator>CHS</dc:creator>
  <dc:description/>
  <dc:language>en-US</dc:language>
  <cp:lastModifiedBy>RomaK</cp:lastModifiedBy>
  <dcterms:modified xsi:type="dcterms:W3CDTF">2015-09-02T09:25:54Z</dcterms:modified>
  <cp:revision>10</cp:revision>
  <dc:subject/>
  <dc:title>Greek Gods and Goddesses</dc:title>
</cp:coreProperties>
</file>