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7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7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AF35-81BF-4573-8144-1B4CD3B0589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k Gods and Goddes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Kimberly Zink and Tiffany Eyer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Gods and Godd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Kimberly Zink and Tiffany Ey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 was the god of music and healing who fought man medic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son of Zeus and Leto.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twin sister named Artem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pollo’s daily task is to harness his chariot with four horses attached and drive the sun across the sk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famous for the oracle at Delphi.</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 was the god of music and healing who fought ma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son of Zeus and L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twin sister named Artem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ollo’s daily task is to harness his chariot with four horses attached and drive the sun across the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famous for the oracle at Del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 is the goddess of love, desire and beau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has a magical gift that compels anyone she wishes to desire her deep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represented sex affection and the attraction that binds people togethe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 is the goddess of love, desire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has a magical gift that compels anyone she wishes to desire her dee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represented sex affection and the attraction that binds peopl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 is the god of the under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brother of Ze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ife was Persepho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lmet Hades wears is invisib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 is the 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ife was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lmet Hades wears is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won the draw and became the Supreme ruler of go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lord of the sky and the r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eapon is a thunderbolt which he hurlers at those who don’t like hi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married to Hera but is famous for cheating on 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won the draw and became the Supreme ruler of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lord of the sky and the 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eapon is a thunderbolt which he hurlers at those who don’t like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married to Hera but is famous for cheating on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god of w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son of Zeus and He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n’t like his par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arried a blood stained spea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handsome and very cru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god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son of Zeus and H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n’t like his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arried a blood stained s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handsome and very cru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2A0E52D-AE64-4BED-8AEE-FF667CFAB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4A18C4E-C6C7-4CA0-B658-1E2C5BB2D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17E893-4C91-434F-90BF-65455EF545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1B5D8B-ABAE-4C31-8E98-2D62D70103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ABC2E1-7613-4A82-A8AF-02FB8195B0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A1C396-D33E-4746-8BC1-9B9B68EE59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ABE9FB-81DB-4232-847E-C6EF589857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8BCFFF-5464-4663-83E0-FBF4430434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AEB138-EE50-4FAD-B3E0-166D8D26DE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011143-5FF2-48D0-8325-41788D3C39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865E3B-4D3B-4315-9E08-4289DE3502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0786CB6-B628-4705-AF4D-5717B74D420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22DF105-F9D8-4023-B9DF-107ED9A19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2A085F9-BA7B-4D62-8274-62D1C593862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D5A5772-1AAB-407E-A285-B9E45E611DA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C4AB20E-F122-45A9-B018-EF8E7F810B7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CF48422-E1BB-41D6-96BD-2D936BB0D78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468A41A-7D84-4513-B1FC-4FCECE06D80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D362F5C-EF6D-4F60-9D80-089444BDB4F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C95C188-48E7-442B-B754-4F7FC70AF49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8D01B0B-2876-419C-8EED-D53030F2FB6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7ED4134-420D-4E60-BDE6-EA9FA7AD52A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361B771-3A28-424A-ADA6-07C59C75DAD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ABDB0BE-E6D0-434A-8F85-E0BF94529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A5A92CE-6F87-4753-9F28-A96BC27CB0D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3C15705-7362-4D0A-BE3C-48E26E92359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BEB51A-BEF5-414F-9101-251DA5CDCC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ED3221-5BB9-4D87-BF21-4C822E0892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F91FE9-B6A7-478E-BB83-26A073EC36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C675B7-865C-4950-B502-8A83EC54FE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B8144A-7328-46AF-B5A2-35511C25F4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18297F-5671-4D7F-9E56-A99B139F0A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FC3ED5-301C-4B50-AABC-D56395DD72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8D682E-88A5-41FE-B5D9-026BD65CA0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7B4ED-D5D6-4C68-91C3-49E96A9E8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EB5C70-5EE4-44B9-AC70-A8FE3D61CF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BCAE037-A60F-4CC2-A98E-5EF3D0FE1B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C3323B8-348A-4E1B-AE13-B8F3A98D48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90533B5-61AB-4A68-9525-C11735DA85C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40FD0E-ABE8-4E97-8271-BF0C287F15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2F19C5-3D29-4A64-8BC5-7EFD8886DA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C2880A-854F-4B20-9759-16E809A359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455EEC-B91E-4D8C-A95B-C9A710A870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599A48-0A89-4CFE-B9ED-43E66DFF99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A154B0-02DA-4D85-A0C4-04AD2A2B9E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8D2EA-91D6-41CD-9ED4-882173FA1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FD15C6-654D-4AA5-84DE-2AF0A26E19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08D1AB-9A02-4479-B2BD-37636DF817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5C9160-C8E1-4EC8-B739-EC84EE2C54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B4FB9F3-7144-4BA7-BFB2-C6CC21690DA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27D154C-C1E9-4EEA-ACE0-A8D5412503F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83D9828-54B5-4F63-8B98-DFEDD04D270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6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6804208-3822-4DC9-A194-F5B80741652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616D97-6ED1-4C11-B79A-59737DD7CB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0C4E5DD-4E99-449D-B630-453E0EA080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ADFEEA-A9CA-48BB-9BF4-45619394619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F80CB-16EE-48BE-9595-54E63A889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8CCACB5-2557-44E2-9297-4A062D5688F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466792-8122-4BC4-A2B0-044BAB0835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662CE7-50E6-40D7-B969-DBA8C7EEE0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019642-E413-44C6-AC5D-9A686B9BF6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7CB1A7E-9916-43C1-957D-04ADEB7D0D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72DAC7B-9E0D-424D-A0A8-F54CF643861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7EDC3F0-469D-4804-90FD-3F7F2D5F676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1CA58653-3276-433C-8F5D-6FAE0A46679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E24417CE-481E-43FA-98E3-0ECB14A2203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BE107068-8F48-4D8D-86BD-62CACA5362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E9C62-CF33-4F7C-8366-B48082E52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54A17753-BAEC-4DA5-9CB9-D627825E0FB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93DD418C-645C-4AD5-B896-925BB9B0028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E3ED7EC3-E4F9-41ED-B3E2-C171AE125B4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20F609EC-B812-4192-9F82-8ABB4A2763E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4D1E1534-0622-4174-B97A-75E5ACC584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CCF05D32-3A2B-4596-AD81-872DC0F211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063493EC-98F2-439B-AF22-82831257AFC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7788AA81-D1FB-4AFA-A8C7-42408573953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8DE322D4-76DA-4FAC-A016-B12A5360EF6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4FBE2-40A2-49D5-9FFA-F75E8D3BA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0AD4B-A035-4D71-8773-54BB38137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9C658-FBA0-4B32-8AB6-831830932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B982A2A-32E3-48DC-BE3E-57D046140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DC492-A695-437F-BF21-C7DD67C50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2A11C-5095-4B4A-B238-D64E03D0C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2B9C0-DE1E-44B9-96DA-5C04A2FF8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3F637-97A4-4823-9808-ABBFE3108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012BC-7B72-478B-BC00-DE4C2E0310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F70CE7-2310-4569-BEB4-411DADF67D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1001D-015C-40A5-A8A0-BA04DF93A8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832739-CCE4-4131-8C49-CB05AAAA51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9F618A-8811-4E3C-88EA-BA5BA35646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CD4665-26B1-43EF-A60F-00FAD2631D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554191-B4AB-4352-B08B-F651D0F41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85C033-7ED0-4D6D-94E9-87A7733232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6F65B6-249F-4F46-B69E-4F9534EDC4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EE6E2-348E-4FD7-86F0-9DCFE48F7E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4244C6-9CBE-4A84-BD3A-8ECFD7103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707228-175D-4113-B2C1-4167EA90C6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691A5E-2A3A-49DF-9B5D-3950F24B4A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CE4198-42E3-4499-B148-DB493E46FC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0CF2D4-52F7-426B-9B65-0313CE6BF1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400E4F-C4AE-46C6-8FDE-09DCC35A29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9E254E-7CFA-481D-AA0A-4BE30DACB9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DEC6EDD-C8FC-45E1-8DA2-AB35CCC22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685852-FC3E-4C8A-999A-DE699B2EB8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28621B-69C6-42AE-98B7-764BF0AF2B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C689A4-3EF1-4D80-AFB3-B7123178E7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5F8022-762D-4EBB-B5A3-712FC71BE4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1E2BF-1ECD-4854-8359-D688CC60A7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A3BAA-58F1-400D-BE86-0242ADFB18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0C7AE8-B25E-4BE6-A1E7-9C96711508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65314F-EA02-4A8C-836E-E14796FE00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7BFCBA-4EE7-44C9-BD3E-24E12DA388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FE332B-3BDD-4E62-B958-E825F15587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FB56D59-0979-46FF-BB5B-2DAB8394F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11981F-1D62-4A63-A083-EB8EA47D1B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45B828-D990-424C-89A2-3EDE6E21B7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E52530-6B35-446A-9135-B73CEDBBA4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B01197-B470-466F-9B1B-190265564E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F98C8E-9CB9-4D4B-849D-0426B521D8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B9208D-4659-47F2-88B4-5E9966E9E8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05C161-1C5A-4ECA-BEAF-CF4DCAF367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95119A-3343-4ADB-B91F-91FD3977B6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493193-7855-47F1-B0BA-32C5071A6D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526293-9493-4720-ADEB-73933C443C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8613ED7-0229-4139-BE01-477C2349F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14C8CB-650E-4EA2-AEE0-A8E23D90D5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58F570-FF4F-4986-BF31-11FEB9023C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4F2A7-B9F5-4256-AA95-5624E19833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8863B1-5F85-486E-8196-43943D7DF9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FD10E1-0FAF-470A-8285-DE18BE0D6B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11B260-26AF-4E91-A83A-20D952703F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399E33-1970-4531-A2FB-6823B51665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52A02D-A422-4EB8-A462-DAEAA22A26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A172D1-F564-454D-8BB8-F59B0779A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A4A95C-6D9A-4599-AF35-18B7D68C72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52756A-2EB3-45C8-83D7-79B23C94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99887A-1F34-419A-8727-7ABC14EB75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A175A9-4AAD-4FB7-B710-D47BF3D312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E13E2A-9AA2-4F69-AA5F-5015EB3617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EB0462-820A-4C81-AE4D-01212B730C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6597EB-AC35-4B5C-86CD-CAC42B89C9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A5F3FA-D389-4690-BCCB-65B2C10E74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DCB891-93BD-459D-986E-E1F51F42F1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20424A-2C27-48DA-837F-83114B8C29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5383B3-D1EC-4C36-8510-34954C1D92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CB18DF-6091-45B0-B666-EF424EDED5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587291-65F6-440C-B814-39007E015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5AA12D-E6A7-4904-95BB-97E203D46B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FBD2C1-507E-44A4-8922-4B24D7D3AB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319FAF-6D3F-443C-996D-94FA2D5670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81711B-0D00-478F-9EF3-5EC106BED4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CBD3F0-174B-49E6-8A40-43B2A251D6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EF43D6-989D-401A-AEB6-4FAFEBDC97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A82E16-C923-4D00-9F8E-2521D0240D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023665-D182-40A5-8C07-7F7591ED92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25109A-1C23-4FBC-BA9D-E61BFEE7C6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4CA9BC-FC78-4F5C-9BD3-684D4591CB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AB42A72-6E56-4FE5-A6D1-D7F26E91F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D89F1F-EDF3-4413-8414-73AF791B86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5C134F-6F67-43D8-9FAD-3DFD3F3ED6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AD4F74-6A92-40DF-8C2B-E1E7AB4011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359998-9A03-4CE3-840B-A91F3543B8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3A25FB-E9D2-4D75-9CF5-954D96136F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F54782-DF71-479B-A38C-5A5CF5AACB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167171-8E51-4067-8545-25389622E6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0BB83E-C477-4B35-89F5-8DAB3D19BF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4D0D1D-C6DE-449F-869C-474C3A08F6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7BF873-B052-4FFB-87BD-0D5FF22E1BA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2E19-3BE2-41FC-9D00-C6018BDA548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4"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5"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BCC0-E692-4BEA-8188-426B9C66CAA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6"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523" name="Group 2"/>
          <p:cNvGrpSpPr/>
          <p:nvPr/>
        </p:nvGrpSpPr>
        <p:grpSpPr>
          <a:xfrm>
            <a:off x="0" y="0"/>
            <a:ext cx="8458200" cy="5943600"/>
            <a:chOff x="0" y="0"/>
            <a:chExt cx="8458200" cy="5943600"/>
          </a:xfrm>
        </p:grpSpPr>
        <p:sp>
          <p:nvSpPr>
            <p:cNvPr id="524"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5"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2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C514-5614-422F-BF15-2EF7E6298B1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67" name="Group 2"/>
          <p:cNvGrpSpPr/>
          <p:nvPr/>
        </p:nvGrpSpPr>
        <p:grpSpPr>
          <a:xfrm>
            <a:off x="0" y="0"/>
            <a:ext cx="9144000" cy="6934320"/>
            <a:chOff x="0" y="0"/>
            <a:chExt cx="9144000" cy="6934320"/>
          </a:xfrm>
        </p:grpSpPr>
        <p:sp>
          <p:nvSpPr>
            <p:cNvPr id="568"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9"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0"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1"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2"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3"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4"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5"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6"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7"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8"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9"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0"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1"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2"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3"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4"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5"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88"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2192-0AF9-42AE-A1AD-BA116D0262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27" name="Group 2"/>
          <p:cNvGrpSpPr/>
          <p:nvPr/>
        </p:nvGrpSpPr>
        <p:grpSpPr>
          <a:xfrm>
            <a:off x="3800520" y="1789200"/>
            <a:ext cx="5348160" cy="5056200"/>
            <a:chOff x="3800520" y="1789200"/>
            <a:chExt cx="5348160" cy="5056200"/>
          </a:xfrm>
        </p:grpSpPr>
        <p:sp>
          <p:nvSpPr>
            <p:cNvPr id="62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63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66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4"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5"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6"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42BE-CEA6-415E-A4B9-9E11354B558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703" name="Group 2"/>
          <p:cNvGrpSpPr/>
          <p:nvPr/>
        </p:nvGrpSpPr>
        <p:grpSpPr>
          <a:xfrm>
            <a:off x="-6480" y="20520"/>
            <a:ext cx="9144000" cy="6858000"/>
            <a:chOff x="-6480" y="20520"/>
            <a:chExt cx="9144000" cy="6858000"/>
          </a:xfrm>
        </p:grpSpPr>
        <p:sp>
          <p:nvSpPr>
            <p:cNvPr id="704"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5"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06"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7" name="Group 6"/>
          <p:cNvGrpSpPr/>
          <p:nvPr/>
        </p:nvGrpSpPr>
        <p:grpSpPr>
          <a:xfrm>
            <a:off x="-1440" y="6033960"/>
            <a:ext cx="7844400" cy="850680"/>
            <a:chOff x="-1440" y="6033960"/>
            <a:chExt cx="7844400" cy="850680"/>
          </a:xfrm>
        </p:grpSpPr>
        <p:sp>
          <p:nvSpPr>
            <p:cNvPr id="708"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9" name="Group 8"/>
            <p:cNvGrpSpPr/>
            <p:nvPr/>
          </p:nvGrpSpPr>
          <p:grpSpPr>
            <a:xfrm>
              <a:off x="3944880" y="6033960"/>
              <a:ext cx="3898080" cy="850680"/>
              <a:chOff x="3944880" y="6033960"/>
              <a:chExt cx="3898080" cy="850680"/>
            </a:xfrm>
          </p:grpSpPr>
          <p:sp>
            <p:nvSpPr>
              <p:cNvPr id="710"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1"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2"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3"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4"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15"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716" name="Group 15"/>
          <p:cNvGrpSpPr/>
          <p:nvPr/>
        </p:nvGrpSpPr>
        <p:grpSpPr>
          <a:xfrm>
            <a:off x="627120" y="6021360"/>
            <a:ext cx="5684760" cy="849240"/>
            <a:chOff x="627120" y="6021360"/>
            <a:chExt cx="5684760" cy="849240"/>
          </a:xfrm>
        </p:grpSpPr>
        <p:sp>
          <p:nvSpPr>
            <p:cNvPr id="717"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8"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9"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0"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1"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2"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2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5"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6"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7662-3524-4816-9E91-BF6E5241EF0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27" name="PlaceHolder 5"/>
          <p:cNvSpPr>
            <a:spLocks noGrp="1"/>
          </p:cNvSpPr>
          <p:nvPr>
            <p:ph type="ftr" idx="4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28CD-0E44-47C4-8496-C45BFEBB000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FB06-9902-4AC9-82EB-6E84AF66145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39" name="Group 2"/>
          <p:cNvGrpSpPr/>
          <p:nvPr/>
        </p:nvGrpSpPr>
        <p:grpSpPr>
          <a:xfrm>
            <a:off x="0" y="0"/>
            <a:ext cx="7242120" cy="1981080"/>
            <a:chOff x="0" y="0"/>
            <a:chExt cx="7242120" cy="1981080"/>
          </a:xfrm>
        </p:grpSpPr>
        <p:sp>
          <p:nvSpPr>
            <p:cNvPr id="140"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1"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4"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6"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981B-1B06-4E55-86A2-CAD791BFE9F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3" name="Group 2"/>
          <p:cNvGrpSpPr/>
          <p:nvPr/>
        </p:nvGrpSpPr>
        <p:grpSpPr>
          <a:xfrm>
            <a:off x="0" y="0"/>
            <a:ext cx="9144000" cy="6934320"/>
            <a:chOff x="0" y="0"/>
            <a:chExt cx="9144000" cy="6934320"/>
          </a:xfrm>
        </p:grpSpPr>
        <p:sp>
          <p:nvSpPr>
            <p:cNvPr id="184"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5"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6"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7"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8"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1"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2"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5"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8"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0"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1"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C8B8-AE4F-4CC4-B3AB-2D323C452E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43" name="Group 2"/>
          <p:cNvGrpSpPr/>
          <p:nvPr/>
        </p:nvGrpSpPr>
        <p:grpSpPr>
          <a:xfrm>
            <a:off x="3800520" y="1789200"/>
            <a:ext cx="5348160" cy="5056200"/>
            <a:chOff x="3800520" y="1789200"/>
            <a:chExt cx="5348160" cy="5056200"/>
          </a:xfrm>
        </p:grpSpPr>
        <p:sp>
          <p:nvSpPr>
            <p:cNvPr id="244"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5"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246"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7"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8"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9"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0"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1"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2"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3"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4"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5"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6"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7"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8"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9"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0"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1"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2"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3"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4"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5"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6"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7"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8"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9"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0"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1"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2"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3"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4"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5"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276"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7"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0"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1"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2"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4F4B-1E1E-470C-9C91-35BD10AA9FD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319" name="Group 2"/>
          <p:cNvGrpSpPr/>
          <p:nvPr/>
        </p:nvGrpSpPr>
        <p:grpSpPr>
          <a:xfrm>
            <a:off x="0" y="0"/>
            <a:ext cx="9144000" cy="6858000"/>
            <a:chOff x="0" y="0"/>
            <a:chExt cx="9144000" cy="6858000"/>
          </a:xfrm>
        </p:grpSpPr>
        <p:sp>
          <p:nvSpPr>
            <p:cNvPr id="320"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2"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6"/>
          <p:cNvGrpSpPr/>
          <p:nvPr/>
        </p:nvGrpSpPr>
        <p:grpSpPr>
          <a:xfrm>
            <a:off x="0" y="6019920"/>
            <a:ext cx="7848720" cy="857160"/>
            <a:chOff x="0" y="6019920"/>
            <a:chExt cx="7848720" cy="857160"/>
          </a:xfrm>
        </p:grpSpPr>
        <p:sp>
          <p:nvSpPr>
            <p:cNvPr id="324"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5" name="Group 8"/>
            <p:cNvGrpSpPr/>
            <p:nvPr/>
          </p:nvGrpSpPr>
          <p:grpSpPr>
            <a:xfrm>
              <a:off x="3946680" y="6019920"/>
              <a:ext cx="3902040" cy="857160"/>
              <a:chOff x="3946680" y="6019920"/>
              <a:chExt cx="3902040" cy="857160"/>
            </a:xfrm>
          </p:grpSpPr>
          <p:sp>
            <p:nvSpPr>
              <p:cNvPr id="326"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9"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0"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1"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332" name="Group 15"/>
          <p:cNvGrpSpPr/>
          <p:nvPr/>
        </p:nvGrpSpPr>
        <p:grpSpPr>
          <a:xfrm>
            <a:off x="627120" y="6021360"/>
            <a:ext cx="5684760" cy="849240"/>
            <a:chOff x="627120" y="6021360"/>
            <a:chExt cx="5684760" cy="849240"/>
          </a:xfrm>
        </p:grpSpPr>
        <p:sp>
          <p:nvSpPr>
            <p:cNvPr id="333"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4"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6"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4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1"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3"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2DDD-016C-4FDE-9B0D-0619CC4AA9D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80" name="Group 2"/>
          <p:cNvGrpSpPr/>
          <p:nvPr/>
        </p:nvGrpSpPr>
        <p:grpSpPr>
          <a:xfrm>
            <a:off x="0" y="0"/>
            <a:ext cx="9140760" cy="6850080"/>
            <a:chOff x="0" y="0"/>
            <a:chExt cx="9140760" cy="6850080"/>
          </a:xfrm>
        </p:grpSpPr>
        <p:grpSp>
          <p:nvGrpSpPr>
            <p:cNvPr id="381" name="Group 3"/>
            <p:cNvGrpSpPr/>
            <p:nvPr/>
          </p:nvGrpSpPr>
          <p:grpSpPr>
            <a:xfrm>
              <a:off x="2743200" y="3540240"/>
              <a:ext cx="6392880" cy="3309840"/>
              <a:chOff x="2743200" y="3540240"/>
              <a:chExt cx="6392880" cy="3309840"/>
            </a:xfrm>
          </p:grpSpPr>
          <p:sp>
            <p:nvSpPr>
              <p:cNvPr id="38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91" name="PlaceHolder 3"/>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2" name="PlaceHolder 4"/>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3" name="PlaceHolder 5"/>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48FF-F638-4695-A0D3-554FD6A218D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Group 2"/>
          <p:cNvGrpSpPr/>
          <p:nvPr/>
        </p:nvGrpSpPr>
        <p:grpSpPr>
          <a:xfrm>
            <a:off x="0" y="2438280"/>
            <a:ext cx="9009000" cy="1052640"/>
            <a:chOff x="0" y="2438280"/>
            <a:chExt cx="9009000" cy="1052640"/>
          </a:xfrm>
        </p:grpSpPr>
        <p:grpSp>
          <p:nvGrpSpPr>
            <p:cNvPr id="431" name="Group 3"/>
            <p:cNvGrpSpPr/>
            <p:nvPr/>
          </p:nvGrpSpPr>
          <p:grpSpPr>
            <a:xfrm>
              <a:off x="290520" y="2546280"/>
              <a:ext cx="711360" cy="474840"/>
              <a:chOff x="290520" y="2546280"/>
              <a:chExt cx="711360" cy="474840"/>
            </a:xfrm>
          </p:grpSpPr>
          <p:sp>
            <p:nvSpPr>
              <p:cNvPr id="432"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3"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grpSp>
          <p:nvGrpSpPr>
            <p:cNvPr id="434" name="Group 6"/>
            <p:cNvGrpSpPr/>
            <p:nvPr/>
          </p:nvGrpSpPr>
          <p:grpSpPr>
            <a:xfrm>
              <a:off x="414360" y="2968560"/>
              <a:ext cx="737640" cy="474840"/>
              <a:chOff x="414360" y="2968560"/>
              <a:chExt cx="737640" cy="474840"/>
            </a:xfrm>
          </p:grpSpPr>
          <p:sp>
            <p:nvSpPr>
              <p:cNvPr id="435"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6"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sp>
          <p:nvSpPr>
            <p:cNvPr id="43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Garamond"/>
              </a:endParaRPr>
            </a:p>
          </p:txBody>
        </p:sp>
      </p:grpSp>
      <p:sp>
        <p:nvSpPr>
          <p:cNvPr id="4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2" name="PlaceHolder 3"/>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PlaceHolder 5"/>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71E6-B478-481C-99C5-46621EC9F02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eek Gods and Goddesses</a:t>
            </a:r>
            <a:endParaRPr b="0" lang="en-US" sz="4400" spc="-1" strike="noStrike">
              <a:solidFill>
                <a:srgbClr val="ffffff"/>
              </a:solidFill>
              <a:latin typeface="Tahoma"/>
            </a:endParaRPr>
          </a:p>
        </p:txBody>
      </p:sp>
      <p:sp>
        <p:nvSpPr>
          <p:cNvPr id="7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Kimberly Zink and Tiffany Eyerly</a:t>
            </a:r>
            <a:endParaRPr b="0" lang="en-US" sz="3200" spc="-1" strike="noStrike">
              <a:solidFill>
                <a:srgbClr val="ffffff"/>
              </a:solidFill>
              <a:latin typeface="Tahoma"/>
            </a:endParaRPr>
          </a:p>
        </p:txBody>
      </p:sp>
      <p:pic>
        <p:nvPicPr>
          <p:cNvPr id="773" name="vvmx241.wav" descr=""/>
          <p:cNvPicPr/>
          <p:nvPr/>
        </p:nvPicPr>
        <p:blipFill>
          <a:blip r:embed="rId1"/>
          <a:stretch/>
        </p:blipFill>
        <p:spPr>
          <a:xfrm>
            <a:off x="8534520" y="5791320"/>
            <a:ext cx="304560" cy="3045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09" fill="hold"/>
                                        <p:tgtEl>
                                          <p:spTgt spid="7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35072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Apollo</a:t>
            </a:r>
            <a:endParaRPr b="0" lang="en-US" sz="5400" spc="-1" strike="noStrike">
              <a:solidFill>
                <a:srgbClr val="333399"/>
              </a:solidFill>
              <a:latin typeface="Tahoma"/>
            </a:endParaRPr>
          </a:p>
        </p:txBody>
      </p:sp>
      <p:sp>
        <p:nvSpPr>
          <p:cNvPr id="775" name="PlaceHolder 2"/>
          <p:cNvSpPr>
            <a:spLocks noGrp="1"/>
          </p:cNvSpPr>
          <p:nvPr>
            <p:ph/>
          </p:nvPr>
        </p:nvSpPr>
        <p:spPr>
          <a:xfrm>
            <a:off x="533520" y="2017440"/>
            <a:ext cx="4952880" cy="445932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ollo was the god of music and healing who fought man medicin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the son of Zeus and Leto.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has a twin sister named Artemi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pollo’s daily task is to harness his chariot with four horses attached and drive the sun across the sky.</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famous for the oracle at Delphi.</a:t>
            </a:r>
            <a:endParaRPr b="0" lang="en-US" sz="2000" spc="-1" strike="noStrike">
              <a:solidFill>
                <a:srgbClr val="000000"/>
              </a:solidFill>
              <a:latin typeface="Tahoma"/>
            </a:endParaRPr>
          </a:p>
        </p:txBody>
      </p:sp>
      <p:pic>
        <p:nvPicPr>
          <p:cNvPr id="776" name="Picture 6" descr="a_apollo"/>
          <p:cNvPicPr/>
          <p:nvPr/>
        </p:nvPicPr>
        <p:blipFill>
          <a:blip r:embed="rId1"/>
          <a:stretch/>
        </p:blipFill>
        <p:spPr>
          <a:xfrm>
            <a:off x="5334120" y="2209680"/>
            <a:ext cx="3396960" cy="3962520"/>
          </a:xfrm>
          <a:prstGeom prst="rect">
            <a:avLst/>
          </a:prstGeom>
          <a:ln w="0">
            <a:noFill/>
          </a:ln>
        </p:spPr>
      </p:pic>
      <p:pic>
        <p:nvPicPr>
          <p:cNvPr id="777" name="vwchw2m1[1].wav" descr=""/>
          <p:cNvPicPr/>
          <p:nvPr/>
        </p:nvPicPr>
        <p:blipFill>
          <a:blip r:embed="rId2"/>
          <a:stretch/>
        </p:blipFill>
        <p:spPr>
          <a:xfrm>
            <a:off x="67816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682"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Aphrodite</a:t>
            </a:r>
            <a:endParaRPr b="1" lang="en-US" sz="4800" spc="-1" strike="noStrike">
              <a:solidFill>
                <a:srgbClr val="e5e5ff"/>
              </a:solidFill>
              <a:latin typeface="Garamond"/>
            </a:endParaRPr>
          </a:p>
        </p:txBody>
      </p:sp>
      <p:sp>
        <p:nvSpPr>
          <p:cNvPr id="779" name="PlaceHolder 2"/>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phrodite is the goddess of love, desire and beaut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he has a magical gift that compels anyone she wishes to desire her deepl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he represented sex affection and the attraction that binds people together. </a:t>
            </a:r>
            <a:endParaRPr b="0" lang="en-US" sz="2000" spc="-1" strike="noStrike">
              <a:solidFill>
                <a:srgbClr val="ffffff"/>
              </a:solidFill>
              <a:latin typeface="Garamond"/>
            </a:endParaRPr>
          </a:p>
        </p:txBody>
      </p:sp>
      <p:pic>
        <p:nvPicPr>
          <p:cNvPr id="780" name="Picture 9" descr="aphro2"/>
          <p:cNvPicPr/>
          <p:nvPr/>
        </p:nvPicPr>
        <p:blipFill>
          <a:blip r:embed="rId1"/>
          <a:stretch/>
        </p:blipFill>
        <p:spPr>
          <a:xfrm>
            <a:off x="380880" y="1905120"/>
            <a:ext cx="4038840" cy="4038480"/>
          </a:xfrm>
          <a:prstGeom prst="rect">
            <a:avLst/>
          </a:prstGeom>
          <a:ln w="0">
            <a:noFill/>
          </a:ln>
        </p:spPr>
      </p:pic>
      <p:pic>
        <p:nvPicPr>
          <p:cNvPr id="781" name="w1zvssap[1].wav" descr=""/>
          <p:cNvPicPr/>
          <p:nvPr/>
        </p:nvPicPr>
        <p:blipFill>
          <a:blip r:embed="rId2"/>
          <a:stretch/>
        </p:blipFill>
        <p:spPr>
          <a:xfrm>
            <a:off x="7620120" y="6095880"/>
            <a:ext cx="304560" cy="30492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3425"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des</a:t>
            </a:r>
            <a:endParaRPr b="0" lang="en-US" sz="4400" spc="-1" strike="noStrike">
              <a:solidFill>
                <a:srgbClr val="ffffcc"/>
              </a:solidFill>
              <a:latin typeface="Tahoma"/>
            </a:endParaRPr>
          </a:p>
        </p:txBody>
      </p:sp>
      <p:sp>
        <p:nvSpPr>
          <p:cNvPr id="783" name="PlaceHolder 2"/>
          <p:cNvSpPr>
            <a:spLocks noGrp="1"/>
          </p:cNvSpPr>
          <p:nvPr>
            <p:ph/>
          </p:nvPr>
        </p:nvSpPr>
        <p:spPr>
          <a:xfrm>
            <a:off x="456840" y="1600200"/>
            <a:ext cx="40402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des is the god of the underworl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the brother of Ze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wife was Persephon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elmet Hades wears is invisib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784" name="Picture 8" descr="hades"/>
          <p:cNvPicPr/>
          <p:nvPr/>
        </p:nvPicPr>
        <p:blipFill>
          <a:blip r:embed="rId1"/>
          <a:stretch/>
        </p:blipFill>
        <p:spPr>
          <a:xfrm>
            <a:off x="5257800" y="1828800"/>
            <a:ext cx="3352680" cy="4343400"/>
          </a:xfrm>
          <a:prstGeom prst="rect">
            <a:avLst/>
          </a:prstGeom>
          <a:ln w="0">
            <a:noFill/>
          </a:ln>
        </p:spPr>
      </p:pic>
      <p:pic>
        <p:nvPicPr>
          <p:cNvPr id="785" name="jsbj257.wav" descr=""/>
          <p:cNvPicPr/>
          <p:nvPr/>
        </p:nvPicPr>
        <p:blipFill>
          <a:blip r:embed="rId2"/>
          <a:stretch/>
        </p:blipFill>
        <p:spPr>
          <a:xfrm>
            <a:off x="8001000" y="6324480"/>
            <a:ext cx="304920" cy="30492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970"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Zeus </a:t>
            </a:r>
            <a:endParaRPr b="1" lang="en-US" sz="4400" spc="-1" strike="noStrike">
              <a:solidFill>
                <a:srgbClr val="feec94"/>
              </a:solidFill>
              <a:latin typeface="Times New Roman"/>
            </a:endParaRPr>
          </a:p>
        </p:txBody>
      </p:sp>
      <p:pic>
        <p:nvPicPr>
          <p:cNvPr id="787" name="Picture 8" descr="zeusx"/>
          <p:cNvPicPr/>
          <p:nvPr/>
        </p:nvPicPr>
        <p:blipFill>
          <a:blip r:embed="rId1"/>
          <a:stretch/>
        </p:blipFill>
        <p:spPr>
          <a:xfrm>
            <a:off x="685800" y="1523880"/>
            <a:ext cx="3733920" cy="4496040"/>
          </a:xfrm>
          <a:prstGeom prst="rect">
            <a:avLst/>
          </a:prstGeom>
          <a:ln w="0">
            <a:noFill/>
          </a:ln>
        </p:spPr>
      </p:pic>
      <p:sp>
        <p:nvSpPr>
          <p:cNvPr id="78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eus won the draw and became the Supreme ruler of god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is the lord of the sky and the rai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weapon is a thunderbolt which he hurlers at those who don’t like him.</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s married to Hera but is famous for cheating on her.</a:t>
            </a:r>
            <a:endParaRPr b="0" lang="en-US" sz="2400" spc="-1" strike="noStrike">
              <a:solidFill>
                <a:srgbClr val="ffffff"/>
              </a:solidFill>
              <a:latin typeface="Times New Roman"/>
            </a:endParaRPr>
          </a:p>
        </p:txBody>
      </p:sp>
      <p:pic>
        <p:nvPicPr>
          <p:cNvPr id="789" name="xprmklnm[1].wav" descr=""/>
          <p:cNvPicPr/>
          <p:nvPr/>
        </p:nvPicPr>
        <p:blipFill>
          <a:blip r:embed="rId2"/>
          <a:stretch/>
        </p:blipFill>
        <p:spPr>
          <a:xfrm>
            <a:off x="8153280" y="6172200"/>
            <a:ext cx="381240" cy="3808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9">
                                  <p:stCondLst>
                                    <p:cond delay="0"/>
                                  </p:stCondLst>
                                  <p:childTnLst>
                                    <p:set>
                                      <p:cBhvr>
                                        <p:cTn id="30" dur="1" fill="hold">
                                          <p:stCondLst>
                                            <p:cond delay="0"/>
                                          </p:stCondLst>
                                        </p:cTn>
                                        <p:tgtEl>
                                          <p:spTgt spid="786"/>
                                        </p:tgtEl>
                                        <p:attrNameLst>
                                          <p:attrName>style.visibility</p:attrName>
                                        </p:attrNameLst>
                                      </p:cBhvr>
                                      <p:to>
                                        <p:strVal val="visible"/>
                                      </p:to>
                                    </p:set>
                                    <p:animEffect filter="dissolve" transition="in">
                                      <p:cBhvr additive="repl">
                                        <p:cTn id="31" dur="500"/>
                                        <p:tgtEl>
                                          <p:spTgt spid="786"/>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788">
                                            <p:txEl>
                                              <p:pRg st="0" end="0"/>
                                            </p:txEl>
                                          </p:spTgt>
                                        </p:tgtEl>
                                        <p:attrNameLst>
                                          <p:attrName>style.visibility</p:attrName>
                                        </p:attrNameLst>
                                      </p:cBhvr>
                                      <p:to>
                                        <p:strVal val="visible"/>
                                      </p:to>
                                    </p:set>
                                    <p:animEffect filter="dissolve" transition="in">
                                      <p:cBhvr additive="repl">
                                        <p:cTn id="36" dur="500"/>
                                        <p:tgtEl>
                                          <p:spTgt spid="788">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788">
                                            <p:txEl>
                                              <p:pRg st="1" end="1"/>
                                            </p:txEl>
                                          </p:spTgt>
                                        </p:tgtEl>
                                        <p:attrNameLst>
                                          <p:attrName>style.visibility</p:attrName>
                                        </p:attrNameLst>
                                      </p:cBhvr>
                                      <p:to>
                                        <p:strVal val="visible"/>
                                      </p:to>
                                    </p:set>
                                    <p:animEffect filter="dissolve" transition="in">
                                      <p:cBhvr additive="repl">
                                        <p:cTn id="41" dur="500"/>
                                        <p:tgtEl>
                                          <p:spTgt spid="788">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788">
                                            <p:txEl>
                                              <p:pRg st="2" end="2"/>
                                            </p:txEl>
                                          </p:spTgt>
                                        </p:tgtEl>
                                        <p:attrNameLst>
                                          <p:attrName>style.visibility</p:attrName>
                                        </p:attrNameLst>
                                      </p:cBhvr>
                                      <p:to>
                                        <p:strVal val="visible"/>
                                      </p:to>
                                    </p:set>
                                    <p:animEffect filter="dissolve" transition="in">
                                      <p:cBhvr additive="repl">
                                        <p:cTn id="46" dur="500"/>
                                        <p:tgtEl>
                                          <p:spTgt spid="788">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788">
                                            <p:txEl>
                                              <p:pRg st="3" end="3"/>
                                            </p:txEl>
                                          </p:spTgt>
                                        </p:tgtEl>
                                        <p:attrNameLst>
                                          <p:attrName>style.visibility</p:attrName>
                                        </p:attrNameLst>
                                      </p:cBhvr>
                                      <p:to>
                                        <p:strVal val="visible"/>
                                      </p:to>
                                    </p:set>
                                    <p:animEffect filter="dissolve" transition="in">
                                      <p:cBhvr additive="repl">
                                        <p:cTn id="51" dur="500"/>
                                        <p:tgtEl>
                                          <p:spTgt spid="788">
                                            <p:txEl>
                                              <p:pRg st="3" end="3"/>
                                            </p:txEl>
                                          </p:spTgt>
                                        </p:tgtEl>
                                      </p:cBhvr>
                                    </p:animEffect>
                                  </p:childTnLst>
                                </p:cTn>
                              </p:par>
                            </p:childTnLst>
                          </p:cTn>
                        </p:par>
                        <p:par>
                          <p:cTn id="52" nodeType="afterEffect" fill="hold">
                            <p:stCondLst>
                              <p:cond delay="500"/>
                            </p:stCondLst>
                            <p:childTnLst>
                              <p:par>
                                <p:cTn id="53" nodeType="afterEffect" fill="hold" presetClass="mediacall" presetID="1">
                                  <p:stCondLst>
                                    <p:cond delay="0"/>
                                  </p:stCondLst>
                                  <p:childTnLst>
                                    <p:cmd type="call" cmd="playFrom(0.0)">
                                      <p:cBhvr>
                                        <p:cTn id="54" dur="2624"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res</a:t>
            </a:r>
            <a:endParaRPr b="0" lang="en-US" sz="4400" spc="-1" strike="noStrike">
              <a:solidFill>
                <a:srgbClr val="dbbd71"/>
              </a:solidFill>
              <a:latin typeface="Arial"/>
            </a:endParaRPr>
          </a:p>
        </p:txBody>
      </p:sp>
      <p:sp>
        <p:nvSpPr>
          <p:cNvPr id="791"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god of war.</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son of Zeus and Hera.</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didn’t like his parents.</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carried a blood stained spear.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handsome and very cruel. </a:t>
            </a:r>
            <a:endParaRPr b="0" lang="en-US" sz="2800" spc="-1" strike="noStrike">
              <a:solidFill>
                <a:srgbClr val="ffffff"/>
              </a:solidFill>
              <a:latin typeface="Tahoma"/>
            </a:endParaRPr>
          </a:p>
        </p:txBody>
      </p:sp>
      <p:pic>
        <p:nvPicPr>
          <p:cNvPr id="792" name="Picture 8" descr="h50"/>
          <p:cNvPicPr/>
          <p:nvPr/>
        </p:nvPicPr>
        <p:blipFill>
          <a:blip r:embed="rId1"/>
          <a:stretch/>
        </p:blipFill>
        <p:spPr>
          <a:xfrm>
            <a:off x="4657680" y="1676520"/>
            <a:ext cx="4191120" cy="4724280"/>
          </a:xfrm>
          <a:prstGeom prst="rect">
            <a:avLst/>
          </a:prstGeom>
          <a:ln w="0">
            <a:noFill/>
          </a:ln>
        </p:spPr>
      </p:pic>
      <p:pic>
        <p:nvPicPr>
          <p:cNvPr id="793" name="vvsrpkbf[1].wav" descr=""/>
          <p:cNvPicPr/>
          <p:nvPr/>
        </p:nvPicPr>
        <p:blipFill>
          <a:blip r:embed="rId2"/>
          <a:stretch/>
        </p:blipFill>
        <p:spPr>
          <a:xfrm>
            <a:off x="75438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349" fill="hold"/>
                                        <p:tgtEl>
                                          <p:spTgt spid="7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clusion</a:t>
            </a:r>
            <a:endParaRPr b="0" lang="en-US" sz="4400" spc="-1" strike="noStrike">
              <a:solidFill>
                <a:srgbClr val="e3e3ff"/>
              </a:solidFill>
              <a:latin typeface="Arial"/>
            </a:endParaRPr>
          </a:p>
        </p:txBody>
      </p:sp>
      <p:sp>
        <p:nvSpPr>
          <p:cNvPr id="7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3200" spc="-1" strike="noStrike">
              <a:solidFill>
                <a:srgbClr val="ffffff"/>
              </a:solidFill>
              <a:latin typeface="Arial"/>
            </a:endParaRPr>
          </a:p>
        </p:txBody>
      </p:sp>
      <p:pic>
        <p:nvPicPr>
          <p:cNvPr id="796" name="j021272.wav" descr=""/>
          <p:cNvPicPr/>
          <p:nvPr/>
        </p:nvPicPr>
        <p:blipFill>
          <a:blip r:embed="rId1"/>
          <a:stretch/>
        </p:blipFill>
        <p:spPr>
          <a:xfrm>
            <a:off x="4419720" y="3276720"/>
            <a:ext cx="304560" cy="304560"/>
          </a:xfrm>
          <a:prstGeom prst="rect">
            <a:avLst/>
          </a:prstGeom>
          <a:ln w="0">
            <a:noFill/>
          </a:ln>
        </p:spPr>
      </p:pic>
      <p:pic>
        <p:nvPicPr>
          <p:cNvPr id="797" name="j021273.wav" descr=""/>
          <p:cNvPicPr/>
          <p:nvPr/>
        </p:nvPicPr>
        <p:blipFill>
          <a:blip r:embed="rId2"/>
          <a:stretch/>
        </p:blipFill>
        <p:spPr>
          <a:xfrm>
            <a:off x="8001000" y="6095880"/>
            <a:ext cx="304920" cy="304920"/>
          </a:xfrm>
          <a:prstGeom prst="rect">
            <a:avLst/>
          </a:prstGeom>
          <a:ln w="0">
            <a:noFill/>
          </a:ln>
        </p:spPr>
      </p:pic>
    </p:spTree>
  </p:cSld>
  <p:transition>
    <p:push dir="r"/>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4716" fill="hold"/>
                                        <p:tgtEl>
                                          <p:spTgt spid="796"/>
                                        </p:tgtEl>
                                      </p:cBhvr>
                                    </p:cmd>
                                  </p:childTnLst>
                                </p:cTn>
                              </p:par>
                            </p:childTnLst>
                          </p:cTn>
                        </p:par>
                        <p:par>
                          <p:cTn id="67" nodeType="afterEffect" fill="hold">
                            <p:stCondLst>
                              <p:cond delay="4716"/>
                            </p:stCondLst>
                            <p:childTnLst>
                              <p:par>
                                <p:cTn id="68" nodeType="afterEffect" fill="hold" presetClass="mediacall" presetID="1">
                                  <p:stCondLst>
                                    <p:cond delay="0"/>
                                  </p:stCondLst>
                                  <p:childTnLst>
                                    <p:cmd type="call" cmd="playFrom(0.0)">
                                      <p:cBhvr>
                                        <p:cTn id="69" dur="4716" fill="hold"/>
                                        <p:tgtEl>
                                          <p:spTgt spid="7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30T17:31:09Z</dcterms:created>
  <dc:creator>CHS</dc:creator>
  <dc:description/>
  <dc:language>en-US</dc:language>
  <cp:lastModifiedBy>RomaK</cp:lastModifiedBy>
  <dcterms:modified xsi:type="dcterms:W3CDTF">2015-09-02T09:25:54Z</dcterms:modified>
  <cp:revision>10</cp:revision>
  <dc:subject/>
  <dc:title>Greek Gods and Goddesses</dc:title>
</cp:coreProperties>
</file>