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7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7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3170-E68E-4F3B-9880-4612912334C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k Gods and Goddes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Kimberly Zink and Tiffany Eyer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Gods and Godd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Kimberly Zink and Tiffany Ey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ollo was the god of music and healing who fought man medic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the son of Zeus and Leto.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twin sister named Artem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pollo’s daily task is to harness his chariot with four horses attached and drive the sun across the sk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famous for the oracle at Delphi.</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ollo was the god of music and healing who fought ma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son of Zeus and L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twin sister named Artem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pollo’s daily task is to harness his chariot with four horses attached and drive the sun across the s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famous for the oracle at Delph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hrodite is the goddess of love, desire and beau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has a magical gift that compels anyone she wishes to desire her deepl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represented sex affection and the attraction that binds people togethe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hrodite is the goddess of love, desire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has a magical gift that compels anyone she wishes to desire her de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represented sex affection and the attraction that binds peopl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des is the god of the under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brother of Ze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ife was Persepho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lmet Hades wears is invisib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es is the god of the under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brother of Z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ife was Pers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lmet Hades wears is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eus won the draw and became the Supreme ruler of go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lord of the sky and the r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weapon is a thunderbolt which he hurlers at those who don’t like hi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married to Hera but is famous for cheating on 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us won the draw and became the Supreme ruler of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lord of the sky and the 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weapon is a thunderbolt which he hurlers at those who don’t like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married to Hera but is famous for cheating on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god of w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es is the son of Zeus and He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didn’t like his par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arried a blood stained spear.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handsome and very cru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god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s is the son of Zeus and H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didn’t like his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carried a blood stained s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handsome and very cru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35E2496-ECE6-428B-8724-B0657CE77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727859-C160-4F24-A3E4-66A7F1F2C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F2975A-0F99-43B6-ABDE-F5802DB4A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CF09C8-AB3F-4E74-A4C8-0F91391180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A90299-E4A0-4AF6-ADF8-9AF2AF9C6F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DA23C6-18B4-44DC-A1E8-98EE202328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E31FD8-A9D3-4563-A1CC-CB76A56EA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B79C9-53F2-42D6-8512-5A0DB830E1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E2A18F-5FB7-4241-8014-78C2564E9B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147A59-9617-4982-844A-1D5D956D15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BC1007-DDE1-4EB4-90B3-D5FF551C91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9604CCE-335A-4031-9461-92C831463FC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4F6B7D3-7608-47A4-8F0B-B2C4C40F5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A70B526-3AFD-4C06-9137-56C7AC28982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9CAEDF6-D10C-4B2C-B459-1F1B80F622F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4055B74-5336-4CF2-9BD3-30CB9068A49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8A051E9-EC2D-4063-AC93-6E05D5325D9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033ABF-5FA5-4B76-A360-EB56D853F18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FB741F-4A62-48CC-B2E4-86DDF26F04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D4EC155-6BAA-4F45-8FC5-2F8B36095D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46F157-4FD9-4659-8BFC-A356966B21E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B0DA652-714D-4C0C-9B2F-59C620106CA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0FF6AC3-5F1D-4347-9F64-99669C208CB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D897D96-3634-4B69-B54A-9E4DBE44C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3C9EFF4-B7DA-4850-9A09-85E319107D7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F20070-CA23-44A5-BD45-BB23823B31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54EDAC-D71E-4626-927C-BDDE9AD1DC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D3B08A-31A1-43C3-8B89-9D97FDC3B3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3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0E03EB-9EBA-461B-B12C-6D6CBF6B0D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F3D1D4-780B-4435-801F-9BDBD0FB97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F43433-9694-4E50-85D5-871DC76AE3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660D6A-EACA-4596-BFDC-79DCDAD9EA7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BF7E65-1A5F-43CE-AD3B-D7AEFECDFF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25F84E-96BB-4779-A750-314B35CB76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C799F-AFF6-43E6-9D76-F3C4B1B3F4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78B8E0-0044-409C-8B7A-DBE0A061631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1ECCE83-BB0C-4447-9F37-A133EC8D79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7DBA33-7459-4690-BE5F-05AB3098F0B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95BAF9-769A-4145-A0C5-18FCA72CE4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1D0FF6-15E2-4351-9B9A-EDA9C987FD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082C30-5B04-43F6-A03B-FBA6A01BD2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912ADC6-7168-4CC3-93B1-5E1BE9523A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8429AA-AEAA-44EF-A2DA-E6774899A1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4CF5B3-B21F-4F9C-8DA2-CF328D8443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D2C06D-471D-4AE1-B9B4-5E6CF39710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579FF-A07A-4CF4-B5FC-C0869611B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60593C-C3F8-4E2F-BA9A-666D3EEF12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760389-2463-4422-BEB8-5C277AAA7D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1FA677-C1AC-4A29-BA56-3A61A1C91D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DAC308-2FE3-4133-88E9-06CDB53BA50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9FA250-642D-44C8-8C52-5279F78B40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6AF54C-3E5C-458A-A5B0-C58B5B0E59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7CDDF7-E969-4384-8DC7-46794BF29F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4FBAA8-50A9-4F65-883D-0C48EDB7C0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1EF3EA-11B4-4554-BF93-CFF3AC0777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0C39584-7EE4-4294-BA9B-AB1E05C2F4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AD38A-53BD-4053-95B0-9FFA1D3CA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12A87E-D325-4610-A78E-6AEABBE88C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7EAA62-EDC4-4FF0-9F51-FCF5D987F0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B48F17-136D-4ACD-8726-E9F537E626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B95609-A790-45A9-A9DD-CD58C6CA59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D26353-6C58-4315-B0A5-6AB955516E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CDC560C-E31E-4032-9284-036F2FEDBD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9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AD6007-480A-4759-BCDA-2F98E437BE1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2C04DA41-B52A-4CA1-919F-2F021EC74CD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500A1774-702B-45A6-86D0-55FCC5F131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8A7BCC89-49EB-4024-A0DF-478134CDFD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48A246-3400-43BC-B92C-99B412F16E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0D769F33-6709-4D8B-864D-7BF604C9E7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0FBC9374-3B93-4EEE-991D-DE4F82133DB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A93B048E-2DBD-453D-B586-A05D606126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3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7BC9BB1-9A5B-4835-9CBA-FEEA4DF161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15DC4E3E-DB8A-41B4-9705-4353CF205A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48B95416-5D79-4808-8668-276F8C1A24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B32C6D21-633F-4149-B123-F9663FAE29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C6AE9240-7630-4258-BAC2-0636B28663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2064C679-94DF-4E03-A4F9-0F0ACB04A8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3FAAE-76A7-4B1E-86BC-002975F84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E5895-3484-4CF5-88D4-C8F51AA5C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47B16-EE1A-4F3C-A4E9-1E51F4D4C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9F6A708-77A2-469E-832D-3612FCCD6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1D79B-B49C-4450-A380-1B1EA0379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4BCCF-B03F-4A93-8149-A9C3ED1C7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4EE5A-DD72-4E1E-BE81-427A95CEA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D74CA-D295-4BE9-A96B-E491AB0F4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E42C8-469B-49FF-A9D8-FE000A0880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F0E844-3CCD-4738-BCA7-2485A32EB7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C6CC4-6823-4372-ADF9-7272CF36ED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74DF66-7A6F-4105-96C4-C16AA0ACF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D1524-8942-40C2-A98A-956BB96E4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E51BD3-AD96-4DD9-9EDB-42EBACEA9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6777F3-9855-4F48-8A0C-88B1E1065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9389B-E3ED-43DC-BEDC-BFB262CD48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093C14-53A1-42A5-BE46-531BD0439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45ECE-FE23-4055-A04A-AEFA852282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82C2F-BE76-4F1C-889A-EDDC440EB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B2C97A-C742-4A16-BF49-19D72640A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141D77-63CF-41EA-813A-C30D9CB712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83B55C-16D5-4D72-860C-846A1CD4B4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B0FDB3-0CB7-4DC9-AD9E-BE534C7C15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7CFE8-0AFB-4E84-B86B-2032F3F68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7836D-AC34-4A4F-88B2-AE08EFC5D8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4FA892-21F0-44FD-9090-3A68BD3E2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7563BB-E75F-4218-A69E-0E26ECD2B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2374A-17B6-443D-AB3D-3D8741D1F3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C4D771-5FC4-4B18-B942-F225AE97B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9213B-4B5B-45E0-80E8-7F6B6BE778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BEA09-78AA-4684-82DB-D98935944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E4E87-3BF4-4B22-902E-BB3722940A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B831F4-ED27-4B65-8A1A-B3D6C6F1CE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6F10C7-A314-45CC-AEA2-1A89DB9E51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CB6316-83BE-4766-82BC-16294CD516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65976C-1DFB-4A5F-9A1D-9358826253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302A24D-D919-407A-8CA6-A65A69504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68907E-B9A2-4CE2-9020-7D7C3E6F96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6E403E-06CE-47BE-A7AE-B252DCA181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8310CA-48FB-405E-9755-305331282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7D395B-8581-4B99-A121-E5040C6E9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0B3E7-F174-459F-99CC-F409472F56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B6431-53A6-4A8B-828E-A3AD7DD660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31A22-5ECC-46E2-9EC3-EC1AAC4E0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9E73A-20A9-4CE3-A7EB-51DEEFE70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9DF67-9BF2-45F9-88FD-B93A39F60E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708B34-723C-4033-A921-4D0BD98318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9661EEA-D5D3-4EE8-893A-0402E9FBD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CF6AE3-D7E1-47D1-A05F-54967A139D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816F3A-D2FB-4D7A-AD95-51397EBAB9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761C65-9188-4E14-ABB9-BDDFE46FAF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8C05D7-6713-423D-A0BF-80A6C7A76A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C97DF4-B4CA-4EBE-A5C9-4C36D94BE8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8B370D-86BA-4F64-AC54-22972BAB4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C21930-7E1E-40D0-9E6F-EA41D84E90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850AC-2B1D-43EE-8629-95F49AC798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E095E5-D85D-4E4C-827C-3E0E5719EF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9E4C1-1566-4AEC-AC8E-3823234AA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325D837-7ADC-4E80-A775-0B796EE0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3513F5-B68D-4936-BCAF-00B1407DBD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F087F7-7F17-4CDF-9125-FB43A10A2E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E4620E-2236-49AA-9E9E-5D481814A6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A3E656-C854-40E4-A9C3-91D59B818F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BB859-FE4A-4D29-A5F7-B3DB9D72FF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CA0A80-443B-408F-860E-AF739A2315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22465E-E2C9-4E40-A7A9-0CDAFEA219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667A35-6D19-41AF-B0EE-8664C63A1E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013652-4E39-4D31-8DF6-4DEA216199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64212-DC60-4B1F-B82F-3A9528F70C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F2FD3F-31BF-4442-87A5-A86522CB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DD3D4-DE04-4B1E-865F-25A8EFD2F9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D5256-89FD-465C-9733-7AF84E13DC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438FB2-4B01-4F25-8EF7-282BE84D6A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B6C69F-28D6-4833-89F7-0519907C70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1F32D4-D94B-4857-B2B5-CEE8914F37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1D020D-89A6-4CAA-8CBB-F1210EE6F1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A4BF6D-3790-4A50-B4A6-D72330119E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42EBFA-D85F-46BB-BF8E-EDEF149601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56C19C-7A26-4942-8850-B2B289BB89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70AD19-46A5-43F0-97D7-E5029B4832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CE94AEF-AC1C-4DD3-B609-0D437E125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5DDDB6-1581-4D04-94F1-B4FC3E8194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36866D-BC46-4B96-A1EB-04211FE46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051437-0ED0-4B30-BDBE-1992E2907E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D56A2-9D02-47E8-8EF6-51A76AE8C6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B1203C-7438-4DEC-A9AC-3A6E76F145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CCB42E-9423-406B-93F6-2365B3D39E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8F9820-BB9B-4AE5-9F52-1F43DDEEA3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0D39F7-8430-41A1-894A-8621BAA4DF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82E279-00D5-4289-969F-0ABBC66275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148B7F-C601-484E-BCEA-C86727BAFB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2ACB-C5DE-4E32-93DF-40194817A14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4"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5"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00CE6-C545-4895-AB39-FA25FE89A1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6" name="PlaceHolder 5"/>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523" name="Group 2"/>
          <p:cNvGrpSpPr/>
          <p:nvPr/>
        </p:nvGrpSpPr>
        <p:grpSpPr>
          <a:xfrm>
            <a:off x="0" y="0"/>
            <a:ext cx="8458200" cy="5943600"/>
            <a:chOff x="0" y="0"/>
            <a:chExt cx="8458200" cy="5943600"/>
          </a:xfrm>
        </p:grpSpPr>
        <p:sp>
          <p:nvSpPr>
            <p:cNvPr id="524"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25"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8"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6C00-CFBC-486F-8228-0EBC72B8230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67" name="Group 2"/>
          <p:cNvGrpSpPr/>
          <p:nvPr/>
        </p:nvGrpSpPr>
        <p:grpSpPr>
          <a:xfrm>
            <a:off x="0" y="0"/>
            <a:ext cx="9144000" cy="6934320"/>
            <a:chOff x="0" y="0"/>
            <a:chExt cx="9144000" cy="6934320"/>
          </a:xfrm>
        </p:grpSpPr>
        <p:sp>
          <p:nvSpPr>
            <p:cNvPr id="5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5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88"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5E70-6508-4076-8A5B-2190E6945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27" name="Group 2"/>
          <p:cNvGrpSpPr/>
          <p:nvPr/>
        </p:nvGrpSpPr>
        <p:grpSpPr>
          <a:xfrm>
            <a:off x="3800520" y="1789200"/>
            <a:ext cx="5348160" cy="5056200"/>
            <a:chOff x="3800520" y="1789200"/>
            <a:chExt cx="5348160" cy="5056200"/>
          </a:xfrm>
        </p:grpSpPr>
        <p:sp>
          <p:nvSpPr>
            <p:cNvPr id="62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63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1"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7"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8"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9"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0"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1"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2"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3"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4"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5"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6"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7"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8"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9"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0"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1"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5"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6"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660"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1"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64"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5"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6"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9CFD-F2DD-4F08-B9F3-D22E3B6402B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703" name="Group 2"/>
          <p:cNvGrpSpPr/>
          <p:nvPr/>
        </p:nvGrpSpPr>
        <p:grpSpPr>
          <a:xfrm>
            <a:off x="-6480" y="20520"/>
            <a:ext cx="9144000" cy="6858000"/>
            <a:chOff x="-6480" y="20520"/>
            <a:chExt cx="9144000" cy="6858000"/>
          </a:xfrm>
        </p:grpSpPr>
        <p:sp>
          <p:nvSpPr>
            <p:cNvPr id="704"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5"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06"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7" name="Group 6"/>
          <p:cNvGrpSpPr/>
          <p:nvPr/>
        </p:nvGrpSpPr>
        <p:grpSpPr>
          <a:xfrm>
            <a:off x="-1440" y="6033960"/>
            <a:ext cx="7844400" cy="850680"/>
            <a:chOff x="-1440" y="6033960"/>
            <a:chExt cx="7844400" cy="850680"/>
          </a:xfrm>
        </p:grpSpPr>
        <p:sp>
          <p:nvSpPr>
            <p:cNvPr id="708"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709" name="Group 8"/>
            <p:cNvGrpSpPr/>
            <p:nvPr/>
          </p:nvGrpSpPr>
          <p:grpSpPr>
            <a:xfrm>
              <a:off x="3944880" y="6033960"/>
              <a:ext cx="3898080" cy="850680"/>
              <a:chOff x="3944880" y="6033960"/>
              <a:chExt cx="3898080" cy="850680"/>
            </a:xfrm>
          </p:grpSpPr>
          <p:sp>
            <p:nvSpPr>
              <p:cNvPr id="710"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1"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2"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3"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4"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15"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716" name="Group 15"/>
          <p:cNvGrpSpPr/>
          <p:nvPr/>
        </p:nvGrpSpPr>
        <p:grpSpPr>
          <a:xfrm>
            <a:off x="627120" y="6021360"/>
            <a:ext cx="5684760" cy="849240"/>
            <a:chOff x="627120" y="6021360"/>
            <a:chExt cx="5684760" cy="849240"/>
          </a:xfrm>
        </p:grpSpPr>
        <p:sp>
          <p:nvSpPr>
            <p:cNvPr id="717"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8"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9"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0"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1"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2"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72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5"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6"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26EC-5A1B-4708-A7CD-A91331BEC6F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27" name="PlaceHolder 5"/>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993A-9B99-4794-9AB7-FBDF0FAAA54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BD0C-0194-430B-89AF-6D28A35468E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39" name="Group 2"/>
          <p:cNvGrpSpPr/>
          <p:nvPr/>
        </p:nvGrpSpPr>
        <p:grpSpPr>
          <a:xfrm>
            <a:off x="0" y="0"/>
            <a:ext cx="7242120" cy="1981080"/>
            <a:chOff x="0" y="0"/>
            <a:chExt cx="7242120" cy="1981080"/>
          </a:xfrm>
        </p:grpSpPr>
        <p:sp>
          <p:nvSpPr>
            <p:cNvPr id="140"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1"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60BF-5F0B-42C2-AF17-323ED7BCF971}"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83" name="Group 2"/>
          <p:cNvGrpSpPr/>
          <p:nvPr/>
        </p:nvGrpSpPr>
        <p:grpSpPr>
          <a:xfrm>
            <a:off x="0" y="0"/>
            <a:ext cx="9144000" cy="6934320"/>
            <a:chOff x="0" y="0"/>
            <a:chExt cx="9144000" cy="6934320"/>
          </a:xfrm>
        </p:grpSpPr>
        <p:sp>
          <p:nvSpPr>
            <p:cNvPr id="184"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5"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6"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7"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8"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89"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0"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1"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2"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3"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4"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95"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8"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0"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01"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B226-BAB3-4BB9-A186-97B199B73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43" name="Group 2"/>
          <p:cNvGrpSpPr/>
          <p:nvPr/>
        </p:nvGrpSpPr>
        <p:grpSpPr>
          <a:xfrm>
            <a:off x="3800520" y="1789200"/>
            <a:ext cx="5348160" cy="5056200"/>
            <a:chOff x="3800520" y="1789200"/>
            <a:chExt cx="5348160" cy="5056200"/>
          </a:xfrm>
        </p:grpSpPr>
        <p:sp>
          <p:nvSpPr>
            <p:cNvPr id="244"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5"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Garamond"/>
              </a:endParaRPr>
            </a:p>
          </p:txBody>
        </p:sp>
        <p:sp>
          <p:nvSpPr>
            <p:cNvPr id="246"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7"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8"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49"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0"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1"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2"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3"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4"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5"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6"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7"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8"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59"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0"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1"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2"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3"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4"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5"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6"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7"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8"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69"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0"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1"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2"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3"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4"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5"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Garamond"/>
              </a:endParaRPr>
            </a:p>
          </p:txBody>
        </p:sp>
        <p:sp>
          <p:nvSpPr>
            <p:cNvPr id="276"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77"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1"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2"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721A-8C64-47C5-BB1A-8218F64E5D4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319" name="Group 2"/>
          <p:cNvGrpSpPr/>
          <p:nvPr/>
        </p:nvGrpSpPr>
        <p:grpSpPr>
          <a:xfrm>
            <a:off x="0" y="0"/>
            <a:ext cx="9144000" cy="6858000"/>
            <a:chOff x="0" y="0"/>
            <a:chExt cx="9144000" cy="6858000"/>
          </a:xfrm>
        </p:grpSpPr>
        <p:sp>
          <p:nvSpPr>
            <p:cNvPr id="32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6"/>
          <p:cNvGrpSpPr/>
          <p:nvPr/>
        </p:nvGrpSpPr>
        <p:grpSpPr>
          <a:xfrm>
            <a:off x="0" y="6019920"/>
            <a:ext cx="7848720" cy="857160"/>
            <a:chOff x="0" y="6019920"/>
            <a:chExt cx="7848720" cy="857160"/>
          </a:xfrm>
        </p:grpSpPr>
        <p:sp>
          <p:nvSpPr>
            <p:cNvPr id="32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5" name="Group 8"/>
            <p:cNvGrpSpPr/>
            <p:nvPr/>
          </p:nvGrpSpPr>
          <p:grpSpPr>
            <a:xfrm>
              <a:off x="3946680" y="6019920"/>
              <a:ext cx="3902040" cy="857160"/>
              <a:chOff x="3946680" y="6019920"/>
              <a:chExt cx="3902040" cy="857160"/>
            </a:xfrm>
          </p:grpSpPr>
          <p:sp>
            <p:nvSpPr>
              <p:cNvPr id="32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9"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332" name="Group 15"/>
          <p:cNvGrpSpPr/>
          <p:nvPr/>
        </p:nvGrpSpPr>
        <p:grpSpPr>
          <a:xfrm>
            <a:off x="627120" y="6021360"/>
            <a:ext cx="5684760" cy="849240"/>
            <a:chOff x="627120" y="6021360"/>
            <a:chExt cx="5684760" cy="849240"/>
          </a:xfrm>
        </p:grpSpPr>
        <p:sp>
          <p:nvSpPr>
            <p:cNvPr id="33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4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41"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2"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3"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3813-5DC8-48B8-A48D-44B76DDD329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80" name="Group 2"/>
          <p:cNvGrpSpPr/>
          <p:nvPr/>
        </p:nvGrpSpPr>
        <p:grpSpPr>
          <a:xfrm>
            <a:off x="0" y="0"/>
            <a:ext cx="9140760" cy="6850080"/>
            <a:chOff x="0" y="0"/>
            <a:chExt cx="9140760" cy="6850080"/>
          </a:xfrm>
        </p:grpSpPr>
        <p:grpSp>
          <p:nvGrpSpPr>
            <p:cNvPr id="381" name="Group 3"/>
            <p:cNvGrpSpPr/>
            <p:nvPr/>
          </p:nvGrpSpPr>
          <p:grpSpPr>
            <a:xfrm>
              <a:off x="2743200" y="3540240"/>
              <a:ext cx="6392880" cy="3309840"/>
              <a:chOff x="2743200" y="3540240"/>
              <a:chExt cx="6392880" cy="3309840"/>
            </a:xfrm>
          </p:grpSpPr>
          <p:sp>
            <p:nvSpPr>
              <p:cNvPr id="38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91" name="PlaceHolder 3"/>
          <p:cNvSpPr>
            <a:spLocks noGrp="1"/>
          </p:cNvSpPr>
          <p:nvPr>
            <p:ph type="dt" idx="22"/>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2" name="PlaceHolder 4"/>
          <p:cNvSpPr>
            <a:spLocks noGrp="1"/>
          </p:cNvSpPr>
          <p:nvPr>
            <p:ph type="ftr" idx="23"/>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3" name="PlaceHolder 5"/>
          <p:cNvSpPr>
            <a:spLocks noGrp="1"/>
          </p:cNvSpPr>
          <p:nvPr>
            <p:ph type="sldNum" idx="24"/>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4738-D5D7-4198-B8B4-1AFDC485F65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0" name="Group 2"/>
          <p:cNvGrpSpPr/>
          <p:nvPr/>
        </p:nvGrpSpPr>
        <p:grpSpPr>
          <a:xfrm>
            <a:off x="0" y="2438280"/>
            <a:ext cx="9009000" cy="1052640"/>
            <a:chOff x="0" y="2438280"/>
            <a:chExt cx="9009000" cy="1052640"/>
          </a:xfrm>
        </p:grpSpPr>
        <p:grpSp>
          <p:nvGrpSpPr>
            <p:cNvPr id="431" name="Group 3"/>
            <p:cNvGrpSpPr/>
            <p:nvPr/>
          </p:nvGrpSpPr>
          <p:grpSpPr>
            <a:xfrm>
              <a:off x="290520" y="2546280"/>
              <a:ext cx="711360" cy="474840"/>
              <a:chOff x="290520" y="2546280"/>
              <a:chExt cx="711360" cy="474840"/>
            </a:xfrm>
          </p:grpSpPr>
          <p:sp>
            <p:nvSpPr>
              <p:cNvPr id="432"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3"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grpSp>
          <p:nvGrpSpPr>
            <p:cNvPr id="434" name="Group 6"/>
            <p:cNvGrpSpPr/>
            <p:nvPr/>
          </p:nvGrpSpPr>
          <p:grpSpPr>
            <a:xfrm>
              <a:off x="414360" y="2968560"/>
              <a:ext cx="737640" cy="474840"/>
              <a:chOff x="414360" y="2968560"/>
              <a:chExt cx="737640" cy="474840"/>
            </a:xfrm>
          </p:grpSpPr>
          <p:sp>
            <p:nvSpPr>
              <p:cNvPr id="435"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6"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grpSp>
        <p:sp>
          <p:nvSpPr>
            <p:cNvPr id="437"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8"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39"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Garamond"/>
              </a:endParaRPr>
            </a:p>
          </p:txBody>
        </p:sp>
      </p:grpSp>
      <p:sp>
        <p:nvSpPr>
          <p:cNvPr id="4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2"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04C0-2F71-4DDD-890B-E8A7E51E10B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ek Gods and Goddesses</a:t>
            </a:r>
            <a:endParaRPr b="0" lang="en-US" sz="4400" spc="-1" strike="noStrike">
              <a:solidFill>
                <a:srgbClr val="ffffff"/>
              </a:solidFill>
              <a:latin typeface="Tahoma"/>
            </a:endParaRPr>
          </a:p>
        </p:txBody>
      </p:sp>
      <p:sp>
        <p:nvSpPr>
          <p:cNvPr id="7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Kimberly Zink and Tiffany Eyerly</a:t>
            </a:r>
            <a:endParaRPr b="0" lang="en-US" sz="3200" spc="-1" strike="noStrike">
              <a:solidFill>
                <a:srgbClr val="ffffff"/>
              </a:solidFill>
              <a:latin typeface="Tahoma"/>
            </a:endParaRPr>
          </a:p>
        </p:txBody>
      </p:sp>
      <p:pic>
        <p:nvPicPr>
          <p:cNvPr id="773" name="vvmx241.wav" descr=""/>
          <p:cNvPicPr/>
          <p:nvPr/>
        </p:nvPicPr>
        <p:blipFill>
          <a:blip r:embed="rId1"/>
          <a:stretch/>
        </p:blipFill>
        <p:spPr>
          <a:xfrm>
            <a:off x="8534520" y="5791320"/>
            <a:ext cx="304560" cy="3045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09" fill="hold"/>
                                        <p:tgtEl>
                                          <p:spTgt spid="7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350720" y="-36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rPr>
              <a:t>Apollo</a:t>
            </a:r>
            <a:endParaRPr b="0" lang="en-US" sz="5400" spc="-1" strike="noStrike">
              <a:solidFill>
                <a:srgbClr val="333399"/>
              </a:solidFill>
              <a:latin typeface="Tahoma"/>
            </a:endParaRPr>
          </a:p>
        </p:txBody>
      </p:sp>
      <p:sp>
        <p:nvSpPr>
          <p:cNvPr id="775" name="PlaceHolder 2"/>
          <p:cNvSpPr>
            <a:spLocks noGrp="1"/>
          </p:cNvSpPr>
          <p:nvPr>
            <p:ph/>
          </p:nvPr>
        </p:nvSpPr>
        <p:spPr>
          <a:xfrm>
            <a:off x="533520" y="2017440"/>
            <a:ext cx="4952880" cy="445932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ollo was the god of music and healing who fought man medicin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the son of Zeus and Leto.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has a twin sister named Artemi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pollo’s daily task is to harness his chariot with four horses attached and drive the sun across the sky.</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 was famous for the oracle at Delphi.</a:t>
            </a:r>
            <a:endParaRPr b="0" lang="en-US" sz="2000" spc="-1" strike="noStrike">
              <a:solidFill>
                <a:srgbClr val="000000"/>
              </a:solidFill>
              <a:latin typeface="Tahoma"/>
            </a:endParaRPr>
          </a:p>
        </p:txBody>
      </p:sp>
      <p:pic>
        <p:nvPicPr>
          <p:cNvPr id="776" name="Picture 6" descr="a_apollo"/>
          <p:cNvPicPr/>
          <p:nvPr/>
        </p:nvPicPr>
        <p:blipFill>
          <a:blip r:embed="rId1"/>
          <a:stretch/>
        </p:blipFill>
        <p:spPr>
          <a:xfrm>
            <a:off x="5334120" y="2209680"/>
            <a:ext cx="3396960" cy="3962520"/>
          </a:xfrm>
          <a:prstGeom prst="rect">
            <a:avLst/>
          </a:prstGeom>
          <a:ln w="0">
            <a:noFill/>
          </a:ln>
        </p:spPr>
      </p:pic>
      <p:pic>
        <p:nvPicPr>
          <p:cNvPr id="777" name="vwchw2m1[1].wav" descr=""/>
          <p:cNvPicPr/>
          <p:nvPr/>
        </p:nvPicPr>
        <p:blipFill>
          <a:blip r:embed="rId2"/>
          <a:stretch/>
        </p:blipFill>
        <p:spPr>
          <a:xfrm>
            <a:off x="67816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682" fill="hold"/>
                                        <p:tgtEl>
                                          <p:spTgt spid="7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Garamond"/>
              </a:rPr>
              <a:t>Aphrodite</a:t>
            </a:r>
            <a:endParaRPr b="1" lang="en-US" sz="4800" spc="-1" strike="noStrike">
              <a:solidFill>
                <a:srgbClr val="e5e5ff"/>
              </a:solidFill>
              <a:latin typeface="Garamond"/>
            </a:endParaRPr>
          </a:p>
        </p:txBody>
      </p:sp>
      <p:sp>
        <p:nvSpPr>
          <p:cNvPr id="7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hrodite is the goddess of love, desire and beaut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he has a magical gift that compels anyone she wishes to desire her deeply.</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he represented sex affection and the attraction that binds people together. </a:t>
            </a:r>
            <a:endParaRPr b="0" lang="en-US" sz="2000" spc="-1" strike="noStrike">
              <a:solidFill>
                <a:srgbClr val="ffffff"/>
              </a:solidFill>
              <a:latin typeface="Garamond"/>
            </a:endParaRPr>
          </a:p>
        </p:txBody>
      </p:sp>
      <p:pic>
        <p:nvPicPr>
          <p:cNvPr id="780" name="Picture 9" descr="aphro2"/>
          <p:cNvPicPr/>
          <p:nvPr/>
        </p:nvPicPr>
        <p:blipFill>
          <a:blip r:embed="rId1"/>
          <a:stretch/>
        </p:blipFill>
        <p:spPr>
          <a:xfrm>
            <a:off x="380880" y="1905120"/>
            <a:ext cx="4038840" cy="4038480"/>
          </a:xfrm>
          <a:prstGeom prst="rect">
            <a:avLst/>
          </a:prstGeom>
          <a:ln w="0">
            <a:noFill/>
          </a:ln>
        </p:spPr>
      </p:pic>
      <p:pic>
        <p:nvPicPr>
          <p:cNvPr id="781" name="w1zvssap[1].wav" descr=""/>
          <p:cNvPicPr/>
          <p:nvPr/>
        </p:nvPicPr>
        <p:blipFill>
          <a:blip r:embed="rId2"/>
          <a:stretch/>
        </p:blipFill>
        <p:spPr>
          <a:xfrm>
            <a:off x="7620120" y="6095880"/>
            <a:ext cx="304560" cy="30492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3425"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des</a:t>
            </a:r>
            <a:endParaRPr b="0" lang="en-US" sz="4400" spc="-1" strike="noStrike">
              <a:solidFill>
                <a:srgbClr val="ffffcc"/>
              </a:solidFill>
              <a:latin typeface="Tahoma"/>
            </a:endParaRPr>
          </a:p>
        </p:txBody>
      </p:sp>
      <p:sp>
        <p:nvSpPr>
          <p:cNvPr id="783" name="PlaceHolder 2"/>
          <p:cNvSpPr>
            <a:spLocks noGrp="1"/>
          </p:cNvSpPr>
          <p:nvPr>
            <p:ph/>
          </p:nvPr>
        </p:nvSpPr>
        <p:spPr>
          <a:xfrm>
            <a:off x="456840" y="1600200"/>
            <a:ext cx="40402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des is the god of the underworld.</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is the brother of Zeu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 wife was Persephone.</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helmet Hades wears is invisib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784" name="Picture 8" descr="hades"/>
          <p:cNvPicPr/>
          <p:nvPr/>
        </p:nvPicPr>
        <p:blipFill>
          <a:blip r:embed="rId1"/>
          <a:stretch/>
        </p:blipFill>
        <p:spPr>
          <a:xfrm>
            <a:off x="5257800" y="1828800"/>
            <a:ext cx="3352680" cy="4343400"/>
          </a:xfrm>
          <a:prstGeom prst="rect">
            <a:avLst/>
          </a:prstGeom>
          <a:ln w="0">
            <a:noFill/>
          </a:ln>
        </p:spPr>
      </p:pic>
      <p:pic>
        <p:nvPicPr>
          <p:cNvPr id="785" name="jsbj257.wav" descr=""/>
          <p:cNvPicPr/>
          <p:nvPr/>
        </p:nvPicPr>
        <p:blipFill>
          <a:blip r:embed="rId2"/>
          <a:stretch/>
        </p:blipFill>
        <p:spPr>
          <a:xfrm>
            <a:off x="8001000" y="6324480"/>
            <a:ext cx="304920" cy="30492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970" fill="hold"/>
                                        <p:tgtEl>
                                          <p:spTgt spid="7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Zeus </a:t>
            </a:r>
            <a:endParaRPr b="1" lang="en-US" sz="4400" spc="-1" strike="noStrike">
              <a:solidFill>
                <a:srgbClr val="feec94"/>
              </a:solidFill>
              <a:latin typeface="Times New Roman"/>
            </a:endParaRPr>
          </a:p>
        </p:txBody>
      </p:sp>
      <p:pic>
        <p:nvPicPr>
          <p:cNvPr id="787" name="Picture 8" descr="zeusx"/>
          <p:cNvPicPr/>
          <p:nvPr/>
        </p:nvPicPr>
        <p:blipFill>
          <a:blip r:embed="rId1"/>
          <a:stretch/>
        </p:blipFill>
        <p:spPr>
          <a:xfrm>
            <a:off x="685800" y="1523880"/>
            <a:ext cx="3733920" cy="4496040"/>
          </a:xfrm>
          <a:prstGeom prst="rect">
            <a:avLst/>
          </a:prstGeom>
          <a:ln w="0">
            <a:noFill/>
          </a:ln>
        </p:spPr>
      </p:pic>
      <p:sp>
        <p:nvSpPr>
          <p:cNvPr id="78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eus won the draw and became the Supreme ruler of gods.</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is the lord of the sky and the rain.</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 weapon is a thunderbolt which he hurlers at those who don’t like him.</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 was married to Hera but is famous for cheating on her.</a:t>
            </a:r>
            <a:endParaRPr b="0" lang="en-US" sz="2400" spc="-1" strike="noStrike">
              <a:solidFill>
                <a:srgbClr val="ffffff"/>
              </a:solidFill>
              <a:latin typeface="Times New Roman"/>
            </a:endParaRPr>
          </a:p>
        </p:txBody>
      </p:sp>
      <p:pic>
        <p:nvPicPr>
          <p:cNvPr id="789" name="xprmklnm[1].wav" descr=""/>
          <p:cNvPicPr/>
          <p:nvPr/>
        </p:nvPicPr>
        <p:blipFill>
          <a:blip r:embed="rId2"/>
          <a:stretch/>
        </p:blipFill>
        <p:spPr>
          <a:xfrm>
            <a:off x="8153280" y="6172200"/>
            <a:ext cx="381240" cy="380880"/>
          </a:xfrm>
          <a:prstGeom prst="rect">
            <a:avLst/>
          </a:prstGeom>
          <a:ln w="0">
            <a:noFill/>
          </a:ln>
        </p:spPr>
      </p:pic>
    </p:spTree>
  </p:cSld>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9">
                                  <p:stCondLst>
                                    <p:cond delay="0"/>
                                  </p:stCondLst>
                                  <p:childTnLst>
                                    <p:set>
                                      <p:cBhvr>
                                        <p:cTn id="30" dur="1" fill="hold">
                                          <p:stCondLst>
                                            <p:cond delay="0"/>
                                          </p:stCondLst>
                                        </p:cTn>
                                        <p:tgtEl>
                                          <p:spTgt spid="786"/>
                                        </p:tgtEl>
                                        <p:attrNameLst>
                                          <p:attrName>style.visibility</p:attrName>
                                        </p:attrNameLst>
                                      </p:cBhvr>
                                      <p:to>
                                        <p:strVal val="visible"/>
                                      </p:to>
                                    </p:set>
                                    <p:animEffect filter="dissolve" transition="in">
                                      <p:cBhvr additive="repl">
                                        <p:cTn id="31" dur="500"/>
                                        <p:tgtEl>
                                          <p:spTgt spid="786"/>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36" dur="500"/>
                                        <p:tgtEl>
                                          <p:spTgt spid="788">
                                            <p:txEl>
                                              <p:pRg st="0" end="0"/>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41" dur="500"/>
                                        <p:tgtEl>
                                          <p:spTgt spid="788">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46" dur="500"/>
                                        <p:tgtEl>
                                          <p:spTgt spid="788">
                                            <p:txEl>
                                              <p:pRg st="2" end="2"/>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1" dur="500"/>
                                        <p:tgtEl>
                                          <p:spTgt spid="788">
                                            <p:txEl>
                                              <p:pRg st="3" end="3"/>
                                            </p:txEl>
                                          </p:spTgt>
                                        </p:tgtEl>
                                      </p:cBhvr>
                                    </p:animEffect>
                                  </p:childTnLst>
                                </p:cTn>
                              </p:par>
                            </p:childTnLst>
                          </p:cTn>
                        </p:par>
                        <p:par>
                          <p:cTn id="52" nodeType="afterEffect" fill="hold">
                            <p:stCondLst>
                              <p:cond delay="500"/>
                            </p:stCondLst>
                            <p:childTnLst>
                              <p:par>
                                <p:cTn id="53" nodeType="afterEffect" fill="hold" presetClass="mediacall" presetID="1">
                                  <p:stCondLst>
                                    <p:cond delay="0"/>
                                  </p:stCondLst>
                                  <p:childTnLst>
                                    <p:cmd type="call" cmd="playFrom(0.0)">
                                      <p:cBhvr>
                                        <p:cTn id="54" dur="2624" fill="hold"/>
                                        <p:tgtEl>
                                          <p:spTgt spid="7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es</a:t>
            </a:r>
            <a:endParaRPr b="0" lang="en-US" sz="4400" spc="-1" strike="noStrike">
              <a:solidFill>
                <a:srgbClr val="dbbd71"/>
              </a:solidFill>
              <a:latin typeface="Arial"/>
            </a:endParaRPr>
          </a:p>
        </p:txBody>
      </p:sp>
      <p:sp>
        <p:nvSpPr>
          <p:cNvPr id="791" name="PlaceHolder 2"/>
          <p:cNvSpPr>
            <a:spLocks noGrp="1"/>
          </p:cNvSpPr>
          <p:nvPr>
            <p:ph/>
          </p:nvPr>
        </p:nvSpPr>
        <p:spPr>
          <a:xfrm>
            <a:off x="457200" y="1599840"/>
            <a:ext cx="4038480" cy="453060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god of war.</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es is the son of Zeus and Hera.</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didn’t like his parents.</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carried a blood stained spear. </a:t>
            </a:r>
            <a:endParaRPr b="0" lang="en-US" sz="2800" spc="-1" strike="noStrike">
              <a:solidFill>
                <a:srgbClr val="ffffff"/>
              </a:solidFill>
              <a:latin typeface="Tahoma"/>
            </a:endParaRPr>
          </a:p>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was handsome and very cruel. </a:t>
            </a:r>
            <a:endParaRPr b="0" lang="en-US" sz="2800" spc="-1" strike="noStrike">
              <a:solidFill>
                <a:srgbClr val="ffffff"/>
              </a:solidFill>
              <a:latin typeface="Tahoma"/>
            </a:endParaRPr>
          </a:p>
        </p:txBody>
      </p:sp>
      <p:pic>
        <p:nvPicPr>
          <p:cNvPr id="792" name="Picture 8" descr="h50"/>
          <p:cNvPicPr/>
          <p:nvPr/>
        </p:nvPicPr>
        <p:blipFill>
          <a:blip r:embed="rId1"/>
          <a:stretch/>
        </p:blipFill>
        <p:spPr>
          <a:xfrm>
            <a:off x="4657680" y="1676520"/>
            <a:ext cx="4191120" cy="4724280"/>
          </a:xfrm>
          <a:prstGeom prst="rect">
            <a:avLst/>
          </a:prstGeom>
          <a:ln w="0">
            <a:noFill/>
          </a:ln>
        </p:spPr>
      </p:pic>
      <p:pic>
        <p:nvPicPr>
          <p:cNvPr id="793" name="vvsrpkbf[1].wav" descr=""/>
          <p:cNvPicPr/>
          <p:nvPr/>
        </p:nvPicPr>
        <p:blipFill>
          <a:blip r:embed="rId2"/>
          <a:stretch/>
        </p:blipFill>
        <p:spPr>
          <a:xfrm>
            <a:off x="754380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mediacall" presetID="1">
                                  <p:stCondLst>
                                    <p:cond delay="0"/>
                                  </p:stCondLst>
                                  <p:childTnLst>
                                    <p:cmd type="call" cmd="playFrom(0.0)">
                                      <p:cBhvr>
                                        <p:cTn id="60" dur="1349" fill="hold"/>
                                        <p:tgtEl>
                                          <p:spTgt spid="7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clusion</a:t>
            </a:r>
            <a:endParaRPr b="0" lang="en-US" sz="4400" spc="-1" strike="noStrike">
              <a:solidFill>
                <a:srgbClr val="e3e3ff"/>
              </a:solidFill>
              <a:latin typeface="Arial"/>
            </a:endParaRPr>
          </a:p>
        </p:txBody>
      </p:sp>
      <p:sp>
        <p:nvSpPr>
          <p:cNvPr id="7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today still resort to these gods in times of need.  For example, if someone is lonely and wants love they will resort to the god of love Aphrodite.  As you can see these gods are still very much alive in people hearts.</a:t>
            </a:r>
            <a:endParaRPr b="0" lang="en-US" sz="3200" spc="-1" strike="noStrike">
              <a:solidFill>
                <a:srgbClr val="ffffff"/>
              </a:solidFill>
              <a:latin typeface="Arial"/>
            </a:endParaRPr>
          </a:p>
        </p:txBody>
      </p:sp>
      <p:pic>
        <p:nvPicPr>
          <p:cNvPr id="796" name="j021272.wav" descr=""/>
          <p:cNvPicPr/>
          <p:nvPr/>
        </p:nvPicPr>
        <p:blipFill>
          <a:blip r:embed="rId1"/>
          <a:stretch/>
        </p:blipFill>
        <p:spPr>
          <a:xfrm>
            <a:off x="4419720" y="3276720"/>
            <a:ext cx="304560" cy="304560"/>
          </a:xfrm>
          <a:prstGeom prst="rect">
            <a:avLst/>
          </a:prstGeom>
          <a:ln w="0">
            <a:noFill/>
          </a:ln>
        </p:spPr>
      </p:pic>
      <p:pic>
        <p:nvPicPr>
          <p:cNvPr id="797" name="j021273.wav" descr=""/>
          <p:cNvPicPr/>
          <p:nvPr/>
        </p:nvPicPr>
        <p:blipFill>
          <a:blip r:embed="rId2"/>
          <a:stretch/>
        </p:blipFill>
        <p:spPr>
          <a:xfrm>
            <a:off x="8001000" y="6095880"/>
            <a:ext cx="304920" cy="304920"/>
          </a:xfrm>
          <a:prstGeom prst="rect">
            <a:avLst/>
          </a:prstGeom>
          <a:ln w="0">
            <a:noFill/>
          </a:ln>
        </p:spPr>
      </p:pic>
    </p:spTree>
  </p:cSld>
  <p:transition>
    <p:push dir="r"/>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mediacall" presetID="1">
                                  <p:stCondLst>
                                    <p:cond delay="0"/>
                                  </p:stCondLst>
                                  <p:childTnLst>
                                    <p:cmd type="call" cmd="playFrom(0.0)">
                                      <p:cBhvr>
                                        <p:cTn id="66" dur="4716" fill="hold"/>
                                        <p:tgtEl>
                                          <p:spTgt spid="796"/>
                                        </p:tgtEl>
                                      </p:cBhvr>
                                    </p:cmd>
                                  </p:childTnLst>
                                </p:cTn>
                              </p:par>
                            </p:childTnLst>
                          </p:cTn>
                        </p:par>
                        <p:par>
                          <p:cTn id="67" nodeType="afterEffect" fill="hold">
                            <p:stCondLst>
                              <p:cond delay="4716"/>
                            </p:stCondLst>
                            <p:childTnLst>
                              <p:par>
                                <p:cTn id="68" nodeType="afterEffect" fill="hold" presetClass="mediacall" presetID="1">
                                  <p:stCondLst>
                                    <p:cond delay="0"/>
                                  </p:stCondLst>
                                  <p:childTnLst>
                                    <p:cmd type="call" cmd="playFrom(0.0)">
                                      <p:cBhvr>
                                        <p:cTn id="69" dur="4716" fill="hold"/>
                                        <p:tgtEl>
                                          <p:spTgt spid="7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7:31:09Z</dcterms:created>
  <dc:creator>CHS</dc:creator>
  <dc:description/>
  <dc:language>en-US</dc:language>
  <cp:lastModifiedBy>RomaK</cp:lastModifiedBy>
  <dcterms:modified xsi:type="dcterms:W3CDTF">2015-09-02T09:25:54Z</dcterms:modified>
  <cp:revision>10</cp:revision>
  <dc:subject/>
  <dc:title>Greek Gods and Goddesses</dc:title>
</cp:coreProperties>
</file>