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png" ContentType="image/png"/>
  <Override PartName="/ppt/media/image5.png" ContentType="image/png"/>
  <Override PartName="/ppt/media/image8.jpeg" ContentType="image/jpeg"/>
  <Override PartName="/ppt/media/image10.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56224-DC95-4DEE-B9A3-C4D1F79725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ultural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gious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ultural Contribu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gious Pract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a happy 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ked fun at certain politicians in the audience (not the brightest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poked fun at a certain kind of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res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a happy en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ked fun at certain politicians in the audience (not the brightest id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poked fun at a certain kind of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phanes - found something funny about every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the first Shrek movie followed the rules for Shakespearean and ancient Greek comedy?  Check it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phanes - found something funny about every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the first Shrek movie followed the rules for Shakespearean and ancient Greek comedy?  Check it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set (at least in part) in the country, which is often depicted as a magic, idealized place (coming back from rescuing Fiona, Shrek’s sw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set (at least in part) in the country, which is often depicted as a magic, idealized place (coming back from rescuing Fiona, Shrek’s sw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s shepherds, farmers and other middle-class people as characters (though it may have royal and upper-class characters, as well) - (townsfolk, soldiers, Monsieur Hood, fairy tale characters, ogre/hero, prince/vil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ns by showing the hero in some kind of distress, troubled by a problem and trying to figure out a way to solve it (fairy tale characters move to Shrek’s swamp after being evicted, he wants them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s shepherds, farmers and other middle-class people as characters (though it may have royal and upper-class characters, as well) - (townsfolk, soldiers, Monsieur Hood, fairy tale characters, ogre/hero, prince/vill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ns by showing the hero in some kind of distress, troubled by a problem and trying to figure out a way to solve it (fairy tale characters move to Shrek’s swamp after being evicted, he wants them to le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iticizes society or specific people in society in a funny way (prince is small and compensates for his size with gigantic surrou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hero’s triumph (Shrek gets Fiona and his swamp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tly closes with a scene in which a wedding or another type of celebration takes place (Shrek marries Fi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reestablishment of order and a sense that a new “golden age” is beginning (song “I’m A Believer,” prince is killed, soldiers become nice, Shrek and Fiona ride off in a carriage, - they all lived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iticizes society or specific people in society in a funny way (prince is small and compensates for his size with gigantic surrou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hero’s triumph (Shrek gets Fiona and his swamp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tly closes with a scene in which a wedding or another type of celebration takes place (Shrek marries Fio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reestablishment of order and a sense that a new “golden age” is beginning (song “I’m A Believer,” prince is killed, soldiers become nice, Shrek and Fiona ride off in a carriage, - they all lived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 studying the laws of nature; scient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 loving wisdom; philosop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y were called philosoph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 studying the laws of nature; scient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 loving wisdom; philosop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y were called philosoph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for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historyforkids.org/learn/greeks/philosophy/socrates.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for k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historyforkids.org/learn/greeks/philosophy/socrates.h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pposed to be of 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was made after he had already been dead for so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omeone who did not know what Socrates looked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people could discover truth if they knew how to 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was his pup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pposed to be of 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was made after he had already been dead for som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omeone who did not know what Socrates looked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people could discover truth if they knew how to th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was his pup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mythweb.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to learn more about Greek gods and her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mythweb.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to learn more about Greek gods and her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ent of 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school was called the Acad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rote The Republic about an ideal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 could be found after a long, hard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his brightest pupils was 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ent of 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school was called the Acad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rote The Republic about an ideal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 could be found after a long, hard sea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his brightest pupils was 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s Acad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s Acad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and 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and 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of Pl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aster of them tha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the third step to the scientific method - testing the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the syllog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ught 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o classify plants and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of Pla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aster of them that kn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the third step to the scientific method - testing the hypo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the syllog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ught 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o classify plants and an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events are not caused by the way the gods be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is governed by natural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edicted the eclips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diseases came from natural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cratic Oath: doctors should honor their teachers, do their best for the sick, never give poisons and keep the secrets of their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events are not caused by the way the gods be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is governed by natural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edicted the eclipse of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diseases came from natural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cratic Oath: doctors should honor their teachers, do their best for the sick, never give poisons and keep the secrets of their pati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ympics - to honor Ze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ing - fought until one was knocked out or gave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estrian Events - chariot racing and riding - jockeys rode without stirr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kration - boxing and wrest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thlon - combination of 5 events: discus, javelin, jumping, running, wrest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 4 types of r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 they carried stone or lead we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ympics - to honor Ze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ing - fought until one was knocked out or gave 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estrian Events - chariot racing and riding - jockeys rode without stirr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kration - boxing and wrest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thlon - combination of 5 events: discus, javelin, jumping, running, wrest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 4 types of ra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 they carried stone or lead weigh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to the Olympic Sta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lymp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to the Olympic Stad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lymp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theater has been fascinating.  Aeschylus, Sophocles, Euripides, Aristophanes and others, have been the teachers of morality, nobleness, courage and patriotism across the cent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 originated as a festival to the god Dionysus, the god of joyous life and hospit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theater has been fascinating.  Aeschylus, Sophocles, Euripides, Aristophanes and others, have been the teachers of morality, nobleness, courage and patriotism across the cent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 originated as a festival to the god Dionysus, the god of joyous life and hospita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g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people an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had unhappy e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people suffered, most still carried on despite their suff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g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people and g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had unhappy e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people suffered, most still carried on despite their suffe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Trag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chylus - wrote about power and its effect on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ocles - suffering was due to sins and mistakes and suffering could make someone a better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ipides - people suffered because they did bad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Trag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chylus - wrote about power and its effect on peo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ocles - suffering was due to sins and mistakes and suffering could make someone a better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ipides - people suffered because they did bad t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5C954-3E5F-44A1-8D31-882CD633F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D942D-8FA9-4DBC-8E21-1BA87EA38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88DAA-F55C-4E8A-B0C3-64508368F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790BA-1BD8-432C-A327-9AD67E7E3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490BF-6CFF-4FFF-A0E2-7B2E4B32C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F4459-124E-480E-91E2-A23E271CB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5D264-382C-47C2-B72A-1CD7AF9E3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EC1DC-CBBC-44DB-BBBA-41332B57E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D44EF-0B5C-4161-8F16-DEC695B9F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6353A-1F6A-408F-B9AD-6E1498A99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94BF7-B278-4D59-B518-D9AA14C07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BE857-B541-4B47-A924-B36037377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608C-6C25-4338-A2FD-F1B0B94784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Cultural Contribution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us Practic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at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ce/Philosoph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overies/Inven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_x001f_masks51816236815316#CEAEA51.gif                                00071491_x000c_Macintosh HD                   BEF76014:"/>
          <p:cNvPicPr/>
          <p:nvPr/>
        </p:nvPicPr>
        <p:blipFill>
          <a:blip r:embed="rId1"/>
          <a:stretch/>
        </p:blipFill>
        <p:spPr>
          <a:xfrm>
            <a:off x="1743120" y="609480"/>
            <a:ext cx="565632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edy</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in the prese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d a happy end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ked fun at certain politicians in the audience (not the brightest ide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r poked fun at a certain kind of pers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rs of Comedy</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stophanes - found something funny about every o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d you know that the first </a:t>
            </a:r>
            <a:r>
              <a:rPr b="0" i="1" lang="en-US" sz="3200" spc="-1" strike="noStrike">
                <a:solidFill>
                  <a:srgbClr val="000000"/>
                </a:solidFill>
                <a:latin typeface="Times New Roman"/>
              </a:rPr>
              <a:t>Shrek</a:t>
            </a:r>
            <a:r>
              <a:rPr b="0" lang="en-US" sz="3200" spc="-1" strike="noStrike">
                <a:solidFill>
                  <a:srgbClr val="000000"/>
                </a:solidFill>
                <a:latin typeface="Times New Roman"/>
              </a:rPr>
              <a:t> movie followed the rules for Shakespearean and ancient Greek comedy?  Check it ou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_x000b_shrek13.jpg                                                    00071491_x000c_Macintosh HD                   BEF76014:"/>
          <p:cNvPicPr/>
          <p:nvPr/>
        </p:nvPicPr>
        <p:blipFill>
          <a:blip r:embed="rId1"/>
          <a:stretch/>
        </p:blipFill>
        <p:spPr>
          <a:xfrm>
            <a:off x="685800" y="1011240"/>
            <a:ext cx="7772400" cy="46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2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rPr>
              <a:t>A typical comedy:</a:t>
            </a:r>
            <a:endParaRPr b="0" lang="en-US" sz="1200" spc="-1" strike="noStrike">
              <a:solidFill>
                <a:srgbClr val="000000"/>
              </a:solidFill>
              <a:latin typeface="Times New Roman"/>
            </a:endParaRPr>
          </a:p>
          <a:p>
            <a:pPr marL="343080" indent="-343080" algn="ctr">
              <a:lnSpc>
                <a:spcPct val="200000"/>
              </a:lnSpc>
              <a:spcBef>
                <a:spcPts val="27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 </a:t>
            </a:r>
            <a:r>
              <a:rPr b="0" lang="en-US" sz="1100" spc="-1" strike="noStrike">
                <a:solidFill>
                  <a:srgbClr val="000000"/>
                </a:solidFill>
                <a:latin typeface="Lucida Grande"/>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100" spc="-1" strike="noStrike">
              <a:solidFill>
                <a:srgbClr val="000000"/>
              </a:solidFill>
              <a:latin typeface="Times New Roman"/>
            </a:endParaRPr>
          </a:p>
          <a:p>
            <a:pPr marL="343080" indent="0" algn="ctr">
              <a:lnSpc>
                <a:spcPct val="2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gn="ctr">
              <a:lnSpc>
                <a:spcPct val="200000"/>
              </a:lnSpc>
              <a:spcBef>
                <a:spcPts val="27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 </a:t>
            </a:r>
            <a:r>
              <a:rPr b="0" lang="en-US" sz="1100" spc="-1" strike="noStrike">
                <a:solidFill>
                  <a:srgbClr val="000000"/>
                </a:solidFill>
                <a:latin typeface="Lucida Grande"/>
              </a:rPr>
              <a:t>is set (at least in part) in the country, which is often depicted as a magic, idealized place (coming back from rescuing Fiona, Shrek’s swamp).</a:t>
            </a:r>
            <a:endParaRPr b="0" lang="en-US" sz="1100" spc="-1" strike="noStrike">
              <a:solidFill>
                <a:srgbClr val="000000"/>
              </a:solidFill>
              <a:latin typeface="Times New Roman"/>
            </a:endParaRPr>
          </a:p>
          <a:p>
            <a:pPr marL="343080" indent="0" algn="ctr">
              <a:lnSpc>
                <a:spcPct val="2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 - a classic comedy</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2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has shepherds, farmers and other middle-class people as characters (though it may have royal and upper-class characters, as well) - (townsfolk, soldiers, Monsieur Hood, fairy tale characters, ogre/hero, prince/villain).</a:t>
            </a:r>
            <a:endParaRPr b="0" lang="en-US" sz="1300" spc="-1" strike="noStrike">
              <a:solidFill>
                <a:srgbClr val="000000"/>
              </a:solidFill>
              <a:latin typeface="Times New Roman"/>
            </a:endParaRPr>
          </a:p>
          <a:p>
            <a:pPr marL="343080" indent="0" algn="ctr">
              <a:lnSpc>
                <a:spcPct val="2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2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opens by showing the hero in some kind of distress, troubled by a problem and trying to figure out a way to solve it (fairy tale characters move to Shrek’s swamp after being evicted, he wants them to leave).</a:t>
            </a:r>
            <a:endParaRPr b="0" lang="en-US" sz="1300" spc="-1" strike="noStrike">
              <a:solidFill>
                <a:srgbClr val="000000"/>
              </a:solidFill>
              <a:latin typeface="Times New Roman"/>
            </a:endParaRPr>
          </a:p>
          <a:p>
            <a:pPr marL="343080" indent="0" algn="ctr">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0" algn="ctr">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 - a classic comedy</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criticizes society or specific people in society in a funny way (prince is small and compensates for his size with gigantic surroundings).</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ends with the hero’s triumph (Shrek gets Fiona and his swamp back).</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frequently closes with a scene in which a wedding or another type of celebration takes place (Shrek marries Fiona).</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ends with the reestablishment of order and a sense that a new “golden age” is beginning (song “I’m A Believer,” prince is killed, soldiers become nice, Shrek and Fiona ride off in a carriage, - they all lived happily ever after).</a:t>
            </a:r>
            <a:endParaRPr b="0" lang="en-US" sz="13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Philosophy</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ce - studying the laws of nature; scientis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osophy - loving wisdom; philosoph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they were called philosoph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rates (below)</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Picture 6" descr="_x0016_200px-Socrates.bmp.jpg                                         00071491_x000c_Macintosh HD                   BEF76014:"/>
          <p:cNvPicPr/>
          <p:nvPr/>
        </p:nvPicPr>
        <p:blipFill>
          <a:blip r:embed="rId1"/>
          <a:stretch/>
        </p:blipFill>
        <p:spPr>
          <a:xfrm>
            <a:off x="3925800" y="4114800"/>
            <a:ext cx="12906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rate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y for kid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is websit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historyforkids.org/learn/greeks/philosophy/socrates.ht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rat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s is supposed to be of Socrates,</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but it was made after he had already been dead for some time,</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by someone who did not know what Socrates looked like.</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He believed people could discover truth if they knew how to think.</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Plato was his pupil.</a:t>
            </a:r>
            <a:endParaRPr b="0" lang="en-US" sz="1300" spc="-1" strike="noStrike">
              <a:solidFill>
                <a:srgbClr val="000000"/>
              </a:solidFill>
              <a:latin typeface="Times New Roman"/>
            </a:endParaRPr>
          </a:p>
        </p:txBody>
      </p:sp>
      <p:pic>
        <p:nvPicPr>
          <p:cNvPr id="87" name="Picture 5" descr="_x000c_socrates.gif                                                   00071491_x000c_Macintosh HD                   BEF76014:"/>
          <p:cNvPicPr/>
          <p:nvPr/>
        </p:nvPicPr>
        <p:blipFill>
          <a:blip r:embed="rId1"/>
          <a:stretch/>
        </p:blipFill>
        <p:spPr>
          <a:xfrm>
            <a:off x="3825720" y="1981080"/>
            <a:ext cx="1490760" cy="19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ww.mythweb.com</a:t>
            </a:r>
            <a:endParaRPr b="0" lang="en-US" sz="4400" spc="-1" strike="noStrike">
              <a:solidFill>
                <a:srgbClr val="000000"/>
              </a:solidFill>
              <a:latin typeface="Times New Roman"/>
            </a:endParaRPr>
          </a:p>
        </p:txBody>
      </p:sp>
      <p:sp>
        <p:nvSpPr>
          <p:cNvPr id="5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to this website to learn more about Greek gods and heroes.</a:t>
            </a:r>
            <a:endParaRPr b="0" lang="en-US" sz="2800" spc="-1" strike="noStrike">
              <a:solidFill>
                <a:srgbClr val="000000"/>
              </a:solidFill>
              <a:latin typeface="Times New Roman"/>
            </a:endParaRPr>
          </a:p>
        </p:txBody>
      </p:sp>
      <p:pic>
        <p:nvPicPr>
          <p:cNvPr id="52" name="Picture 5" descr=""/>
          <p:cNvPicPr/>
          <p:nvPr/>
        </p:nvPicPr>
        <p:blipFill>
          <a:blip r:embed="rId1"/>
          <a:stretch/>
        </p:blipFill>
        <p:spPr>
          <a:xfrm>
            <a:off x="1122480" y="1981080"/>
            <a:ext cx="293688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198144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udent of Socrat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 school was called the Academy</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rote The Republic about an ideal stat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th could be found after a long, hard search</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his brightest pupils was Aristotle</a:t>
            </a:r>
            <a:endParaRPr b="0" lang="en-US" sz="2400" spc="-1" strike="noStrike">
              <a:solidFill>
                <a:srgbClr val="000000"/>
              </a:solidFill>
              <a:latin typeface="Times New Roman"/>
            </a:endParaRPr>
          </a:p>
        </p:txBody>
      </p:sp>
      <p:pic>
        <p:nvPicPr>
          <p:cNvPr id="90" name="Picture 5" descr="&#9;plat1.jpg                                                      00071491_x000c_Macintosh HD                   BEF76014:"/>
          <p:cNvPicPr/>
          <p:nvPr/>
        </p:nvPicPr>
        <p:blipFill>
          <a:blip r:embed="rId1"/>
          <a:stretch/>
        </p:blipFill>
        <p:spPr>
          <a:xfrm>
            <a:off x="3941640" y="4114800"/>
            <a:ext cx="125892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s Academy</a:t>
            </a:r>
            <a:endParaRPr b="0" lang="en-US" sz="4400" spc="-1" strike="noStrike">
              <a:solidFill>
                <a:srgbClr val="000000"/>
              </a:solidFill>
              <a:latin typeface="Times New Roman"/>
            </a:endParaRPr>
          </a:p>
        </p:txBody>
      </p:sp>
      <p:pic>
        <p:nvPicPr>
          <p:cNvPr id="92" name="Picture 5" descr="_x0008_acad.jpg                                                       0CEAF0E4_x000c_Macintosh HD                   BEF76014:"/>
          <p:cNvPicPr/>
          <p:nvPr/>
        </p:nvPicPr>
        <p:blipFill>
          <a:blip r:embed="rId1"/>
          <a:stretch/>
        </p:blipFill>
        <p:spPr>
          <a:xfrm>
            <a:off x="1709640" y="1981080"/>
            <a:ext cx="572472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 and Aristotle</a:t>
            </a:r>
            <a:endParaRPr b="0" lang="en-US" sz="4400" spc="-1" strike="noStrike">
              <a:solidFill>
                <a:srgbClr val="000000"/>
              </a:solidFill>
              <a:latin typeface="Times New Roman"/>
            </a:endParaRPr>
          </a:p>
        </p:txBody>
      </p:sp>
      <p:pic>
        <p:nvPicPr>
          <p:cNvPr id="94" name="Picture 7" descr="_x001f_180px-Sanzio_01_Pla#CEAF10F.jpg                                0CEAF0E3_x000c_Macintosh HD                   BEF76014:"/>
          <p:cNvPicPr/>
          <p:nvPr/>
        </p:nvPicPr>
        <p:blipFill>
          <a:blip r:embed="rId1"/>
          <a:stretch/>
        </p:blipFill>
        <p:spPr>
          <a:xfrm>
            <a:off x="3005280" y="1981080"/>
            <a:ext cx="313344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istotle</a:t>
            </a:r>
            <a:endParaRPr b="0" lang="en-US" sz="44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pil of Pla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master of them that kn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d the third step to the scientific method - testing the hypothes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the syllogis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ught Alexander the Gre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o classify plants and animal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Picture 5" descr="_x000b_ARISTOT.GIF                                                    0CEAF0E3_x000c_Macintosh HD                   BEF76014:"/>
          <p:cNvPicPr/>
          <p:nvPr/>
        </p:nvPicPr>
        <p:blipFill>
          <a:blip r:embed="rId1"/>
          <a:stretch/>
        </p:blipFill>
        <p:spPr>
          <a:xfrm>
            <a:off x="4822920" y="1981080"/>
            <a:ext cx="345924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overies/Inventions</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 events are not caused by the way the gods behav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ld is governed by natural law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predicted the eclipse of the sun</a:t>
            </a:r>
            <a:endParaRPr b="0" lang="en-US" sz="2800" spc="-1" strike="noStrike">
              <a:solidFill>
                <a:srgbClr val="000000"/>
              </a:solidFill>
              <a:latin typeface="Times New Roman"/>
            </a:endParaRPr>
          </a:p>
        </p:txBody>
      </p:sp>
      <p:sp>
        <p:nvSpPr>
          <p:cNvPr id="100"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diseases came from natural sour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ppocratic Oath: doctors should honor their teachers, do their best for the sick, never give poisons and keep the secrets of their pati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azz LET"/>
              </a:rPr>
              <a:t>The end.</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_x000e_GREECE1062.jpg                                                 00071491_x000c_Macintosh HD                   BEF76014:"/>
          <p:cNvPicPr/>
          <p:nvPr/>
        </p:nvPicPr>
        <p:blipFill>
          <a:blip r:embed="rId1"/>
          <a:stretch/>
        </p:blipFill>
        <p:spPr>
          <a:xfrm>
            <a:off x="685800" y="826920"/>
            <a:ext cx="7772400" cy="505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lympics - to honor Zeu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xing - fought until one was knocked out or gave u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estrian Events - chariot racing and riding - jockeys rode without stirrup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nkration - boxing and wrest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ntathlon - combination of 5 events: discus, javelin, jumping, running, wrest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ning - 4 types of ra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mping - they carried stone or lead weigh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_x0017_180px-Olympic_flame.jpg                                        0CEBCEDB_x000c_Macintosh HD                   BEF76014:"/>
          <p:cNvPicPr/>
          <p:nvPr/>
        </p:nvPicPr>
        <p:blipFill>
          <a:blip r:embed="rId1"/>
          <a:stretch/>
        </p:blipFill>
        <p:spPr>
          <a:xfrm>
            <a:off x="2287440" y="609480"/>
            <a:ext cx="456912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rance to the Olympic Stadium</a:t>
            </a:r>
            <a:endParaRPr b="0" lang="en-US" sz="4400" spc="-1" strike="noStrike">
              <a:solidFill>
                <a:srgbClr val="000000"/>
              </a:solidFill>
              <a:latin typeface="Times New Roman"/>
            </a:endParaRPr>
          </a:p>
        </p:txBody>
      </p:sp>
      <p:sp>
        <p:nvSpPr>
          <p:cNvPr id="5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Olympia</a:t>
            </a:r>
            <a:endParaRPr b="0" lang="en-US" sz="2800" spc="-1" strike="noStrike">
              <a:solidFill>
                <a:srgbClr val="000000"/>
              </a:solidFill>
              <a:latin typeface="Times New Roman"/>
            </a:endParaRPr>
          </a:p>
        </p:txBody>
      </p:sp>
      <p:pic>
        <p:nvPicPr>
          <p:cNvPr id="58" name="Picture 5" descr=""/>
          <p:cNvPicPr/>
          <p:nvPr/>
        </p:nvPicPr>
        <p:blipFill>
          <a:blip r:embed="rId1"/>
          <a:stretch/>
        </p:blipFill>
        <p:spPr>
          <a:xfrm>
            <a:off x="685800" y="2690640"/>
            <a:ext cx="3809880" cy="26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10;masks2.jpg                                                     00071491_x000c_Macintosh HD                   BEF76014:"/>
          <p:cNvPicPr/>
          <p:nvPr/>
        </p:nvPicPr>
        <p:blipFill>
          <a:blip r:embed="rId1"/>
          <a:stretch/>
        </p:blipFill>
        <p:spPr>
          <a:xfrm>
            <a:off x="2498760" y="609480"/>
            <a:ext cx="4145040" cy="5486400"/>
          </a:xfrm>
          <a:prstGeom prst="rect">
            <a:avLst/>
          </a:prstGeom>
          <a:ln w="0">
            <a:noFill/>
          </a:ln>
        </p:spPr>
      </p:pic>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ater</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00000"/>
              </a:lnSpc>
              <a:spcBef>
                <a:spcPts val="374"/>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Grande"/>
              </a:rPr>
              <a:t>Ancient Greek theater has been fascinating.  Aeschylus, Sophocles, Euripides, Aristophanes and others, have been the teachers of morality, nobleness, courage and patriotism across the centuries.  </a:t>
            </a: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00000"/>
              </a:lnSpc>
              <a:spcBef>
                <a:spcPts val="374"/>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Grande"/>
              </a:rPr>
              <a:t>Theater originated as a festival to the god Dionysus, the god of joyous life and hospitality.</a:t>
            </a: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63" name="Picture 5" descr=""/>
          <p:cNvPicPr/>
          <p:nvPr/>
        </p:nvPicPr>
        <p:blipFill>
          <a:blip r:embed="rId1"/>
          <a:stretch/>
        </p:blipFill>
        <p:spPr>
          <a:xfrm>
            <a:off x="4648320" y="2733840"/>
            <a:ext cx="3809880" cy="260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ged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set in the past</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relationships between people and gods</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not all had unhappy endings</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ough people suffered, most still carried on despite their suffering</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rs of Tragedy</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eschylus - wrote about power and its effect on peop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ocles - suffering was due to sins and mistakes and suffering could make someone a better pers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ripides - people suffered because they did bad thin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16:56:16Z</dcterms:created>
  <dc:creator>acsd acsd</dc:creator>
  <dc:description/>
  <dc:language>en-US</dc:language>
  <cp:lastModifiedBy>RomaK</cp:lastModifiedBy>
  <dcterms:modified xsi:type="dcterms:W3CDTF">2015-09-02T09:25:44Z</dcterms:modified>
  <cp:revision>66</cp:revision>
  <dc:subject/>
  <dc:title>Greek Cultural Contributions</dc:title>
</cp:coreProperties>
</file>