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6.png" ContentType="image/png"/>
  <Override PartName="/ppt/media/image7.jpeg" ContentType="image/jpeg"/>
  <Override PartName="/ppt/media/image13.png" ContentType="image/png"/>
  <Override PartName="/ppt/media/image12.jpeg" ContentType="image/jpeg"/>
  <Override PartName="/ppt/media/image9.png" ContentType="image/png"/>
  <Override PartName="/ppt/media/image5.png" ContentType="image/png"/>
  <Override PartName="/ppt/media/image8.jpeg" ContentType="image/jpeg"/>
  <Override PartName="/ppt/media/image10.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FAB13-7507-4A94-8A32-8C16386F63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Cultural Contrib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igious Pract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Philoso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veries/Inven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Cultural Contribu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igious Practi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a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Philoso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veries/Inven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in the pres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d a happy e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ked fun at certain politicians in the audience (not the brightest id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poked fun at a certain kind of per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in the pres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d a happy end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ked fun at certain politicians in the audience (not the brightest ide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poked fun at a certain kind of pers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rs of Come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phanes - found something funny about every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know that the first Shrek movie followed the rules for Shakespearean and ancient Greek comedy?  Check it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rs of Come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phanes - found something funny about every 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know that the first Shrek movie followed the rules for Shakespearean and ancient Greek comedy?  Check it ou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re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ypical come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tains comic devices such as puns (Donkey calls Shrek “really tall” instead of “ogre”), slapstick antics (Shrek’s wax, mud shower, barrel, Donkey can fly), misunderstandings (Shrek thinks Fiona can’t stand him, Fiona thinks a handsome prince rescued her), mistaken or hidden identities (Shrek is not a handsome prince, the dragon is nice, Fiona is an ogre) and eavesdropping (Shrek overhears Fiona and Donkey tal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s set (at least in part) in the country, which is often depicted as a magic, idealized place (coming back from rescuing Fiona, Shrek’s swam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re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ypical come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tains comic devices such as puns (Donkey calls Shrek “really tall” instead of “ogre”), slapstick antics (Shrek’s wax, mud shower, barrel, Donkey can fly), misunderstandings (Shrek thinks Fiona can’t stand him, Fiona thinks a handsome prince rescued her), mistaken or hidden identities (Shrek is not a handsome prince, the dragon is nice, Fiona is an ogre) and eavesdropping (Shrek overhears Fiona and Donkey talk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s set (at least in part) in the country, which is often depicted as a magic, idealized place (coming back from rescuing Fiona, Shrek’s swam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rek - a classic come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as shepherds, farmers and other middle-class people as characters (though it may have royal and upper-class characters, as well) - (townsfolk, soldiers, Monsieur Hood, fairy tale characters, ogre/hero, prince/vill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pens by showing the hero in some kind of distress, troubled by a problem and trying to figure out a way to solve it (fairy tale characters move to Shrek’s swamp after being evicted, he wants them to le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rek - a classic come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as shepherds, farmers and other middle-class people as characters (though it may have royal and upper-class characters, as well) - (townsfolk, soldiers, Monsieur Hood, fairy tale characters, ogre/hero, prince/vill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pens by showing the hero in some kind of distress, troubled by a problem and trying to figure out a way to solve it (fairy tale characters move to Shrek’s swamp after being evicted, he wants them to le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rek - a classic come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riticizes society or specific people in society in a funny way (prince is small and compensates for his size with gigantic surroun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ds with the hero’s triumph (Shrek gets Fiona and his swamp 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requently closes with a scene in which a wedding or another type of celebration takes place (Shrek marries Fio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ds with the reestablishment of order and a sense that a new “golden age” is beginning (song “I’m A Believer,” prince is killed, soldiers become nice, Shrek and Fiona ride off in a carriage, - they all lived happily ever af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rek - a classic come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riticizes society or specific people in society in a funny way (prince is small and compensates for his size with gigantic surround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ds with the hero’s triumph (Shrek gets Fiona and his swamp ba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requently closes with a scene in which a wedding or another type of celebration takes place (Shrek marries Fio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ds with the reestablishment of order and a sense that a new “golden age” is beginning (song “I’m A Believer,” prince is killed, soldiers become nice, Shrek and Fiona ride off in a carriage, - they all lived happily ever af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Philoso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 studying the laws of nature; scient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ilosophy - loving wisdom; philosop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gether they were called philosoph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rates (be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Philoso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 studying the laws of nature; scientis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ilosophy - loving wisdom; philosoph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gether they were called philosoph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rates (be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 for k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this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historyforkids.org/learn/greeks/philosophy/socrates.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r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 for k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this webs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historyforkids.org/learn/greeks/philosophy/socrates.ht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upposed to be of Soc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t was made after he had already been dead for som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omeone who did not know what Socrates looked li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believed people could discover truth if they knew how to thi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o was his pup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r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upposed to be of Socr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t was made after he had already been dead for some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omeone who did not know what Socrates looked lik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believed people could discover truth if they knew how to thi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o was his pupi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mythweb.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this website to learn more about Greek gods and hero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mythweb.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this website to learn more about Greek gods and hero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udent of Soc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school was called the Acade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rote The Republic about an ideal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th could be found after a long, hard se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his brightest pupils was Aristo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udent of Socr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school was called the Acade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rote The Republic about an ideal 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th could be found after a long, hard sear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his brightest pupils was Aristot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o’s Acade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o’s Acade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o and Aristo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o and Aristot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pil of Pla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master of them that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d the third step to the scientific method - testing the hypo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ed the syllog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ught Alexander the Gr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to classify plants and anim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t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pil of Pla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master of them that kn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d the third step to the scientific method - testing the hypothe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ed the syllogis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ught Alexander the Gre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to classify plants and anim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veries/Inven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events are not caused by the way the gods beh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ld is governed by natural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predicted the eclipse of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believed diseases came from natural 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pocratic Oath: doctors should honor their teachers, do their best for the sick, never give poisons and keep the secrets of their pat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veries/Inven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events are not caused by the way the gods be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ld is governed by natural la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predicted the eclipse of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believed diseases came from natural sour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pocratic Oath: doctors should honor their teachers, do their best for the sick, never give poisons and keep the secrets of their pati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d.</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d.</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8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ympics - to honor Zeu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xing - fought until one was knocked out or gave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estrian Events - chariot racing and riding - jockeys rode without stirr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nkration - boxing and wrest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ntathlon - combination of 5 events: discus, javelin, jumping, running, wrest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ning - 4 types of r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 they carried stone or lead weigh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ympics - to honor Zeu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xing - fought until one was knocked out or gave u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estrian Events - chariot racing and riding - jockeys rode without stirru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nkration - boxing and wrestl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ntathlon - combination of 5 events: discus, javelin, jumping, running, wrestl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ning - 4 types of ra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 they carried stone or lead weigh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1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rance to the Olympic Stad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Olymp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rance to the Olympic Stad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Olymp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Greek theater has been fascinating.  Aeschylus, Sophocles, Euripides, Aristophanes and others, have been the teachers of morality, nobleness, courage and patriotism across the centu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ater originated as a festival to the god Dionysus, the god of joyous life and hospit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a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Greek theater has been fascinating.  Aeschylus, Sophocles, Euripides, Aristophanes and others, have been the teachers of morality, nobleness, courage and patriotism across the centur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ater originated as a festival to the god Dionysus, the god of joyous life and hospital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ge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in the p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ationships between people and g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ll had unhappy en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gh people suffered, most still carried on despite their suff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ge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in the pa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ationships between people and go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ll had unhappy end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gh people suffered, most still carried on despite their suffer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rs of Trage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eschylus - wrote about power and its effect on peo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phocles - suffering was due to sins and mistakes and suffering could make someone a better per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ipides - people suffered because they did bad th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rs of Trage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eschylus - wrote about power and its effect on peo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phocles - suffering was due to sins and mistakes and suffering could make someone a better pers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ipides - people suffered because they did bad th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C98712-76D1-4306-AFAF-2EFEFD0C97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BA3EA9-12F6-4504-9268-E3CE29995D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981E1D-479B-4855-8877-7A14648BAF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C77339-A1F1-4388-B875-51B7AD5724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046413-F13C-46E8-AA9D-21BD5DE48B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CA31A-B545-445E-BD4E-83C1A6B87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474B43-D7F6-4B22-86F1-9C1E7FD656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B92F85-B16E-490D-8E94-4BA58CCA2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8CC8B1-E892-4E8C-9F2A-2F9DAED4F8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6FCC8-DEB9-4072-AE84-7DA10D9790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83C61-9367-412C-AE0C-E162798D7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A706A-A11E-4589-9DD8-060DE2A489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17705-2A9F-4714-87A2-601F62E794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eek Cultural Contributions</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ligious Practice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ater</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ience/Philosoph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coveries/Inven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3" descr="_x001f_masks51816236815316#CEAEA51.gif                                00071491_x000c_Macintosh HD                   BEF76014:"/>
          <p:cNvPicPr/>
          <p:nvPr/>
        </p:nvPicPr>
        <p:blipFill>
          <a:blip r:embed="rId1"/>
          <a:stretch/>
        </p:blipFill>
        <p:spPr>
          <a:xfrm>
            <a:off x="1743120" y="609480"/>
            <a:ext cx="5656320" cy="5486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edy</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t in the present</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d a happy ending</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ked fun at certain politicians in the audience (not the brightest idea!)</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ter poked fun at a certain kind of pers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riters of Comedy</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istophanes - found something funny about every on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d you know that the first </a:t>
            </a:r>
            <a:r>
              <a:rPr b="0" i="1" lang="en-US" sz="3200" spc="-1" strike="noStrike">
                <a:solidFill>
                  <a:srgbClr val="000000"/>
                </a:solidFill>
                <a:latin typeface="Times New Roman"/>
              </a:rPr>
              <a:t>Shrek</a:t>
            </a:r>
            <a:r>
              <a:rPr b="0" lang="en-US" sz="3200" spc="-1" strike="noStrike">
                <a:solidFill>
                  <a:srgbClr val="000000"/>
                </a:solidFill>
                <a:latin typeface="Times New Roman"/>
              </a:rPr>
              <a:t> movie followed the rules for Shakespearean and ancient Greek comedy?  Check it ou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3" descr="_x000b_shrek13.jpg                                                    00071491_x000c_Macintosh HD                   BEF76014:"/>
          <p:cNvPicPr/>
          <p:nvPr/>
        </p:nvPicPr>
        <p:blipFill>
          <a:blip r:embed="rId1"/>
          <a:stretch/>
        </p:blipFill>
        <p:spPr>
          <a:xfrm>
            <a:off x="685800" y="1011240"/>
            <a:ext cx="7772400" cy="468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rek</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ctr">
              <a:lnSpc>
                <a:spcPct val="200000"/>
              </a:lnSpc>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Grande"/>
              </a:rPr>
              <a:t>A typical comedy:</a:t>
            </a:r>
            <a:endParaRPr b="0" lang="en-US" sz="1200" spc="-1" strike="noStrike">
              <a:solidFill>
                <a:srgbClr val="000000"/>
              </a:solidFill>
              <a:latin typeface="Times New Roman"/>
            </a:endParaRPr>
          </a:p>
          <a:p>
            <a:pPr marL="343080" indent="-343080" algn="ctr">
              <a:lnSpc>
                <a:spcPct val="200000"/>
              </a:lnSpc>
              <a:spcBef>
                <a:spcPts val="275"/>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Grande"/>
              </a:rPr>
              <a:t>• </a:t>
            </a:r>
            <a:r>
              <a:rPr b="0" lang="en-US" sz="1100" spc="-1" strike="noStrike">
                <a:solidFill>
                  <a:srgbClr val="000000"/>
                </a:solidFill>
                <a:latin typeface="Lucida Grande"/>
              </a:rPr>
              <a:t>contains comic devices such as puns (Donkey calls Shrek “really tall” instead of “ogre”), slapstick antics (Shrek’s wax, mud shower, barrel, Donkey can fly), misunderstandings (Shrek thinks Fiona can’t stand him, Fiona thinks a handsome prince rescued her), mistaken or hidden identities (Shrek is not a handsome prince, the dragon is nice, Fiona is an ogre) and eavesdropping (Shrek overhears Fiona and Donkey talking).</a:t>
            </a:r>
            <a:endParaRPr b="0" lang="en-US" sz="1100" spc="-1" strike="noStrike">
              <a:solidFill>
                <a:srgbClr val="000000"/>
              </a:solidFill>
              <a:latin typeface="Times New Roman"/>
            </a:endParaRPr>
          </a:p>
          <a:p>
            <a:pPr marL="343080" indent="0" algn="ctr">
              <a:lnSpc>
                <a:spcPct val="20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343080" algn="ctr">
              <a:lnSpc>
                <a:spcPct val="200000"/>
              </a:lnSpc>
              <a:spcBef>
                <a:spcPts val="275"/>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Grande"/>
              </a:rPr>
              <a:t>• </a:t>
            </a:r>
            <a:r>
              <a:rPr b="0" lang="en-US" sz="1100" spc="-1" strike="noStrike">
                <a:solidFill>
                  <a:srgbClr val="000000"/>
                </a:solidFill>
                <a:latin typeface="Lucida Grande"/>
              </a:rPr>
              <a:t>is set (at least in part) in the country, which is often depicted as a magic, idealized place (coming back from rescuing Fiona, Shrek’s swamp).</a:t>
            </a:r>
            <a:endParaRPr b="0" lang="en-US" sz="1100" spc="-1" strike="noStrike">
              <a:solidFill>
                <a:srgbClr val="000000"/>
              </a:solidFill>
              <a:latin typeface="Times New Roman"/>
            </a:endParaRPr>
          </a:p>
          <a:p>
            <a:pPr marL="343080" indent="0" algn="ctr">
              <a:lnSpc>
                <a:spcPct val="20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0">
              <a:lnSpc>
                <a:spcPct val="9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rek - a classic comedy</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ctr">
              <a:lnSpc>
                <a:spcPct val="2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has shepherds, farmers and other middle-class people as characters (though it may have royal and upper-class characters, as well) - (townsfolk, soldiers, Monsieur Hood, fairy tale characters, ogre/hero, prince/villain).</a:t>
            </a:r>
            <a:endParaRPr b="0" lang="en-US" sz="1300" spc="-1" strike="noStrike">
              <a:solidFill>
                <a:srgbClr val="000000"/>
              </a:solidFill>
              <a:latin typeface="Times New Roman"/>
            </a:endParaRPr>
          </a:p>
          <a:p>
            <a:pPr marL="343080" indent="0" algn="ctr">
              <a:lnSpc>
                <a:spcPct val="2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343080" indent="-343080" algn="ctr">
              <a:lnSpc>
                <a:spcPct val="2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opens by showing the hero in some kind of distress, troubled by a problem and trying to figure out a way to solve it (fairy tale characters move to Shrek’s swamp after being evicted, he wants them to leave).</a:t>
            </a:r>
            <a:endParaRPr b="0" lang="en-US" sz="1300" spc="-1" strike="noStrike">
              <a:solidFill>
                <a:srgbClr val="000000"/>
              </a:solidFill>
              <a:latin typeface="Times New Roman"/>
            </a:endParaRPr>
          </a:p>
          <a:p>
            <a:pPr marL="343080" indent="0" algn="ctr">
              <a:lnSpc>
                <a:spcPct val="1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343080" indent="0" algn="ctr">
              <a:lnSpc>
                <a:spcPct val="1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rek - a classic comedy</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criticizes society or specific people in society in a funny way (prince is small and compensates for his size with gigantic surroundings).</a:t>
            </a:r>
            <a:endParaRPr b="0" lang="en-US" sz="1300" spc="-1" strike="noStrike">
              <a:solidFill>
                <a:srgbClr val="000000"/>
              </a:solidFill>
              <a:latin typeface="Times New Roman"/>
            </a:endParaRPr>
          </a:p>
          <a:p>
            <a:pPr marL="343080" indent="0">
              <a:lnSpc>
                <a:spcPct val="1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ends with the hero’s triumph (Shrek gets Fiona and his swamp back).</a:t>
            </a:r>
            <a:endParaRPr b="0" lang="en-US" sz="1300" spc="-1" strike="noStrike">
              <a:solidFill>
                <a:srgbClr val="000000"/>
              </a:solidFill>
              <a:latin typeface="Times New Roman"/>
            </a:endParaRPr>
          </a:p>
          <a:p>
            <a:pPr marL="343080" indent="0">
              <a:lnSpc>
                <a:spcPct val="1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frequently closes with a scene in which a wedding or another type of celebration takes place (Shrek marries Fiona).</a:t>
            </a:r>
            <a:endParaRPr b="0" lang="en-US" sz="1300" spc="-1" strike="noStrike">
              <a:solidFill>
                <a:srgbClr val="000000"/>
              </a:solidFill>
              <a:latin typeface="Times New Roman"/>
            </a:endParaRPr>
          </a:p>
          <a:p>
            <a:pPr marL="343080" indent="0">
              <a:lnSpc>
                <a:spcPct val="1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ends with the reestablishment of order and a sense that a new “golden age” is beginning (song “I’m A Believer,” prince is killed, soldiers become nice, Shrek and Fiona ride off in a carriage, - they all lived happily ever after).</a:t>
            </a:r>
            <a:endParaRPr b="0" lang="en-US" sz="13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ience/Philosophy</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ience - studying the laws of nature; scientist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ilosophy - loving wisdom; philosopher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gether they were called philosophi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rates (below)</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 name="Picture 6" descr="_x0016_200px-Socrates.bmp.jpg                                         00071491_x000c_Macintosh HD                   BEF76014:"/>
          <p:cNvPicPr/>
          <p:nvPr/>
        </p:nvPicPr>
        <p:blipFill>
          <a:blip r:embed="rId1"/>
          <a:stretch/>
        </p:blipFill>
        <p:spPr>
          <a:xfrm>
            <a:off x="3925800" y="4114800"/>
            <a:ext cx="1290600" cy="1981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crates</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story for kid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 to this websit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historyforkids.org/learn/greeks/philosophy/socrates.ht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crates</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is is supposed to be of Socrates,</a:t>
            </a:r>
            <a:endParaRPr b="0" lang="en-US" sz="1300" spc="-1" strike="noStrike">
              <a:solidFill>
                <a:srgbClr val="000000"/>
              </a:solidFill>
              <a:latin typeface="Times New Roman"/>
            </a:endParaRPr>
          </a:p>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but it was made after he had already been dead for some time,</a:t>
            </a:r>
            <a:endParaRPr b="0" lang="en-US" sz="1300" spc="-1" strike="noStrike">
              <a:solidFill>
                <a:srgbClr val="000000"/>
              </a:solidFill>
              <a:latin typeface="Times New Roman"/>
            </a:endParaRPr>
          </a:p>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by someone who did not know what Socrates looked like.</a:t>
            </a:r>
            <a:endParaRPr b="0" lang="en-US" sz="1300" spc="-1" strike="noStrike">
              <a:solidFill>
                <a:srgbClr val="000000"/>
              </a:solidFill>
              <a:latin typeface="Times New Roman"/>
            </a:endParaRPr>
          </a:p>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He believed people could discover truth if they knew how to think.</a:t>
            </a:r>
            <a:endParaRPr b="0" lang="en-US" sz="1300" spc="-1" strike="noStrike">
              <a:solidFill>
                <a:srgbClr val="000000"/>
              </a:solidFill>
              <a:latin typeface="Times New Roman"/>
            </a:endParaRPr>
          </a:p>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Plato was his pupil.</a:t>
            </a:r>
            <a:endParaRPr b="0" lang="en-US" sz="1300" spc="-1" strike="noStrike">
              <a:solidFill>
                <a:srgbClr val="000000"/>
              </a:solidFill>
              <a:latin typeface="Times New Roman"/>
            </a:endParaRPr>
          </a:p>
        </p:txBody>
      </p:sp>
      <p:pic>
        <p:nvPicPr>
          <p:cNvPr id="87" name="Picture 5" descr="_x000c_socrates.gif                                                   00071491_x000c_Macintosh HD                   BEF76014:"/>
          <p:cNvPicPr/>
          <p:nvPr/>
        </p:nvPicPr>
        <p:blipFill>
          <a:blip r:embed="rId1"/>
          <a:stretch/>
        </p:blipFill>
        <p:spPr>
          <a:xfrm>
            <a:off x="3825720" y="1981080"/>
            <a:ext cx="1490760" cy="1981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ww.mythweb.com</a:t>
            </a:r>
            <a:endParaRPr b="0" lang="en-US" sz="4400" spc="-1" strike="noStrike">
              <a:solidFill>
                <a:srgbClr val="000000"/>
              </a:solidFill>
              <a:latin typeface="Times New Roman"/>
            </a:endParaRPr>
          </a:p>
        </p:txBody>
      </p:sp>
      <p:sp>
        <p:nvSpPr>
          <p:cNvPr id="51"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 to this website to learn more about Greek gods and heroes.</a:t>
            </a:r>
            <a:endParaRPr b="0" lang="en-US" sz="2800" spc="-1" strike="noStrike">
              <a:solidFill>
                <a:srgbClr val="000000"/>
              </a:solidFill>
              <a:latin typeface="Times New Roman"/>
            </a:endParaRPr>
          </a:p>
        </p:txBody>
      </p:sp>
      <p:pic>
        <p:nvPicPr>
          <p:cNvPr id="52" name="Picture 5" descr=""/>
          <p:cNvPicPr/>
          <p:nvPr/>
        </p:nvPicPr>
        <p:blipFill>
          <a:blip r:embed="rId1"/>
          <a:stretch/>
        </p:blipFill>
        <p:spPr>
          <a:xfrm>
            <a:off x="1122480" y="1981080"/>
            <a:ext cx="2936880" cy="4114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to</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1981440"/>
          </a:xfrm>
          <a:prstGeom prst="rect">
            <a:avLst/>
          </a:prstGeom>
          <a:noFill/>
          <a:ln w="0">
            <a:noFill/>
          </a:ln>
        </p:spPr>
        <p:txBody>
          <a:bodyPr anchor="t">
            <a:normAutofit fontScale="97000"/>
          </a:bodyPr>
          <a:p>
            <a:pPr marL="332640" indent="-3326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tudent of Socrates</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s school was called the Academy</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 wrote The Republic about an ideal state</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uth could be found after a long, hard search</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of his brightest pupils was Aristotle</a:t>
            </a:r>
            <a:endParaRPr b="0" lang="en-US" sz="2400" spc="-1" strike="noStrike">
              <a:solidFill>
                <a:srgbClr val="000000"/>
              </a:solidFill>
              <a:latin typeface="Times New Roman"/>
            </a:endParaRPr>
          </a:p>
        </p:txBody>
      </p:sp>
      <p:pic>
        <p:nvPicPr>
          <p:cNvPr id="90" name="Picture 5" descr="&#9;plat1.jpg                                                      00071491_x000c_Macintosh HD                   BEF76014:"/>
          <p:cNvPicPr/>
          <p:nvPr/>
        </p:nvPicPr>
        <p:blipFill>
          <a:blip r:embed="rId1"/>
          <a:stretch/>
        </p:blipFill>
        <p:spPr>
          <a:xfrm>
            <a:off x="3941640" y="4114800"/>
            <a:ext cx="1258920" cy="1981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to’s Academy</a:t>
            </a:r>
            <a:endParaRPr b="0" lang="en-US" sz="4400" spc="-1" strike="noStrike">
              <a:solidFill>
                <a:srgbClr val="000000"/>
              </a:solidFill>
              <a:latin typeface="Times New Roman"/>
            </a:endParaRPr>
          </a:p>
        </p:txBody>
      </p:sp>
      <p:pic>
        <p:nvPicPr>
          <p:cNvPr id="92" name="Picture 5" descr="_x0008_acad.jpg                                                       0CEAF0E4_x000c_Macintosh HD                   BEF76014:"/>
          <p:cNvPicPr/>
          <p:nvPr/>
        </p:nvPicPr>
        <p:blipFill>
          <a:blip r:embed="rId1"/>
          <a:stretch/>
        </p:blipFill>
        <p:spPr>
          <a:xfrm>
            <a:off x="1709640" y="1981080"/>
            <a:ext cx="5724720" cy="4114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to and Aristotle</a:t>
            </a:r>
            <a:endParaRPr b="0" lang="en-US" sz="4400" spc="-1" strike="noStrike">
              <a:solidFill>
                <a:srgbClr val="000000"/>
              </a:solidFill>
              <a:latin typeface="Times New Roman"/>
            </a:endParaRPr>
          </a:p>
        </p:txBody>
      </p:sp>
      <p:pic>
        <p:nvPicPr>
          <p:cNvPr id="94" name="Picture 7" descr="_x001f_180px-Sanzio_01_Pla#CEAF10F.jpg                                0CEAF0E3_x000c_Macintosh HD                   BEF76014:"/>
          <p:cNvPicPr/>
          <p:nvPr/>
        </p:nvPicPr>
        <p:blipFill>
          <a:blip r:embed="rId1"/>
          <a:stretch/>
        </p:blipFill>
        <p:spPr>
          <a:xfrm>
            <a:off x="3005280" y="1981080"/>
            <a:ext cx="3133440" cy="4114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istotle</a:t>
            </a:r>
            <a:endParaRPr b="0" lang="en-US" sz="4400" spc="-1" strike="noStrike">
              <a:solidFill>
                <a:srgbClr val="000000"/>
              </a:solidFill>
              <a:latin typeface="Times New Roman"/>
            </a:endParaRPr>
          </a:p>
        </p:txBody>
      </p:sp>
      <p:sp>
        <p:nvSpPr>
          <p:cNvPr id="9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pil of Plat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he master of them that know”</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d the third step to the scientific method - testing the hypothesi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ed the syllogism</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ught Alexander the Grea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to classify plants and animal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 name="Picture 5" descr="_x000b_ARISTOT.GIF                                                    0CEAF0E3_x000c_Macintosh HD                   BEF76014:"/>
          <p:cNvPicPr/>
          <p:nvPr/>
        </p:nvPicPr>
        <p:blipFill>
          <a:blip r:embed="rId1"/>
          <a:stretch/>
        </p:blipFill>
        <p:spPr>
          <a:xfrm>
            <a:off x="4822920" y="1981080"/>
            <a:ext cx="3459240" cy="4114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coveries/Inventions</a:t>
            </a:r>
            <a:endParaRPr b="0" lang="en-US" sz="4400" spc="-1" strike="noStrike">
              <a:solidFill>
                <a:srgbClr val="000000"/>
              </a:solidFill>
              <a:latin typeface="Times New Roman"/>
            </a:endParaRPr>
          </a:p>
        </p:txBody>
      </p:sp>
      <p:sp>
        <p:nvSpPr>
          <p:cNvPr id="9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ural events are not caused by the way the gods behave</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ld is governed by natural law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predicted the eclipse of the sun</a:t>
            </a:r>
            <a:endParaRPr b="0" lang="en-US" sz="2800" spc="-1" strike="noStrike">
              <a:solidFill>
                <a:srgbClr val="000000"/>
              </a:solidFill>
              <a:latin typeface="Times New Roman"/>
            </a:endParaRPr>
          </a:p>
        </p:txBody>
      </p:sp>
      <p:sp>
        <p:nvSpPr>
          <p:cNvPr id="100"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believed diseases came from natural sourc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ppocratic Oath: doctors should honor their teachers, do their best for the sick, never give poisons and keep the secrets of their patien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Jazz LET"/>
              </a:rPr>
              <a:t>The end.</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3" descr="_x000e_GREECE1062.jpg                                                 00071491_x000c_Macintosh HD                   BEF76014:"/>
          <p:cNvPicPr/>
          <p:nvPr/>
        </p:nvPicPr>
        <p:blipFill>
          <a:blip r:embed="rId1"/>
          <a:stretch/>
        </p:blipFill>
        <p:spPr>
          <a:xfrm>
            <a:off x="685800" y="826920"/>
            <a:ext cx="7772400" cy="5051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lympics - to honor Zeu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xing - fought until one was knocked out or gave up</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questrian Events - chariot racing and riding - jockeys rode without stirrup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nkration - boxing and wrestlin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ntathlon - combination of 5 events: discus, javelin, jumping, running, wrestlin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nning - 4 types of rac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umping - they carried stone or lead weigh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5" descr="_x0017_180px-Olympic_flame.jpg                                        0CEBCEDB_x000c_Macintosh HD                   BEF76014:"/>
          <p:cNvPicPr/>
          <p:nvPr/>
        </p:nvPicPr>
        <p:blipFill>
          <a:blip r:embed="rId1"/>
          <a:stretch/>
        </p:blipFill>
        <p:spPr>
          <a:xfrm>
            <a:off x="2287440" y="609480"/>
            <a:ext cx="4569120" cy="5486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trance to the Olympic Stadium</a:t>
            </a:r>
            <a:endParaRPr b="0" lang="en-US" sz="4400" spc="-1" strike="noStrike">
              <a:solidFill>
                <a:srgbClr val="000000"/>
              </a:solidFill>
              <a:latin typeface="Times New Roman"/>
            </a:endParaRPr>
          </a:p>
        </p:txBody>
      </p:sp>
      <p:sp>
        <p:nvSpPr>
          <p:cNvPr id="57"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Olympia</a:t>
            </a:r>
            <a:endParaRPr b="0" lang="en-US" sz="2800" spc="-1" strike="noStrike">
              <a:solidFill>
                <a:srgbClr val="000000"/>
              </a:solidFill>
              <a:latin typeface="Times New Roman"/>
            </a:endParaRPr>
          </a:p>
        </p:txBody>
      </p:sp>
      <p:pic>
        <p:nvPicPr>
          <p:cNvPr id="58" name="Picture 5" descr=""/>
          <p:cNvPicPr/>
          <p:nvPr/>
        </p:nvPicPr>
        <p:blipFill>
          <a:blip r:embed="rId1"/>
          <a:stretch/>
        </p:blipFill>
        <p:spPr>
          <a:xfrm>
            <a:off x="685800" y="2690640"/>
            <a:ext cx="3809880" cy="269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5" descr="&#10;masks2.jpg                                                     00071491_x000c_Macintosh HD                   BEF76014:"/>
          <p:cNvPicPr/>
          <p:nvPr/>
        </p:nvPicPr>
        <p:blipFill>
          <a:blip r:embed="rId1"/>
          <a:stretch/>
        </p:blipFill>
        <p:spPr>
          <a:xfrm>
            <a:off x="2498760" y="609480"/>
            <a:ext cx="4145040" cy="5486400"/>
          </a:xfrm>
          <a:prstGeom prst="rect">
            <a:avLst/>
          </a:prstGeom>
          <a:ln w="0">
            <a:noFill/>
          </a:ln>
        </p:spPr>
      </p:pic>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ater</a:t>
            </a:r>
            <a:endParaRPr b="0" lang="en-US" sz="4400" spc="-1" strike="noStrike">
              <a:solidFill>
                <a:srgbClr val="000000"/>
              </a:solidFill>
              <a:latin typeface="Times New Roman"/>
            </a:endParaRPr>
          </a:p>
        </p:txBody>
      </p:sp>
      <p:sp>
        <p:nvSpPr>
          <p:cNvPr id="62"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343080">
              <a:lnSpc>
                <a:spcPct val="100000"/>
              </a:lnSpc>
              <a:spcBef>
                <a:spcPts val="374"/>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Grande"/>
              </a:rPr>
              <a:t>Ancient Greek theater has been fascinating.  Aeschylus, Sophocles, Euripides, Aristophanes and others, have been the teachers of morality, nobleness, courage and patriotism across the centuries.  </a:t>
            </a:r>
            <a:endParaRPr b="0" lang="en-US" sz="1500" spc="-1" strike="noStrike">
              <a:solidFill>
                <a:srgbClr val="000000"/>
              </a:solidFill>
              <a:latin typeface="Times New Roman"/>
            </a:endParaRPr>
          </a:p>
          <a:p>
            <a:pPr marL="3430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343080">
              <a:lnSpc>
                <a:spcPct val="100000"/>
              </a:lnSpc>
              <a:spcBef>
                <a:spcPts val="374"/>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Grande"/>
              </a:rPr>
              <a:t>Theater originated as a festival to the god Dionysus, the god of joyous life and hospitality.</a:t>
            </a:r>
            <a:endParaRPr b="0" lang="en-US" sz="1500" spc="-1" strike="noStrike">
              <a:solidFill>
                <a:srgbClr val="000000"/>
              </a:solidFill>
              <a:latin typeface="Times New Roman"/>
            </a:endParaRPr>
          </a:p>
          <a:p>
            <a:pPr marL="3430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pic>
        <p:nvPicPr>
          <p:cNvPr id="63" name="Picture 5" descr=""/>
          <p:cNvPicPr/>
          <p:nvPr/>
        </p:nvPicPr>
        <p:blipFill>
          <a:blip r:embed="rId1"/>
          <a:stretch/>
        </p:blipFill>
        <p:spPr>
          <a:xfrm>
            <a:off x="4648320" y="2733840"/>
            <a:ext cx="3809880" cy="2609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gedy</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43080" indent="-343080">
              <a:lnSpc>
                <a:spcPct val="100000"/>
              </a:lnSpc>
              <a:spcBef>
                <a:spcPts val="425"/>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Grande"/>
              </a:rPr>
              <a:t>set in the past</a:t>
            </a:r>
            <a:endParaRPr b="0" lang="en-US" sz="1700" spc="-1" strike="noStrike">
              <a:solidFill>
                <a:srgbClr val="000000"/>
              </a:solidFill>
              <a:latin typeface="Times New Roman"/>
            </a:endParaRPr>
          </a:p>
          <a:p>
            <a:pPr marL="343080" indent="-343080">
              <a:lnSpc>
                <a:spcPct val="100000"/>
              </a:lnSpc>
              <a:spcBef>
                <a:spcPts val="425"/>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Grande"/>
              </a:rPr>
              <a:t>relationships between people and gods</a:t>
            </a:r>
            <a:endParaRPr b="0" lang="en-US" sz="1700" spc="-1" strike="noStrike">
              <a:solidFill>
                <a:srgbClr val="000000"/>
              </a:solidFill>
              <a:latin typeface="Times New Roman"/>
            </a:endParaRPr>
          </a:p>
          <a:p>
            <a:pPr marL="343080" indent="-343080">
              <a:lnSpc>
                <a:spcPct val="100000"/>
              </a:lnSpc>
              <a:spcBef>
                <a:spcPts val="425"/>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Grande"/>
              </a:rPr>
              <a:t>not all had unhappy endings</a:t>
            </a:r>
            <a:endParaRPr b="0" lang="en-US" sz="1700" spc="-1" strike="noStrike">
              <a:solidFill>
                <a:srgbClr val="000000"/>
              </a:solidFill>
              <a:latin typeface="Times New Roman"/>
            </a:endParaRPr>
          </a:p>
          <a:p>
            <a:pPr marL="343080" indent="-343080">
              <a:lnSpc>
                <a:spcPct val="100000"/>
              </a:lnSpc>
              <a:spcBef>
                <a:spcPts val="425"/>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Grande"/>
              </a:rPr>
              <a:t>though people suffered, most still carried on despite their suffering</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riters of Tragedy</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eschylus - wrote about power and its effect on peopl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phocles - suffering was due to sins and mistakes and suffering could make someone a better pers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uripides - people suffered because they did bad thing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7T16:56:16Z</dcterms:created>
  <dc:creator>acsd acsd</dc:creator>
  <dc:description/>
  <dc:language>en-US</dc:language>
  <cp:lastModifiedBy>RomaK</cp:lastModifiedBy>
  <dcterms:modified xsi:type="dcterms:W3CDTF">2015-09-02T09:25:44Z</dcterms:modified>
  <cp:revision>66</cp:revision>
  <dc:subject/>
  <dc:title>Greek Cultural Contributions</dc:title>
</cp:coreProperties>
</file>