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10.png" ContentType="image/pn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3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7.wmf" ContentType="image/x-wmf"/>
  <Override PartName="/ppt/media/image17.png" ContentType="image/png"/>
  <Override PartName="/ppt/media/image39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FC6C-1340-40E3-8FC8-30E1D1FD7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42EC-5BD3-47A8-81B3-4DA2D0A2F1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A37E-61C9-46F3-A4C4-C13B7A417D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7A22-E6F4-4853-96F2-79C2BBADBC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F0FF-6CC4-433B-A38B-2ECAE8EAB7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B5AD-8E25-49FA-86AE-715B4A52F9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526B-5855-4DA2-98F2-6AA14AF462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ECF9-7B10-49DD-A348-74A2C9F667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C411-FCB8-48CC-AA7E-D6699821DA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F30A-3942-40A8-8367-639C7C409E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5469-7910-4A2E-A3A6-D69346D799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F4CA-523D-42DA-B6F1-BBB8032EB6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A277-EF4F-4539-966D-39587C7255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F70A-CEC4-47BA-9F26-AB35FBA697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3C5B-9546-4BA0-A3DF-BAF6C7E161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A73D-6059-4609-9B80-3AD7BEF74E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E565-5D2A-49BB-B34C-3311A85802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4C44-94B0-415F-8831-B2F7BB8928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7F0D-DB31-4B3B-ACAD-F59E580DE10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6348-ED7E-49A8-B0F6-61A8A33A51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photograp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D323-8A89-4037-9BA3-AA1C63E024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8787-E684-4D58-BB3F-F83C5C72286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92E9-EA2D-4164-8DF8-0BB3CDD48E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8302-04A2-4848-856D-E0A8F61CCC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8244-D7A5-431A-9782-7F373E360A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F439-38F7-4F2C-A158-8BB7E141CB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C79D-E7D7-4E2F-B973-7A22D58D35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6CF9-80A7-4FF4-910F-B6F054BE57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4039-F2AC-4139-B2A3-D84C653AFD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168-5769-4451-970F-DC58D808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07E-9D61-4960-91BA-1E61E3D4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51E-D184-4F6C-8774-DC111F2A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4C2-34AD-4B78-A704-17222F3F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9E9B-AACF-42FC-A630-777BD7C9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6063-99F6-4576-817C-A0FB3F0E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751A-921B-48DA-B153-8B9EC187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468A-4CD5-4F75-9D6D-710A089D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7871-B36A-4E11-A507-7677037B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11BB-FB85-4F8C-92AF-8A007790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972D-DB7C-4625-AD8A-B894364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4E8-4E72-4D00-9CEE-069124F7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4B0C-0568-453B-91B0-1AB52514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C688-84F9-4A23-B11C-070EC224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C8D2-B57E-4D54-BB73-363237D7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6457-8548-444D-94C9-8742237C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96E8-E72B-4018-873F-5B0929B1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7FA-534B-45D5-800E-05999927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766-FA76-4206-8AF3-0CDEBD44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773-9B75-46F4-81D1-E9EAC202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F74-F055-49F2-BAA3-7CD3F750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5A9A-2B6F-4CF3-B566-9A98B817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F07-719B-4E37-BD66-5E011FAE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FDB-0ECB-4C48-A1A8-8EA222EB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9603-74A3-4785-8D5F-DD2954E53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2799-3363-43E5-85E5-7BB7624D5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2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181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981080" y="1828800"/>
            <a:ext cx="3886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4" name="Picture 3" descr="j0301076"/>
          <p:cNvPicPr/>
          <p:nvPr/>
        </p:nvPicPr>
        <p:blipFill>
          <a:blip r:embed="rId1"/>
          <a:stretch/>
        </p:blipFill>
        <p:spPr>
          <a:xfrm rot="447600">
            <a:off x="594324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MCj03189040000[1]"/>
          <p:cNvPicPr/>
          <p:nvPr/>
        </p:nvPicPr>
        <p:blipFill>
          <a:blip r:embed="rId2"/>
          <a:stretch/>
        </p:blipFill>
        <p:spPr>
          <a:xfrm rot="20212800">
            <a:off x="6934320" y="685440"/>
            <a:ext cx="1823760" cy="179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MCj04105950000[1]"/>
          <p:cNvPicPr/>
          <p:nvPr/>
        </p:nvPicPr>
        <p:blipFill>
          <a:blip r:embed="rId3"/>
          <a:stretch/>
        </p:blipFill>
        <p:spPr>
          <a:xfrm rot="21126600">
            <a:off x="457200" y="228240"/>
            <a:ext cx="216072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RomaK</cp:lastModifiedBy>
  <dcterms:modified xsi:type="dcterms:W3CDTF">2015-08-01T07:03:33Z</dcterms:modified>
  <cp:revision>11</cp:revision>
  <dc:subject>Part 2 of Solar System</dc:subject>
  <dc:title>Part 2 of Solar System</dc:title>
</cp:coreProperties>
</file>