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10.png" ContentType="image/pn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3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7.wmf" ContentType="image/x-wmf"/>
  <Override PartName="/ppt/media/image17.png" ContentType="image/png"/>
  <Override PartName="/ppt/media/image39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318C-8B29-427A-8A65-611877DCB4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834D-D864-4871-9BEF-FF59070F62D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3541-4158-4856-B5E4-65B83F9372A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91D8-8274-4E52-AA4B-8823084ECA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7F65-3E4C-4200-8A6B-0B75F520BAF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9DF4-D0D7-4A17-8480-C4AD230612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2091-4EAA-4AB0-8177-F7A56AACB2B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3EBD-8263-4978-A9E3-C4739B75961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A995-E74F-41C1-9D6D-5E3BECB535E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F822-1EA9-49FC-A068-BEE1C1B00EE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A8A4-8217-4CB4-A728-017B61F24DD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48E0-4221-4DE2-9331-4F8A0DAE9F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AE8D-D4BD-44E1-909C-9BF330AE1C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A13A-04F5-4A86-8BA7-FF69E3DF1C9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2FB9-CEE6-48CB-A56A-71B013C036B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64A4-34D4-4955-8CF3-3392BF63A4F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6011-FB72-454B-A064-2959A68B932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A711-3407-4251-A48A-738D62FEE5A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16FB-30C8-4C03-9DDE-E284F3445CB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10C8-2D1E-44B0-BE37-631BDA4313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photograp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A346-36E1-4AA4-949D-6DF0B2E7CD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D7D1-3093-462C-9EE1-9480178269D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7DD2-7022-4A20-852F-9955A272D40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E663-426E-4686-A2F0-878223C1F3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703B-282F-4365-9218-8AC943577CB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E40A-A317-4ECE-A579-FEDA5C11C62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6123-840A-4D27-8FF9-4DC1EA1CFAB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FF9F-0A28-4F8B-B4D9-348FEBFBE5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E0D0-5B7C-4215-8181-954B61339FE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41B-6908-4919-901D-E1047951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75D-7370-47B8-99AE-8563A325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0BA3-023D-4F87-9220-149EFE8B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CAD-B928-4C72-B825-DB3139DB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BDD3-DDE1-470F-9F4A-2DDC90DD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4527-EF3D-4BE5-976B-D101B157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E962-49E6-4C63-BEAC-20DDD676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F40A-2AEC-493E-BAF9-E22F5B7D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A338-5150-4CF3-87F8-5B941082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3161-5A28-4A6E-8EAE-B443C43E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2193-625F-4B89-960B-3C62E74C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76C-1AD7-4EDB-A6BF-323C90D5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4EAB-606C-431D-B1F4-D00EF275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4317-ED77-4C4A-8C08-E3EBC439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E2B1-D2A1-4FAF-85EA-CCCF0A3B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0E43-BDCB-4323-8774-603416EB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471F-AB3F-4EF1-9ABA-58A31E37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D05-0B67-4124-9194-02EA1DA7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53B-6DEF-491D-8AD7-AB817A69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C50-86CF-4064-AC6F-FA276FD8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860-4E95-4275-B325-87DEC1B3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855-1A50-4682-B30B-7A948C08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77E-F391-455F-9696-E61C97FE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4B9F-95B8-4DE9-A1DF-543281FA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2117-97F5-4585-997E-EA553A253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9600-A855-4349-ADF5-B05027869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6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181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981080" y="1828800"/>
            <a:ext cx="38862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84" name="Picture 3" descr="j0301076"/>
          <p:cNvPicPr/>
          <p:nvPr/>
        </p:nvPicPr>
        <p:blipFill>
          <a:blip r:embed="rId1"/>
          <a:stretch/>
        </p:blipFill>
        <p:spPr>
          <a:xfrm rot="447600">
            <a:off x="594324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MCj03189040000[1]"/>
          <p:cNvPicPr/>
          <p:nvPr/>
        </p:nvPicPr>
        <p:blipFill>
          <a:blip r:embed="rId2"/>
          <a:stretch/>
        </p:blipFill>
        <p:spPr>
          <a:xfrm rot="20212800">
            <a:off x="6934320" y="685440"/>
            <a:ext cx="1823760" cy="1790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MCj04105950000[1]"/>
          <p:cNvPicPr/>
          <p:nvPr/>
        </p:nvPicPr>
        <p:blipFill>
          <a:blip r:embed="rId3"/>
          <a:stretch/>
        </p:blipFill>
        <p:spPr>
          <a:xfrm rot="21126600">
            <a:off x="457200" y="228240"/>
            <a:ext cx="216072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RomaK</cp:lastModifiedBy>
  <dcterms:modified xsi:type="dcterms:W3CDTF">2015-08-01T07:03:33Z</dcterms:modified>
  <cp:revision>11</cp:revision>
  <dc:subject>Part 2 of Solar System</dc:subject>
  <dc:title>Part 2 of Solar System</dc:title>
</cp:coreProperties>
</file>