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7.png" ContentType="image/png"/>
  <Override PartName="/ppt/media/image34.jpeg" ContentType="image/jpeg"/>
  <Override PartName="/ppt/media/image10.png" ContentType="image/png"/>
  <Override PartName="/ppt/media/image30.png" ContentType="image/png"/>
  <Override PartName="/ppt/media/image8.jpeg" ContentType="image/jpeg"/>
  <Override PartName="/ppt/media/image29.wmf" ContentType="image/x-wmf"/>
  <Override PartName="/ppt/media/image11.png" ContentType="image/png"/>
  <Override PartName="/ppt/media/image31.jpeg" ContentType="image/jpeg"/>
  <Override PartName="/ppt/media/image38.wmf" ContentType="image/x-wmf"/>
  <Override PartName="/ppt/media/image4.jpeg" ContentType="image/jpeg"/>
  <Override PartName="/ppt/media/image32.png" ContentType="image/png"/>
  <Override PartName="/ppt/media/image25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37.wmf" ContentType="image/x-wmf"/>
  <Override PartName="/ppt/media/image17.png" ContentType="image/png"/>
  <Override PartName="/ppt/media/image39.wmf" ContentType="image/x-wmf"/>
  <Override PartName="/ppt/media/image13.jpeg" ContentType="image/jpeg"/>
  <Override PartName="/ppt/media/image23.png" ContentType="image/png"/>
  <Override PartName="/ppt/media/image3.wmf" ContentType="image/x-wmf"/>
  <Override PartName="/ppt/media/image15.jpeg" ContentType="image/jpeg"/>
  <Override PartName="/ppt/media/image1.wmf" ContentType="image/x-wmf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E185-5874-4F8B-BA9A-A855B35950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D70A-EBF4-4B10-9BC1-5D6CDFDB0DD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4592-6D8E-46BA-9B11-8554158B01B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 being  laun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C51F-7968-438E-A3EC-58F50CD8F15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0B05-A708-4ACB-912D-4F415832205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 and  its  moon,  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0C8D-850D-4385-B4BF-D4877C05D3F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 Moons  of  Jupiter  </a:t>
            </a:r>
            <a:br>
              <a:rPr sz="12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43  are  nam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182A-E437-4F79-8681-8A142ED1D1D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E599-10DA-43F9-99EA-2A20F26A99A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5CF5-5D63-447D-A58D-B7320628DCD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yager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E929-782C-4D87-A93D-9EFEE1FE53B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-rings  of  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EC30-898C-4DD9-8F20-5236064A0D8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s   Gaspra  &amp;  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8B0F-ED5A-4178-AF86-4F1ADEC002A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915D-63C2-40A6-B32D-3FF17F2828A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Global Surveyor (M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6  to 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0,000  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8DF9-7BA4-4939-9DF8-FB48C871FF9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bble  Space 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2CBC-329D-41FA-A3C2-F100D21A431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3030-CD16-42F1-962F-94B8847D9BF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8071-1420-4DC1-9B1C-D1851B5D5B1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uds  above  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C098-C880-4661-9AF1-6B00FFB0621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ton -- one  of  Neptune’s 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86C0-57C5-4ABA-A73F-DC423514167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  N-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A664-AC6B-460F-87EF-3D4042B81E2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photograp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5469-C0B3-4D63-9BA7-07F4AB8206B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 and  its  satellite,  Cha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CD86-8428-4227-9D24-A26E2B6EAB1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E290-099A-43FA-A1B2-E79860EBA15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B747-B72C-4081-8843-20B44F59A1C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FDE9-9C06-46DA-8405-6BC618E4A48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47DB-23F0-4F22-86C1-F86117B5FB0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3702-9681-4FC8-A451-85B382BC2DD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us M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st  volcano  in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06BC-F16B-4625-8442-9FAF1A85401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D generate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0372-8BFB-4297-93F1-FAE36B8A751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les  Mar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B8FB-6814-4FA6-ABED-D2AEEC9C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0283-721E-4CB8-9042-61EA3DB5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DC2-FBE8-462D-A8D7-FBC86069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D48C-C1A9-449D-BAC4-F778A446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DC6A-8EA5-4350-92AD-FC7DC328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BB6E-DBB5-4E43-9D4A-38A62D43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8226-ACBF-4FD6-9248-3FE4BDAA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55F9-AC93-4003-BDD1-1D28EAED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710E-61DF-48CD-879D-DC002BC9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8CE3-763D-4C69-B764-ACA47C6D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D3E5-9AC0-402B-85E7-E6C2A87F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1345-14BE-4D2E-A9DB-BFC4AC0C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B2D2-6075-43A6-BA9B-573F0BD7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4847-B0CB-4D5D-9CC8-59836108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898D-996E-4621-B2A8-5827A06A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DCFD-0829-415E-8FD2-96DCFED9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6CFE-3335-4B8A-BFBF-F16A84D0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E2F6-583E-4D26-850C-05C74EDA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6078-8BE3-440D-9F24-1FAC706C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1FC2-3B37-4118-9F0F-1602AC91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0D8-FF1F-44CC-A686-3AC1F147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D4D3-EBE9-45A6-8556-CF827D48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F5C8-A41A-4E0B-B666-D8BB5A35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F32D-2188-4566-8C9F-62C40043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75C4-D097-48E2-A1D1-8D1EA415B8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202C-385D-46FA-99C0-DADFC4FAB2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114300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2 of Solar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4" descr="j0397524"/>
          <p:cNvPicPr/>
          <p:nvPr/>
        </p:nvPicPr>
        <p:blipFill>
          <a:blip r:embed="rId1"/>
          <a:stretch/>
        </p:blipFill>
        <p:spPr>
          <a:xfrm rot="327000">
            <a:off x="6933960" y="4800600"/>
            <a:ext cx="1827000" cy="140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j0304259"/>
          <p:cNvPicPr/>
          <p:nvPr/>
        </p:nvPicPr>
        <p:blipFill>
          <a:blip r:embed="rId2"/>
          <a:stretch/>
        </p:blipFill>
        <p:spPr>
          <a:xfrm>
            <a:off x="380880" y="4419720"/>
            <a:ext cx="1792440" cy="1796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j0304245"/>
          <p:cNvPicPr/>
          <p:nvPr/>
        </p:nvPicPr>
        <p:blipFill>
          <a:blip r:embed="rId3"/>
          <a:stretch/>
        </p:blipFill>
        <p:spPr>
          <a:xfrm>
            <a:off x="152280" y="380880"/>
            <a:ext cx="17956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0" y="380880"/>
            <a:ext cx="4114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being  launch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6" name="Picture 3" descr="galileo"/>
          <p:cNvPicPr/>
          <p:nvPr/>
        </p:nvPicPr>
        <p:blipFill>
          <a:blip r:embed="rId1"/>
          <a:stretch/>
        </p:blipFill>
        <p:spPr>
          <a:xfrm>
            <a:off x="152280" y="685800"/>
            <a:ext cx="4559400" cy="54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Picture 3" descr="Jupiter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6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23623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  its  moon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Picture 3" descr="Jupiter+Io"/>
          <p:cNvPicPr/>
          <p:nvPr/>
        </p:nvPicPr>
        <p:blipFill>
          <a:blip r:embed="rId1"/>
          <a:stretch/>
        </p:blipFill>
        <p:spPr>
          <a:xfrm>
            <a:off x="2286000" y="274680"/>
            <a:ext cx="6858000" cy="65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43040" y="380880"/>
            <a:ext cx="4343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veral  Moons  of  Jupiter 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43  are  named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2" name="Picture 3" descr="moonCALLISTO"/>
          <p:cNvPicPr/>
          <p:nvPr/>
        </p:nvPicPr>
        <p:blipFill>
          <a:blip r:embed="rId1"/>
          <a:stretch/>
        </p:blipFill>
        <p:spPr>
          <a:xfrm>
            <a:off x="380880" y="685800"/>
            <a:ext cx="2171880" cy="15811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914400" y="25146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moonEUROPA"/>
          <p:cNvPicPr/>
          <p:nvPr/>
        </p:nvPicPr>
        <p:blipFill>
          <a:blip r:embed="rId2"/>
          <a:stretch/>
        </p:blipFill>
        <p:spPr>
          <a:xfrm>
            <a:off x="3581280" y="2819520"/>
            <a:ext cx="2009880" cy="16383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403848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uro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moonGANYMEDE"/>
          <p:cNvPicPr/>
          <p:nvPr/>
        </p:nvPicPr>
        <p:blipFill>
          <a:blip r:embed="rId3"/>
          <a:stretch/>
        </p:blipFill>
        <p:spPr>
          <a:xfrm>
            <a:off x="7010280" y="4191120"/>
            <a:ext cx="1800360" cy="15494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7086600" y="5791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ym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9" descr="moonAMALTHEA"/>
          <p:cNvPicPr/>
          <p:nvPr/>
        </p:nvPicPr>
        <p:blipFill>
          <a:blip r:embed="rId4"/>
          <a:stretch/>
        </p:blipFill>
        <p:spPr>
          <a:xfrm>
            <a:off x="762120" y="4343400"/>
            <a:ext cx="1390680" cy="981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685800" y="54864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alth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turn --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iew  from  Hub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3" descr="Saturn Hubble"/>
          <p:cNvPicPr/>
          <p:nvPr/>
        </p:nvPicPr>
        <p:blipFill>
          <a:blip r:embed="rId1"/>
          <a:stretch/>
        </p:blipFill>
        <p:spPr>
          <a:xfrm>
            <a:off x="0" y="1739880"/>
            <a:ext cx="9144000" cy="51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turn: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frared 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3" descr="Saturn-IR"/>
          <p:cNvPicPr/>
          <p:nvPr/>
        </p:nvPicPr>
        <p:blipFill>
          <a:blip r:embed="rId1"/>
          <a:stretch/>
        </p:blipFill>
        <p:spPr>
          <a:xfrm>
            <a:off x="457200" y="1676520"/>
            <a:ext cx="7924680" cy="48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oyager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5" name="Picture 3" descr="voyager"/>
          <p:cNvPicPr/>
          <p:nvPr/>
        </p:nvPicPr>
        <p:blipFill>
          <a:blip r:embed="rId1"/>
          <a:stretch/>
        </p:blipFill>
        <p:spPr>
          <a:xfrm>
            <a:off x="1752480" y="2362320"/>
            <a:ext cx="554364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-rings  of  Satur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7" name="Picture 3" descr="Saturn B-ring"/>
          <p:cNvPicPr/>
          <p:nvPr/>
        </p:nvPicPr>
        <p:blipFill>
          <a:blip r:embed="rId1"/>
          <a:stretch/>
        </p:blipFill>
        <p:spPr>
          <a:xfrm>
            <a:off x="838080" y="2057400"/>
            <a:ext cx="7365960" cy="31813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2743200" y="55627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om  Voyager  Nov. 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teroids   Gaspra  &amp;  I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0" name="Picture 3" descr="gaspra"/>
          <p:cNvPicPr/>
          <p:nvPr/>
        </p:nvPicPr>
        <p:blipFill>
          <a:blip r:embed="rId1"/>
          <a:stretch/>
        </p:blipFill>
        <p:spPr>
          <a:xfrm>
            <a:off x="228600" y="15238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Ida&amp;moon"/>
          <p:cNvPicPr/>
          <p:nvPr/>
        </p:nvPicPr>
        <p:blipFill>
          <a:blip r:embed="rId2"/>
          <a:stretch/>
        </p:blipFill>
        <p:spPr>
          <a:xfrm>
            <a:off x="4267080" y="358128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8077320" y="4800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on, Dacty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6"/>
          <p:cNvSpPr/>
          <p:nvPr/>
        </p:nvSpPr>
        <p:spPr>
          <a:xfrm flipH="1">
            <a:off x="7543800" y="5105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 flipH="1">
            <a:off x="3429000" y="1447920"/>
            <a:ext cx="13716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 flipH="1">
            <a:off x="5943600" y="1371600"/>
            <a:ext cx="129528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2519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ran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7" name="Picture 3" descr="uranus_uniform"/>
          <p:cNvPicPr/>
          <p:nvPr/>
        </p:nvPicPr>
        <p:blipFill>
          <a:blip r:embed="rId1"/>
          <a:stretch/>
        </p:blipFill>
        <p:spPr>
          <a:xfrm>
            <a:off x="3657600" y="106668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1219320" y="51814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Ultra-violet pho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219320" y="2819520"/>
            <a:ext cx="11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486400" y="380520"/>
            <a:ext cx="36576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s Global Surveyor (MG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6  to 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40,000  pho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mgs-mid-size"/>
          <p:cNvPicPr/>
          <p:nvPr/>
        </p:nvPicPr>
        <p:blipFill>
          <a:blip r:embed="rId1"/>
          <a:stretch/>
        </p:blipFill>
        <p:spPr>
          <a:xfrm>
            <a:off x="0" y="228600"/>
            <a:ext cx="53341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bble  Space  Telesco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1" name="Picture 3" descr="hubblestlitho60"/>
          <p:cNvPicPr/>
          <p:nvPr/>
        </p:nvPicPr>
        <p:blipFill>
          <a:blip r:embed="rId1"/>
          <a:stretch/>
        </p:blipFill>
        <p:spPr>
          <a:xfrm>
            <a:off x="2438280" y="1787400"/>
            <a:ext cx="6705720" cy="50706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685800" y="53341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Taken  from shuttle after deploy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5" descr="MCj00829910000[1]"/>
          <p:cNvPicPr/>
          <p:nvPr/>
        </p:nvPicPr>
        <p:blipFill>
          <a:blip r:embed="rId2"/>
          <a:stretch/>
        </p:blipFill>
        <p:spPr>
          <a:xfrm rot="20060400">
            <a:off x="0" y="2514600"/>
            <a:ext cx="1852560" cy="16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04920" y="38088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5" name="Picture 3" descr="neptune_gds"/>
          <p:cNvPicPr/>
          <p:nvPr/>
        </p:nvPicPr>
        <p:blipFill>
          <a:blip r:embed="rId1"/>
          <a:stretch/>
        </p:blipFill>
        <p:spPr>
          <a:xfrm>
            <a:off x="2884320" y="0"/>
            <a:ext cx="625968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685800" y="28195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Another 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eptune-dbl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5079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1447920" y="533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ptune  from  Mariner  Space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4"/>
          <p:cNvSpPr/>
          <p:nvPr/>
        </p:nvSpPr>
        <p:spPr>
          <a:xfrm flipH="1" flipV="1">
            <a:off x="2361960" y="4800240"/>
            <a:ext cx="2057400" cy="7621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4419720" y="4723920"/>
            <a:ext cx="2057400" cy="83844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uds  above  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2" name="Picture 3" descr="neptune_clouds"/>
          <p:cNvPicPr/>
          <p:nvPr/>
        </p:nvPicPr>
        <p:blipFill>
          <a:blip r:embed="rId1"/>
          <a:stretch/>
        </p:blipFill>
        <p:spPr>
          <a:xfrm>
            <a:off x="2666880" y="1600200"/>
            <a:ext cx="39610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ton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ne  of  Neptune’s  mo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4" name="Picture 3" descr="triton_close"/>
          <p:cNvPicPr/>
          <p:nvPr/>
        </p:nvPicPr>
        <p:blipFill>
          <a:blip r:embed="rId1"/>
          <a:stretch/>
        </p:blipFill>
        <p:spPr>
          <a:xfrm>
            <a:off x="3124080" y="2666880"/>
            <a:ext cx="2895840" cy="24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5640" y="304920"/>
            <a:ext cx="3962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tune  N-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3" descr="Neptune-N-rings"/>
          <p:cNvPicPr/>
          <p:nvPr/>
        </p:nvPicPr>
        <p:blipFill>
          <a:blip r:embed="rId1"/>
          <a:stretch/>
        </p:blipFill>
        <p:spPr>
          <a:xfrm>
            <a:off x="690480" y="1386000"/>
            <a:ext cx="7763040" cy="40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photograph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8" name="Picture 3" descr="hst_pluto2"/>
          <p:cNvPicPr/>
          <p:nvPr/>
        </p:nvPicPr>
        <p:blipFill>
          <a:blip r:embed="rId1"/>
          <a:stretch/>
        </p:blipFill>
        <p:spPr>
          <a:xfrm>
            <a:off x="1371600" y="2133720"/>
            <a:ext cx="6858000" cy="41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 its  satellite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Char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0" name="Picture 3" descr="hst_pluto_charon"/>
          <p:cNvPicPr/>
          <p:nvPr/>
        </p:nvPicPr>
        <p:blipFill>
          <a:blip r:embed="rId1"/>
          <a:stretch/>
        </p:blipFill>
        <p:spPr>
          <a:xfrm>
            <a:off x="-152280" y="2023920"/>
            <a:ext cx="9296280" cy="4834080"/>
          </a:xfrm>
          <a:prstGeom prst="rect">
            <a:avLst/>
          </a:prstGeom>
          <a:ln w="0">
            <a:noFill/>
          </a:ln>
        </p:spPr>
      </p:pic>
      <p:sp>
        <p:nvSpPr>
          <p:cNvPr id="181" name="Line 4"/>
          <p:cNvSpPr/>
          <p:nvPr/>
        </p:nvSpPr>
        <p:spPr>
          <a:xfrm>
            <a:off x="7620120" y="13716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371600" y="1447920"/>
            <a:ext cx="0" cy="3429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1981080" y="1828800"/>
            <a:ext cx="38862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84" name="Picture 3" descr="j0301076"/>
          <p:cNvPicPr/>
          <p:nvPr/>
        </p:nvPicPr>
        <p:blipFill>
          <a:blip r:embed="rId1"/>
          <a:stretch/>
        </p:blipFill>
        <p:spPr>
          <a:xfrm rot="447600">
            <a:off x="5943240" y="449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MCj03189040000[1]"/>
          <p:cNvPicPr/>
          <p:nvPr/>
        </p:nvPicPr>
        <p:blipFill>
          <a:blip r:embed="rId2"/>
          <a:stretch/>
        </p:blipFill>
        <p:spPr>
          <a:xfrm rot="20212800">
            <a:off x="6934320" y="685440"/>
            <a:ext cx="1823760" cy="1790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MCj04105950000[1]"/>
          <p:cNvPicPr/>
          <p:nvPr/>
        </p:nvPicPr>
        <p:blipFill>
          <a:blip r:embed="rId3"/>
          <a:stretch/>
        </p:blipFill>
        <p:spPr>
          <a:xfrm rot="21126600">
            <a:off x="457200" y="228240"/>
            <a:ext cx="2160720" cy="20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hotograp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Picture 3" descr="hst_Mars"/>
          <p:cNvPicPr/>
          <p:nvPr/>
        </p:nvPicPr>
        <p:blipFill>
          <a:blip r:embed="rId1"/>
          <a:stretch/>
        </p:blipFill>
        <p:spPr>
          <a:xfrm>
            <a:off x="3287880" y="609480"/>
            <a:ext cx="5856120" cy="58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st_mars_4"/>
          <p:cNvPicPr/>
          <p:nvPr/>
        </p:nvPicPr>
        <p:blipFill>
          <a:blip r:embed="rId1"/>
          <a:stretch/>
        </p:blipFill>
        <p:spPr>
          <a:xfrm>
            <a:off x="0" y="679320"/>
            <a:ext cx="9144000" cy="61786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2438280" y="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 views  of 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4038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Picture 3" descr="viking_lander_model"/>
          <p:cNvPicPr/>
          <p:nvPr/>
        </p:nvPicPr>
        <p:blipFill>
          <a:blip r:embed="rId1"/>
          <a:stretch/>
        </p:blipFill>
        <p:spPr>
          <a:xfrm>
            <a:off x="380880" y="3124080"/>
            <a:ext cx="2438640" cy="151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vikinglander1-1small"/>
          <p:cNvPicPr/>
          <p:nvPr/>
        </p:nvPicPr>
        <p:blipFill>
          <a:blip r:embed="rId2"/>
          <a:stretch/>
        </p:blipFill>
        <p:spPr>
          <a:xfrm>
            <a:off x="4343400" y="1676520"/>
            <a:ext cx="4822920" cy="4952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 rot="20091000">
            <a:off x="533880" y="51051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king  Spacecraf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943600" y="2743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9 June 19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20720" y="228240"/>
            <a:ext cx="49658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su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Picture 3" descr="marspath_sol30s55"/>
          <p:cNvPicPr/>
          <p:nvPr/>
        </p:nvPicPr>
        <p:blipFill>
          <a:blip r:embed="rId1"/>
          <a:stretch/>
        </p:blipFill>
        <p:spPr>
          <a:xfrm>
            <a:off x="4724280" y="2554200"/>
            <a:ext cx="4114800" cy="4017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marspath_sol65"/>
          <p:cNvPicPr/>
          <p:nvPr/>
        </p:nvPicPr>
        <p:blipFill>
          <a:blip r:embed="rId2"/>
          <a:stretch/>
        </p:blipFill>
        <p:spPr>
          <a:xfrm>
            <a:off x="152280" y="1905120"/>
            <a:ext cx="3505320" cy="33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lympus Mons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rgest  volcano  in  solar  syst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3" descr="olympus_mons"/>
          <p:cNvPicPr/>
          <p:nvPr/>
        </p:nvPicPr>
        <p:blipFill>
          <a:blip r:embed="rId1"/>
          <a:stretch/>
        </p:blipFill>
        <p:spPr>
          <a:xfrm>
            <a:off x="2209680" y="1981080"/>
            <a:ext cx="5029200" cy="46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980720" y="5562720"/>
            <a:ext cx="4953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generated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3" descr="Olympus3D"/>
          <p:cNvPicPr/>
          <p:nvPr/>
        </p:nvPicPr>
        <p:blipFill>
          <a:blip r:embed="rId1"/>
          <a:stretch/>
        </p:blipFill>
        <p:spPr>
          <a:xfrm>
            <a:off x="1676520" y="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alles  Marine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2" name="Picture 3" descr="vallesmarineris3500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Line 4"/>
          <p:cNvSpPr/>
          <p:nvPr/>
        </p:nvSpPr>
        <p:spPr>
          <a:xfrm>
            <a:off x="152280" y="586728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276720" y="59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,20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9:45Z</dcterms:created>
  <dc:creator>Ben Zalewski</dc:creator>
  <dc:description>Part 2 of Solar System</dc:description>
  <cp:keywords>Part 2 of Solar System</cp:keywords>
  <dc:language>en-US</dc:language>
  <cp:lastModifiedBy>RomaK</cp:lastModifiedBy>
  <dcterms:modified xsi:type="dcterms:W3CDTF">2015-08-01T07:03:33Z</dcterms:modified>
  <cp:revision>11</cp:revision>
  <dc:subject>Part 2 of Solar System</dc:subject>
  <dc:title>Part 2 of Solar System</dc:title>
</cp:coreProperties>
</file>