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3.png" ContentType="image/png"/>
  <Override PartName="/ppt/media/image27.gif" ContentType="image/gif"/>
  <Override PartName="/ppt/media/image28.jpeg" ContentType="image/jpeg"/>
  <Override PartName="/ppt/media/image22.jpeg" ContentType="image/jpeg"/>
  <Override PartName="/ppt/media/image21.gif" ContentType="image/gif"/>
  <Override PartName="/ppt/media/image14.png" ContentType="image/png"/>
  <Override PartName="/ppt/media/image20.jpeg" ContentType="image/jpeg"/>
  <Override PartName="/ppt/media/image19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39.wmf" ContentType="image/x-wmf"/>
  <Override PartName="/ppt/media/image34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32.wmf" ContentType="image/x-wmf"/>
  <Override PartName="/ppt/media/image2.wmf" ContentType="image/x-wmf"/>
  <Override PartName="/ppt/media/image38.jpeg" ContentType="image/jpeg"/>
  <Override PartName="/ppt/media/image7.jpeg" ContentType="image/jpeg"/>
  <Override PartName="/ppt/media/image5.gif" ContentType="image/gif"/>
  <Override PartName="/ppt/media/image1.wmf" ContentType="image/x-wmf"/>
  <Override PartName="/ppt/media/image24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16AC-6F79-4862-BB84-D323275EA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1A9A-5D67-467B-BAD5-C65E4EE1CE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Our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0A47-246D-44B3-ABD5-DC93E667C8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10 August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1D95-49C3-444F-9DFA-F4D15DD868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9BF7-A36A-45A2-B460-EE8B12AE48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14DB-1C5C-42A2-A5F4-6900E50EC3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2327-68EA-4433-BAC4-7185F6A6AE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1269-53B9-4066-B02A-824F76C467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F815-B5A9-4B11-A903-2C6A0CBECF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67A0-E01A-4838-AB86-874978B7C9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4A92-9724-45C0-9D94-63F4D65B49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2940-C701-4C72-A96D-0235530F56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C691-410A-4301-AB08-F2B13E7B4A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1457-4436-4C8B-A0B2-001AF2A225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 &amp;  Moon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DB15-BD78-42B2-AD40-DC122249D0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6366-FE71-46DC-AF6A-6DABA7837C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787D-E307-4612-B580-6A7188437D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1459-92AE-400F-92BA-6A32D7B716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  Crater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A287-6343-463F-984A-7D99B5504F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8FE3-BF51-4844-B006-27C749C81C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 Moon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 June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931A-E558-4CAB-BB03-9B967DA208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4BDE-874E-4554-AC7E-69AEFA3FFC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16F1-51AA-4042-9F16-100E2A510E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E65E-0DFE-4549-B714-E28BCD28BD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0DF3-16DF-4B61-9778-52EAC7750C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4716-A0E8-4B5D-955F-B805E58049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ury</a:t>
            </a:r>
            <a:br>
              <a:rPr sz="2000"/>
            </a:b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5958-72BE-4EF9-A073-15B960B165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  w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ind  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CF56-2BBF-4013-868A-7EC3D8A107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 of  the  surface  of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6FA-C425-4724-B6E2-3DA00F47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51B-53FE-4E3A-BBE3-27DCA4A6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C44-FC86-4666-858C-5DBB2DAC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594-6EE2-412A-8C81-30178F84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C89A-DA7D-47B2-86F2-557F0B93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4D37-8403-4900-9C4D-03790894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912C-6EA3-44DC-AC85-98FB6059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B6C3-3E3D-4545-B6B2-7D93B5F1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1D13-63F3-4F78-8F14-C89AC28E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9F36-D3EE-4BA7-B16B-72CD4A8B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CFB5-1622-44B4-B6CC-6B763661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0F05-A67F-44F4-B61C-5BF57F12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1ADB-318A-47D6-AD1C-1CD49375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FCE0-933A-4088-A754-AE9374E0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F01F-4E53-4CE5-A4E1-DF363186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ED0D-49A1-43A5-B776-43FF927D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0AE4-F198-495E-ACFE-58B2A317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676-15A7-48AB-B3AE-25DF53E5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C80-879C-43BE-9913-D27CD93E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D4D-1EB5-4F32-851E-3C1B3181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3BB-6657-4BCF-B7FA-89AF0993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3861-DF46-4B6C-867C-5DCC09F9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114-5117-479E-9C3B-A494C054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F2A-27B5-4627-A3A0-821355C8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0547-7CEA-4F0B-825C-716F3F4A6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CB42-8301-46EC-9E11-423C0F031D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 Rounded MT Bold"/>
              </a:rPr>
              <a:t>Our  Solar  Syste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3" descr="MCj02151860000[1]"/>
          <p:cNvPicPr/>
          <p:nvPr/>
        </p:nvPicPr>
        <p:blipFill>
          <a:blip r:embed="rId1"/>
          <a:stretch/>
        </p:blipFill>
        <p:spPr>
          <a:xfrm rot="1918200">
            <a:off x="914040" y="4876920"/>
            <a:ext cx="1828800" cy="126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Cj02507900000[1]"/>
          <p:cNvPicPr/>
          <p:nvPr/>
        </p:nvPicPr>
        <p:blipFill>
          <a:blip r:embed="rId2"/>
          <a:stretch/>
        </p:blipFill>
        <p:spPr>
          <a:xfrm>
            <a:off x="5105520" y="3657600"/>
            <a:ext cx="2904840" cy="190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3010780000[1]"/>
          <p:cNvPicPr/>
          <p:nvPr/>
        </p:nvPicPr>
        <p:blipFill>
          <a:blip r:embed="rId3"/>
          <a:stretch/>
        </p:blipFill>
        <p:spPr>
          <a:xfrm rot="575400">
            <a:off x="1752480" y="2282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76920" y="38052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ellan  Spacecraf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10 August 1990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9" name="Picture 3" descr="Magellan"/>
          <p:cNvPicPr/>
          <p:nvPr/>
        </p:nvPicPr>
        <p:blipFill>
          <a:blip r:embed="rId1"/>
          <a:stretch/>
        </p:blipFill>
        <p:spPr>
          <a:xfrm>
            <a:off x="950760" y="1066680"/>
            <a:ext cx="35132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3" descr="Venus from Magellan"/>
          <p:cNvPicPr/>
          <p:nvPr/>
        </p:nvPicPr>
        <p:blipFill>
          <a:blip r:embed="rId1"/>
          <a:stretch/>
        </p:blipFill>
        <p:spPr>
          <a:xfrm>
            <a:off x="3048120" y="1066680"/>
            <a:ext cx="53719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  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ltraviolet  photograp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3" name="Picture 3" descr="pvo_uv_Venus"/>
          <p:cNvPicPr/>
          <p:nvPr/>
        </p:nvPicPr>
        <p:blipFill>
          <a:blip r:embed="rId1"/>
          <a:stretch/>
        </p:blipFill>
        <p:spPr>
          <a:xfrm>
            <a:off x="3621240" y="914400"/>
            <a:ext cx="552276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64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sketch was taken from the Jet Propulsion Lab’s 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photojournal.jpl.nasa.gov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60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Ben Zalewski  Nov.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MMj03363800000[1]"/>
          <p:cNvPicPr/>
          <p:nvPr/>
        </p:nvPicPr>
        <p:blipFill>
          <a:blip r:embed="rId1"/>
          <a:stretch/>
        </p:blipFill>
        <p:spPr>
          <a:xfrm>
            <a:off x="35812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photojournal"/>
          <p:cNvPicPr/>
          <p:nvPr/>
        </p:nvPicPr>
        <p:blipFill>
          <a:blip r:embed="rId1"/>
          <a:stretch/>
        </p:blipFill>
        <p:spPr>
          <a:xfrm>
            <a:off x="152280" y="20520"/>
            <a:ext cx="8686800" cy="669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las  Copernicus  published  the  theory  that  planets  revolve  around  the 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3" descr="copernic2"/>
          <p:cNvPicPr/>
          <p:nvPr/>
        </p:nvPicPr>
        <p:blipFill>
          <a:blip r:embed="rId1"/>
          <a:stretch/>
        </p:blipFill>
        <p:spPr>
          <a:xfrm>
            <a:off x="685800" y="3048120"/>
            <a:ext cx="4419720" cy="3265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54100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473 -- 154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MCj00831850000[1]"/>
          <p:cNvPicPr/>
          <p:nvPr/>
        </p:nvPicPr>
        <p:blipFill>
          <a:blip r:embed="rId2"/>
          <a:stretch/>
        </p:blipFill>
        <p:spPr>
          <a:xfrm rot="875400">
            <a:off x="6248160" y="2209680"/>
            <a:ext cx="205740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solar sys"/>
          <p:cNvPicPr/>
          <p:nvPr/>
        </p:nvPicPr>
        <p:blipFill>
          <a:blip r:embed="rId1"/>
          <a:stretch/>
        </p:blipFill>
        <p:spPr>
          <a:xfrm>
            <a:off x="0" y="0"/>
            <a:ext cx="5694480" cy="7086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6172200" y="36576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hotographs of  the  Pla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553080" y="609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r M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5"/>
          <p:cNvSpPr/>
          <p:nvPr/>
        </p:nvSpPr>
        <p:spPr>
          <a:xfrm flipH="1">
            <a:off x="525744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04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arth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  from Apollo 1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Picture 3" descr="apollo16_earth"/>
          <p:cNvPicPr/>
          <p:nvPr/>
        </p:nvPicPr>
        <p:blipFill>
          <a:blip r:embed="rId1"/>
          <a:stretch/>
        </p:blipFill>
        <p:spPr>
          <a:xfrm>
            <a:off x="3995640" y="0"/>
            <a:ext cx="477036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6765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Gulf of Califor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3733920" y="327672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MMj03369990000[1]"/>
          <p:cNvPicPr/>
          <p:nvPr/>
        </p:nvPicPr>
        <p:blipFill>
          <a:blip r:embed="rId2"/>
          <a:stretch/>
        </p:blipFill>
        <p:spPr>
          <a:xfrm rot="4350000">
            <a:off x="1142280" y="46479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2" name="Picture 3" descr="480px-Galileo_prep"/>
          <p:cNvPicPr/>
          <p:nvPr/>
        </p:nvPicPr>
        <p:blipFill>
          <a:blip r:embed="rId1"/>
          <a:stretch/>
        </p:blipFill>
        <p:spPr>
          <a:xfrm>
            <a:off x="2514600" y="1828800"/>
            <a:ext cx="3780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stralia  from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gal_australia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55" name="Line 4"/>
          <p:cNvSpPr/>
          <p:nvPr/>
        </p:nvSpPr>
        <p:spPr>
          <a:xfrm>
            <a:off x="2895480" y="990720"/>
            <a:ext cx="1067040" cy="2361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hotographs are taken from the NASA space mis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nssdc.gsfc.nasa.gov/photo_gallery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MCj00832270000[1]"/>
          <p:cNvPicPr/>
          <p:nvPr/>
        </p:nvPicPr>
        <p:blipFill>
          <a:blip r:embed="rId1"/>
          <a:stretch/>
        </p:blipFill>
        <p:spPr>
          <a:xfrm rot="20208600">
            <a:off x="6324120" y="3276360"/>
            <a:ext cx="1822680" cy="1803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globerotation"/>
          <p:cNvPicPr/>
          <p:nvPr/>
        </p:nvPicPr>
        <p:blipFill>
          <a:blip r:embed="rId2"/>
          <a:stretch/>
        </p:blipFill>
        <p:spPr>
          <a:xfrm>
            <a:off x="1295280" y="33526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  &amp;  Moon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Picture 3" descr="gal_earth_moon"/>
          <p:cNvPicPr/>
          <p:nvPr/>
        </p:nvPicPr>
        <p:blipFill>
          <a:blip r:embed="rId1"/>
          <a:stretch/>
        </p:blipFill>
        <p:spPr>
          <a:xfrm>
            <a:off x="1676520" y="838080"/>
            <a:ext cx="5607000" cy="682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rise – Apollo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3" descr="apollo08_earthrise"/>
          <p:cNvPicPr/>
          <p:nvPr/>
        </p:nvPicPr>
        <p:blipFill>
          <a:blip r:embed="rId1"/>
          <a:stretch/>
        </p:blipFill>
        <p:spPr>
          <a:xfrm>
            <a:off x="2057400" y="1501920"/>
            <a:ext cx="7086600" cy="5356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MCj00829810000[1]"/>
          <p:cNvPicPr/>
          <p:nvPr/>
        </p:nvPicPr>
        <p:blipFill>
          <a:blip r:embed="rId2"/>
          <a:stretch/>
        </p:blipFill>
        <p:spPr>
          <a:xfrm>
            <a:off x="762120" y="4191120"/>
            <a:ext cx="9954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26622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r  Mo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2" name="Picture 3" descr="gal_moon_color"/>
          <p:cNvPicPr/>
          <p:nvPr/>
        </p:nvPicPr>
        <p:blipFill>
          <a:blip r:embed="rId1"/>
          <a:stretch/>
        </p:blipFill>
        <p:spPr>
          <a:xfrm>
            <a:off x="3029040" y="533520"/>
            <a:ext cx="6114960" cy="6324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MCj03979310000[1]"/>
          <p:cNvPicPr/>
          <p:nvPr/>
        </p:nvPicPr>
        <p:blipFill>
          <a:blip r:embed="rId2"/>
          <a:stretch/>
        </p:blipFill>
        <p:spPr>
          <a:xfrm rot="21393000">
            <a:off x="829800" y="4491000"/>
            <a:ext cx="1197000" cy="1482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7621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Color  photogra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ollo 1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6" name="Picture 3" descr="apollo17_schmitt"/>
          <p:cNvPicPr/>
          <p:nvPr/>
        </p:nvPicPr>
        <p:blipFill>
          <a:blip r:embed="rId1"/>
          <a:stretch/>
        </p:blipFill>
        <p:spPr>
          <a:xfrm>
            <a:off x="2438280" y="1801800"/>
            <a:ext cx="6705720" cy="50371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1066680" y="5181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 Rounded MT Bold"/>
              </a:rPr>
              <a:t>Schmi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pernicus  Crater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Hub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9" name="Picture 3" descr="hstCopernicus"/>
          <p:cNvPicPr/>
          <p:nvPr/>
        </p:nvPicPr>
        <p:blipFill>
          <a:blip r:embed="rId1"/>
          <a:stretch/>
        </p:blipFill>
        <p:spPr>
          <a:xfrm>
            <a:off x="990720" y="2048040"/>
            <a:ext cx="7924680" cy="47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0" name="Line 4"/>
          <p:cNvSpPr/>
          <p:nvPr/>
        </p:nvSpPr>
        <p:spPr>
          <a:xfrm>
            <a:off x="1523880" y="5715000"/>
            <a:ext cx="70866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3434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on:  dark side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 Russian  Luna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3" name="Picture 3" descr="Luna3-dark side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  Moon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 June 200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Picture 3" descr="newmoon10Jun02"/>
          <p:cNvPicPr/>
          <p:nvPr/>
        </p:nvPicPr>
        <p:blipFill>
          <a:blip r:embed="rId1"/>
          <a:stretch/>
        </p:blipFill>
        <p:spPr>
          <a:xfrm>
            <a:off x="1905120" y="1568520"/>
            <a:ext cx="5638680" cy="52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85840" y="1219320"/>
            <a:ext cx="2895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 of part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j0304267"/>
          <p:cNvPicPr/>
          <p:nvPr/>
        </p:nvPicPr>
        <p:blipFill>
          <a:blip r:embed="rId1"/>
          <a:stretch/>
        </p:blipFill>
        <p:spPr>
          <a:xfrm>
            <a:off x="685800" y="1981080"/>
            <a:ext cx="1847880" cy="177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j0083185"/>
          <p:cNvPicPr/>
          <p:nvPr/>
        </p:nvPicPr>
        <p:blipFill>
          <a:blip r:embed="rId2"/>
          <a:stretch/>
        </p:blipFill>
        <p:spPr>
          <a:xfrm>
            <a:off x="6248520" y="3581280"/>
            <a:ext cx="1819080" cy="18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2514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 Su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Picture 3" descr="MPj04012310000[1]"/>
          <p:cNvPicPr/>
          <p:nvPr/>
        </p:nvPicPr>
        <p:blipFill>
          <a:blip r:embed="rId1"/>
          <a:stretch/>
        </p:blipFill>
        <p:spPr>
          <a:xfrm>
            <a:off x="228600" y="2819520"/>
            <a:ext cx="3914640" cy="313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MPj04075090000[1]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514600" y="6172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icrosoft Clip 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ar  Eclipse  200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3" descr="eclipse2001Zambia"/>
          <p:cNvPicPr/>
          <p:nvPr/>
        </p:nvPicPr>
        <p:blipFill>
          <a:blip r:embed="rId1"/>
          <a:stretch/>
        </p:blipFill>
        <p:spPr>
          <a:xfrm>
            <a:off x="2743200" y="14479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2209680" y="5257800"/>
            <a:ext cx="51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it  time:  3  hours  in  Lusaka,  Zamb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tal  eclipse:  2 sec.  short  of  3 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s  of  sun  taken  at  4  different  wavelengths  of ultraviolet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sun-Fe1"/>
          <p:cNvPicPr/>
          <p:nvPr/>
        </p:nvPicPr>
        <p:blipFill>
          <a:blip r:embed="rId1"/>
          <a:stretch/>
        </p:blipFill>
        <p:spPr>
          <a:xfrm>
            <a:off x="6400800" y="434340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sun-He"/>
          <p:cNvPicPr/>
          <p:nvPr/>
        </p:nvPicPr>
        <p:blipFill>
          <a:blip r:embed="rId2"/>
          <a:stretch/>
        </p:blipFill>
        <p:spPr>
          <a:xfrm>
            <a:off x="1600200" y="4419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sun-Fe3"/>
          <p:cNvPicPr/>
          <p:nvPr/>
        </p:nvPicPr>
        <p:blipFill>
          <a:blip r:embed="rId3"/>
          <a:stretch/>
        </p:blipFill>
        <p:spPr>
          <a:xfrm>
            <a:off x="380880" y="175248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un-Fe2"/>
          <p:cNvPicPr/>
          <p:nvPr/>
        </p:nvPicPr>
        <p:blipFill>
          <a:blip r:embed="rId4"/>
          <a:stretch/>
        </p:blipFill>
        <p:spPr>
          <a:xfrm>
            <a:off x="5257800" y="1828800"/>
            <a:ext cx="2338560" cy="23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riner 10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 Venus  &amp;  Mercu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9" name="Picture 3" descr="mariner10b"/>
          <p:cNvPicPr/>
          <p:nvPr/>
        </p:nvPicPr>
        <p:blipFill>
          <a:blip r:embed="rId1"/>
          <a:stretch/>
        </p:blipFill>
        <p:spPr>
          <a:xfrm>
            <a:off x="457200" y="2438280"/>
            <a:ext cx="4876920" cy="3586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Atlas-Mar10"/>
          <p:cNvPicPr/>
          <p:nvPr/>
        </p:nvPicPr>
        <p:blipFill>
          <a:blip r:embed="rId2"/>
          <a:stretch/>
        </p:blipFill>
        <p:spPr>
          <a:xfrm>
            <a:off x="6934320" y="3657600"/>
            <a:ext cx="1593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2666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ic mosa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3" descr="mercuryglobe2"/>
          <p:cNvPicPr/>
          <p:nvPr/>
        </p:nvPicPr>
        <p:blipFill>
          <a:blip r:embed="rId1"/>
          <a:stretch/>
        </p:blipFill>
        <p:spPr>
          <a:xfrm>
            <a:off x="426564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u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hind  i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mercury on sun"/>
          <p:cNvPicPr/>
          <p:nvPr/>
        </p:nvPicPr>
        <p:blipFill>
          <a:blip r:embed="rId1"/>
          <a:stretch/>
        </p:blipFill>
        <p:spPr>
          <a:xfrm>
            <a:off x="838080" y="179064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125" name="Line 4"/>
          <p:cNvSpPr/>
          <p:nvPr/>
        </p:nvSpPr>
        <p:spPr>
          <a:xfrm flipV="1">
            <a:off x="2362320" y="3885840"/>
            <a:ext cx="7596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1800" y="431280"/>
            <a:ext cx="734040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otographs  of  the  surface  of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Picture 3" descr="venera9-10"/>
          <p:cNvPicPr/>
          <p:nvPr/>
        </p:nvPicPr>
        <p:blipFill>
          <a:blip r:embed="rId1"/>
          <a:stretch/>
        </p:blipFill>
        <p:spPr>
          <a:xfrm>
            <a:off x="-190440" y="2057400"/>
            <a:ext cx="9334440" cy="462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2:31Z</dcterms:created>
  <dc:creator>Ben Zalewski</dc:creator>
  <dc:description>Our Solar System</dc:description>
  <cp:keywords>Our Solar System</cp:keywords>
  <dc:language>en-US</dc:language>
  <cp:lastModifiedBy>RomaK</cp:lastModifiedBy>
  <dcterms:modified xsi:type="dcterms:W3CDTF">2015-07-31T22:56:47Z</dcterms:modified>
  <cp:revision>8</cp:revision>
  <dc:subject>Our Solar System</dc:subject>
  <dc:title>Our Solar System</dc:title>
</cp:coreProperties>
</file>