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9.wmf" ContentType="image/x-wmf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0E2E-28E0-43DA-BF56-DA22DD24A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42B-9F20-45CC-A713-1AEB83B642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8ECB-AEA0-4F42-86C2-A0320FA93F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B5E6-AD6F-488D-A933-62D480BCE3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7140-796B-4CCB-986D-F1E42F4E76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A6A9-96BC-4268-B883-83DE5731B7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1B03-7813-4750-B61C-AB8A650792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7C99-00AC-472A-8288-003E0E3ECD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7169-701C-4210-A7B1-1FFC566320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AF23-721F-478C-9D59-773861051F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A16D-7F24-41A7-80AB-0A81B719BD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0918-C0B1-436F-AD9B-AE76D17E52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3AE6-7C70-4977-B9ED-33D0A85764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A417-4733-4658-87FF-FA0E9894A2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B83C-E523-459A-83D0-5D5C4138A5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F3CB-2554-4F01-A28A-3808946440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2016-174A-4812-B975-C759650F25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747B-A1D9-4FD6-BF37-81C7B9332A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9AEA-FC1D-4331-AA01-D8029E537A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AF0D-DA33-4B5C-AB06-1D233518FC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June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4522-DA40-4809-A170-FAC6CDACDF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74FE-746D-4055-8005-658784C6CC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550C-89FF-407C-AD33-9708A0F90A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24DA-473F-43D7-99CD-57626D4441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FF03-3D81-4E5E-90C5-2A2B3589BD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4046-85C9-4732-B324-06893EC2D6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DE19-5CAD-4FAE-A08D-0FD24BC74A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ind  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709D-BB88-4362-99C1-B6EB5B3339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05D-F0D5-4C17-8910-CBDF1166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242-E242-4B92-A259-91CFF89F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F56-2236-4E8B-8583-D39C0942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C0C4-A753-4D1A-8F39-89C16987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33A0-419A-488E-883E-40AD85F8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8EF0-1657-4A1F-8FE3-D1215AF3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924E-9858-4F23-97EF-B1586A77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3838-3266-456C-8E30-1E5052DE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5F2D-36B1-46BA-90E5-0A039143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B3EF1-40C6-42AD-87CC-0E263B0E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97AE-4582-4261-9089-0CD4D92A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595-812F-46DF-87A6-B0B0034D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64D9-5D90-463C-8CCD-013C1D4E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272B-4426-4609-A773-A6F047E2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5FB4-CE57-4CFC-A3DE-FD4AA44C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89C0-58A9-4D04-8B4D-9A89CEF5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5975-513A-4E37-BB0B-F56FA8FE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1DD-C253-41EE-B9A9-D1FC7FE5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26F-6FF7-4F00-B48C-CA19593A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608B-65A7-49D7-8CE1-42C156C1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4A34-35AD-4B8A-978D-6F760F0F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DB9-A844-48A9-9AE0-1324553E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ADB-F560-454B-B6B2-B59FB0D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57B-BEF8-4EC6-8FA0-B644D87D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B948-DB35-498D-8E96-00DD84170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0F1B-9AD6-47C8-B073-6AD97CA253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3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7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2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7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2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6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0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3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85840" y="1219320"/>
            <a:ext cx="2895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d of part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4" descr="j0304267"/>
          <p:cNvPicPr/>
          <p:nvPr/>
        </p:nvPicPr>
        <p:blipFill>
          <a:blip r:embed="rId1"/>
          <a:stretch/>
        </p:blipFill>
        <p:spPr>
          <a:xfrm>
            <a:off x="685800" y="1981080"/>
            <a:ext cx="1847880" cy="177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j0083185"/>
          <p:cNvPicPr/>
          <p:nvPr/>
        </p:nvPicPr>
        <p:blipFill>
          <a:blip r:embed="rId2"/>
          <a:stretch/>
        </p:blipFill>
        <p:spPr>
          <a:xfrm>
            <a:off x="6248520" y="3581280"/>
            <a:ext cx="1819080" cy="18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7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9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2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25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7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RomaK</cp:lastModifiedBy>
  <dcterms:modified xsi:type="dcterms:W3CDTF">2015-07-31T22:56:47Z</dcterms:modified>
  <cp:revision>8</cp:revision>
  <dc:subject>Our Solar System</dc:subject>
  <dc:title>Our Solar System</dc:title>
</cp:coreProperties>
</file>