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3.png" ContentType="image/png"/>
  <Override PartName="/ppt/media/image27.gif" ContentType="image/gif"/>
  <Override PartName="/ppt/media/image28.jpeg" ContentType="image/jpeg"/>
  <Override PartName="/ppt/media/image22.jpeg" ContentType="image/jpeg"/>
  <Override PartName="/ppt/media/image21.gif" ContentType="image/gif"/>
  <Override PartName="/ppt/media/image14.png" ContentType="image/png"/>
  <Override PartName="/ppt/media/image20.jpeg" ContentType="image/jpeg"/>
  <Override PartName="/ppt/media/image19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39.wmf" ContentType="image/x-wmf"/>
  <Override PartName="/ppt/media/image34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32.wmf" ContentType="image/x-wmf"/>
  <Override PartName="/ppt/media/image2.wmf" ContentType="image/x-wmf"/>
  <Override PartName="/ppt/media/image38.jpeg" ContentType="image/jpeg"/>
  <Override PartName="/ppt/media/image7.jpeg" ContentType="image/jpeg"/>
  <Override PartName="/ppt/media/image5.gif" ContentType="image/gif"/>
  <Override PartName="/ppt/media/image1.wmf" ContentType="image/x-wmf"/>
  <Override PartName="/ppt/media/image24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48C2-72AB-4374-A1CF-C00BF75FE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CC88-9D99-4CA1-AA6F-5B7E11BC41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Our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94D9-9D26-4EE5-A540-A35CE64402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ellan  Spacecraft</a:t>
            </a:r>
            <a:br>
              <a:rPr sz="1200"/>
            </a:b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10 August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45DD-B464-49D9-9E50-ED1D22780E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9F61-3C91-4400-873B-C463936868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   -- ultraviolet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2621-F466-4E48-B21F-B1D89FFF81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sketch was taken from the Jet Propulsion Lab’s 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otojournal.jpl.nasa.gov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2FC0-B0C1-4712-AC7E-992A90B3DA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8882-9997-418C-AA0F-3B79799D30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s  Copernicus  published  the  theory  that  planets  revolve  around  the 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EC8B-2CC2-49EF-88D2-C9A7D45917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DAC8-EACB-4696-8039-19CC0CA6DE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  from Apollo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8FD1-621B-4B9D-8425-0652861E8C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B862-AFDA-4CF1-9BBD-0E3AD4E1F9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 from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BEE9-D38A-468F-A6B1-3A361F1F58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hotographs are taken from the NASA space mi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hoto_galler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5BBF-6AFF-4305-867A-726E8F8320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 &amp;  Moon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8277-CE90-4B20-ADF7-4D5484B2E4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rise – Apoll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B9CE-3115-4F22-992D-4B60D6915A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7199-2E55-43BD-85F9-2DA7F7A8FB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0D6A-1883-42E0-A372-F922EFB775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  Crater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7EDF-1FCA-4115-81F5-6B03A75BBA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:  dark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Russian  Lun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4980-1898-4F84-9575-EEEA324C84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 Moon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 June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E13B-EA71-4809-9E55-BA5341E560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BF8D-5A6D-43C2-A2C1-3F9D4D7772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9E27-C3AC-4921-98A9-59AB581501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 Eclipse 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98B4-D9CE-407E-9791-EB6A24675A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  of  sun  taken  at  4  different  wavelengths  of ultraviol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B2AD-E6EA-4256-B4E1-7DAEB094BF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ner 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Venus  &amp; 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A7F3-D2CB-41F0-8B1C-60E496E705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ury</a:t>
            </a:r>
            <a:br>
              <a:rPr sz="2000"/>
            </a:b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mosa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A075-F9FE-471E-AA28-F950C8436C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  wi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ind  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4AF1-E0F6-4486-867C-A9C146A65F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 of  the  surface  of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1B61-BD5C-475D-BED2-4E872F46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A9B-5F47-476F-BEEB-3202C44C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0044-1C18-4606-B8D4-1099D0DD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7621-8B23-4B90-9156-9B18B8E2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776B-CFA6-4FE5-9BED-5D3096C1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2FA1-2468-40C9-AA8A-075DDF99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0370-8F62-496F-9CCC-246F84C7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EB89-8D98-44F1-9E42-3DADDE54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D4FF-17CD-4EDF-BE2E-6D97C09D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5931-5A23-4F9E-BB07-A4060130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14D9-87B2-4C56-81BD-1285C4D7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5C7B-241D-4C6C-9A39-77361386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5578-4708-4DFC-8296-F6855450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76CA-487F-417C-807D-4DDD0CEC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077B-EC04-4BC5-9F74-0F1F50F6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23DE-7DFF-4EDA-A396-E46F370F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07E7-E7CA-4A5B-8700-637C2F46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217-EC3A-401F-958E-37F08259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CE06-B37F-4BB5-9421-1207C695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8385-5155-471E-B74D-BA6DF6D7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818-1F48-46C5-9EB4-82163D7D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9985-642F-4E8D-8B4D-055BA685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7AFC-BF0B-47A9-BD36-B7A360A4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2462-6D2B-411C-AFC7-0C4CB759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D3FD-4093-45C7-A123-CBF1F50496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42AC-BFCE-4D6D-A4AD-E2AA9EB94C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 Rounded MT Bold"/>
              </a:rPr>
              <a:t>Our  Solar  Syste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3" descr="MCj02151860000[1]"/>
          <p:cNvPicPr/>
          <p:nvPr/>
        </p:nvPicPr>
        <p:blipFill>
          <a:blip r:embed="rId1"/>
          <a:stretch/>
        </p:blipFill>
        <p:spPr>
          <a:xfrm rot="1918200">
            <a:off x="914040" y="4876920"/>
            <a:ext cx="1828800" cy="126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Cj02507900000[1]"/>
          <p:cNvPicPr/>
          <p:nvPr/>
        </p:nvPicPr>
        <p:blipFill>
          <a:blip r:embed="rId2"/>
          <a:stretch/>
        </p:blipFill>
        <p:spPr>
          <a:xfrm>
            <a:off x="5105520" y="3657600"/>
            <a:ext cx="2904840" cy="190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MCj03010780000[1]"/>
          <p:cNvPicPr/>
          <p:nvPr/>
        </p:nvPicPr>
        <p:blipFill>
          <a:blip r:embed="rId3"/>
          <a:stretch/>
        </p:blipFill>
        <p:spPr>
          <a:xfrm rot="575400">
            <a:off x="1752480" y="2282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76920" y="38052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ellan  Spacecraft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10 August 1990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9" name="Picture 3" descr="Magellan"/>
          <p:cNvPicPr/>
          <p:nvPr/>
        </p:nvPicPr>
        <p:blipFill>
          <a:blip r:embed="rId1"/>
          <a:stretch/>
        </p:blipFill>
        <p:spPr>
          <a:xfrm>
            <a:off x="950760" y="1066680"/>
            <a:ext cx="35132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Picture 3" descr="Venus from Magellan"/>
          <p:cNvPicPr/>
          <p:nvPr/>
        </p:nvPicPr>
        <p:blipFill>
          <a:blip r:embed="rId1"/>
          <a:stretch/>
        </p:blipFill>
        <p:spPr>
          <a:xfrm>
            <a:off x="3048120" y="1066680"/>
            <a:ext cx="53719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2743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  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ltraviolet  photograph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3" name="Picture 3" descr="pvo_uv_Venus"/>
          <p:cNvPicPr/>
          <p:nvPr/>
        </p:nvPicPr>
        <p:blipFill>
          <a:blip r:embed="rId1"/>
          <a:stretch/>
        </p:blipFill>
        <p:spPr>
          <a:xfrm>
            <a:off x="3621240" y="914400"/>
            <a:ext cx="552276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64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llowing sketch was taken from the Jet Propulsion Lab’s  web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photojournal.jpl.nasa.gov/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860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Ben Zalewski  Nov.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MMj03363800000[1]"/>
          <p:cNvPicPr/>
          <p:nvPr/>
        </p:nvPicPr>
        <p:blipFill>
          <a:blip r:embed="rId1"/>
          <a:stretch/>
        </p:blipFill>
        <p:spPr>
          <a:xfrm>
            <a:off x="35812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photojournal"/>
          <p:cNvPicPr/>
          <p:nvPr/>
        </p:nvPicPr>
        <p:blipFill>
          <a:blip r:embed="rId1"/>
          <a:stretch/>
        </p:blipFill>
        <p:spPr>
          <a:xfrm>
            <a:off x="152280" y="20520"/>
            <a:ext cx="8686800" cy="669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las  Copernicus  published  the  theory  that  planets  revolve  around  the 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3" descr="copernic2"/>
          <p:cNvPicPr/>
          <p:nvPr/>
        </p:nvPicPr>
        <p:blipFill>
          <a:blip r:embed="rId1"/>
          <a:stretch/>
        </p:blipFill>
        <p:spPr>
          <a:xfrm>
            <a:off x="685800" y="3048120"/>
            <a:ext cx="4419720" cy="3265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541008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473 -- 154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MCj00831850000[1]"/>
          <p:cNvPicPr/>
          <p:nvPr/>
        </p:nvPicPr>
        <p:blipFill>
          <a:blip r:embed="rId2"/>
          <a:stretch/>
        </p:blipFill>
        <p:spPr>
          <a:xfrm rot="875400">
            <a:off x="6248160" y="2209680"/>
            <a:ext cx="205740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solar sys"/>
          <p:cNvPicPr/>
          <p:nvPr/>
        </p:nvPicPr>
        <p:blipFill>
          <a:blip r:embed="rId1"/>
          <a:stretch/>
        </p:blipFill>
        <p:spPr>
          <a:xfrm>
            <a:off x="0" y="0"/>
            <a:ext cx="5694480" cy="7086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6172200" y="36576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hotographs of  the  Plan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553080" y="609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ur Mo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5"/>
          <p:cNvSpPr/>
          <p:nvPr/>
        </p:nvSpPr>
        <p:spPr>
          <a:xfrm flipH="1">
            <a:off x="5257440" y="838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048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arth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  from Apollo 1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7" name="Picture 3" descr="apollo16_earth"/>
          <p:cNvPicPr/>
          <p:nvPr/>
        </p:nvPicPr>
        <p:blipFill>
          <a:blip r:embed="rId1"/>
          <a:stretch/>
        </p:blipFill>
        <p:spPr>
          <a:xfrm>
            <a:off x="3995640" y="0"/>
            <a:ext cx="477036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676520" y="3048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Gulf of Califor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3733920" y="327672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6" descr="MMj03369990000[1]"/>
          <p:cNvPicPr/>
          <p:nvPr/>
        </p:nvPicPr>
        <p:blipFill>
          <a:blip r:embed="rId2"/>
          <a:stretch/>
        </p:blipFill>
        <p:spPr>
          <a:xfrm rot="4350000">
            <a:off x="1142280" y="46479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2" name="Picture 3" descr="480px-Galileo_prep"/>
          <p:cNvPicPr/>
          <p:nvPr/>
        </p:nvPicPr>
        <p:blipFill>
          <a:blip r:embed="rId1"/>
          <a:stretch/>
        </p:blipFill>
        <p:spPr>
          <a:xfrm>
            <a:off x="2514600" y="1828800"/>
            <a:ext cx="3780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stralia  from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Picture 3" descr="gal_australia"/>
          <p:cNvPicPr/>
          <p:nvPr/>
        </p:nvPicPr>
        <p:blipFill>
          <a:blip r:embed="rId1"/>
          <a:stretch/>
        </p:blipFill>
        <p:spPr>
          <a:xfrm>
            <a:off x="1066680" y="13716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55" name="Line 4"/>
          <p:cNvSpPr/>
          <p:nvPr/>
        </p:nvSpPr>
        <p:spPr>
          <a:xfrm>
            <a:off x="2895480" y="990720"/>
            <a:ext cx="1067040" cy="2361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2120" y="609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photographs are taken from the NASA space mis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nssdc.gsfc.nasa.gov/photo_gallery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MCj00832270000[1]"/>
          <p:cNvPicPr/>
          <p:nvPr/>
        </p:nvPicPr>
        <p:blipFill>
          <a:blip r:embed="rId1"/>
          <a:stretch/>
        </p:blipFill>
        <p:spPr>
          <a:xfrm rot="20208600">
            <a:off x="6324120" y="3276360"/>
            <a:ext cx="1822680" cy="1803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globerotation"/>
          <p:cNvPicPr/>
          <p:nvPr/>
        </p:nvPicPr>
        <p:blipFill>
          <a:blip r:embed="rId2"/>
          <a:stretch/>
        </p:blipFill>
        <p:spPr>
          <a:xfrm>
            <a:off x="1295280" y="33526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  &amp;  Moon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Picture 3" descr="gal_earth_moon"/>
          <p:cNvPicPr/>
          <p:nvPr/>
        </p:nvPicPr>
        <p:blipFill>
          <a:blip r:embed="rId1"/>
          <a:stretch/>
        </p:blipFill>
        <p:spPr>
          <a:xfrm>
            <a:off x="1676520" y="838080"/>
            <a:ext cx="5607000" cy="682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rise – Apollo 8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3" descr="apollo08_earthrise"/>
          <p:cNvPicPr/>
          <p:nvPr/>
        </p:nvPicPr>
        <p:blipFill>
          <a:blip r:embed="rId1"/>
          <a:stretch/>
        </p:blipFill>
        <p:spPr>
          <a:xfrm>
            <a:off x="2057400" y="1501920"/>
            <a:ext cx="7086600" cy="5356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MCj00829810000[1]"/>
          <p:cNvPicPr/>
          <p:nvPr/>
        </p:nvPicPr>
        <p:blipFill>
          <a:blip r:embed="rId2"/>
          <a:stretch/>
        </p:blipFill>
        <p:spPr>
          <a:xfrm>
            <a:off x="762120" y="4191120"/>
            <a:ext cx="9954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26622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ur  Mo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2" name="Picture 3" descr="gal_moon_color"/>
          <p:cNvPicPr/>
          <p:nvPr/>
        </p:nvPicPr>
        <p:blipFill>
          <a:blip r:embed="rId1"/>
          <a:stretch/>
        </p:blipFill>
        <p:spPr>
          <a:xfrm>
            <a:off x="3029040" y="533520"/>
            <a:ext cx="6114960" cy="6324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MCj03979310000[1]"/>
          <p:cNvPicPr/>
          <p:nvPr/>
        </p:nvPicPr>
        <p:blipFill>
          <a:blip r:embed="rId2"/>
          <a:stretch/>
        </p:blipFill>
        <p:spPr>
          <a:xfrm rot="21393000">
            <a:off x="829800" y="4491000"/>
            <a:ext cx="1197000" cy="1482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762120" y="25146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Color  photogra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ollo 1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6" name="Picture 3" descr="apollo17_schmitt"/>
          <p:cNvPicPr/>
          <p:nvPr/>
        </p:nvPicPr>
        <p:blipFill>
          <a:blip r:embed="rId1"/>
          <a:stretch/>
        </p:blipFill>
        <p:spPr>
          <a:xfrm>
            <a:off x="2438280" y="1801800"/>
            <a:ext cx="6705720" cy="50371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1066680" y="5181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 Rounded MT Bold"/>
              </a:rPr>
              <a:t>Schmi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pernicus  Crater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Hub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9" name="Picture 3" descr="hstCopernicus"/>
          <p:cNvPicPr/>
          <p:nvPr/>
        </p:nvPicPr>
        <p:blipFill>
          <a:blip r:embed="rId1"/>
          <a:stretch/>
        </p:blipFill>
        <p:spPr>
          <a:xfrm>
            <a:off x="990720" y="2048040"/>
            <a:ext cx="7924680" cy="47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0" name="Line 4"/>
          <p:cNvSpPr/>
          <p:nvPr/>
        </p:nvSpPr>
        <p:spPr>
          <a:xfrm>
            <a:off x="1523880" y="5715000"/>
            <a:ext cx="70866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34340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9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on:  dark side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om  Russian  Luna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3" name="Picture 3" descr="Luna3-dark side"/>
          <p:cNvPicPr/>
          <p:nvPr/>
        </p:nvPicPr>
        <p:blipFill>
          <a:blip r:embed="rId1"/>
          <a:stretch/>
        </p:blipFill>
        <p:spPr>
          <a:xfrm>
            <a:off x="762120" y="1981080"/>
            <a:ext cx="7696080" cy="45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w  Moon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0 June 2002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Picture 3" descr="newmoon10Jun02"/>
          <p:cNvPicPr/>
          <p:nvPr/>
        </p:nvPicPr>
        <p:blipFill>
          <a:blip r:embed="rId1"/>
          <a:stretch/>
        </p:blipFill>
        <p:spPr>
          <a:xfrm>
            <a:off x="1905120" y="1568520"/>
            <a:ext cx="5638680" cy="52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885840" y="1219320"/>
            <a:ext cx="2895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 of part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j0304267"/>
          <p:cNvPicPr/>
          <p:nvPr/>
        </p:nvPicPr>
        <p:blipFill>
          <a:blip r:embed="rId1"/>
          <a:stretch/>
        </p:blipFill>
        <p:spPr>
          <a:xfrm>
            <a:off x="685800" y="1981080"/>
            <a:ext cx="1847880" cy="1770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j0083185"/>
          <p:cNvPicPr/>
          <p:nvPr/>
        </p:nvPicPr>
        <p:blipFill>
          <a:blip r:embed="rId2"/>
          <a:stretch/>
        </p:blipFill>
        <p:spPr>
          <a:xfrm>
            <a:off x="6248520" y="3581280"/>
            <a:ext cx="1819080" cy="18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2514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 Su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7" name="Picture 3" descr="MPj04012310000[1]"/>
          <p:cNvPicPr/>
          <p:nvPr/>
        </p:nvPicPr>
        <p:blipFill>
          <a:blip r:embed="rId1"/>
          <a:stretch/>
        </p:blipFill>
        <p:spPr>
          <a:xfrm>
            <a:off x="228600" y="2819520"/>
            <a:ext cx="3914640" cy="313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MPj04075090000[1]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514600" y="6172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icrosoft Clip 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ar  Eclipse  200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Picture 3" descr="eclipse2001Zambia"/>
          <p:cNvPicPr/>
          <p:nvPr/>
        </p:nvPicPr>
        <p:blipFill>
          <a:blip r:embed="rId1"/>
          <a:stretch/>
        </p:blipFill>
        <p:spPr>
          <a:xfrm>
            <a:off x="2743200" y="14479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2209680" y="5257800"/>
            <a:ext cx="5181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it  time:  3  hours  in  Lusaka,  Zamb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tal  eclipse:  2 sec.  short  of  3  minu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otos  of  sun  taken  at  4  different  wavelengths  of ultraviolet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sun-Fe1"/>
          <p:cNvPicPr/>
          <p:nvPr/>
        </p:nvPicPr>
        <p:blipFill>
          <a:blip r:embed="rId1"/>
          <a:stretch/>
        </p:blipFill>
        <p:spPr>
          <a:xfrm>
            <a:off x="6400800" y="434340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sun-He"/>
          <p:cNvPicPr/>
          <p:nvPr/>
        </p:nvPicPr>
        <p:blipFill>
          <a:blip r:embed="rId2"/>
          <a:stretch/>
        </p:blipFill>
        <p:spPr>
          <a:xfrm>
            <a:off x="1600200" y="4419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sun-Fe3"/>
          <p:cNvPicPr/>
          <p:nvPr/>
        </p:nvPicPr>
        <p:blipFill>
          <a:blip r:embed="rId3"/>
          <a:stretch/>
        </p:blipFill>
        <p:spPr>
          <a:xfrm>
            <a:off x="380880" y="175248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un-Fe2"/>
          <p:cNvPicPr/>
          <p:nvPr/>
        </p:nvPicPr>
        <p:blipFill>
          <a:blip r:embed="rId4"/>
          <a:stretch/>
        </p:blipFill>
        <p:spPr>
          <a:xfrm>
            <a:off x="5257800" y="1828800"/>
            <a:ext cx="2338560" cy="23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riner 10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 Venus  &amp;  Mercur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9" name="Picture 3" descr="mariner10b"/>
          <p:cNvPicPr/>
          <p:nvPr/>
        </p:nvPicPr>
        <p:blipFill>
          <a:blip r:embed="rId1"/>
          <a:stretch/>
        </p:blipFill>
        <p:spPr>
          <a:xfrm>
            <a:off x="457200" y="2438280"/>
            <a:ext cx="4876920" cy="3586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Atlas-Mar10"/>
          <p:cNvPicPr/>
          <p:nvPr/>
        </p:nvPicPr>
        <p:blipFill>
          <a:blip r:embed="rId2"/>
          <a:stretch/>
        </p:blipFill>
        <p:spPr>
          <a:xfrm>
            <a:off x="6934320" y="3657600"/>
            <a:ext cx="15937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2666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ic mosa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Picture 3" descr="mercuryglobe2"/>
          <p:cNvPicPr/>
          <p:nvPr/>
        </p:nvPicPr>
        <p:blipFill>
          <a:blip r:embed="rId1"/>
          <a:stretch/>
        </p:blipFill>
        <p:spPr>
          <a:xfrm>
            <a:off x="4265640" y="0"/>
            <a:ext cx="4635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u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hind  i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mercury on sun"/>
          <p:cNvPicPr/>
          <p:nvPr/>
        </p:nvPicPr>
        <p:blipFill>
          <a:blip r:embed="rId1"/>
          <a:stretch/>
        </p:blipFill>
        <p:spPr>
          <a:xfrm>
            <a:off x="838080" y="179064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125" name="Line 4"/>
          <p:cNvSpPr/>
          <p:nvPr/>
        </p:nvSpPr>
        <p:spPr>
          <a:xfrm flipV="1">
            <a:off x="2362320" y="3885840"/>
            <a:ext cx="75960" cy="1219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1800" y="431280"/>
            <a:ext cx="734040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hotographs  of  the  surface  of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7" name="Picture 3" descr="venera9-10"/>
          <p:cNvPicPr/>
          <p:nvPr/>
        </p:nvPicPr>
        <p:blipFill>
          <a:blip r:embed="rId1"/>
          <a:stretch/>
        </p:blipFill>
        <p:spPr>
          <a:xfrm>
            <a:off x="-190440" y="2057400"/>
            <a:ext cx="9334440" cy="4629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2:31Z</dcterms:created>
  <dc:creator>Ben Zalewski</dc:creator>
  <dc:description>Our Solar System</dc:description>
  <cp:keywords>Our Solar System</cp:keywords>
  <dc:language>en-US</dc:language>
  <cp:lastModifiedBy>RomaK</cp:lastModifiedBy>
  <dcterms:modified xsi:type="dcterms:W3CDTF">2015-07-31T22:56:47Z</dcterms:modified>
  <cp:revision>8</cp:revision>
  <dc:subject>Our Solar System</dc:subject>
  <dc:title>Our Solar System</dc:title>
</cp:coreProperties>
</file>