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4DEE-8DB4-4892-93E2-22672F800C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y Tom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ri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Brom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omine is one of the main ingredients in camera films (as silver bromide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 is one of the main ingredients in camera films (as silver bromid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Iod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en dissolved in water, iodine can be used as a strong antiseptic or as a test for starch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ssolved in water, iodine can be used as a strong antiseptic or as a test for st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Thank you for watching !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watching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 are a group of non- metals in the periodic tab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y all have seven electrons in their outer shell this makes them all really reactive; they only have to gain one more electron to fill their outer shell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like Group One the elements get less reactive as you go down the group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 are a group of non- metals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 have seven electrons in their outer shell this makes them all really reactive; they only have to gain one more electron to fill their outer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Group One the elements get less reactive as you go down the gro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luorine  (F)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 2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Fluor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F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9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18.998404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219.62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-188.14 °C 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9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0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Greenish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ne  (F)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2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Flu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18.9984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219.62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-188.14 °C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Green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lorine (Cl)                               2,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100.98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-34.6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17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green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(Cl)                               2,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100.98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-34.6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gre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omine (Br)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2,8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7.2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58.78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3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45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Re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 (Br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2,8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7.2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58.78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odine (I)                            2,8,18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Iod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I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53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126.90447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113.5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184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53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74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blackish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(I)                            2,8,18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Iod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I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5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126.9044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113.5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184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5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7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black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statine (At)                 2,8,18,32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302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337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8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2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Unknown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atine (At)                 2,8,18,32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302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337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Unkn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Fluor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main use of fluorine is toothpaste even though it isn’t as fluorine itself but instead as fluoride, a compound of fluorine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use of fluorine is toothpaste even though it isn’t as fluorine itself but instead as fluoride, a compound of fluor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Chlor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lorine is used mostly to kill bacteria or as a bleach. Chlorine bleaches  a piece of universal indicator paper white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used mostly to kill bacteria or as a bleach. Chlorine bleaches  a piece of universal indicator paper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2BF1-CB0C-4916-90DC-C8036730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005-3DEA-432D-B40C-39C16A2B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F31-02DC-434C-BDF4-2D3C3834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2B0D-E5CC-4AD7-B369-4D025CE0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4384-3AEF-4AEA-A077-4D83EA97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CDCC-AAA6-43A4-A050-F9710BAB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BF63-1BF3-4D38-AD89-F87B4B57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E5FC-9B47-492F-ADF5-422282E3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6E1D-0A8B-4E22-AF2D-099F3143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4F25-1C00-480C-BFBE-04AE75FF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8ED8-77E3-47F5-98A0-5F8070C9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E37-85D1-4A5B-BA9A-6E0252D9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DA40-0BD3-43F8-8F87-8168507C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6ECA-0027-4171-A989-B8A6DD00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6849-6CD6-44CC-A9C5-9ED27E4D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C072-738D-475F-ABA9-17A96C49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CADD-EA6B-4200-AFA8-742D4967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006-9941-4159-816A-9AAA0C92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F07-4375-4453-A95D-785B1B31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541-D30B-46E5-8F73-AE9567D1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4D3-6C84-4CFC-80B0-1E19F49E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49EC-BD93-4A26-93F6-84874F5F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A23-AB50-4F5D-9D3B-5B19CA14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180-981F-44D8-8C84-C9FC01F6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9082-C220-4025-BE02-BBB5009FFF0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32A9-2424-4A0D-9D81-E3570658F01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By To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Chr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5" descr="j0076135"/>
          <p:cNvPicPr/>
          <p:nvPr/>
        </p:nvPicPr>
        <p:blipFill>
          <a:blip r:embed="rId1"/>
          <a:stretch/>
        </p:blipFill>
        <p:spPr>
          <a:xfrm>
            <a:off x="609480" y="5006880"/>
            <a:ext cx="2549520" cy="185112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Brom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Picture 3" descr="images"/>
          <p:cNvPicPr/>
          <p:nvPr/>
        </p:nvPicPr>
        <p:blipFill>
          <a:blip r:embed="rId1"/>
          <a:stretch/>
        </p:blipFill>
        <p:spPr>
          <a:xfrm>
            <a:off x="990720" y="2590920"/>
            <a:ext cx="2895480" cy="2560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4114800" y="25909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Bromine is one of the main ingredients in camera films (as silver bromide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Iod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3" descr="pg%2050%20safecross%20antiseptic"/>
          <p:cNvPicPr/>
          <p:nvPr/>
        </p:nvPicPr>
        <p:blipFill>
          <a:blip r:embed="rId1"/>
          <a:stretch/>
        </p:blipFill>
        <p:spPr>
          <a:xfrm>
            <a:off x="838080" y="2438280"/>
            <a:ext cx="2394000" cy="2605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352680" y="2514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When dissolved in water, iodine can be used as a strong antiseptic or as a test for starch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ank you for watching 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Haloge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14400" y="2362320"/>
            <a:ext cx="49528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 halogens are a group of non- metals in the periodic ta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y all have seven electrons in their outer shell this makes them all really reactive; they only have to gain one more electron to fill their outer shell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Unlike Group One the elements get less reactive as you go down the group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luorine  (F)  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     2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90720" y="2438280"/>
            <a:ext cx="556236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Fluor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F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9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.998404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219.62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188.14 °C 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9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0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Greenish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5000" y="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9" name="Picture 6" descr="b0009"/>
          <p:cNvPicPr/>
          <p:nvPr/>
        </p:nvPicPr>
        <p:blipFill>
          <a:blip r:embed="rId1"/>
          <a:stretch/>
        </p:blipFill>
        <p:spPr>
          <a:xfrm>
            <a:off x="5562720" y="3360600"/>
            <a:ext cx="3273480" cy="324180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lorine (Cl)                               2,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46280" y="2395440"/>
            <a:ext cx="47401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Chlor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Cl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7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.4527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100.98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34.6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7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green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638680" y="35812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3" name="Picture 5" descr="b0009"/>
          <p:cNvPicPr/>
          <p:nvPr/>
        </p:nvPicPr>
        <p:blipFill>
          <a:blip r:embed="rId1"/>
          <a:stretch/>
        </p:blipFill>
        <p:spPr>
          <a:xfrm>
            <a:off x="5638680" y="3381480"/>
            <a:ext cx="3505320" cy="34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omine (Br)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    2,8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38080" y="2362320"/>
            <a:ext cx="47246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Brom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Br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79.904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7.2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8.78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45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Red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6" name="Picture 4" descr="b0009"/>
          <p:cNvPicPr/>
          <p:nvPr/>
        </p:nvPicPr>
        <p:blipFill>
          <a:blip r:embed="rId1"/>
          <a:stretch/>
        </p:blipFill>
        <p:spPr>
          <a:xfrm>
            <a:off x="5029200" y="2771640"/>
            <a:ext cx="4114800" cy="40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odine (I)                            2,8,18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38080" y="2438280"/>
            <a:ext cx="480060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Iod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I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3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26.90447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13.5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4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3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74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blackish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Picture 4" descr="b0009"/>
          <p:cNvPicPr/>
          <p:nvPr/>
        </p:nvPicPr>
        <p:blipFill>
          <a:blip r:embed="rId1"/>
          <a:stretch/>
        </p:blipFill>
        <p:spPr>
          <a:xfrm>
            <a:off x="5029200" y="2971800"/>
            <a:ext cx="39132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tatine (At)                 2,8,18,32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90720" y="2438280"/>
            <a:ext cx="4343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Astat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At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8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(210.0)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02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37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8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2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Unknown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2" name="Picture 4" descr="b0009"/>
          <p:cNvPicPr/>
          <p:nvPr/>
        </p:nvPicPr>
        <p:blipFill>
          <a:blip r:embed="rId1"/>
          <a:stretch/>
        </p:blipFill>
        <p:spPr>
          <a:xfrm>
            <a:off x="5086440" y="2822400"/>
            <a:ext cx="4057560" cy="40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Fluor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3" descr="45"/>
          <p:cNvPicPr/>
          <p:nvPr/>
        </p:nvPicPr>
        <p:blipFill>
          <a:blip r:embed="rId1"/>
          <a:stretch/>
        </p:blipFill>
        <p:spPr>
          <a:xfrm>
            <a:off x="838080" y="2438280"/>
            <a:ext cx="3581640" cy="2686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46483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 main use of fluorine is toothpaste even though it isn’t as fluorine itself but instead as 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</a:rPr>
              <a:t>fluoride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, a compound of fluorin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Chlor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Picture 3" descr="76"/>
          <p:cNvPicPr/>
          <p:nvPr/>
        </p:nvPicPr>
        <p:blipFill>
          <a:blip r:embed="rId1"/>
          <a:stretch/>
        </p:blipFill>
        <p:spPr>
          <a:xfrm>
            <a:off x="838080" y="2438280"/>
            <a:ext cx="3759480" cy="2819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4800600" y="243828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Chlorine is used mostly to kill bacteria or as a bleach. Chlorine bleaches  a piece of universal indicator paper whit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8:55:28Z</dcterms:created>
  <dc:creator>A User</dc:creator>
  <dc:description/>
  <dc:language>en-US</dc:language>
  <cp:lastModifiedBy>RomaK</cp:lastModifiedBy>
  <dcterms:modified xsi:type="dcterms:W3CDTF">2015-09-02T06:04:18Z</dcterms:modified>
  <cp:revision>9</cp:revision>
  <dc:subject/>
  <dc:title>The Halogens</dc:title>
</cp:coreProperties>
</file>