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D76D-DAF4-4191-A718-0D5EC3506A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Halogen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y Tom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hri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ses of Bromin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romine is one of the main ingredients in camera films (as silver bromide)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Bro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mine is one of the main ingredients in camera films (as silver bromid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ses of Iodin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hen dissolved in water, iodine can be used as a strong antiseptic or as a test for starch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I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issolved in water, iodine can be used as a strong antiseptic or as a test for star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Thank you for watching !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for watching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Halogen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halogens are a group of non- metals in the periodic tabl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y all have seven electrons in their outer shell this makes them all really reactive; they only have to gain one more electron to fill their outer shell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nlike Group One the elements get less reactive as you go down the group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logens are a group of non- metals in the periodic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 have seven electrons in their outer shell this makes them all really reactive; they only have to gain one more electron to fill their outer sh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Group One the elements get less reactive as you go down the grou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luorine  (F)  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     2,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ame: Fluorine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ymbol: F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Number: 9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Mass: 18.998404 amu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lting Point: -219.62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oiling Point: -188.14 °C 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Protons/Electrons: 9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Neutrons: 10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lour: Greenish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orine  (F)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2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 Fluor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: 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: 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Mass: 18.998404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int: -219.62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iling Point: -188.14 °C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/Electrons: 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: 1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: Green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hlorine (Cl)                               2,8,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ame: Chlorine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ymbol: Cl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Number: 17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Mass: 35.4527 amu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lting Point: -100.98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oiling Point: -34.6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Protons/Electrons: 17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Neutrons: 1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lour: green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(Cl)                               2,8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 Chlor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: C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: 1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Mass: 35.452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int: -100.98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iling Point: -34.6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/Electrons: 1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: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: gree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romine (Br)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    2,8,18,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ame: Bromine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ymbol: Br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Number: 35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Mass: 79.904 amu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lting Point: -7.2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oiling Point: 58.78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Protons/Electrons: 35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Neutrons: 45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lour: Red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mine (Br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2,8,18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 Brom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: B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: 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Mass: 79.904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int: -7.2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iling Point: 58.78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/Electrons: 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: 4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: 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Iodine (I)                            2,8,18,18,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ame: Iodine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ymbol: I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Number: 53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Mass: 126.90447 amu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lting Point: 113.5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oiling Point: 184.0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Protons/Electrons: 53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Neutrons: 74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lour: blackish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dine (I)                            2,8,18,18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 Iod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: I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: 5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Mass: 126.9044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int: 113.5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iling Point: 184.0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/Electrons: 5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: 7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: black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statine (At)                 2,8,18,32,18,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ame: Astatine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ymbol: At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Number: 85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tomic Mass: (210.0) amu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lting Point: 302.0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oiling Point: 337.0 °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Protons/Electrons: 85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mber of Neutrons: 125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lour: Unknown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atine (At)                 2,8,18,32,18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 Astat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: 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: 8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Mass: (210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int: 302.0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iling Point: 337.0 °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/Electrons: 8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: 12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: Unkn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ses of Fluorin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main use of fluorine is toothpaste even though it isn’t as fluorine itself but instead as fluoride, a compound of fluorine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in use of fluorine is toothpaste even though it isn’t as fluorine itself but instead as fluoride, a compound of fluor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ses of Chlorin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hlorine is used mostly to kill bacteria or as a bleach. Chlorine bleaches  a piece of universal indicator paper white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used mostly to kill bacteria or as a bleach. Chlorine bleaches  a piece of universal indicator paper wh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2AEB-A88D-44FD-8723-4217D3EA4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BB68-A8A8-42D0-B2F5-1E3A0EAB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78DD-1E31-4498-9DD1-6AAC4CBFD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A1E7-D110-4C41-8507-96A889A8C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FE33-7C8B-49F4-9A14-AC1E15243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371E-D589-4DB6-986A-C79628D0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885B-C98B-46DC-A704-0595B845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8C63-0372-4064-989B-81102C57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1415F-25AC-44A4-85A2-CF020FFA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9297-CAEE-442E-ABF3-5E2EEF96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8420-84EC-4776-82FE-108AEC2E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96A4-D37A-4B44-A86F-4F07B286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8A299-FF9F-460E-9F6F-8DCB46FE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0B23-F3FA-4D1B-91CC-6679B5D1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DC0E-09B4-46BF-8DB2-67A964BB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6627-B537-4BDD-AF0A-CA28887BA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BF36-D387-4DA4-BE9F-BA1D08E78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1744-7242-40C9-A9A4-74F3F601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A2AD-CD07-41DB-89EB-9D5FB29A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9588-735E-4C82-BE9D-5962D497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FC46-D4D1-48FA-8812-CA2C1202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631B-D175-4B05-A162-A25C74BF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9C30-B566-494B-BF2C-E23458E5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7AEB-0955-4C15-8CB0-77A85B44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D6CB-F76D-479F-AD09-6DC07E7BA40C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18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12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C8DE-F048-46FF-8B66-DB1462414313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The Haloge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By Tom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Chr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5" descr="j0076135"/>
          <p:cNvPicPr/>
          <p:nvPr/>
        </p:nvPicPr>
        <p:blipFill>
          <a:blip r:embed="rId1"/>
          <a:stretch/>
        </p:blipFill>
        <p:spPr>
          <a:xfrm>
            <a:off x="609480" y="5006880"/>
            <a:ext cx="2549520" cy="1851120"/>
          </a:xfrm>
          <a:prstGeom prst="rect">
            <a:avLst/>
          </a:prstGeom>
          <a:ln w="0">
            <a:noFill/>
          </a:ln>
        </p:spPr>
      </p:pic>
    </p:spTree>
  </p:cSld>
  <p:transition advTm="4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Uses of Brom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Picture 3" descr="images"/>
          <p:cNvPicPr/>
          <p:nvPr/>
        </p:nvPicPr>
        <p:blipFill>
          <a:blip r:embed="rId1"/>
          <a:stretch/>
        </p:blipFill>
        <p:spPr>
          <a:xfrm>
            <a:off x="990720" y="2590920"/>
            <a:ext cx="2895480" cy="25606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4114800" y="25909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Bromine is one of the main ingredients in camera films (as silver bromide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Uses of Iod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3" name="Picture 3" descr="pg%2050%20safecross%20antiseptic"/>
          <p:cNvPicPr/>
          <p:nvPr/>
        </p:nvPicPr>
        <p:blipFill>
          <a:blip r:embed="rId1"/>
          <a:stretch/>
        </p:blipFill>
        <p:spPr>
          <a:xfrm>
            <a:off x="838080" y="2438280"/>
            <a:ext cx="2394000" cy="26053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3352680" y="25146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When dissolved in water, iodine can be used as a strong antiseptic or as a test for starch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ank you for watching 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Haloge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914400" y="2362320"/>
            <a:ext cx="49528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The halogens are a group of non- metals in the periodic tab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They all have seven electrons in their outer shell this makes them all really reactive; they only have to gain one more electron to fill their outer shell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Unlike Group One the elements get less reactive as you go down the group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Fluorine  (F)   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     2,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990720" y="2438280"/>
            <a:ext cx="556236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ame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Fluorine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Symbol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F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Numbe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9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Mas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8.998404 amu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Melt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-219.62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Boil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-188.14 °C 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Protons/Elec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9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Neu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0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Colou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Greenish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715000" y="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9" name="Picture 6" descr="b0009"/>
          <p:cNvPicPr/>
          <p:nvPr/>
        </p:nvPicPr>
        <p:blipFill>
          <a:blip r:embed="rId1"/>
          <a:stretch/>
        </p:blipFill>
        <p:spPr>
          <a:xfrm>
            <a:off x="5562720" y="3360600"/>
            <a:ext cx="3273480" cy="3241800"/>
          </a:xfrm>
          <a:prstGeom prst="rect">
            <a:avLst/>
          </a:prstGeom>
          <a:ln w="0">
            <a:noFill/>
          </a:ln>
        </p:spPr>
      </p:pic>
    </p:spTree>
  </p:cSld>
  <p:transition advTm="13000">
    <p:checker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lorine (Cl)                               2,8,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746280" y="2395440"/>
            <a:ext cx="474012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ame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Chlorine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Symbol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Cl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Numbe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7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Mas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35.4527 amu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Melt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-100.98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Boil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-34.6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Protons/Elec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7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Neu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8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Colou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green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638680" y="358128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3" name="Picture 5" descr="b0009"/>
          <p:cNvPicPr/>
          <p:nvPr/>
        </p:nvPicPr>
        <p:blipFill>
          <a:blip r:embed="rId1"/>
          <a:stretch/>
        </p:blipFill>
        <p:spPr>
          <a:xfrm>
            <a:off x="5638680" y="3381480"/>
            <a:ext cx="3505320" cy="34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romine (Br) 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    2,8,18,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838080" y="2362320"/>
            <a:ext cx="472464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ame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Bromine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Symbol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Br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Numbe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35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Mas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79.904 amu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Melt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-7.2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Boil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58.78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Protons/Elec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35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Neu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45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Colou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Red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6" name="Picture 4" descr="b0009"/>
          <p:cNvPicPr/>
          <p:nvPr/>
        </p:nvPicPr>
        <p:blipFill>
          <a:blip r:embed="rId1"/>
          <a:stretch/>
        </p:blipFill>
        <p:spPr>
          <a:xfrm>
            <a:off x="5029200" y="2771640"/>
            <a:ext cx="4114800" cy="408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Iodine (I)                            2,8,18,18,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838080" y="2438280"/>
            <a:ext cx="4800600" cy="34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ame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Iodine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Symbol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I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Numbe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53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Mas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26.90447 amu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Melt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13.5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Boil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84.0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Protons/Elec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53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Neu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74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Colour: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  <a:ea typeface="Arial"/>
              </a:rPr>
              <a:t> blackish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9" name="Picture 4" descr="b0009"/>
          <p:cNvPicPr/>
          <p:nvPr/>
        </p:nvPicPr>
        <p:blipFill>
          <a:blip r:embed="rId1"/>
          <a:stretch/>
        </p:blipFill>
        <p:spPr>
          <a:xfrm>
            <a:off x="5029200" y="2971800"/>
            <a:ext cx="391320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statine (At)                 2,8,18,32,18,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90720" y="2438280"/>
            <a:ext cx="43434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ame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Astatine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Symbol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At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Numbe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85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Atomic Mas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(210.0) amu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Melt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302.0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Boiling Poin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337.0 °C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Protons/Elec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85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Number of Neutron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125 </a:t>
            </a:r>
            <a:br>
              <a:rPr sz="2000"/>
            </a:b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Colou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  <a:ea typeface="Arial"/>
              </a:rPr>
              <a:t> Unknown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2" name="Picture 4" descr="b0009"/>
          <p:cNvPicPr/>
          <p:nvPr/>
        </p:nvPicPr>
        <p:blipFill>
          <a:blip r:embed="rId1"/>
          <a:stretch/>
        </p:blipFill>
        <p:spPr>
          <a:xfrm>
            <a:off x="5086440" y="2822400"/>
            <a:ext cx="4057560" cy="403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Uses of Fluor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Picture 3" descr="45"/>
          <p:cNvPicPr/>
          <p:nvPr/>
        </p:nvPicPr>
        <p:blipFill>
          <a:blip r:embed="rId1"/>
          <a:stretch/>
        </p:blipFill>
        <p:spPr>
          <a:xfrm>
            <a:off x="838080" y="2438280"/>
            <a:ext cx="3581640" cy="26863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4648320" y="24382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The main use of fluorine is toothpaste even though it isn’t as fluorine itself but instead as </a:t>
            </a:r>
            <a:r>
              <a:rPr b="1" lang="en-GB" sz="2400" spc="-1" strike="noStrike">
                <a:solidFill>
                  <a:srgbClr val="003366"/>
                </a:solidFill>
                <a:latin typeface="Times New Roman"/>
              </a:rPr>
              <a:t>fluoride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, a compound of fluorin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Uses of Chlor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7" name="Picture 3" descr="76"/>
          <p:cNvPicPr/>
          <p:nvPr/>
        </p:nvPicPr>
        <p:blipFill>
          <a:blip r:embed="rId1"/>
          <a:stretch/>
        </p:blipFill>
        <p:spPr>
          <a:xfrm>
            <a:off x="838080" y="2438280"/>
            <a:ext cx="3759480" cy="28195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"/>
          <p:cNvSpPr/>
          <p:nvPr/>
        </p:nvSpPr>
        <p:spPr>
          <a:xfrm>
            <a:off x="4800600" y="2438280"/>
            <a:ext cx="335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Chlorine is used mostly to kill bacteria or as a bleach. Chlorine bleaches  a piece of universal indicator paper whit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08:55:28Z</dcterms:created>
  <dc:creator>A User</dc:creator>
  <dc:description/>
  <dc:language>en-US</dc:language>
  <cp:lastModifiedBy>RomaK</cp:lastModifiedBy>
  <dcterms:modified xsi:type="dcterms:W3CDTF">2015-09-02T06:04:18Z</dcterms:modified>
  <cp:revision>9</cp:revision>
  <dc:subject/>
  <dc:title>The Halogens</dc:title>
</cp:coreProperties>
</file>