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49E7-9BF8-49EF-828F-8A4C5A4D68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5622-C830-4354-8E7F-D38B7C0CE0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 need to be supplied with the mass of the astronaut and then they must work out the weight of the astronaut on different plane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ll need formula – weight = mass x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l physicists will have a problem as some of the planets you couldn’t strictly land on as they are ga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’m only an amateur being a biologist…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0481-3121-4DB6-9C36-DB05C31A3F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B0AB-8F70-434A-970F-6EE7FAF870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86E1-9AC4-431F-95A5-14E332FB18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C393-0DF2-4397-BC80-75324CD917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AED2-2CB5-4CE7-9F2E-2CDC898670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F249-7749-4591-94FA-77139C2F49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1915-3158-4D60-9702-8F524FE072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38FF-9692-4D84-851D-E55920430F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B4B9-A459-4E9E-82D6-04307CB50D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809E-3BC9-4035-8539-CEBD83A27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8135-8D82-4D77-A4DD-FE9E11EA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546D-0030-4AF7-BEF8-DC3B6574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DF1E-3834-4D22-8E73-9830451F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BE71-1C4C-4084-8382-3F9881D9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5364-0481-43B9-8F21-5865E5F1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BC98-98FA-4E45-859D-9347EB84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1A5B-0EE8-4B18-AC12-4B65F13C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A07F-DB71-4AB1-A2C6-61F123BD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0B42-592A-450D-A7E1-C8C5C91E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CF89-82FB-4E90-B1CB-BC20AE9B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2A4E-1647-4CF7-B0CE-AE9AF2CC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E488-23E6-4EA1-8548-4EFBC98D68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02NUF29lg"/>
          <p:cNvPicPr/>
          <p:nvPr/>
        </p:nvPicPr>
        <p:blipFill>
          <a:blip r:embed="rId1"/>
          <a:stretch/>
        </p:blipFill>
        <p:spPr>
          <a:xfrm>
            <a:off x="2050920" y="-17136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02NUF29lg"/>
          <p:cNvPicPr/>
          <p:nvPr/>
        </p:nvPicPr>
        <p:blipFill>
          <a:blip r:embed="rId2"/>
          <a:stretch/>
        </p:blipFill>
        <p:spPr>
          <a:xfrm>
            <a:off x="3780000" y="-171360"/>
            <a:ext cx="1871640" cy="2421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02NUF29lg"/>
          <p:cNvPicPr/>
          <p:nvPr/>
        </p:nvPicPr>
        <p:blipFill>
          <a:blip r:embed="rId3"/>
          <a:stretch/>
        </p:blipFill>
        <p:spPr>
          <a:xfrm>
            <a:off x="0" y="2205000"/>
            <a:ext cx="1758960" cy="227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02NUF29lg"/>
          <p:cNvPicPr/>
          <p:nvPr/>
        </p:nvPicPr>
        <p:blipFill>
          <a:blip r:embed="rId4"/>
          <a:stretch/>
        </p:blipFill>
        <p:spPr>
          <a:xfrm>
            <a:off x="7385040" y="443700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02NUF29lg"/>
          <p:cNvPicPr/>
          <p:nvPr/>
        </p:nvPicPr>
        <p:blipFill>
          <a:blip r:embed="rId5"/>
          <a:stretch/>
        </p:blipFill>
        <p:spPr>
          <a:xfrm>
            <a:off x="5364000" y="4437000"/>
            <a:ext cx="2087640" cy="2421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02NUF29lg"/>
          <p:cNvPicPr/>
          <p:nvPr/>
        </p:nvPicPr>
        <p:blipFill>
          <a:blip r:embed="rId6"/>
          <a:stretch/>
        </p:blipFill>
        <p:spPr>
          <a:xfrm>
            <a:off x="3492360" y="4437000"/>
            <a:ext cx="1901880" cy="242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02NUF29lg"/>
          <p:cNvPicPr/>
          <p:nvPr/>
        </p:nvPicPr>
        <p:blipFill>
          <a:blip r:embed="rId7"/>
          <a:stretch/>
        </p:blipFill>
        <p:spPr>
          <a:xfrm>
            <a:off x="1763640" y="443700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02NUF29lg"/>
          <p:cNvPicPr/>
          <p:nvPr/>
        </p:nvPicPr>
        <p:blipFill>
          <a:blip r:embed="rId8"/>
          <a:stretch/>
        </p:blipFill>
        <p:spPr>
          <a:xfrm>
            <a:off x="0" y="443700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02NUF29lg"/>
          <p:cNvPicPr/>
          <p:nvPr/>
        </p:nvPicPr>
        <p:blipFill>
          <a:blip r:embed="rId9"/>
          <a:stretch/>
        </p:blipFill>
        <p:spPr>
          <a:xfrm>
            <a:off x="5580000" y="-171360"/>
            <a:ext cx="1871640" cy="2421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02NUF29lg"/>
          <p:cNvPicPr/>
          <p:nvPr/>
        </p:nvPicPr>
        <p:blipFill>
          <a:blip r:embed="rId10"/>
          <a:stretch/>
        </p:blipFill>
        <p:spPr>
          <a:xfrm>
            <a:off x="7385040" y="2133720"/>
            <a:ext cx="1758960" cy="2420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02NUF29lg"/>
          <p:cNvPicPr/>
          <p:nvPr/>
        </p:nvPicPr>
        <p:blipFill>
          <a:blip r:embed="rId11"/>
          <a:stretch/>
        </p:blipFill>
        <p:spPr>
          <a:xfrm>
            <a:off x="5435640" y="2060640"/>
            <a:ext cx="2016000" cy="2421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02NUF29lg"/>
          <p:cNvPicPr/>
          <p:nvPr/>
        </p:nvPicPr>
        <p:blipFill>
          <a:blip r:embed="rId12"/>
          <a:stretch/>
        </p:blipFill>
        <p:spPr>
          <a:xfrm>
            <a:off x="3492360" y="1989000"/>
            <a:ext cx="2016360" cy="2421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02NUF29lg"/>
          <p:cNvPicPr/>
          <p:nvPr/>
        </p:nvPicPr>
        <p:blipFill>
          <a:blip r:embed="rId13"/>
          <a:stretch/>
        </p:blipFill>
        <p:spPr>
          <a:xfrm>
            <a:off x="1763640" y="198900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02NUF29lg"/>
          <p:cNvPicPr/>
          <p:nvPr/>
        </p:nvPicPr>
        <p:blipFill>
          <a:blip r:embed="rId14"/>
          <a:stretch/>
        </p:blipFill>
        <p:spPr>
          <a:xfrm>
            <a:off x="7385040" y="-17136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02NUF29lg"/>
          <p:cNvPicPr/>
          <p:nvPr/>
        </p:nvPicPr>
        <p:blipFill>
          <a:blip r:embed="rId15"/>
          <a:stretch/>
        </p:blipFill>
        <p:spPr>
          <a:xfrm>
            <a:off x="0" y="-171360"/>
            <a:ext cx="2124000" cy="2421000"/>
          </a:xfrm>
          <a:prstGeom prst="rect">
            <a:avLst/>
          </a:prstGeom>
          <a:ln w="0">
            <a:noFill/>
          </a:ln>
        </p:spPr>
      </p:pic>
      <p:sp>
        <p:nvSpPr>
          <p:cNvPr id="65" name="WordArt 20"/>
          <p:cNvSpPr txBox="1"/>
          <p:nvPr/>
        </p:nvSpPr>
        <p:spPr>
          <a:xfrm>
            <a:off x="395280" y="1844640"/>
            <a:ext cx="8209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lanet hopp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pluto"/>
          <p:cNvPicPr/>
          <p:nvPr/>
        </p:nvPicPr>
        <p:blipFill>
          <a:blip r:embed="rId1"/>
          <a:stretch/>
        </p:blipFill>
        <p:spPr>
          <a:xfrm>
            <a:off x="4067280" y="3429000"/>
            <a:ext cx="1038240" cy="1033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MCj00827790000[1]"/>
          <p:cNvPicPr/>
          <p:nvPr/>
        </p:nvPicPr>
        <p:blipFill>
          <a:blip r:embed="rId2"/>
          <a:stretch/>
        </p:blipFill>
        <p:spPr>
          <a:xfrm flipH="1">
            <a:off x="4427640" y="2637000"/>
            <a:ext cx="444240" cy="84924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7"/>
          <p:cNvSpPr/>
          <p:nvPr/>
        </p:nvSpPr>
        <p:spPr>
          <a:xfrm flipH="1">
            <a:off x="178560" y="836640"/>
            <a:ext cx="2521080" cy="3168720"/>
          </a:xfrm>
          <a:prstGeom prst="wedgeRectCallout">
            <a:avLst>
              <a:gd name="adj1" fmla="val -118893"/>
              <a:gd name="adj2" fmla="val 9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Pluto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tincy wincy and freezing cold has a gravity of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0.4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MCBD05713_0000[1]"/>
          <p:cNvPicPr/>
          <p:nvPr/>
        </p:nvPicPr>
        <p:blipFill>
          <a:blip r:embed="rId3"/>
          <a:stretch/>
        </p:blipFill>
        <p:spPr>
          <a:xfrm rot="1530600">
            <a:off x="3924360" y="1628640"/>
            <a:ext cx="1832040" cy="3284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339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4.16667E-006 -3.55309E-006 L -0.72569 0.01481 E">
                                      <p:cBhvr>
                                        <p:cTn id="348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2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5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2569 0.01481 L -1.59201 -0.02082 E">
                                      <p:cBhvr>
                                        <p:cTn id="360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1" descr="MCj00827790000[1]"/>
          <p:cNvPicPr/>
          <p:nvPr/>
        </p:nvPicPr>
        <p:blipFill>
          <a:blip r:embed="rId1"/>
          <a:stretch/>
        </p:blipFill>
        <p:spPr>
          <a:xfrm>
            <a:off x="4211640" y="692280"/>
            <a:ext cx="749160" cy="1433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mercury2"/>
          <p:cNvPicPr/>
          <p:nvPr/>
        </p:nvPicPr>
        <p:blipFill>
          <a:blip r:embed="rId2"/>
          <a:stretch/>
        </p:blipFill>
        <p:spPr>
          <a:xfrm>
            <a:off x="3780000" y="2060640"/>
            <a:ext cx="1800000" cy="180000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16"/>
          <p:cNvSpPr/>
          <p:nvPr/>
        </p:nvSpPr>
        <p:spPr>
          <a:xfrm>
            <a:off x="539640" y="1052640"/>
            <a:ext cx="3095640" cy="4752720"/>
          </a:xfrm>
          <a:prstGeom prst="wedgeRectCallout">
            <a:avLst>
              <a:gd name="adj1" fmla="val 74564"/>
              <a:gd name="adj2" fmla="val -543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irst stop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ercury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…(eek, really hot here so won’t stick around too long) where gravity i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3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1" descr="MCBD05713_0000[1]"/>
          <p:cNvPicPr/>
          <p:nvPr/>
        </p:nvPicPr>
        <p:blipFill>
          <a:blip r:embed="rId3"/>
          <a:stretch/>
        </p:blipFill>
        <p:spPr>
          <a:xfrm rot="1530600">
            <a:off x="3563640" y="0"/>
            <a:ext cx="2284200" cy="4092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3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8.16563E-007 L 0.00122 -0.9276 E">
                                      <p:cBhvr>
                                        <p:cTn id="17" dur="3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26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38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2KVenusSurface__praesepe"/>
          <p:cNvPicPr/>
          <p:nvPr/>
        </p:nvPicPr>
        <p:blipFill>
          <a:blip r:embed="rId1"/>
          <a:stretch/>
        </p:blipFill>
        <p:spPr>
          <a:xfrm>
            <a:off x="1547640" y="1844640"/>
            <a:ext cx="5916960" cy="4732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MCj00827790000[1]"/>
          <p:cNvPicPr/>
          <p:nvPr/>
        </p:nvPicPr>
        <p:blipFill>
          <a:blip r:embed="rId2"/>
          <a:stretch/>
        </p:blipFill>
        <p:spPr>
          <a:xfrm>
            <a:off x="4067280" y="907920"/>
            <a:ext cx="749160" cy="143352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7"/>
          <p:cNvSpPr/>
          <p:nvPr/>
        </p:nvSpPr>
        <p:spPr>
          <a:xfrm>
            <a:off x="179280" y="981000"/>
            <a:ext cx="2448000" cy="4896000"/>
          </a:xfrm>
          <a:prstGeom prst="wedgeRectCallout">
            <a:avLst>
              <a:gd name="adj1" fmla="val 121337"/>
              <a:gd name="adj2" fmla="val -46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nto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Venu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the planet of luuurrrve where gravity i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9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bit like Earth)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MCBD05713_0000[1]"/>
          <p:cNvPicPr/>
          <p:nvPr/>
        </p:nvPicPr>
        <p:blipFill>
          <a:blip r:embed="rId3"/>
          <a:stretch/>
        </p:blipFill>
        <p:spPr>
          <a:xfrm rot="1530600">
            <a:off x="3564000" y="333360"/>
            <a:ext cx="1832040" cy="3284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55" dur="3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64" dur="3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8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3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78" dur="3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EarthAS17"/>
          <p:cNvPicPr/>
          <p:nvPr/>
        </p:nvPicPr>
        <p:blipFill>
          <a:blip r:embed="rId1"/>
          <a:stretch/>
        </p:blipFill>
        <p:spPr>
          <a:xfrm>
            <a:off x="2268360" y="2349360"/>
            <a:ext cx="4410360" cy="377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MCj00827790000[1]"/>
          <p:cNvPicPr/>
          <p:nvPr/>
        </p:nvPicPr>
        <p:blipFill>
          <a:blip r:embed="rId2"/>
          <a:stretch/>
        </p:blipFill>
        <p:spPr>
          <a:xfrm>
            <a:off x="3995640" y="620640"/>
            <a:ext cx="971640" cy="18576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7"/>
          <p:cNvSpPr/>
          <p:nvPr/>
        </p:nvSpPr>
        <p:spPr>
          <a:xfrm>
            <a:off x="108000" y="981000"/>
            <a:ext cx="3095640" cy="3095640"/>
          </a:xfrm>
          <a:prstGeom prst="wedgeRectCallout">
            <a:avLst>
              <a:gd name="adj1" fmla="val 87078"/>
              <a:gd name="adj2" fmla="val -511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t home on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art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here it’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10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By the way St. Peter’s is about he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2843280" y="3213000"/>
            <a:ext cx="3024000" cy="576360"/>
          </a:xfrm>
          <a:prstGeom prst="rightArrow">
            <a:avLst>
              <a:gd name="adj1" fmla="val 50000"/>
              <a:gd name="adj2" fmla="val 13116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MCBD05713_0000[1]"/>
          <p:cNvPicPr/>
          <p:nvPr/>
        </p:nvPicPr>
        <p:blipFill>
          <a:blip r:embed="rId3"/>
          <a:stretch/>
        </p:blipFill>
        <p:spPr>
          <a:xfrm rot="1530600">
            <a:off x="3708000" y="-171000"/>
            <a:ext cx="1832040" cy="3284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95" dur="3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109" dur="3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8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1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126" dur="3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MCj00827790000[1]"/>
          <p:cNvPicPr/>
          <p:nvPr/>
        </p:nvPicPr>
        <p:blipFill>
          <a:blip r:embed="rId1"/>
          <a:stretch/>
        </p:blipFill>
        <p:spPr>
          <a:xfrm>
            <a:off x="4284720" y="692280"/>
            <a:ext cx="971640" cy="185724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5"/>
          <p:cNvSpPr/>
          <p:nvPr/>
        </p:nvSpPr>
        <p:spPr>
          <a:xfrm>
            <a:off x="179280" y="981000"/>
            <a:ext cx="3024360" cy="2735280"/>
          </a:xfrm>
          <a:prstGeom prst="wedgeRectCallout">
            <a:avLst>
              <a:gd name="adj1" fmla="val 95986"/>
              <a:gd name="adj2" fmla="val -488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ar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here there might be other life?? gravity i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4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mars"/>
          <p:cNvPicPr/>
          <p:nvPr/>
        </p:nvPicPr>
        <p:blipFill>
          <a:blip r:embed="rId2"/>
          <a:stretch/>
        </p:blipFill>
        <p:spPr>
          <a:xfrm>
            <a:off x="3780000" y="2492280"/>
            <a:ext cx="2044440" cy="2065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s_200_12319"/>
          <p:cNvPicPr/>
          <p:nvPr/>
        </p:nvPicPr>
        <p:blipFill>
          <a:blip r:embed="rId3"/>
          <a:stretch/>
        </p:blipFill>
        <p:spPr>
          <a:xfrm>
            <a:off x="-1905120" y="5661000"/>
            <a:ext cx="1905120" cy="1390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MCBD05713_0000[1]"/>
          <p:cNvPicPr/>
          <p:nvPr/>
        </p:nvPicPr>
        <p:blipFill>
          <a:blip r:embed="rId4"/>
          <a:stretch/>
        </p:blipFill>
        <p:spPr>
          <a:xfrm rot="1530600">
            <a:off x="3708360" y="-242640"/>
            <a:ext cx="2249640" cy="4029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MCBD05713_0000[1]"/>
          <p:cNvPicPr/>
          <p:nvPr/>
        </p:nvPicPr>
        <p:blipFill>
          <a:blip r:embed="rId5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143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73976E-006 C 0.00347 -0.04511 0.00712 -0.08998 0.0217 -0.09785 C 0.03629 -0.10571 0.07257 -0.04025 0.08802 -0.04649 C 0.10347 -0.05274 0.09653 -0.12491 0.11441 -0.13486 C 0.13212 -0.1448 0.1783 -0.09345 0.19514 -0.10594 C 0.21181 -0.11843 0.20313 -0.20657 0.21563 -0.21027 C 0.22795 -0.21397 0.25174 -0.12052 0.26979 -0.12838 C 0.28768 -0.13625 0.30052 -0.24497 0.32396 -0.25676 C 0.34757 -0.26856 0.3934 -0.18968 0.41077 -0.19893 C 0.42813 -0.20819 0.41962 -0.30233 0.42882 -0.31297 C 0.43785 -0.32362 0.45313 -0.27388 0.46615 -0.26324 C 0.47934 -0.2526 0.49549 -0.23132 0.50729 -0.2489 C 0.51893 -0.26648 0.5125 -0.35669 0.53715 -0.36919 C 0.56181 -0.38168 0.63472 -0.31853 0.65521 -0.32431 C 0.67587 -0.33009 0.64792 -0.3907 0.66007 -0.40458 C 0.6724 -0.41846 0.71684 -0.39903 0.72882 -0.40782 C 0.74063 -0.41661 0.73021 -0.44691 0.73125 -0.45755 C 0.73212 -0.46819 0.70052 -0.47744 0.7349 -0.47189 C 0.76927 -0.46634 0.90695 -0.40666 0.93733 -0.42378 C 0.96771 -0.4409 0.90695 -0.55563 0.91667 -0.5746 C 0.92639 -0.59357 0.98594 -0.52718 0.99514 -0.53782 C 1.00434 -0.54846 0.94479 -0.62387 0.97205 -0.63891 C 0.99948 -0.65394 1.13559 -0.61554 1.16024 -0.62757 C 1.18472 -0.6396 1.11597 -0.70529 1.1191 -0.71108 C 1.12222 -0.71686 1.16788 -0.65834 1.17934 -0.66296 C 1.19097 -0.66759 1.17622 -0.73167 1.18785 -0.73837 C 1.19983 -0.74508 1.24254 -0.69627 1.25052 -0.70321 C 1.25851 -0.71015 1.23438 -0.77192 1.23594 -0.78024 C 1.23768 -0.78857 1.25799 -0.7622 1.26024 -0.75295 C 1.26215 -0.74369 1.25504 -0.73398 1.24809 -0.72403 E">
                                      <p:cBhvr>
                                        <p:cTn id="152" dur="3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156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0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5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170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jupiter_full"/>
          <p:cNvPicPr/>
          <p:nvPr/>
        </p:nvPicPr>
        <p:blipFill>
          <a:blip r:embed="rId1"/>
          <a:stretch/>
        </p:blipFill>
        <p:spPr>
          <a:xfrm>
            <a:off x="1692360" y="1125360"/>
            <a:ext cx="5918040" cy="5918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MCj00827790000[1]"/>
          <p:cNvPicPr/>
          <p:nvPr/>
        </p:nvPicPr>
        <p:blipFill>
          <a:blip r:embed="rId2"/>
          <a:stretch/>
        </p:blipFill>
        <p:spPr>
          <a:xfrm>
            <a:off x="4427640" y="189000"/>
            <a:ext cx="707760" cy="135252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9"/>
          <p:cNvSpPr/>
          <p:nvPr/>
        </p:nvSpPr>
        <p:spPr>
          <a:xfrm>
            <a:off x="108000" y="716040"/>
            <a:ext cx="2951280" cy="3360600"/>
          </a:xfrm>
          <a:prstGeom prst="wedgeRectCallout">
            <a:avLst>
              <a:gd name="adj1" fmla="val 103898"/>
              <a:gd name="adj2" fmla="val -584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Jupit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biggest planet, with a whopping gravity of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23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MCBD05713_0000[1]"/>
          <p:cNvPicPr/>
          <p:nvPr/>
        </p:nvPicPr>
        <p:blipFill>
          <a:blip r:embed="rId3"/>
          <a:stretch/>
        </p:blipFill>
        <p:spPr>
          <a:xfrm rot="1530600">
            <a:off x="3924360" y="-242640"/>
            <a:ext cx="1832040" cy="3284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187" dur="3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947 L -0.74028 -0.2799 E">
                                      <p:cBhvr>
                                        <p:cTn id="196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7 -0.2799 L -1.60659 -0.31552 E">
                                      <p:cBhvr>
                                        <p:cTn id="208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2moons"/>
          <p:cNvPicPr/>
          <p:nvPr/>
        </p:nvPicPr>
        <p:blipFill>
          <a:blip r:embed="rId1"/>
          <a:stretch/>
        </p:blipFill>
        <p:spPr>
          <a:xfrm rot="20019600">
            <a:off x="2211480" y="1149120"/>
            <a:ext cx="4159080" cy="5346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MCj00827790000[1]"/>
          <p:cNvPicPr/>
          <p:nvPr/>
        </p:nvPicPr>
        <p:blipFill>
          <a:blip r:embed="rId2"/>
          <a:stretch/>
        </p:blipFill>
        <p:spPr>
          <a:xfrm>
            <a:off x="4067280" y="765000"/>
            <a:ext cx="844560" cy="18576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7"/>
          <p:cNvSpPr/>
          <p:nvPr/>
        </p:nvSpPr>
        <p:spPr>
          <a:xfrm>
            <a:off x="250920" y="289080"/>
            <a:ext cx="2628720" cy="2735280"/>
          </a:xfrm>
          <a:prstGeom prst="wedgeRectCallout">
            <a:avLst>
              <a:gd name="adj1" fmla="val 95833"/>
              <a:gd name="adj2" fmla="val -229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atur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ith the one with the rings has a gravity of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9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MCBD05713_0000[1]"/>
          <p:cNvPicPr/>
          <p:nvPr/>
        </p:nvPicPr>
        <p:blipFill>
          <a:blip r:embed="rId3"/>
          <a:stretch/>
        </p:blipFill>
        <p:spPr>
          <a:xfrm rot="1530600">
            <a:off x="3563640" y="-171000"/>
            <a:ext cx="1832040" cy="3284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225" dur="3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234" dur="3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8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1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246" dur="3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inset-uranus"/>
          <p:cNvPicPr/>
          <p:nvPr/>
        </p:nvPicPr>
        <p:blipFill>
          <a:blip r:embed="rId1"/>
          <a:stretch/>
        </p:blipFill>
        <p:spPr>
          <a:xfrm>
            <a:off x="2627280" y="1989000"/>
            <a:ext cx="3764160" cy="4181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MCj00827790000[1]"/>
          <p:cNvPicPr/>
          <p:nvPr/>
        </p:nvPicPr>
        <p:blipFill>
          <a:blip r:embed="rId2"/>
          <a:stretch/>
        </p:blipFill>
        <p:spPr>
          <a:xfrm>
            <a:off x="3780000" y="404640"/>
            <a:ext cx="1085760" cy="20736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7"/>
          <p:cNvSpPr/>
          <p:nvPr/>
        </p:nvSpPr>
        <p:spPr>
          <a:xfrm>
            <a:off x="179280" y="981000"/>
            <a:ext cx="2268720" cy="4680000"/>
          </a:xfrm>
          <a:prstGeom prst="wedgeRectCallout">
            <a:avLst>
              <a:gd name="adj1" fmla="val 121379"/>
              <a:gd name="adj2" fmla="val -48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Uranu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people think it’s a rude planet but it’s only biology…. gravity of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8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MCBD05713_0000[1]"/>
          <p:cNvPicPr/>
          <p:nvPr/>
        </p:nvPicPr>
        <p:blipFill>
          <a:blip r:embed="rId3"/>
          <a:stretch/>
        </p:blipFill>
        <p:spPr>
          <a:xfrm rot="1530600">
            <a:off x="3780000" y="0"/>
            <a:ext cx="1831680" cy="3284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263" dur="3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272" dur="3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6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9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284" dur="3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Neptune-spot"/>
          <p:cNvPicPr/>
          <p:nvPr/>
        </p:nvPicPr>
        <p:blipFill>
          <a:blip r:embed="rId1"/>
          <a:stretch/>
        </p:blipFill>
        <p:spPr>
          <a:xfrm>
            <a:off x="2556000" y="2133720"/>
            <a:ext cx="3987720" cy="3987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MCj00827790000[1]"/>
          <p:cNvPicPr/>
          <p:nvPr/>
        </p:nvPicPr>
        <p:blipFill>
          <a:blip r:embed="rId2"/>
          <a:stretch/>
        </p:blipFill>
        <p:spPr>
          <a:xfrm>
            <a:off x="3780000" y="404640"/>
            <a:ext cx="1085760" cy="207360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7"/>
          <p:cNvSpPr/>
          <p:nvPr/>
        </p:nvSpPr>
        <p:spPr>
          <a:xfrm>
            <a:off x="108000" y="716040"/>
            <a:ext cx="2975040" cy="1992240"/>
          </a:xfrm>
          <a:prstGeom prst="wedgeRectCallout">
            <a:avLst>
              <a:gd name="adj1" fmla="val 86712"/>
              <a:gd name="adj2" fmla="val -47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ptune, with a gravity of 11N/kg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MCBD05713_0000[1]"/>
          <p:cNvPicPr/>
          <p:nvPr/>
        </p:nvPicPr>
        <p:blipFill>
          <a:blip r:embed="rId3"/>
          <a:stretch/>
        </p:blipFill>
        <p:spPr>
          <a:xfrm rot="1530600">
            <a:off x="3635280" y="0"/>
            <a:ext cx="1832040" cy="3284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301" dur="3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310" dur="3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322" dur="3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20:02:51Z</dcterms:created>
  <dc:creator>matis</dc:creator>
  <dc:description/>
  <dc:language>en-US</dc:language>
  <cp:lastModifiedBy>RomaK</cp:lastModifiedBy>
  <dcterms:modified xsi:type="dcterms:W3CDTF">2015-07-31T22:55:29Z</dcterms:modified>
  <cp:revision>10</cp:revision>
  <dc:subject/>
  <dc:title>Slide 1</dc:title>
</cp:coreProperties>
</file>