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EA75-BB2E-4A5C-A42F-297E6A2201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 block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 block consists of three horizontal series in periods 4, 5 &amp;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 elements in each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is “different” from other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electronic configurations impor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within a group in the d block are less sharp than in s &amp; p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ities across a period are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 block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 block consists of three horizontal series in periods 4, 5 &amp;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 elements in each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is “different” from other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electronic configurations impor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within a group in the d block are less sharp than in s &amp; p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ities across a period are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 [TM’s] have characteristic proper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loured compounds, variable oxidation st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due to presence of an inner incomplete d sub-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from both inner d sub-shell and outer s sub-shell can be involved in compound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 [TM’s] have characteristic proper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loured compounds, variable oxidation st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due to presence of an inner incomplete d sub-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from both inner d sub-shell and outer s sub-shell can be involved in compound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d block elements have incomplete d sub-sh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Zn has e.c. of  [Ar]3d104s2, the Zn2+ ion ([Ar] 3d10) is not a typical T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ly Sc forms Sc3+ which has the stable e.c of Ar. Sc3+ has no 3d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d block elements have incomplete d sub-sh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Zn has e.c. of  [Ar]3d104s2, the Zn2+ ion ([Ar] 3d10) is not a typical T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ly Sc forms Sc3+ which has the stable e.c of Ar. Sc3+ has no 3d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is reason, a transition metal is defined as being an element which forms at least one ion with a partially filled sub-shell of d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eriod 4 only Ti-Cu are TM’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when d block elements form ions the s electrons are lost 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is reason, a transition metal is defined as being an element which forms at least one ion with a partially filled sub-shell of d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eriod 4 only Ti-Cu are TM’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when d block elements form ions the s electrons are lost 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M’s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are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similar to each other but different from s block metals eg Na and 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TM’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 me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high Tm and 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 to be hard and dur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high tensile str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good mechan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M’s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are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similar to each other but different from s block metals eg Na and 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TM’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 me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high Tm and 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 to be hard and dur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high tensile str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good mechan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M’s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derive from strong metallic bo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can release e- into the pool of mobile electrons from both outer and inner sh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metallic bonds formed between the mobile pool and the +ve metal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ables widespread use of T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ys very important: inhibits slip in crystal lattice usually results in increased hardness and reduced mall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M’s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derive from strong metallic bo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can release e- into the pool of mobile electrons from both outer and inner sh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metallic bonds formed between the mobile pool and the +ve metal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ables widespread use of T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ys very important: inhibits slip in crystal lattice usually results in increased hardness and reduced mall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 of Alloying on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 of Alloying on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Chem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chemical properties of the TM’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compounds in a variety of oxid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tic activity of the elements and their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tendency to form comple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CI 1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coloured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CI 1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Chem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chemical properties of the TM’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compounds in a variety of oxid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tic activity of the elements and their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tendency to form comple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CI 1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coloured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CI 1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ariable Oxid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M’s show a great variety of oxidation states cf s block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compare successive ionisation enthalpies (Hi) for Ca and V as foll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(g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+(g) + e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Hi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+(g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2+(g) + e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Hi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2+(g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3+(g) + e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Hi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3+(g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4+(g) + e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Hi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ble Oxid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show a great variety of oxidation states cf s block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ompare successive ionisation enthalpies (Hi) for Ca and V as foll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(g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+(g) + e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Hi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+(g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2+(g) + e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Hi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2+(g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3+(g) + e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Hi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3+(g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4+(g) + e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Hi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 for Ca and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 for Ca and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 for Ca and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a &amp; V always lose the 4s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(1) &amp; Hi(2) relatively low as corresponds to removing outer 4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p increase in Hi(3) &amp; Hi(4) cf Hi(2) due to difficulty in removing 3p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ual increase from Hi(1) to Hi(4) as removing 4s then 3d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 for Ca and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a &amp; V always lose the 4s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(1) &amp; Hi(2) relatively low as corresponds to removing outer 4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p increase in Hi(3) &amp; Hi(4) cf Hi(2) due to difficulty in removing 3p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ual increase from Hi(1) to Hi(4) as removing 4s then 3d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ross the 1st row of the d block (Sc to Zn) each el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1 more electron and 1 more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“additional” electron enters the 3d sub-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e configuration for all the period 4 transition elements is that of 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2s22p63s23p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ross the 1st row of the d block (Sc to Zn) each el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1 more electron and 1 more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“additional” electron enters the 3d sub-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e configuration for all the period 4 transition elements is that of 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2s22p63s23p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ollowing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OS’s in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1 only important for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others sum of Hi(1) + Hi(2) low enough for 2e- to be rem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2, where 4s e- lost shown by all except for Sc and 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3, shown by all except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ollowing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OS’s in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1 only important for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others sum of Hi(1) + Hi(2) low enough for 2e- to be rem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2, where 4s e- lost shown by all except for Sc and 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3, shown by all except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f OS’s shown by an element increases from Sc to 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of these elements highest OS is equal to no. of 3d and 4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n decrease in no. of OS’s shown by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st OS shown becomes lower and less 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increasing nuclear charge binds 3d e- more strongly, hence harder to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f OS’s shown by an element increases from Sc to 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of these elements highest OS is equal to no. of 3d and 4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n decrease in no. of OS’s shown by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st OS shown becomes lower and less 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increasing nuclear charge binds 3d e- more strongly, hence harder to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wer OS’s found in simple 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.g. compounds containing Cr3+, Mn2+, Fe3+, Cu2+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M’s in higher OS’s usually covalently bound to electronegative element such as O or 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.g VO3-, vanadate(V) ion; MnO4-, manganate(VII) 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e ions with high OS’s such as V5+ &amp; Mn7+ are not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OS’s found in simple 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mpounds containing Cr3+, Mn2+, Fe3+, Cu2+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in higher OS’s usually covalently bound to electronegative element such as O or 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 VO3-, vanadate(V) ion; MnO4-, manganate(VII) 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ions with high OS’s such as V5+ &amp; Mn7+ are not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from one OS to another is a redox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stability of different OS’s can be predicted by looking at Standard Electrode Potenti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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from one OS to another is a redox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stability of different OS’s can be predicted by looking at Standard Electrode Potenti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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r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OS’s become less stable relative to lower ones on moving from left to right across th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containing TM’s in high OS’s tend to be oxidising agents e.g MnO4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with TM’s in low OS’s are often reducing agents e.g V2+ &amp; Fe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r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OS’s become less stable relative to lower ones on moving from left to right across th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containing TM’s in high OS’s tend to be oxidising agents e.g MnO4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with TM’s in low OS’s are often reducing agents e.g V2+ &amp; Fe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rends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stability of +2 state with respect to +3 state increases across th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ompounds early in the series, +2 state highly reduc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V2+(aq) &amp; Cr2+(aq) strong reducing 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in series +2 stable, +3 state highly oxid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3+ is a strong oxidising agent, Ni3+ &amp; Cu3+ do not exist in aqueous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rends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stability of +2 state with respect to +3 state increases across th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ompounds early in the series, +2 state highly reduc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V2+(aq) &amp; Cr2+(aq) strong reducing 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in series +2 stable, +3 state highly oxid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3+ is a strong oxidising agent, Ni3+ &amp; Cu3+ do not exist in aqueous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tic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and their compounds effective and important cataly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ly and biologicall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people in the know” beli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s provide reaction pathway with lower EA than uncatalysed reaction (see CI 10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of 3d and 4s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change 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factors which make TM’s such good cataly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tic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and their compounds effective and important cataly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ly and biologicall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people in the know” beli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s provide reaction pathway with lower EA than uncatalysed reaction (see CI 10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of 3d and 4s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change 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factors which make TM’s such good cataly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in different phase from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means solid TM catalyst with reactants in liquid or gas ph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3d and 4s e- of atoms on metal surface to from weak bonds to the reacta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reaction has occurred on TM surface, these bonds can break to release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example is hydrogenation of alkenes using Ni or Pt cataly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in different phase from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means solid TM catalyst with reactants in liquid or gas ph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3d and 4s e- of atoms on metal surface to from weak bonds to the reacta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reaction has occurred on TM surface, these bonds can break to release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example is hydrogenation of alkenes using Ni or Pt cataly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ter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2  2s2 2p6 3s2 3p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  2s2 2p6 3s2 3p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in same phase as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means reaction takes place in aqueous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aqueous T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invo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ion forming intermediate compound with ome or more of the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then breaks down to form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in same phase as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means reaction takes place in aqueous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aqueous T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invo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ion forming intermediate compound with ome or more of the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then breaks down to form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reaction is that used in Activity SS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3-dihydroxybutanoate ion with hydrogen pe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catalysed by Co2+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reaction is that used in Activity SS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3-dihydroxybutanoate ion with hydrogen pe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catalysed by Co2+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gested Mecha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2 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O2CCH(OH)CH(OH)C0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+ (p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3+ (gre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, methanoate,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+ (p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gested Mecha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2 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O2CCH(OH)CH(OH)C0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+ (p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3+ (gre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, methanoate,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+ (p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2  2s2 2p6 3s2 3p6 3d1 4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  2s2 2p6 3s2 3p6 3d1 4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 and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and Cu don’t fit the pattern of building up the 3d sub-shell,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round state electrons are always arranged to give lowest tot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are negatively charged and repel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total energy is obtained with e- singly in orbitals rather than if they are paired in an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ies of 3d and 4s orbitals very close together in Period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 and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and Cu don’t fit the pattern of building up the 3d sub-shell,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round state electrons are always arranged to give lowest tot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are negatively charged and repel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total energy is obtained with e- singly in orbitals rather than if they are paired in an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ies of 3d and 4s orbitals very close together in Period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 and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 energies such that putting one e- into each 3d and 4s orbital gives lower energy than having 2 e- in the 4s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2 e- into the 4s orbital would give a higher energy than filling the  3d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 and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 energies such that putting one e- into each 3d and 4s orbital gives lower energy than having 2 e- in the 4s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2 e- into the 4s orbital would give a higher energy than filling the  3d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2  2s2 2p6 3s2 3p6 3d5 4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  2s2 2p6 3s2 3p6 3d5 4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2  2s2 2p6 3s2 3p6 3d10 4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  2s2 2p6 3s2 3p6 3d10 4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51A3-55CB-4698-BA95-822FDEAD4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74CE-1660-491A-A8BB-A41B0D6B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B236-E1E0-4F17-BC7D-2586C3743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89A7-03C6-4413-9816-6D446885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E461-BF23-46CE-B3C8-207632D6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0A2A-478B-45B1-ACE2-E9B63CF7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ECF3-CF33-4B6F-B260-E39C8DD8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FE0D-36E2-45DB-89A4-45293450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6561-15B5-4921-B844-881326CD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C0B7-089D-44D7-853C-090D7C38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2A24-DF84-4CFD-B360-C9F75E5D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DBE6-0BF0-4ECF-B57C-41745B68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S CI 11.5 The d b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B23F-7144-430D-AA0E-431EB08327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AFF0-84B2-41A2-8E3C-710B61290D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The d block: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The d block consists of three horizontal series in periods 4, 5 &amp; 6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10 elements in each seri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hemistry is “different” from other elemen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Special electronic configurations importan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097280" indent="-21924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fferences within a group in the d block are less sharp than in s &amp; p block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097280" indent="-21924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imilarities across a period are greater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C843-A9CA-4D6E-AE36-F27B8A914A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is a transition metal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ransition metals [TM’s] have characteristic properties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.g. coloured compounds, variable oxidation states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se are due to presence of an inner incomplete d sub-shel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lectrons from both inner d sub-shell and outer s sub-shell can be involved in compound format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5B04-8474-4B42-9BF6-89718C849F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is a transition metal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Not all d block elements have incomplete d sub-shells 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.g. Zn has e.c. of  [Ar]3d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4s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, the Zn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on ([Ar] 3d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) is not a typical TM 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Similarly Sc forms Sc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which has the stable e.c of Ar. Sc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has no 3d electron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41AA-6656-48F0-BA50-C6EF75A6BF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is a transition metal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For this reason, </a:t>
            </a:r>
            <a:r>
              <a:rPr b="1" i="1" lang="en-GB" sz="3200" spc="-1" strike="noStrike">
                <a:solidFill>
                  <a:srgbClr val="ffff00"/>
                </a:solidFill>
                <a:latin typeface="Comic Sans MS"/>
              </a:rPr>
              <a:t>a transition metal is defined as being an element which forms at least one ion with a partially filled sub-shell of d electrons.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n period 4 only Ti-Cu are TM’s!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Note that when d block elements form ions the s electrons are lost firs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5AA8-060B-470E-9F6B-D7044EB8E6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are TM’s like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are metal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y are similar to each other but different from s block metals eg Na and Mg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Properties of TM’s 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ense metals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ave high T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and T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Tend to be hard and durable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ave high tensile strength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ave good mechanical propertie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C044-36AD-476E-8627-0FFAA644B3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are TM’s like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Properties derive from strong </a:t>
            </a:r>
            <a:r>
              <a:rPr b="1" i="1" lang="en-GB" sz="2800" spc="-1" strike="noStrike">
                <a:solidFill>
                  <a:srgbClr val="ffff00"/>
                </a:solidFill>
                <a:latin typeface="Comic Sans MS"/>
              </a:rPr>
              <a:t>metallic bonding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can release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nto the pool of mobile electrons from both outer and inner shell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trong metallic bonds formed between the mobile pool and the +ve metal ion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ables widespread use of TMs!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lloys very important: inhibits slip in crystal lattice usually results in increased hardness and reduced malleability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9E56-752E-4A91-B3FA-D198CD97D6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Effect of Alloying on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96" name="Picture 4" descr=""/>
          <p:cNvPicPr/>
          <p:nvPr/>
        </p:nvPicPr>
        <p:blipFill>
          <a:blip r:embed="rId1"/>
          <a:stretch/>
        </p:blipFill>
        <p:spPr>
          <a:xfrm>
            <a:off x="1558800" y="1828800"/>
            <a:ext cx="6024600" cy="4043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9F95-0090-4129-BA77-DB5214C08F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TM Chemical Propertie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Typical chemical properties of the TM’s are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Formation of compounds in a variety of oxidation stat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atalytic activity of the elements and their compound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Strong tendency to form complex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ee CI 11.6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Formation of coloured compound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ee CI 11.6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3E70-DE71-4579-9DEC-3DCB3E09A1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Variable Oxidation State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TM’s show a great variety of oxidation states cf s block metal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f compare successive ionisation enthalpies (</a:t>
            </a:r>
            <a:r>
              <a:rPr b="1" lang="en-GB" sz="32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32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) for Ca and V as follow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(g)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 +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 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1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 +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 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2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 +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 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3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4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 +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 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4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793B-706F-46CE-B4A3-6536754E83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GB" sz="4400" spc="-1" strike="noStrike" baseline="-25000">
                <a:solidFill>
                  <a:srgbClr val="ff0000"/>
                </a:solidFill>
                <a:latin typeface="Comic Sans MS"/>
              </a:rPr>
              <a:t>i</a:t>
            </a: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 for Ca and V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735120" y="1981080"/>
          <a:ext cx="7672320" cy="4116600"/>
        </p:xfrm>
        <a:graphic>
          <a:graphicData uri="http://schemas.openxmlformats.org/drawingml/2006/table">
            <a:tbl>
              <a:tblPr/>
              <a:tblGrid>
                <a:gridCol w="2388960"/>
                <a:gridCol w="1320840"/>
                <a:gridCol w="1319400"/>
                <a:gridCol w="1295280"/>
                <a:gridCol w="1347840"/>
              </a:tblGrid>
              <a:tr h="1033920"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Ionisation Enthalp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kJ mol</a:t>
                      </a:r>
                      <a:r>
                        <a:rPr b="1" lang="en-GB" sz="2800" spc="-1" strike="noStrike" baseline="30000">
                          <a:solidFill>
                            <a:srgbClr val="ffff00"/>
                          </a:solidFill>
                          <a:latin typeface="Comic Sans MS"/>
                        </a:rPr>
                        <a:t>-1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</a:t>
                      </a:r>
                      <a:r>
                        <a:rPr b="1" lang="en-GB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</a:t>
                      </a:r>
                      <a:r>
                        <a:rPr b="1" lang="en-GB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</a:t>
                      </a:r>
                      <a:r>
                        <a:rPr b="1" lang="en-GB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</a:t>
                      </a:r>
                      <a:r>
                        <a:rPr b="1" lang="en-GB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a [Ar]4s</a:t>
                      </a:r>
                      <a:r>
                        <a:rPr b="1" lang="en-GB" sz="2800" spc="-1" strike="noStrike" baseline="30000">
                          <a:solidFill>
                            <a:srgbClr val="ffff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5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11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9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4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V [Ar]3d</a:t>
                      </a:r>
                      <a:r>
                        <a:rPr b="1" lang="en-GB" sz="2800" spc="-1" strike="noStrike" baseline="30000">
                          <a:solidFill>
                            <a:srgbClr val="ffff00"/>
                          </a:solidFill>
                          <a:latin typeface="Comic Sans MS"/>
                        </a:rPr>
                        <a:t>3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s</a:t>
                      </a:r>
                      <a:r>
                        <a:rPr b="1" lang="en-GB" sz="2800" spc="-1" strike="noStrike" baseline="30000">
                          <a:solidFill>
                            <a:srgbClr val="ffff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14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8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5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CB3A-4EE9-4A72-BD12-CC78F1A6BC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GB" sz="4400" spc="-1" strike="noStrike" baseline="-25000">
                <a:solidFill>
                  <a:srgbClr val="ff0000"/>
                </a:solidFill>
                <a:latin typeface="Comic Sans MS"/>
              </a:rPr>
              <a:t>i</a:t>
            </a: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 for Ca and V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Both Ca &amp; V always lose the 4s electron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For Ca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1) &amp;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2) relatively low as corresponds to removing outer 4s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harp increase in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3) &amp;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4) cf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2) due to difficulty in removing 3p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For Sc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Gradual increase from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1) to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4) as removing 4s then 3d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124B-A3C0-42F8-B715-0FDFE7C1A9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Electronic Configuration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cross the 1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st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 row of the d block (Sc to Zn) each element 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as 1 more electron and 1 more prot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ach “additional” electron enters the 3d sub-shel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 core configuration for all the period 4 transition elements is that of Ar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6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6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C109-B9DC-4DC7-9A0D-D63718E46D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Oxidation States of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 the following table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ost important OS’s in box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S = +1 only important for Cu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n all others sum of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1) +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2) low enough for 2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to be removed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S = +2, where 4s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lost shown by all except for Sc and Ti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S = +3, shown by all except Z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2555-D9E6-48B9-B470-E0EF2ACEC8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Oxidation States of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685800" y="1981080"/>
          <a:ext cx="7954920" cy="4394160"/>
        </p:xfrm>
        <a:graphic>
          <a:graphicData uri="http://schemas.openxmlformats.org/drawingml/2006/table">
            <a:tbl>
              <a:tblPr/>
              <a:tblGrid>
                <a:gridCol w="603360"/>
                <a:gridCol w="218880"/>
                <a:gridCol w="584640"/>
                <a:gridCol w="218880"/>
                <a:gridCol w="586080"/>
                <a:gridCol w="218880"/>
                <a:gridCol w="586440"/>
                <a:gridCol w="218880"/>
                <a:gridCol w="673560"/>
                <a:gridCol w="218880"/>
                <a:gridCol w="589680"/>
                <a:gridCol w="218880"/>
                <a:gridCol w="584640"/>
                <a:gridCol w="218880"/>
                <a:gridCol w="586080"/>
                <a:gridCol w="218880"/>
                <a:gridCol w="586080"/>
                <a:gridCol w="218880"/>
                <a:gridCol w="604440"/>
              </a:tblGrid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8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437D-2EAE-4948-AC64-B654A53F9C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Oxidation States of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No of OS’s shown by an element increases from Sc to M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In each of these elements highest OS is equal to no. of 3d and 4s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After Mn decrease in no. of OS’s shown by an elemen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ighest OS shown becomes lower and less stable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eems increasing nuclear charge binds 3d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more strongly, hence harder to remove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E674-4AD5-400F-9422-D1FB88E565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Oxidation States of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 genera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Lower OS’s found in simple ionic compound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.g. compounds containing Cr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Mn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F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Cu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ion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in higher OS’s usually covalently bound to electronegative element such as O or F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.g V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vanadate(V) ion; Mn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manganate(VII) ion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imple ions with high OS’s such as V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5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&amp; Mn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7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en-GB" sz="2400" spc="-1" strike="noStrike" u="sng">
                <a:solidFill>
                  <a:srgbClr val="ffff00"/>
                </a:solidFill>
                <a:uFillTx/>
                <a:latin typeface="Comic Sans MS"/>
              </a:rPr>
              <a:t>are not formed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0B54-C266-45D8-B9BC-4DFE0AE2A0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Stability of OS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Change from one OS to another is a redox reaction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Relative stability of different OS’s can be predicted by looking at Standard Electrode Potentials 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valu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6BE4-4623-420C-9AC9-8B3F642401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Stability of OS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40940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General trend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igher OS’s become less stable relative to lower ones on moving from left to right across the seri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ompounds containing TM’s in high OS’s tend to be oxidising agents e.g MnO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ompounds with TM’s in low OS’s are often reducing agents e.g 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&amp; F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2A6A-329B-4F8A-A4DF-2281B1F921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Stability of OS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General trends (continued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Relative stability of +2 state with respect to +3 state increases across the serie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For compounds early in the series, +2 state highly reducing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E.g. V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(aq) &amp; Cr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(aq) strong reducing agents</a:t>
            </a:r>
            <a:endParaRPr b="1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Later in series +2 stable, +3 state highly oxidising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E.g. Co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 is a strong oxidising agent, Ni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 &amp; Cu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 do not exist in aqueous solution.</a:t>
            </a:r>
            <a:endParaRPr b="1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31FE-ADD5-4D67-869D-0FC67C75BB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Catalytic Activity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and their compounds effective and important catalys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Industrially and biologically!!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 “people in the know” belie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atalysts provide reaction pathway with lower E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A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than uncatalysed reaction (see CI 10.5)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nce again,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vailability of 3d and 4s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bility to change OS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mong factors which make TM’s such good catalyst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AB08-C0D8-4C04-BEC0-CBF7DCCA33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eterogeneous Catalysi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atalyst in different phase from reactan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Usually means solid TM catalyst with reactants in liquid or gas phases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can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use the 3d and 4s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of atoms on metal surface to from weak bonds to the reactants.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nce reaction has occurred on TM surface, these bonds can break to release product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mportant example is hydrogenation of alkenes using Ni or Pt catalyst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Місце для номера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D061-2304-4CCE-B0D0-86B849074C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eterogeneous Catalysi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838080" y="1281240"/>
            <a:ext cx="2630520" cy="1385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2630520" cy="15573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"/>
          <p:cNvPicPr/>
          <p:nvPr/>
        </p:nvPicPr>
        <p:blipFill>
          <a:blip r:embed="rId3"/>
          <a:stretch/>
        </p:blipFill>
        <p:spPr>
          <a:xfrm>
            <a:off x="838080" y="4800600"/>
            <a:ext cx="2587680" cy="15858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"/>
          <p:cNvPicPr/>
          <p:nvPr/>
        </p:nvPicPr>
        <p:blipFill>
          <a:blip r:embed="rId4"/>
          <a:stretch/>
        </p:blipFill>
        <p:spPr>
          <a:xfrm>
            <a:off x="6019920" y="1208160"/>
            <a:ext cx="2601720" cy="16873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"/>
          <p:cNvPicPr/>
          <p:nvPr/>
        </p:nvPicPr>
        <p:blipFill>
          <a:blip r:embed="rId5"/>
          <a:stretch/>
        </p:blipFill>
        <p:spPr>
          <a:xfrm>
            <a:off x="5943600" y="3200400"/>
            <a:ext cx="2630520" cy="2044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104B-1EFF-4202-B9E8-637AD4FF6E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1371600" y="5791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19112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352680" y="39625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371600" y="1523880"/>
            <a:ext cx="8380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1371600" y="32767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1371600" y="4648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83059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74674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662940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57913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502920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49528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7"/>
          <p:cNvSpPr/>
          <p:nvPr/>
        </p:nvSpPr>
        <p:spPr>
          <a:xfrm flipV="1">
            <a:off x="533520" y="761760"/>
            <a:ext cx="0" cy="5715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54100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9"/>
          <p:cNvSpPr/>
          <p:nvPr/>
        </p:nvSpPr>
        <p:spPr>
          <a:xfrm flipV="1">
            <a:off x="43441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6094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68580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685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68580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25909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6"/>
          <p:cNvSpPr/>
          <p:nvPr/>
        </p:nvSpPr>
        <p:spPr>
          <a:xfrm>
            <a:off x="42670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7"/>
          <p:cNvSpPr/>
          <p:nvPr/>
        </p:nvSpPr>
        <p:spPr>
          <a:xfrm>
            <a:off x="396252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8"/>
          <p:cNvSpPr/>
          <p:nvPr/>
        </p:nvSpPr>
        <p:spPr>
          <a:xfrm>
            <a:off x="3124080" y="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9"/>
          <p:cNvSpPr/>
          <p:nvPr/>
        </p:nvSpPr>
        <p:spPr>
          <a:xfrm>
            <a:off x="480060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0"/>
          <p:cNvSpPr/>
          <p:nvPr/>
        </p:nvSpPr>
        <p:spPr>
          <a:xfrm>
            <a:off x="0" y="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1"/>
          <p:cNvSpPr/>
          <p:nvPr/>
        </p:nvSpPr>
        <p:spPr>
          <a:xfrm>
            <a:off x="3352680" y="4838760"/>
            <a:ext cx="5257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32"/>
          <p:cNvSpPr/>
          <p:nvPr/>
        </p:nvSpPr>
        <p:spPr>
          <a:xfrm flipV="1">
            <a:off x="16009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33"/>
          <p:cNvSpPr/>
          <p:nvPr/>
        </p:nvSpPr>
        <p:spPr>
          <a:xfrm>
            <a:off x="19051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34"/>
          <p:cNvSpPr/>
          <p:nvPr/>
        </p:nvSpPr>
        <p:spPr>
          <a:xfrm flipV="1">
            <a:off x="16009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35"/>
          <p:cNvSpPr/>
          <p:nvPr/>
        </p:nvSpPr>
        <p:spPr>
          <a:xfrm>
            <a:off x="1905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6"/>
          <p:cNvSpPr/>
          <p:nvPr/>
        </p:nvSpPr>
        <p:spPr>
          <a:xfrm flipH="1" flipV="1">
            <a:off x="3581640" y="411480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7"/>
          <p:cNvSpPr/>
          <p:nvPr/>
        </p:nvSpPr>
        <p:spPr>
          <a:xfrm flipV="1">
            <a:off x="52585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38"/>
          <p:cNvSpPr/>
          <p:nvPr/>
        </p:nvSpPr>
        <p:spPr>
          <a:xfrm>
            <a:off x="380988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9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40"/>
          <p:cNvSpPr/>
          <p:nvPr/>
        </p:nvSpPr>
        <p:spPr>
          <a:xfrm>
            <a:off x="54864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41"/>
          <p:cNvSpPr/>
          <p:nvPr/>
        </p:nvSpPr>
        <p:spPr>
          <a:xfrm flipV="1">
            <a:off x="16009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2"/>
          <p:cNvSpPr/>
          <p:nvPr/>
        </p:nvSpPr>
        <p:spPr>
          <a:xfrm>
            <a:off x="19051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43"/>
          <p:cNvSpPr/>
          <p:nvPr/>
        </p:nvSpPr>
        <p:spPr>
          <a:xfrm flipH="1" flipV="1">
            <a:off x="35816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44"/>
          <p:cNvSpPr/>
          <p:nvPr/>
        </p:nvSpPr>
        <p:spPr>
          <a:xfrm flipV="1">
            <a:off x="-913680" y="4038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45"/>
          <p:cNvSpPr/>
          <p:nvPr/>
        </p:nvSpPr>
        <p:spPr>
          <a:xfrm flipV="1">
            <a:off x="434412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46"/>
          <p:cNvSpPr/>
          <p:nvPr/>
        </p:nvSpPr>
        <p:spPr>
          <a:xfrm flipH="1" flipV="1">
            <a:off x="51818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7"/>
          <p:cNvSpPr/>
          <p:nvPr/>
        </p:nvSpPr>
        <p:spPr>
          <a:xfrm>
            <a:off x="2590920" y="152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48"/>
          <p:cNvSpPr/>
          <p:nvPr/>
        </p:nvSpPr>
        <p:spPr>
          <a:xfrm>
            <a:off x="38098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49"/>
          <p:cNvSpPr/>
          <p:nvPr/>
        </p:nvSpPr>
        <p:spPr>
          <a:xfrm>
            <a:off x="457200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8366-B080-4D25-91B4-F26D1B516B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omogeneous Catalysi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Catalyst in same phase as reactant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Usually means reaction takes place in aqueous phas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atalyst aqueous TM 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Usually involve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 ion forming </a:t>
            </a:r>
            <a:r>
              <a:rPr b="1" i="1" lang="en-GB" sz="2800" spc="-1" strike="noStrike">
                <a:solidFill>
                  <a:srgbClr val="ffff00"/>
                </a:solidFill>
                <a:latin typeface="Comic Sans MS"/>
              </a:rPr>
              <a:t>intermediate compound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with ome or more of the reactan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ntermediate then breaks down to form produc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0BC0-9E39-467D-9114-055029B385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omogeneous Catalysi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34286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bove reaction is that used in Activity SS5.2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2,3-dihydroxybutanoate ion with hydrogen peroxid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Reaction catalysed by Co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49" name="Group 15"/>
          <p:cNvGrpSpPr/>
          <p:nvPr/>
        </p:nvGrpSpPr>
        <p:grpSpPr>
          <a:xfrm>
            <a:off x="236520" y="1428840"/>
            <a:ext cx="8670960" cy="2060640"/>
            <a:chOff x="236520" y="1428840"/>
            <a:chExt cx="8670960" cy="2060640"/>
          </a:xfrm>
        </p:grpSpPr>
        <p:graphicFrame>
          <p:nvGraphicFramePr>
            <p:cNvPr id="350" name="Object 7"/>
            <p:cNvGraphicFramePr/>
            <p:nvPr/>
          </p:nvGraphicFramePr>
          <p:xfrm>
            <a:off x="236520" y="1428840"/>
            <a:ext cx="8670960" cy="2060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1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6520" y="1428840"/>
                      <a:ext cx="8670960" cy="206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2" name="AutoShape 8"/>
            <p:cNvSpPr/>
            <p:nvPr/>
          </p:nvSpPr>
          <p:spPr>
            <a:xfrm>
              <a:off x="2732040" y="2057400"/>
              <a:ext cx="74520" cy="533520"/>
            </a:xfrm>
            <a:custGeom>
              <a:avLst/>
              <a:gdLst>
                <a:gd name="textAreaLeft" fmla="*/ 21960 w 74520"/>
                <a:gd name="textAreaRight" fmla="*/ 74880 w 7452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AutoShape 9"/>
            <p:cNvSpPr/>
            <p:nvPr/>
          </p:nvSpPr>
          <p:spPr>
            <a:xfrm>
              <a:off x="3759120" y="2022480"/>
              <a:ext cx="76320" cy="53352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AutoShape 10"/>
            <p:cNvSpPr/>
            <p:nvPr/>
          </p:nvSpPr>
          <p:spPr>
            <a:xfrm>
              <a:off x="5130720" y="1946160"/>
              <a:ext cx="76320" cy="83844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34920 h 838440"/>
                <a:gd name="textAreaBottom" fmla="*/ 8035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AutoShape 11"/>
            <p:cNvSpPr/>
            <p:nvPr/>
          </p:nvSpPr>
          <p:spPr>
            <a:xfrm>
              <a:off x="6172200" y="1959120"/>
              <a:ext cx="76320" cy="79992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33120 h 799920"/>
                <a:gd name="textAreaBottom" fmla="*/ 766800 h 79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AutoShape 12"/>
            <p:cNvSpPr/>
            <p:nvPr/>
          </p:nvSpPr>
          <p:spPr>
            <a:xfrm>
              <a:off x="6883560" y="1946160"/>
              <a:ext cx="75960" cy="91440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AutoShape 13"/>
            <p:cNvSpPr/>
            <p:nvPr/>
          </p:nvSpPr>
          <p:spPr>
            <a:xfrm>
              <a:off x="7696080" y="1946160"/>
              <a:ext cx="76320" cy="91440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" dur="1" fill="hold"/>
                                  <p:tgtEl>
                                    <p:spTgt spid="3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Місце для номера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7CDD-C1C9-4B0C-89BA-A0951AFAC1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Suggested Mechanism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838080" y="175248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152280" y="1752480"/>
            <a:ext cx="3886200" cy="2229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REAC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CH(OH)CH(OH)C0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99"/>
                </a:solidFill>
                <a:latin typeface="Comic Sans MS"/>
              </a:rPr>
              <a:t>Co</a:t>
            </a:r>
            <a:r>
              <a:rPr b="1" lang="en-GB" sz="2400" spc="-1" strike="noStrike" baseline="30000">
                <a:solidFill>
                  <a:srgbClr val="ff3399"/>
                </a:solidFill>
                <a:latin typeface="Comic Sans MS"/>
              </a:rPr>
              <a:t>2+</a:t>
            </a:r>
            <a:r>
              <a:rPr b="1" lang="en-GB" sz="2400" spc="-1" strike="noStrike">
                <a:solidFill>
                  <a:srgbClr val="ff3399"/>
                </a:solidFill>
                <a:latin typeface="Comic Sans MS"/>
              </a:rPr>
              <a:t> (p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6019920" y="1752480"/>
            <a:ext cx="2895480" cy="1572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INTERMED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ont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cc99"/>
                </a:solidFill>
                <a:latin typeface="Comic Sans MS"/>
              </a:rPr>
              <a:t>Co</a:t>
            </a:r>
            <a:r>
              <a:rPr b="1" lang="en-GB" sz="2400" spc="-1" strike="noStrike" baseline="30000">
                <a:solidFill>
                  <a:srgbClr val="00cc99"/>
                </a:solidFill>
                <a:latin typeface="Comic Sans MS"/>
              </a:rPr>
              <a:t>3+</a:t>
            </a:r>
            <a:r>
              <a:rPr b="1" lang="en-GB" sz="2400" spc="-1" strike="noStrike">
                <a:solidFill>
                  <a:srgbClr val="00cc99"/>
                </a:solidFill>
                <a:latin typeface="Comic Sans MS"/>
              </a:rPr>
              <a:t> (gre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Group 22"/>
          <p:cNvGrpSpPr/>
          <p:nvPr/>
        </p:nvGrpSpPr>
        <p:grpSpPr>
          <a:xfrm>
            <a:off x="4038480" y="2286000"/>
            <a:ext cx="1981440" cy="1659960"/>
            <a:chOff x="4038480" y="2286000"/>
            <a:chExt cx="1981440" cy="1659960"/>
          </a:xfrm>
        </p:grpSpPr>
        <p:sp>
          <p:nvSpPr>
            <p:cNvPr id="364" name="Line 5"/>
            <p:cNvSpPr/>
            <p:nvPr/>
          </p:nvSpPr>
          <p:spPr>
            <a:xfrm>
              <a:off x="4038480" y="2819520"/>
              <a:ext cx="19814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6"/>
            <p:cNvSpPr/>
            <p:nvPr/>
          </p:nvSpPr>
          <p:spPr>
            <a:xfrm>
              <a:off x="4114800" y="22860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99"/>
                  </a:solidFill>
                  <a:latin typeface="Comic Sans MS"/>
                </a:rPr>
                <a:t>Co</a:t>
              </a:r>
              <a:r>
                <a:rPr b="1" lang="en-GB" sz="2000" spc="-1" strike="noStrike" baseline="30000">
                  <a:solidFill>
                    <a:srgbClr val="ff3399"/>
                  </a:solidFill>
                  <a:latin typeface="Comic Sans MS"/>
                </a:rPr>
                <a:t>2+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 redu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Text Box 8"/>
            <p:cNvSpPr/>
            <p:nvPr/>
          </p:nvSpPr>
          <p:spPr>
            <a:xfrm>
              <a:off x="4114800" y="2895480"/>
              <a:ext cx="182880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H</a:t>
              </a:r>
              <a:r>
                <a:rPr b="1" lang="en-GB" sz="2000" spc="-1" strike="noStrike" baseline="-25000">
                  <a:solidFill>
                    <a:srgbClr val="ffff00"/>
                  </a:solidFill>
                  <a:latin typeface="Comic Sans MS"/>
                </a:rPr>
                <a:t>2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O</a:t>
              </a:r>
              <a:r>
                <a:rPr b="1" lang="en-GB" sz="2000" spc="-1" strike="noStrike" baseline="-25000">
                  <a:solidFill>
                    <a:srgbClr val="ffff00"/>
                  </a:solidFill>
                  <a:latin typeface="Comic Sans MS"/>
                </a:rPr>
                <a:t>2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 &amp; gets oxidised to </a:t>
              </a:r>
              <a:r>
                <a:rPr b="1" lang="en-GB" sz="2000" spc="-1" strike="noStrike">
                  <a:solidFill>
                    <a:srgbClr val="00cc99"/>
                  </a:solidFill>
                  <a:latin typeface="Comic Sans MS"/>
                </a:rPr>
                <a:t>Co</a:t>
              </a:r>
              <a:r>
                <a:rPr b="1" lang="en-GB" sz="2000" spc="-1" strike="noStrike" baseline="30000">
                  <a:solidFill>
                    <a:srgbClr val="00cc99"/>
                  </a:solidFill>
                  <a:latin typeface="Comic Sans MS"/>
                </a:rPr>
                <a:t>3+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 Box 9"/>
          <p:cNvSpPr/>
          <p:nvPr/>
        </p:nvSpPr>
        <p:spPr>
          <a:xfrm>
            <a:off x="2514600" y="4495680"/>
            <a:ext cx="4114800" cy="1622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methanoate, 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99"/>
                </a:solidFill>
                <a:latin typeface="Comic Sans MS"/>
              </a:rPr>
              <a:t>Co</a:t>
            </a:r>
            <a:r>
              <a:rPr b="1" lang="en-GB" sz="2400" spc="-1" strike="noStrike" baseline="30000">
                <a:solidFill>
                  <a:srgbClr val="ff3399"/>
                </a:solidFill>
                <a:latin typeface="Comic Sans MS"/>
              </a:rPr>
              <a:t>2+</a:t>
            </a:r>
            <a:r>
              <a:rPr b="1" lang="en-GB" sz="2400" spc="-1" strike="noStrike">
                <a:solidFill>
                  <a:srgbClr val="ff3399"/>
                </a:solidFill>
                <a:latin typeface="Comic Sans MS"/>
              </a:rPr>
              <a:t> (p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Group 20"/>
          <p:cNvGrpSpPr/>
          <p:nvPr/>
        </p:nvGrpSpPr>
        <p:grpSpPr>
          <a:xfrm>
            <a:off x="6629400" y="3314880"/>
            <a:ext cx="2286000" cy="2494800"/>
            <a:chOff x="6629400" y="3314880"/>
            <a:chExt cx="2286000" cy="2494800"/>
          </a:xfrm>
        </p:grpSpPr>
        <p:sp>
          <p:nvSpPr>
            <p:cNvPr id="369" name="Text Box 10"/>
            <p:cNvSpPr/>
            <p:nvPr/>
          </p:nvSpPr>
          <p:spPr>
            <a:xfrm>
              <a:off x="7162920" y="3581280"/>
              <a:ext cx="175248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cc99"/>
                  </a:solidFill>
                  <a:latin typeface="Comic Sans MS"/>
                </a:rPr>
                <a:t>Co</a:t>
              </a:r>
              <a:r>
                <a:rPr b="1" lang="en-GB" sz="2000" spc="-1" strike="noStrike" baseline="30000">
                  <a:solidFill>
                    <a:srgbClr val="00cc99"/>
                  </a:solidFill>
                  <a:latin typeface="Comic Sans MS"/>
                </a:rPr>
                <a:t>3+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 oxidises 2,3-hydroxy- butanoate &amp; gets reduced to</a:t>
              </a:r>
              <a:r>
                <a:rPr b="1" lang="en-GB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1" lang="en-GB" sz="2000" spc="-1" strike="noStrike">
                  <a:solidFill>
                    <a:srgbClr val="ff3399"/>
                  </a:solidFill>
                  <a:latin typeface="Comic Sans MS"/>
                </a:rPr>
                <a:t>Co</a:t>
              </a:r>
              <a:r>
                <a:rPr b="1" lang="en-GB" sz="2000" spc="-1" strike="noStrike" baseline="30000">
                  <a:solidFill>
                    <a:srgbClr val="ff3399"/>
                  </a:solidFill>
                  <a:latin typeface="Comic Sans MS"/>
                </a:rPr>
                <a:t>2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12"/>
            <p:cNvSpPr/>
            <p:nvPr/>
          </p:nvSpPr>
          <p:spPr>
            <a:xfrm>
              <a:off x="7086600" y="3314880"/>
              <a:ext cx="0" cy="20574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13"/>
            <p:cNvSpPr/>
            <p:nvPr/>
          </p:nvSpPr>
          <p:spPr>
            <a:xfrm flipH="1">
              <a:off x="6629400" y="5372280"/>
              <a:ext cx="4572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Group 21"/>
          <p:cNvGrpSpPr/>
          <p:nvPr/>
        </p:nvGrpSpPr>
        <p:grpSpPr>
          <a:xfrm>
            <a:off x="533160" y="3886200"/>
            <a:ext cx="1981080" cy="1447920"/>
            <a:chOff x="533160" y="3886200"/>
            <a:chExt cx="1981080" cy="1447920"/>
          </a:xfrm>
        </p:grpSpPr>
        <p:sp>
          <p:nvSpPr>
            <p:cNvPr id="373" name="Line 14"/>
            <p:cNvSpPr/>
            <p:nvPr/>
          </p:nvSpPr>
          <p:spPr>
            <a:xfrm flipH="1">
              <a:off x="533160" y="5334120"/>
              <a:ext cx="19810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5"/>
            <p:cNvSpPr/>
            <p:nvPr/>
          </p:nvSpPr>
          <p:spPr>
            <a:xfrm flipV="1">
              <a:off x="533520" y="3886200"/>
              <a:ext cx="0" cy="1447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6"/>
            <p:cNvSpPr/>
            <p:nvPr/>
          </p:nvSpPr>
          <p:spPr>
            <a:xfrm>
              <a:off x="545040" y="4572000"/>
              <a:ext cx="1821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Regene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Cataly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766C-F92E-4AE4-B92E-20E2E85DDA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371600" y="5791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19112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352680" y="39625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371600" y="1523880"/>
            <a:ext cx="8380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371600" y="32767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371600" y="4648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83059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74674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662940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57913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502920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49528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7"/>
          <p:cNvSpPr/>
          <p:nvPr/>
        </p:nvSpPr>
        <p:spPr>
          <a:xfrm flipV="1">
            <a:off x="533520" y="761760"/>
            <a:ext cx="0" cy="5715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54100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9"/>
          <p:cNvSpPr/>
          <p:nvPr/>
        </p:nvSpPr>
        <p:spPr>
          <a:xfrm flipV="1">
            <a:off x="43441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6094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1"/>
          <p:cNvSpPr/>
          <p:nvPr/>
        </p:nvSpPr>
        <p:spPr>
          <a:xfrm>
            <a:off x="68580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685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3"/>
          <p:cNvSpPr/>
          <p:nvPr/>
        </p:nvSpPr>
        <p:spPr>
          <a:xfrm>
            <a:off x="68580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25909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42670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7"/>
          <p:cNvSpPr/>
          <p:nvPr/>
        </p:nvSpPr>
        <p:spPr>
          <a:xfrm>
            <a:off x="396252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8"/>
          <p:cNvSpPr/>
          <p:nvPr/>
        </p:nvSpPr>
        <p:spPr>
          <a:xfrm>
            <a:off x="3124080" y="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9"/>
          <p:cNvSpPr/>
          <p:nvPr/>
        </p:nvSpPr>
        <p:spPr>
          <a:xfrm>
            <a:off x="480060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0" y="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1"/>
          <p:cNvSpPr/>
          <p:nvPr/>
        </p:nvSpPr>
        <p:spPr>
          <a:xfrm>
            <a:off x="3352680" y="4952880"/>
            <a:ext cx="6096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d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1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4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2"/>
          <p:cNvSpPr/>
          <p:nvPr/>
        </p:nvSpPr>
        <p:spPr>
          <a:xfrm flipV="1">
            <a:off x="16009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19051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34"/>
          <p:cNvSpPr/>
          <p:nvPr/>
        </p:nvSpPr>
        <p:spPr>
          <a:xfrm flipV="1">
            <a:off x="16009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35"/>
          <p:cNvSpPr/>
          <p:nvPr/>
        </p:nvSpPr>
        <p:spPr>
          <a:xfrm>
            <a:off x="1905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36"/>
          <p:cNvSpPr/>
          <p:nvPr/>
        </p:nvSpPr>
        <p:spPr>
          <a:xfrm flipH="1" flipV="1">
            <a:off x="3581640" y="411480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37"/>
          <p:cNvSpPr/>
          <p:nvPr/>
        </p:nvSpPr>
        <p:spPr>
          <a:xfrm flipV="1">
            <a:off x="52585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38"/>
          <p:cNvSpPr/>
          <p:nvPr/>
        </p:nvSpPr>
        <p:spPr>
          <a:xfrm>
            <a:off x="380988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39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40"/>
          <p:cNvSpPr/>
          <p:nvPr/>
        </p:nvSpPr>
        <p:spPr>
          <a:xfrm>
            <a:off x="54864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41"/>
          <p:cNvSpPr/>
          <p:nvPr/>
        </p:nvSpPr>
        <p:spPr>
          <a:xfrm flipV="1">
            <a:off x="16009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19051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43"/>
          <p:cNvSpPr/>
          <p:nvPr/>
        </p:nvSpPr>
        <p:spPr>
          <a:xfrm flipH="1" flipV="1">
            <a:off x="35816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44"/>
          <p:cNvSpPr/>
          <p:nvPr/>
        </p:nvSpPr>
        <p:spPr>
          <a:xfrm flipV="1">
            <a:off x="-913680" y="4038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45"/>
          <p:cNvSpPr/>
          <p:nvPr/>
        </p:nvSpPr>
        <p:spPr>
          <a:xfrm flipV="1">
            <a:off x="434412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46"/>
          <p:cNvSpPr/>
          <p:nvPr/>
        </p:nvSpPr>
        <p:spPr>
          <a:xfrm flipH="1" flipV="1">
            <a:off x="51818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7"/>
          <p:cNvSpPr/>
          <p:nvPr/>
        </p:nvSpPr>
        <p:spPr>
          <a:xfrm>
            <a:off x="2590920" y="152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48"/>
          <p:cNvSpPr/>
          <p:nvPr/>
        </p:nvSpPr>
        <p:spPr>
          <a:xfrm>
            <a:off x="38098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49"/>
          <p:cNvSpPr/>
          <p:nvPr/>
        </p:nvSpPr>
        <p:spPr>
          <a:xfrm>
            <a:off x="457200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50"/>
          <p:cNvSpPr/>
          <p:nvPr/>
        </p:nvSpPr>
        <p:spPr>
          <a:xfrm flipV="1">
            <a:off x="160092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51"/>
          <p:cNvSpPr/>
          <p:nvPr/>
        </p:nvSpPr>
        <p:spPr>
          <a:xfrm>
            <a:off x="-609480" y="3200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52"/>
          <p:cNvSpPr/>
          <p:nvPr/>
        </p:nvSpPr>
        <p:spPr>
          <a:xfrm>
            <a:off x="182880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53"/>
          <p:cNvSpPr/>
          <p:nvPr/>
        </p:nvSpPr>
        <p:spPr>
          <a:xfrm flipV="1">
            <a:off x="5106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4B97-C4F4-4CAB-9A3F-AFB1AB487E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80880" y="609480"/>
          <a:ext cx="8305920" cy="5727960"/>
        </p:xfrm>
        <a:graphic>
          <a:graphicData uri="http://schemas.openxmlformats.org/drawingml/2006/table">
            <a:tbl>
              <a:tblPr/>
              <a:tblGrid>
                <a:gridCol w="1338480"/>
                <a:gridCol w="598320"/>
                <a:gridCol w="843120"/>
                <a:gridCol w="836640"/>
                <a:gridCol w="838080"/>
                <a:gridCol w="838080"/>
                <a:gridCol w="836640"/>
                <a:gridCol w="839880"/>
                <a:gridCol w="574560"/>
                <a:gridCol w="7621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8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lectronic Arrangeme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S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C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M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Z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4FF6-EA84-4B85-AD2C-F472B9F43F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Chromium and Copper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r and Cu don’t fit the pattern of building up the 3d sub-shell, why?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In the ground state electrons are always arranged to give lowest total energy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lectrons are negatively charged and repel each other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Lower total energy is obtained with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singly in orbitals rather than if they are paired in an orbital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ies of 3d and 4s orbitals very close together in Period 4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D7BE-204B-4425-9EBB-4F25CD9EC0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Chromium and Copper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t Cr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rbital energies such that putting one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nto each 3d and 4s orbital gives lower energy than having 2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n the 4s orbita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t Cu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Putting 2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nto the 4s orbital would give a higher energy than filling the  3d orbital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4B22-6682-4B17-A970-D1FC19C60E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371600" y="5791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19112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352680" y="39625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1371600" y="1523880"/>
            <a:ext cx="8380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1371600" y="32767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1371600" y="4648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83059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74674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662940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57913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502920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49528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7"/>
          <p:cNvSpPr/>
          <p:nvPr/>
        </p:nvSpPr>
        <p:spPr>
          <a:xfrm flipV="1">
            <a:off x="533520" y="761760"/>
            <a:ext cx="0" cy="5715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54100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9"/>
          <p:cNvSpPr/>
          <p:nvPr/>
        </p:nvSpPr>
        <p:spPr>
          <a:xfrm flipV="1">
            <a:off x="43441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0"/>
          <p:cNvSpPr/>
          <p:nvPr/>
        </p:nvSpPr>
        <p:spPr>
          <a:xfrm>
            <a:off x="6094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68580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2"/>
          <p:cNvSpPr/>
          <p:nvPr/>
        </p:nvSpPr>
        <p:spPr>
          <a:xfrm>
            <a:off x="685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3"/>
          <p:cNvSpPr/>
          <p:nvPr/>
        </p:nvSpPr>
        <p:spPr>
          <a:xfrm>
            <a:off x="68580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25909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6"/>
          <p:cNvSpPr/>
          <p:nvPr/>
        </p:nvSpPr>
        <p:spPr>
          <a:xfrm>
            <a:off x="42670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396252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28"/>
          <p:cNvSpPr/>
          <p:nvPr/>
        </p:nvSpPr>
        <p:spPr>
          <a:xfrm>
            <a:off x="3124080" y="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29"/>
          <p:cNvSpPr/>
          <p:nvPr/>
        </p:nvSpPr>
        <p:spPr>
          <a:xfrm>
            <a:off x="480060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0"/>
          <p:cNvSpPr/>
          <p:nvPr/>
        </p:nvSpPr>
        <p:spPr>
          <a:xfrm>
            <a:off x="0" y="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1"/>
          <p:cNvSpPr/>
          <p:nvPr/>
        </p:nvSpPr>
        <p:spPr>
          <a:xfrm>
            <a:off x="3352680" y="4965840"/>
            <a:ext cx="5486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d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5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4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32"/>
          <p:cNvSpPr/>
          <p:nvPr/>
        </p:nvSpPr>
        <p:spPr>
          <a:xfrm flipV="1">
            <a:off x="16009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33"/>
          <p:cNvSpPr/>
          <p:nvPr/>
        </p:nvSpPr>
        <p:spPr>
          <a:xfrm>
            <a:off x="19051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34"/>
          <p:cNvSpPr/>
          <p:nvPr/>
        </p:nvSpPr>
        <p:spPr>
          <a:xfrm flipV="1">
            <a:off x="16009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35"/>
          <p:cNvSpPr/>
          <p:nvPr/>
        </p:nvSpPr>
        <p:spPr>
          <a:xfrm>
            <a:off x="1905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36"/>
          <p:cNvSpPr/>
          <p:nvPr/>
        </p:nvSpPr>
        <p:spPr>
          <a:xfrm flipH="1" flipV="1">
            <a:off x="3581640" y="411480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37"/>
          <p:cNvSpPr/>
          <p:nvPr/>
        </p:nvSpPr>
        <p:spPr>
          <a:xfrm flipV="1">
            <a:off x="52585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38"/>
          <p:cNvSpPr/>
          <p:nvPr/>
        </p:nvSpPr>
        <p:spPr>
          <a:xfrm>
            <a:off x="380988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39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40"/>
          <p:cNvSpPr/>
          <p:nvPr/>
        </p:nvSpPr>
        <p:spPr>
          <a:xfrm>
            <a:off x="54864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41"/>
          <p:cNvSpPr/>
          <p:nvPr/>
        </p:nvSpPr>
        <p:spPr>
          <a:xfrm flipV="1">
            <a:off x="16009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42"/>
          <p:cNvSpPr/>
          <p:nvPr/>
        </p:nvSpPr>
        <p:spPr>
          <a:xfrm>
            <a:off x="19051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43"/>
          <p:cNvSpPr/>
          <p:nvPr/>
        </p:nvSpPr>
        <p:spPr>
          <a:xfrm flipH="1" flipV="1">
            <a:off x="35816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44"/>
          <p:cNvSpPr/>
          <p:nvPr/>
        </p:nvSpPr>
        <p:spPr>
          <a:xfrm flipV="1">
            <a:off x="60206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45"/>
          <p:cNvSpPr/>
          <p:nvPr/>
        </p:nvSpPr>
        <p:spPr>
          <a:xfrm flipV="1">
            <a:off x="434412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46"/>
          <p:cNvSpPr/>
          <p:nvPr/>
        </p:nvSpPr>
        <p:spPr>
          <a:xfrm flipH="1" flipV="1">
            <a:off x="51818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7"/>
          <p:cNvSpPr/>
          <p:nvPr/>
        </p:nvSpPr>
        <p:spPr>
          <a:xfrm>
            <a:off x="2590920" y="152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48"/>
          <p:cNvSpPr/>
          <p:nvPr/>
        </p:nvSpPr>
        <p:spPr>
          <a:xfrm>
            <a:off x="38098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49"/>
          <p:cNvSpPr/>
          <p:nvPr/>
        </p:nvSpPr>
        <p:spPr>
          <a:xfrm>
            <a:off x="457200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50"/>
          <p:cNvSpPr/>
          <p:nvPr/>
        </p:nvSpPr>
        <p:spPr>
          <a:xfrm flipV="1">
            <a:off x="160092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51"/>
          <p:cNvSpPr/>
          <p:nvPr/>
        </p:nvSpPr>
        <p:spPr>
          <a:xfrm>
            <a:off x="-609480" y="3124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52"/>
          <p:cNvSpPr/>
          <p:nvPr/>
        </p:nvSpPr>
        <p:spPr>
          <a:xfrm flipV="1">
            <a:off x="5106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53"/>
          <p:cNvSpPr/>
          <p:nvPr/>
        </p:nvSpPr>
        <p:spPr>
          <a:xfrm flipH="1" flipV="1">
            <a:off x="6782040" y="12193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54"/>
          <p:cNvSpPr/>
          <p:nvPr/>
        </p:nvSpPr>
        <p:spPr>
          <a:xfrm flipH="1" flipV="1">
            <a:off x="7696440" y="12193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55"/>
          <p:cNvSpPr/>
          <p:nvPr/>
        </p:nvSpPr>
        <p:spPr>
          <a:xfrm flipV="1">
            <a:off x="8535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69A5-EAA4-48B3-8E0F-35FB646DF5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1371600" y="5791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419112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3352680" y="39625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1371600" y="1523880"/>
            <a:ext cx="8380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1371600" y="32767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1371600" y="4648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83059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74674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662940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57913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502920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9528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7"/>
          <p:cNvSpPr/>
          <p:nvPr/>
        </p:nvSpPr>
        <p:spPr>
          <a:xfrm flipV="1">
            <a:off x="533520" y="761760"/>
            <a:ext cx="0" cy="5715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8"/>
          <p:cNvSpPr/>
          <p:nvPr/>
        </p:nvSpPr>
        <p:spPr>
          <a:xfrm>
            <a:off x="54100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9"/>
          <p:cNvSpPr/>
          <p:nvPr/>
        </p:nvSpPr>
        <p:spPr>
          <a:xfrm flipV="1">
            <a:off x="43441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0"/>
          <p:cNvSpPr/>
          <p:nvPr/>
        </p:nvSpPr>
        <p:spPr>
          <a:xfrm>
            <a:off x="6094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1"/>
          <p:cNvSpPr/>
          <p:nvPr/>
        </p:nvSpPr>
        <p:spPr>
          <a:xfrm>
            <a:off x="68580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2"/>
          <p:cNvSpPr/>
          <p:nvPr/>
        </p:nvSpPr>
        <p:spPr>
          <a:xfrm>
            <a:off x="685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3"/>
          <p:cNvSpPr/>
          <p:nvPr/>
        </p:nvSpPr>
        <p:spPr>
          <a:xfrm>
            <a:off x="68580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4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5"/>
          <p:cNvSpPr/>
          <p:nvPr/>
        </p:nvSpPr>
        <p:spPr>
          <a:xfrm>
            <a:off x="25909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6"/>
          <p:cNvSpPr/>
          <p:nvPr/>
        </p:nvSpPr>
        <p:spPr>
          <a:xfrm>
            <a:off x="42670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7"/>
          <p:cNvSpPr/>
          <p:nvPr/>
        </p:nvSpPr>
        <p:spPr>
          <a:xfrm>
            <a:off x="396252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8"/>
          <p:cNvSpPr/>
          <p:nvPr/>
        </p:nvSpPr>
        <p:spPr>
          <a:xfrm>
            <a:off x="3124080" y="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9"/>
          <p:cNvSpPr/>
          <p:nvPr/>
        </p:nvSpPr>
        <p:spPr>
          <a:xfrm>
            <a:off x="480060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0"/>
          <p:cNvSpPr/>
          <p:nvPr/>
        </p:nvSpPr>
        <p:spPr>
          <a:xfrm>
            <a:off x="0" y="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3352680" y="4965840"/>
            <a:ext cx="5791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C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d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10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4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32"/>
          <p:cNvSpPr/>
          <p:nvPr/>
        </p:nvSpPr>
        <p:spPr>
          <a:xfrm flipV="1">
            <a:off x="16009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33"/>
          <p:cNvSpPr/>
          <p:nvPr/>
        </p:nvSpPr>
        <p:spPr>
          <a:xfrm>
            <a:off x="19051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34"/>
          <p:cNvSpPr/>
          <p:nvPr/>
        </p:nvSpPr>
        <p:spPr>
          <a:xfrm flipV="1">
            <a:off x="16009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35"/>
          <p:cNvSpPr/>
          <p:nvPr/>
        </p:nvSpPr>
        <p:spPr>
          <a:xfrm>
            <a:off x="1905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36"/>
          <p:cNvSpPr/>
          <p:nvPr/>
        </p:nvSpPr>
        <p:spPr>
          <a:xfrm flipH="1" flipV="1">
            <a:off x="3581640" y="411480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37"/>
          <p:cNvSpPr/>
          <p:nvPr/>
        </p:nvSpPr>
        <p:spPr>
          <a:xfrm flipV="1">
            <a:off x="52585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38"/>
          <p:cNvSpPr/>
          <p:nvPr/>
        </p:nvSpPr>
        <p:spPr>
          <a:xfrm>
            <a:off x="380988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39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0"/>
          <p:cNvSpPr/>
          <p:nvPr/>
        </p:nvSpPr>
        <p:spPr>
          <a:xfrm>
            <a:off x="54864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41"/>
          <p:cNvSpPr/>
          <p:nvPr/>
        </p:nvSpPr>
        <p:spPr>
          <a:xfrm flipV="1">
            <a:off x="16009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42"/>
          <p:cNvSpPr/>
          <p:nvPr/>
        </p:nvSpPr>
        <p:spPr>
          <a:xfrm>
            <a:off x="19051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43"/>
          <p:cNvSpPr/>
          <p:nvPr/>
        </p:nvSpPr>
        <p:spPr>
          <a:xfrm flipH="1" flipV="1">
            <a:off x="35816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44"/>
          <p:cNvSpPr/>
          <p:nvPr/>
        </p:nvSpPr>
        <p:spPr>
          <a:xfrm flipV="1">
            <a:off x="60206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45"/>
          <p:cNvSpPr/>
          <p:nvPr/>
        </p:nvSpPr>
        <p:spPr>
          <a:xfrm flipV="1">
            <a:off x="434412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46"/>
          <p:cNvSpPr/>
          <p:nvPr/>
        </p:nvSpPr>
        <p:spPr>
          <a:xfrm flipH="1" flipV="1">
            <a:off x="51818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7"/>
          <p:cNvSpPr/>
          <p:nvPr/>
        </p:nvSpPr>
        <p:spPr>
          <a:xfrm>
            <a:off x="2590920" y="152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48"/>
          <p:cNvSpPr/>
          <p:nvPr/>
        </p:nvSpPr>
        <p:spPr>
          <a:xfrm>
            <a:off x="38098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49"/>
          <p:cNvSpPr/>
          <p:nvPr/>
        </p:nvSpPr>
        <p:spPr>
          <a:xfrm>
            <a:off x="457200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50"/>
          <p:cNvSpPr/>
          <p:nvPr/>
        </p:nvSpPr>
        <p:spPr>
          <a:xfrm flipV="1">
            <a:off x="160092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51"/>
          <p:cNvSpPr/>
          <p:nvPr/>
        </p:nvSpPr>
        <p:spPr>
          <a:xfrm>
            <a:off x="62485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52"/>
          <p:cNvSpPr/>
          <p:nvPr/>
        </p:nvSpPr>
        <p:spPr>
          <a:xfrm flipV="1">
            <a:off x="5106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53"/>
          <p:cNvSpPr/>
          <p:nvPr/>
        </p:nvSpPr>
        <p:spPr>
          <a:xfrm flipH="1" flipV="1">
            <a:off x="6782040" y="12193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54"/>
          <p:cNvSpPr/>
          <p:nvPr/>
        </p:nvSpPr>
        <p:spPr>
          <a:xfrm flipH="1" flipV="1">
            <a:off x="7696440" y="12193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55"/>
          <p:cNvSpPr/>
          <p:nvPr/>
        </p:nvSpPr>
        <p:spPr>
          <a:xfrm flipV="1">
            <a:off x="8535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56"/>
          <p:cNvSpPr/>
          <p:nvPr/>
        </p:nvSpPr>
        <p:spPr>
          <a:xfrm>
            <a:off x="5334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57"/>
          <p:cNvSpPr/>
          <p:nvPr/>
        </p:nvSpPr>
        <p:spPr>
          <a:xfrm>
            <a:off x="-685800" y="3581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58"/>
          <p:cNvSpPr/>
          <p:nvPr/>
        </p:nvSpPr>
        <p:spPr>
          <a:xfrm>
            <a:off x="70102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59"/>
          <p:cNvSpPr/>
          <p:nvPr/>
        </p:nvSpPr>
        <p:spPr>
          <a:xfrm>
            <a:off x="79246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60"/>
          <p:cNvSpPr/>
          <p:nvPr/>
        </p:nvSpPr>
        <p:spPr>
          <a:xfrm>
            <a:off x="8763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8T21:54:40Z</dcterms:created>
  <dc:creator>Andrew Harris</dc:creator>
  <dc:description/>
  <dc:language>en-US</dc:language>
  <cp:lastModifiedBy>RomaK</cp:lastModifiedBy>
  <dcterms:modified xsi:type="dcterms:W3CDTF">2015-09-02T06:04:00Z</dcterms:modified>
  <cp:revision>48</cp:revision>
  <dc:subject/>
  <dc:title>The d block: </dc:title>
</cp:coreProperties>
</file>