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84240" y="733320"/>
            <a:ext cx="488952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Click to move the slide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2BED4-4018-4650-8D04-873DB8D06C4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 block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 block consists of three horizontal series in periods 4, 5 &amp;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 elements in each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stry is “different” from other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electronic configurations impor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within a group in the d block are less sharp than in s &amp; p b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ities across a period are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 block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 block consists of three horizontal series in periods 4, 5 &amp;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 elements in each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stry is “different” from other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electronic configurations impor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within a group in the d block are less sharp than in s &amp; p b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ities across a period are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transition met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 metals [TM’s] have characteristic propert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coloured compounds, variable oxidation sta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due to presence of an inner incomplete d sub-sh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from both inner d sub-shell and outer s sub-shell can be involved in compound 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transition met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 metals [TM’s] have characteristic propert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coloured compounds, variable oxidation sta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due to presence of an inner incomplete d sub-sh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from both inner d sub-shell and outer s sub-shell can be involved in compound 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transition met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d block elements have incomplete d sub-sh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Zn has e.c. of  [Ar]3d104s2, the Zn2+ ion ([Ar] 3d10) is not a typical TM 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ly Sc forms Sc3+ which has the stable e.c of Ar. Sc3+ has no 3d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transition met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d block elements have incomplete d sub-sh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Zn has e.c. of  [Ar]3d104s2, the Zn2+ ion ([Ar] 3d10) is not a typical TM 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ly Sc forms Sc3+ which has the stable e.c of Ar. Sc3+ has no 3d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transition met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is reason, a transition metal is defined as being an element which forms at least one ion with a partially filled sub-shell of d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eriod 4 only Ti-Cu are TM’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when d block elements form ions the s electrons are lost fi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transition met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is reason, a transition metal is defined as being an element which forms at least one ion with a partially filled sub-shell of d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eriod 4 only Ti-Cu are TM’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when d block elements form ions the s electrons are lost fi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M’s 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’s are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similar to each other but different from s block metals eg Na and M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 of TM’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e met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high Tm and T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d to be hard and dura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high tensile streng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good mechanical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M’s 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’s are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similar to each other but different from s block metals eg Na and M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 of TM’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e met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high Tm and T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d to be hard and dura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high tensile streng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good mechanical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M’s 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 derive from strong metallic bo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’s can release e- into the pool of mobile electrons from both outer and inner sh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metallic bonds formed between the mobile pool and the +ve metal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ables widespread use of T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ys very important: inhibits slip in crystal lattice usually results in increased hardness and reduced malle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M’s 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 derive from strong metallic bo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’s can release e- into the pool of mobile electrons from both outer and inner sh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metallic bonds formed between the mobile pool and the +ve metal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ables widespread use of T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ys very important: inhibits slip in crystal lattice usually results in increased hardness and reduced malle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 of Alloying on TM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 of Alloying on TM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 Chemical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ical chemical properties of the TM’s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compounds in a variety of oxid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tic activity of the elements and their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tendency to form comple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CI 11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coloured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CI 11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 Chemical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ical chemical properties of the TM’s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compounds in a variety of oxid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tic activity of the elements and their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tendency to form comple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CI 11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coloured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CI 11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ariable Oxid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M’s show a great variety of oxidation states cf s block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 compare successive ionisation enthalpies (Hi) for Ca and V as foll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(g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+(g) + e-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Hi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+(g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2+(g) + e-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Hi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2+(g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3+(g) + e-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Hi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3+(g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4+(g) + e-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Hi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ble Oxid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’s show a great variety of oxidation states cf s block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compare successive ionisation enthalpies (Hi) for Ca and V as foll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(g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+(g) + e-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Hi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+(g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2+(g) + e-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Hi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2+(g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3+(g) + e-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Hi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3+(g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4+(g) + e-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Hi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 for Ca and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 for Ca and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 for Ca and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Ca &amp; V always lose the 4s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C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(1) &amp; Hi(2) relatively low as corresponds to removing outer 4s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p increase in Hi(3) &amp; Hi(4) cf Hi(2) due to difficulty in removing 3p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dual increase from Hi(1) to Hi(4) as removing 4s then 3d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 for Ca and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Ca &amp; V always lose the 4s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C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(1) &amp; Hi(2) relatively low as corresponds to removing outer 4s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p increase in Hi(3) &amp; Hi(4) cf Hi(2) due to difficulty in removing 3p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dual increase from Hi(1) to Hi(4) as removing 4s then 3d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ic 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ross the 1st row of the d block (Sc to Zn) each el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1 more electron and 1 more pr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“additional” electron enters the 3d sub-sh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re configuration for all the period 4 transition elements is that of 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22s22p63s23p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ic 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ross the 1st row of the d block (Sc to Zn) each el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1 more electron and 1 more pr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“additional” electron enters the 3d sub-sh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re configuration for all the period 4 transition elements is that of 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22s22p63s23p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States of TM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following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important OS’s in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 = +1 only important for 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 others sum of Hi(1) + Hi(2) low enough for 2e- to be remo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 = +2, where 4s e- lost shown by all except for Sc and 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 = +3, shown by all except Z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States of TM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following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important OS’s in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 = +1 only important for 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 others sum of Hi(1) + Hi(2) low enough for 2e- to be remo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 = +2, where 4s e- lost shown by all except for Sc and 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 = +3, shown by all except Z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States of TM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States of TM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States of TM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of OS’s shown by an element increases from Sc to 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each of these elements highest OS is equal to no. of 3d and 4s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Mn decrease in no. of OS’s shown by an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st OS shown becomes lower and less s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ms increasing nuclear charge binds 3d e- more strongly, hence harder to rem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States of TM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of OS’s shown by an element increases from Sc to 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each of these elements highest OS is equal to no. of 3d and 4s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Mn decrease in no. of OS’s shown by an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st OS shown becomes lower and less s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ms increasing nuclear charge binds 3d e- more strongly, hence harder to rem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xidation States of TM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ge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wer OS’s found in simple ionic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.g. compounds containing Cr3+, Mn2+, Fe3+, Cu2+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M’s in higher OS’s usually covalently bound to electronegative element such as O or 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.g VO3-, vanadate(V) ion; MnO4-, manganate(VII) 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mple ions with high OS’s such as V5+ &amp; Mn7+ are not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States of TM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r OS’s found in simple ionic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compounds containing Cr3+, Mn2+, Fe3+, Cu2+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’s in higher OS’s usually covalently bound to electronegative element such as O or 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 VO3-, vanadate(V) ion; MnO4-, manganate(VII) 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ions with high OS’s such as V5+ &amp; Mn7+ are not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 of OS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from one OS to another is a redox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stability of different OS’s can be predicted by looking at Standard Electrode Potenti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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 of OS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from one OS to another is a redox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stability of different OS’s can be predicted by looking at Standard Electrode Potenti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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 of OS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tr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OS’s become less stable relative to lower ones on moving from left to right across the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containing TM’s in high OS’s tend to be oxidising agents e.g MnO4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with TM’s in low OS’s are often reducing agents e.g V2+ &amp; Fe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 of OS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tr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OS’s become less stable relative to lower ones on moving from left to right across the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containing TM’s in high OS’s tend to be oxidising agents e.g MnO4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with TM’s in low OS’s are often reducing agents e.g V2+ &amp; Fe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 of OS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trends (continu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stability of +2 state with respect to +3 state increases across the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compounds early in the series, +2 state highly reduc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V2+(aq) &amp; Cr2+(aq) strong reducing ag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r in series +2 stable, +3 state highly oxidi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Co3+ is a strong oxidising agent, Ni3+ &amp; Cu3+ do not exist in aqueous 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 of OS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trends (continu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stability of +2 state with respect to +3 state increases across the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compounds early in the series, +2 state highly reduc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V2+(aq) &amp; Cr2+(aq) strong reducing ag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r in series +2 stable, +3 state highly oxidi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Co3+ is a strong oxidising agent, Ni3+ &amp; Cu3+ do not exist in aqueous 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tic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’s and their compounds effective and important cataly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ly and biologically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people in the know” belie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sts provide reaction pathway with lower EA than uncatalysed reaction (see CI 10.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ailability of 3d and 4s e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ility to change 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ng factors which make TM’s such good cataly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tic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’s and their compounds effective and important cataly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ly and biologically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people in the know” belie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sts provide reaction pathway with lower EA than uncatalysed reaction (see CI 10.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ailability of 3d and 4s e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ility to change 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ng factors which make TM’s such good cataly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geneous Cat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st in different phase from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means solid TM catalyst with reactants in liquid or gas pha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’s c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3d and 4s e- of atoms on metal surface to from weak bonds to the reacta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reaction has occurred on TM surface, these bonds can break to release 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example is hydrogenation of alkenes using Ni or Pt cataly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geneous Cat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st in different phase from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means solid TM catalyst with reactants in liquid or gas pha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’s c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3d and 4s e- of atoms on metal surface to from weak bonds to the reacta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reaction has occurred on TM surface, these bonds can break to release 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example is hydrogenation of alkenes using Ni or Pt cataly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terogeneous Cat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geneous Cat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s2  2s2 2p6 3s2 3p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2  2s2 2p6 3s2 3p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 Cat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st in same phase as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means reaction takes place in aqueous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st aqueous TM 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invol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 ion forming intermediate compound with ome or more of the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mediate then breaks down to form 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 Cat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st in same phase as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means reaction takes place in aqueous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st aqueous TM 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invol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 ion forming intermediate compound with ome or more of the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mediate then breaks down to form 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 Cat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ve reaction is that used in Activity SS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3-dihydroxybutanoate ion with hydrogen per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 catalysed by Co2+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 Cat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ve reaction is that used in Activity SS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3-dihydroxybutanoate ion with hydrogen per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 catalysed by Co2+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gested Mecha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2 +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O2CCH(OH)CH(OH)C02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+ (pin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MED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3+ (gre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, methanoate, H2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+ (pin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gested Mecha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2 +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O2CCH(OH)CH(OH)C02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+ (pin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MED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3+ (gre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, methanoate, H2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+ (pin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s2  2s2 2p6 3s2 3p6 3d1 4s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2  2s2 2p6 3s2 3p6 3d1 4s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ium and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and Cu don’t fit the pattern of building up the 3d sub-shell, 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ground state electrons are always arranged to give lowest tot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are negatively charged and repel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r total energy is obtained with e- singly in orbitals rather than if they are paired in an orb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ies of 3d and 4s orbitals very close together in Period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ium and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and Cu don’t fit the pattern of building up the 3d sub-shell, 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ground state electrons are always arranged to give lowest tot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are negatively charged and repel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r total energy is obtained with e- singly in orbitals rather than if they are paired in an orb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ies of 3d and 4s orbitals very close together in Period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ium and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bital energies such that putting one e- into each 3d and 4s orbital gives lower energy than having 2 e- in the 4s orb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ting 2 e- into the 4s orbital would give a higher energy than filling the  3d orb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ium and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bital energies such that putting one e- into each 3d and 4s orbital gives lower energy than having 2 e- in the 4s orb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ting 2 e- into the 4s orbital would give a higher energy than filling the  3d orb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s2  2s2 2p6 3s2 3p6 3d5 4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2  2s2 2p6 3s2 3p6 3d5 4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s2  2s2 2p6 3s2 3p6 3d10 4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2  2s2 2p6 3s2 3p6 3d10 4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E523-D3AB-4EA7-9113-CE3AAA16A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A135-8DC0-4EAA-9A8D-6776A5D2D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D5BA-BD3E-4A45-A2D1-D5E49EF90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DCB2-FC6F-4EB6-94A6-D90F0B20F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C50B-CC10-4DD4-A11C-A16FE8195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9280-428D-4EB2-BD65-51CD5EE1B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E05A-7BE0-48C3-928F-B3D584803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9E07-AE1A-4A56-B50E-0F5736D2B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B32B-B2D6-44B5-A820-79C13F6CA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91FC-4A75-4ECB-8E74-AA03D02A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C99B-4C93-4F0F-B601-F7F3051E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672A-094E-4582-85D1-D9957203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S CI 11.5 The d b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C5A93-1B47-4F13-A491-0A328F964C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40C76-7587-4359-9331-3839E2821F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The d block: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1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The d block consists of three horizontal series in periods 4, 5 &amp; 6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10 elements in each serie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Chemistry is “different” from other element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Special electronic configurations important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2" marL="1097280" indent="-21924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Differences within a group in the d block are less sharp than in s &amp; p block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2" marL="1097280" indent="-21924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imilarities across a period are greater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A0A65-8C74-4ABE-8078-D36303E972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What is a transition metal?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ransition metals [TM’s] have characteristic properties 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.g. coloured compounds, variable oxidation states 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hese are due to presence of an inner incomplete d sub-shell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Electrons from both inner d sub-shell and outer s sub-shell can be involved in compound formation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4A50A-78D4-4ADB-909C-A2D5A7FDAD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What is a transition metal?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Not all d block elements have incomplete d sub-shells 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e.g. Zn has e.c. of  [Ar]3d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10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4s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, the Zn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ion ([Ar] 3d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10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) is not a typical TM ion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Similarly Sc forms Sc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3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which has the stable e.c of Ar. Sc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3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has no 3d electron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806CC-B550-4B6A-98A4-094EB750FB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What is a transition metal?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For this reason, </a:t>
            </a:r>
            <a:r>
              <a:rPr b="1" i="1" lang="en-GB" sz="3200" spc="-1" strike="noStrike">
                <a:solidFill>
                  <a:srgbClr val="ffff00"/>
                </a:solidFill>
                <a:latin typeface="Comic Sans MS"/>
              </a:rPr>
              <a:t>a transition metal is defined as being an element which forms at least one ion with a partially filled sub-shell of d electrons.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In period 4 only Ti-Cu are TM’s!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Note that when d block elements form ions the s electrons are lost first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67D75-F4D0-4080-88FF-B5710F8E65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What are TM’s like?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M’s are metal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hey are similar to each other but different from s block metals eg Na and Mg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Properties of TM’s  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Dense metals 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ave high T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m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and T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b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Tend to be hard and durable 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ave high tensile strength 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ave good mechanical properties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7E55F-8D62-446C-B2C4-E1F3E33C3B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What are TM’s like?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Properties derive from strong </a:t>
            </a:r>
            <a:r>
              <a:rPr b="1" i="1" lang="en-GB" sz="2800" spc="-1" strike="noStrike">
                <a:solidFill>
                  <a:srgbClr val="ffff00"/>
                </a:solidFill>
                <a:latin typeface="Comic Sans MS"/>
              </a:rPr>
              <a:t>metallic bonding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M’s can release 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into the pool of mobile electrons from both outer and inner shell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trong metallic bonds formed between the mobile pool and the +ve metal ions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nables widespread use of TMs!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Alloys very important: inhibits slip in crystal lattice usually results in increased hardness and reduced malleability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1139A-33D2-43B3-BEF4-FDB61B4D55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Effect of Alloying on TM’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296" name="Picture 4" descr=""/>
          <p:cNvPicPr/>
          <p:nvPr/>
        </p:nvPicPr>
        <p:blipFill>
          <a:blip r:embed="rId1"/>
          <a:stretch/>
        </p:blipFill>
        <p:spPr>
          <a:xfrm>
            <a:off x="1558800" y="1828800"/>
            <a:ext cx="6024600" cy="40435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83069-F4B8-4500-8238-95F1AAF984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TM Chemical Propertie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Typical chemical properties of the TM’s are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Formation of compounds in a variety of oxidation state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Catalytic activity of the elements and their compound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Strong tendency to form complexe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ee CI 11.6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Formation of coloured compound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ee CI 11.6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49E31-88DD-4562-A3AB-6681017475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Variable Oxidation State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714680"/>
            <a:ext cx="7772400" cy="46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TM’s show a great variety of oxidation states cf s block metals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If compare successive ionisation enthalpies (</a:t>
            </a:r>
            <a:r>
              <a:rPr b="1" lang="en-GB" sz="32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32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) for Ca and V as follows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M(g)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g) + 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 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1)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g)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g) + 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 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2)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g)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3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g) + 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 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3)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3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g)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4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g) + 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 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4)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2B490-870E-462A-A895-AB1C30C88C1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1" lang="en-GB" sz="4400" spc="-1" strike="noStrike" baseline="-25000">
                <a:solidFill>
                  <a:srgbClr val="ff0000"/>
                </a:solidFill>
                <a:latin typeface="Comic Sans MS"/>
              </a:rPr>
              <a:t>i</a:t>
            </a: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 for Ca and V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735120" y="1981080"/>
          <a:ext cx="7672320" cy="4116600"/>
        </p:xfrm>
        <a:graphic>
          <a:graphicData uri="http://schemas.openxmlformats.org/drawingml/2006/table">
            <a:tbl>
              <a:tblPr/>
              <a:tblGrid>
                <a:gridCol w="2388960"/>
                <a:gridCol w="1320840"/>
                <a:gridCol w="1319400"/>
                <a:gridCol w="1295280"/>
                <a:gridCol w="1347840"/>
              </a:tblGrid>
              <a:tr h="1033920"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El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Ionisation Enthalp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[kJ mol</a:t>
                      </a:r>
                      <a:r>
                        <a:rPr b="1" lang="en-GB" sz="2800" spc="-1" strike="noStrike" baseline="30000">
                          <a:solidFill>
                            <a:srgbClr val="ffff00"/>
                          </a:solidFill>
                          <a:latin typeface="Comic Sans MS"/>
                        </a:rPr>
                        <a:t>-1</a:t>
                      </a: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H</a:t>
                      </a:r>
                      <a:r>
                        <a:rPr b="1" lang="en-GB" sz="2800" spc="-1" strike="noStrike" baseline="-25000">
                          <a:solidFill>
                            <a:srgbClr val="ffff00"/>
                          </a:solidFill>
                          <a:latin typeface="Comic Sans MS"/>
                        </a:rPr>
                        <a:t>i</a:t>
                      </a: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H</a:t>
                      </a:r>
                      <a:r>
                        <a:rPr b="1" lang="en-GB" sz="2800" spc="-1" strike="noStrike" baseline="-25000">
                          <a:solidFill>
                            <a:srgbClr val="ffff00"/>
                          </a:solidFill>
                          <a:latin typeface="Comic Sans MS"/>
                        </a:rPr>
                        <a:t>i</a:t>
                      </a: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H</a:t>
                      </a:r>
                      <a:r>
                        <a:rPr b="1" lang="en-GB" sz="2800" spc="-1" strike="noStrike" baseline="-25000">
                          <a:solidFill>
                            <a:srgbClr val="ffff00"/>
                          </a:solidFill>
                          <a:latin typeface="Comic Sans MS"/>
                        </a:rPr>
                        <a:t>i</a:t>
                      </a: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H</a:t>
                      </a:r>
                      <a:r>
                        <a:rPr b="1" lang="en-GB" sz="2800" spc="-1" strike="noStrike" baseline="-25000">
                          <a:solidFill>
                            <a:srgbClr val="ffff00"/>
                          </a:solidFill>
                          <a:latin typeface="Comic Sans MS"/>
                        </a:rPr>
                        <a:t>i</a:t>
                      </a: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(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027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Ca [Ar]4s</a:t>
                      </a:r>
                      <a:r>
                        <a:rPr b="1" lang="en-GB" sz="2800" spc="-1" strike="noStrike" baseline="30000">
                          <a:solidFill>
                            <a:srgbClr val="ffff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5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11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49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64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027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V [Ar]3d</a:t>
                      </a:r>
                      <a:r>
                        <a:rPr b="1" lang="en-GB" sz="2800" spc="-1" strike="noStrike" baseline="30000">
                          <a:solidFill>
                            <a:srgbClr val="ffff00"/>
                          </a:solidFill>
                          <a:latin typeface="Comic Sans MS"/>
                        </a:rPr>
                        <a:t>3</a:t>
                      </a: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s</a:t>
                      </a:r>
                      <a:r>
                        <a:rPr b="1" lang="en-GB" sz="2800" spc="-1" strike="noStrike" baseline="30000">
                          <a:solidFill>
                            <a:srgbClr val="ffff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6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14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28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45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E3CCC-DC16-42EA-ABDB-70D388F37C5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1" lang="en-GB" sz="4400" spc="-1" strike="noStrike" baseline="-25000">
                <a:solidFill>
                  <a:srgbClr val="ff0000"/>
                </a:solidFill>
                <a:latin typeface="Comic Sans MS"/>
              </a:rPr>
              <a:t>i</a:t>
            </a: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 for Ca and V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Both Ca &amp; V always lose the 4s electron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For Ca 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(1) &amp; </a:t>
            </a:r>
            <a:r>
              <a:rPr b="1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(2) relatively low as corresponds to removing outer 4s e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harp increase in </a:t>
            </a:r>
            <a:r>
              <a:rPr b="1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(3) &amp; </a:t>
            </a:r>
            <a:r>
              <a:rPr b="1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(4) cf </a:t>
            </a:r>
            <a:r>
              <a:rPr b="1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(2) due to difficulty in removing 3p e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For Sc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Gradual increase from </a:t>
            </a:r>
            <a:r>
              <a:rPr b="1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(1) to </a:t>
            </a:r>
            <a:r>
              <a:rPr b="1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(4) as removing 4s then 3d e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37986-0A59-4E4C-9160-F6202505D9F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Electronic Configuration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Across the 1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st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 row of the d block (Sc to Zn) each element 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has 1 more electron and 1 more proton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Each “additional” electron enters the 3d sub-shell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he core configuration for all the period 4 transition elements is that of Ar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1s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2s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2p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6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s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p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6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B3B5E-8F42-414C-BEDE-0E629A9B0A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Oxidation States of TM’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In the following table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Most important OS’s in boxe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OS = +1 only important for Cu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In all others sum of </a:t>
            </a: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1) + </a:t>
            </a: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2) low enough for 2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to be removed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OS = +2, where 4s 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lost shown by all except for Sc and Ti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OS = +3, shown by all except Zn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EFB5A-DCDF-406D-AF9F-2B171F3ECD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Oxidation States of TM’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685800" y="1981080"/>
          <a:ext cx="7954920" cy="4394160"/>
        </p:xfrm>
        <a:graphic>
          <a:graphicData uri="http://schemas.openxmlformats.org/drawingml/2006/table">
            <a:tbl>
              <a:tblPr/>
              <a:tblGrid>
                <a:gridCol w="603360"/>
                <a:gridCol w="218880"/>
                <a:gridCol w="584640"/>
                <a:gridCol w="218880"/>
                <a:gridCol w="586080"/>
                <a:gridCol w="218880"/>
                <a:gridCol w="586440"/>
                <a:gridCol w="218880"/>
                <a:gridCol w="673560"/>
                <a:gridCol w="218880"/>
                <a:gridCol w="589680"/>
                <a:gridCol w="218880"/>
                <a:gridCol w="584640"/>
                <a:gridCol w="218880"/>
                <a:gridCol w="586080"/>
                <a:gridCol w="218880"/>
                <a:gridCol w="586080"/>
                <a:gridCol w="218880"/>
                <a:gridCol w="604440"/>
              </a:tblGrid>
              <a:tr h="94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S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M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F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N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Z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8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3004B-2193-4563-B221-7A72857D78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Oxidation States of TM’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No of OS’s shown by an element increases from Sc to Mn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In each of these elements highest OS is equal to no. of 3d and 4s e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After Mn decrease in no. of OS’s shown by an element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ighest OS shown becomes lower and less stable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eems increasing nuclear charge binds 3d e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more strongly, hence harder to remove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05CB2-657B-4ED8-93D3-255EAD314A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Oxidation States of TM’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In general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Lower OS’s found in simple ionic compound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.g. compounds containing Cr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3+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, Mn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, Fe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3+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, Cu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ions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M’s in higher OS’s usually covalently bound to electronegative element such as O or F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.g VO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3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, vanadate(V) ion; MnO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4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, manganate(VII) ion 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imple ions with high OS’s such as V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5+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&amp; Mn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7+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i="1" lang="en-GB" sz="2400" spc="-1" strike="noStrike" u="sng">
                <a:solidFill>
                  <a:srgbClr val="ffff00"/>
                </a:solidFill>
                <a:uFillTx/>
                <a:latin typeface="Comic Sans MS"/>
              </a:rPr>
              <a:t>are not formed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9E9DC-25BD-492F-8ACF-2D7B1B3C4C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Stability of OS’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Change from one OS to another is a redox reaction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Relative stability of different OS’s can be predicted by looking at Standard Electrode Potentials 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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value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C8FEC-E5F3-4133-9759-DD97335AAF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Stability of OS’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40940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General trends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Higher OS’s become less stable relative to lower ones on moving from left to right across the serie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Compounds containing TM’s in high OS’s tend to be oxidising agents e.g MnO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Comic Sans MS"/>
              </a:rPr>
              <a:t>4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Compounds with TM’s in low OS’s are often reducing agents e.g V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&amp; F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5E893-4281-4D62-97B8-4B319A668EB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Stability of OS’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General trends (continued)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Relative stability of +2 state with respect to +3 state increases across the series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For compounds early in the series, +2 state highly reducing 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Comic Sans MS"/>
              </a:rPr>
              <a:t>E.g. V</a:t>
            </a:r>
            <a:r>
              <a:rPr b="1" lang="en-GB" sz="20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GB" sz="2000" spc="-1" strike="noStrike">
                <a:solidFill>
                  <a:srgbClr val="ffff00"/>
                </a:solidFill>
                <a:latin typeface="Comic Sans MS"/>
              </a:rPr>
              <a:t>(aq) &amp; Cr</a:t>
            </a:r>
            <a:r>
              <a:rPr b="1" lang="en-GB" sz="20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GB" sz="2000" spc="-1" strike="noStrike">
                <a:solidFill>
                  <a:srgbClr val="ffff00"/>
                </a:solidFill>
                <a:latin typeface="Comic Sans MS"/>
              </a:rPr>
              <a:t>(aq) strong reducing agents</a:t>
            </a:r>
            <a:endParaRPr b="1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Later in series +2 stable, +3 state highly oxidising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Comic Sans MS"/>
              </a:rPr>
              <a:t>E.g. Co</a:t>
            </a:r>
            <a:r>
              <a:rPr b="1" lang="en-GB" sz="2000" spc="-1" strike="noStrike" baseline="30000">
                <a:solidFill>
                  <a:srgbClr val="ffff00"/>
                </a:solidFill>
                <a:latin typeface="Comic Sans MS"/>
              </a:rPr>
              <a:t>3+</a:t>
            </a:r>
            <a:r>
              <a:rPr b="1" lang="en-GB" sz="2000" spc="-1" strike="noStrike">
                <a:solidFill>
                  <a:srgbClr val="ffff00"/>
                </a:solidFill>
                <a:latin typeface="Comic Sans MS"/>
              </a:rPr>
              <a:t> is a strong oxidising agent, Ni</a:t>
            </a:r>
            <a:r>
              <a:rPr b="1" lang="en-GB" sz="2000" spc="-1" strike="noStrike" baseline="30000">
                <a:solidFill>
                  <a:srgbClr val="ffff00"/>
                </a:solidFill>
                <a:latin typeface="Comic Sans MS"/>
              </a:rPr>
              <a:t>3+</a:t>
            </a:r>
            <a:r>
              <a:rPr b="1" lang="en-GB" sz="2000" spc="-1" strike="noStrike">
                <a:solidFill>
                  <a:srgbClr val="ffff00"/>
                </a:solidFill>
                <a:latin typeface="Comic Sans MS"/>
              </a:rPr>
              <a:t> &amp; Cu</a:t>
            </a:r>
            <a:r>
              <a:rPr b="1" lang="en-GB" sz="2000" spc="-1" strike="noStrike" baseline="30000">
                <a:solidFill>
                  <a:srgbClr val="ffff00"/>
                </a:solidFill>
                <a:latin typeface="Comic Sans MS"/>
              </a:rPr>
              <a:t>3+</a:t>
            </a:r>
            <a:r>
              <a:rPr b="1" lang="en-GB" sz="2000" spc="-1" strike="noStrike">
                <a:solidFill>
                  <a:srgbClr val="ffff00"/>
                </a:solidFill>
                <a:latin typeface="Comic Sans MS"/>
              </a:rPr>
              <a:t> do not exist in aqueous solution.</a:t>
            </a:r>
            <a:endParaRPr b="1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DD7C8-BD28-46B4-B80A-456BD621A5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Catalytic Activity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M’s and their compounds effective and important catalyst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Industrially and biologically!!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he “people in the know” believ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catalysts provide reaction pathway with lower E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A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than uncatalysed reaction (see CI 10.5)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Once again, 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availability of 3d and 4s e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ability to change OS 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among factors which make TM’s such good catalysts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5AE71-1A0F-4DB3-BE7B-7B3A455C01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Heterogeneous Catalysi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Catalyst in different phase from reactant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Usually means solid TM catalyst with reactants in liquid or gas phases 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M’s can 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use the 3d and 4s e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of atoms on metal surface to from weak bonds to the reactants. 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Once reaction has occurred on TM surface, these bonds can break to release products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Important example is hydrogenation of alkenes using Ni or Pt catalyst 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Місце для номера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3083C-69D0-4367-B752-169E02D2D5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Heterogeneous Catalysi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838080" y="1281240"/>
            <a:ext cx="2630520" cy="13856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5" descr=""/>
          <p:cNvPicPr/>
          <p:nvPr/>
        </p:nvPicPr>
        <p:blipFill>
          <a:blip r:embed="rId2"/>
          <a:stretch/>
        </p:blipFill>
        <p:spPr>
          <a:xfrm>
            <a:off x="838080" y="2895480"/>
            <a:ext cx="2630520" cy="15573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6" descr=""/>
          <p:cNvPicPr/>
          <p:nvPr/>
        </p:nvPicPr>
        <p:blipFill>
          <a:blip r:embed="rId3"/>
          <a:stretch/>
        </p:blipFill>
        <p:spPr>
          <a:xfrm>
            <a:off x="838080" y="4800600"/>
            <a:ext cx="2587680" cy="15858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7" descr=""/>
          <p:cNvPicPr/>
          <p:nvPr/>
        </p:nvPicPr>
        <p:blipFill>
          <a:blip r:embed="rId4"/>
          <a:stretch/>
        </p:blipFill>
        <p:spPr>
          <a:xfrm>
            <a:off x="6019920" y="1208160"/>
            <a:ext cx="2601720" cy="16873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8" descr=""/>
          <p:cNvPicPr/>
          <p:nvPr/>
        </p:nvPicPr>
        <p:blipFill>
          <a:blip r:embed="rId5"/>
          <a:stretch/>
        </p:blipFill>
        <p:spPr>
          <a:xfrm>
            <a:off x="5943600" y="3200400"/>
            <a:ext cx="2630520" cy="20448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3C63A-40BE-4605-BE68-637B5C46A4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1371600" y="57913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4191120" y="39625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3352680" y="396252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1371600" y="1523880"/>
            <a:ext cx="838080" cy="838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1371600" y="32767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1371600" y="46483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830592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7467480" y="1066680"/>
            <a:ext cx="83844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662940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579132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2"/>
          <p:cNvSpPr/>
          <p:nvPr/>
        </p:nvSpPr>
        <p:spPr>
          <a:xfrm>
            <a:off x="5029200" y="39625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3"/>
          <p:cNvSpPr/>
          <p:nvPr/>
        </p:nvSpPr>
        <p:spPr>
          <a:xfrm>
            <a:off x="4114800" y="23623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4"/>
          <p:cNvSpPr/>
          <p:nvPr/>
        </p:nvSpPr>
        <p:spPr>
          <a:xfrm>
            <a:off x="3276720" y="23623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5"/>
          <p:cNvSpPr/>
          <p:nvPr/>
        </p:nvSpPr>
        <p:spPr>
          <a:xfrm>
            <a:off x="4952880" y="236232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6"/>
          <p:cNvSpPr/>
          <p:nvPr/>
        </p:nvSpPr>
        <p:spPr>
          <a:xfrm>
            <a:off x="4952880" y="1066680"/>
            <a:ext cx="83844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7"/>
          <p:cNvSpPr/>
          <p:nvPr/>
        </p:nvSpPr>
        <p:spPr>
          <a:xfrm flipV="1">
            <a:off x="533520" y="761760"/>
            <a:ext cx="0" cy="5715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8"/>
          <p:cNvSpPr/>
          <p:nvPr/>
        </p:nvSpPr>
        <p:spPr>
          <a:xfrm>
            <a:off x="541008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9"/>
          <p:cNvSpPr/>
          <p:nvPr/>
        </p:nvSpPr>
        <p:spPr>
          <a:xfrm flipV="1">
            <a:off x="434412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20"/>
          <p:cNvSpPr/>
          <p:nvPr/>
        </p:nvSpPr>
        <p:spPr>
          <a:xfrm>
            <a:off x="609480" y="5943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1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1"/>
          <p:cNvSpPr/>
          <p:nvPr/>
        </p:nvSpPr>
        <p:spPr>
          <a:xfrm>
            <a:off x="685800" y="4800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2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2"/>
          <p:cNvSpPr/>
          <p:nvPr/>
        </p:nvSpPr>
        <p:spPr>
          <a:xfrm>
            <a:off x="685800" y="3429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3"/>
          <p:cNvSpPr/>
          <p:nvPr/>
        </p:nvSpPr>
        <p:spPr>
          <a:xfrm>
            <a:off x="685800" y="1600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4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4"/>
          <p:cNvSpPr/>
          <p:nvPr/>
        </p:nvSpPr>
        <p:spPr>
          <a:xfrm>
            <a:off x="2666880" y="4114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5"/>
          <p:cNvSpPr/>
          <p:nvPr/>
        </p:nvSpPr>
        <p:spPr>
          <a:xfrm>
            <a:off x="2590920" y="2438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6"/>
          <p:cNvSpPr/>
          <p:nvPr/>
        </p:nvSpPr>
        <p:spPr>
          <a:xfrm>
            <a:off x="4267080" y="129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27"/>
          <p:cNvSpPr/>
          <p:nvPr/>
        </p:nvSpPr>
        <p:spPr>
          <a:xfrm>
            <a:off x="3962520" y="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28"/>
          <p:cNvSpPr/>
          <p:nvPr/>
        </p:nvSpPr>
        <p:spPr>
          <a:xfrm>
            <a:off x="3124080" y="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29"/>
          <p:cNvSpPr/>
          <p:nvPr/>
        </p:nvSpPr>
        <p:spPr>
          <a:xfrm>
            <a:off x="4800600" y="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0"/>
          <p:cNvSpPr/>
          <p:nvPr/>
        </p:nvSpPr>
        <p:spPr>
          <a:xfrm>
            <a:off x="0" y="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1"/>
          <p:cNvSpPr/>
          <p:nvPr/>
        </p:nvSpPr>
        <p:spPr>
          <a:xfrm>
            <a:off x="3352680" y="4838760"/>
            <a:ext cx="52578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Comic Sans MS"/>
              </a:rPr>
              <a:t>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Comic Sans MS"/>
              </a:rPr>
              <a:t>1s</a:t>
            </a:r>
            <a:r>
              <a:rPr b="1" lang="en-GB" sz="4000" spc="-1" strike="noStrike" baseline="30000">
                <a:solidFill>
                  <a:srgbClr val="ffff00"/>
                </a:solidFill>
                <a:latin typeface="Comic Sans MS"/>
              </a:rPr>
              <a:t>2  </a:t>
            </a:r>
            <a:r>
              <a:rPr b="1" lang="en-GB" sz="4000" spc="-1" strike="noStrike">
                <a:solidFill>
                  <a:srgbClr val="ffff00"/>
                </a:solidFill>
                <a:latin typeface="Comic Sans MS"/>
              </a:rPr>
              <a:t>2s</a:t>
            </a:r>
            <a:r>
              <a:rPr b="1" lang="en-GB" sz="4000" spc="-1" strike="noStrike" baseline="30000">
                <a:solidFill>
                  <a:srgbClr val="ffff00"/>
                </a:solidFill>
                <a:latin typeface="Comic Sans MS"/>
              </a:rPr>
              <a:t>2 </a:t>
            </a:r>
            <a:r>
              <a:rPr b="1" lang="en-GB" sz="4000" spc="-1" strike="noStrike">
                <a:solidFill>
                  <a:srgbClr val="ffff00"/>
                </a:solidFill>
                <a:latin typeface="Comic Sans MS"/>
              </a:rPr>
              <a:t>2p</a:t>
            </a:r>
            <a:r>
              <a:rPr b="1" lang="en-GB" sz="4000" spc="-1" strike="noStrike" baseline="30000">
                <a:solidFill>
                  <a:srgbClr val="ffff00"/>
                </a:solidFill>
                <a:latin typeface="Comic Sans MS"/>
              </a:rPr>
              <a:t>6 </a:t>
            </a:r>
            <a:r>
              <a:rPr b="1" lang="en-GB" sz="4000" spc="-1" strike="noStrike">
                <a:solidFill>
                  <a:srgbClr val="ffff00"/>
                </a:solidFill>
                <a:latin typeface="Comic Sans MS"/>
              </a:rPr>
              <a:t>3s</a:t>
            </a:r>
            <a:r>
              <a:rPr b="1" lang="en-GB" sz="4000" spc="-1" strike="noStrike" baseline="30000">
                <a:solidFill>
                  <a:srgbClr val="ffff00"/>
                </a:solidFill>
                <a:latin typeface="Comic Sans MS"/>
              </a:rPr>
              <a:t>2 </a:t>
            </a:r>
            <a:r>
              <a:rPr b="1" lang="en-GB" sz="4000" spc="-1" strike="noStrike">
                <a:solidFill>
                  <a:srgbClr val="ffff00"/>
                </a:solidFill>
                <a:latin typeface="Comic Sans MS"/>
              </a:rPr>
              <a:t>3p</a:t>
            </a:r>
            <a:r>
              <a:rPr b="1" lang="en-GB" sz="4000" spc="-1" strike="noStrike" baseline="30000">
                <a:solidFill>
                  <a:srgbClr val="ffff00"/>
                </a:solidFill>
                <a:latin typeface="Comic Sans MS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32"/>
          <p:cNvSpPr/>
          <p:nvPr/>
        </p:nvSpPr>
        <p:spPr>
          <a:xfrm flipV="1">
            <a:off x="1600920" y="5943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33"/>
          <p:cNvSpPr/>
          <p:nvPr/>
        </p:nvSpPr>
        <p:spPr>
          <a:xfrm>
            <a:off x="1905120" y="5943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34"/>
          <p:cNvSpPr/>
          <p:nvPr/>
        </p:nvSpPr>
        <p:spPr>
          <a:xfrm flipV="1">
            <a:off x="1600920" y="4800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35"/>
          <p:cNvSpPr/>
          <p:nvPr/>
        </p:nvSpPr>
        <p:spPr>
          <a:xfrm>
            <a:off x="1905120" y="4800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36"/>
          <p:cNvSpPr/>
          <p:nvPr/>
        </p:nvSpPr>
        <p:spPr>
          <a:xfrm flipH="1" flipV="1">
            <a:off x="3581640" y="411480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37"/>
          <p:cNvSpPr/>
          <p:nvPr/>
        </p:nvSpPr>
        <p:spPr>
          <a:xfrm flipV="1">
            <a:off x="525852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38"/>
          <p:cNvSpPr/>
          <p:nvPr/>
        </p:nvSpPr>
        <p:spPr>
          <a:xfrm>
            <a:off x="380988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39"/>
          <p:cNvSpPr/>
          <p:nvPr/>
        </p:nvSpPr>
        <p:spPr>
          <a:xfrm>
            <a:off x="457200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40"/>
          <p:cNvSpPr/>
          <p:nvPr/>
        </p:nvSpPr>
        <p:spPr>
          <a:xfrm>
            <a:off x="548640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41"/>
          <p:cNvSpPr/>
          <p:nvPr/>
        </p:nvSpPr>
        <p:spPr>
          <a:xfrm flipV="1">
            <a:off x="160092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42"/>
          <p:cNvSpPr/>
          <p:nvPr/>
        </p:nvSpPr>
        <p:spPr>
          <a:xfrm>
            <a:off x="190512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43"/>
          <p:cNvSpPr/>
          <p:nvPr/>
        </p:nvSpPr>
        <p:spPr>
          <a:xfrm flipH="1" flipV="1">
            <a:off x="3581640" y="25909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44"/>
          <p:cNvSpPr/>
          <p:nvPr/>
        </p:nvSpPr>
        <p:spPr>
          <a:xfrm flipV="1">
            <a:off x="-913680" y="4038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45"/>
          <p:cNvSpPr/>
          <p:nvPr/>
        </p:nvSpPr>
        <p:spPr>
          <a:xfrm flipV="1">
            <a:off x="434412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46"/>
          <p:cNvSpPr/>
          <p:nvPr/>
        </p:nvSpPr>
        <p:spPr>
          <a:xfrm flipH="1" flipV="1">
            <a:off x="5181840" y="25909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7"/>
          <p:cNvSpPr/>
          <p:nvPr/>
        </p:nvSpPr>
        <p:spPr>
          <a:xfrm>
            <a:off x="2590920" y="152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4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48"/>
          <p:cNvSpPr/>
          <p:nvPr/>
        </p:nvSpPr>
        <p:spPr>
          <a:xfrm>
            <a:off x="380988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49"/>
          <p:cNvSpPr/>
          <p:nvPr/>
        </p:nvSpPr>
        <p:spPr>
          <a:xfrm>
            <a:off x="457200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6F742-8C64-417D-A2D4-8B3D73AE9B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Homogeneous Catalysi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Catalyst in same phase as reactants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Usually means reaction takes place in aqueous phas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Catalyst aqueous TM ion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Usually involves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M ion forming </a:t>
            </a:r>
            <a:r>
              <a:rPr b="1" i="1" lang="en-GB" sz="2800" spc="-1" strike="noStrike">
                <a:solidFill>
                  <a:srgbClr val="ffff00"/>
                </a:solidFill>
                <a:latin typeface="Comic Sans MS"/>
              </a:rPr>
              <a:t>intermediate compound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with ome or more of the reactant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Intermediate then breaks down to form product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0035-7AC3-47A6-B6DD-8C15B9E39F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Homogeneous Catalysi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34286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Above reaction is that used in Activity SS5.2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2,3-dihydroxybutanoate ion with hydrogen peroxid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Reaction catalysed by Co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349" name="Group 15"/>
          <p:cNvGrpSpPr/>
          <p:nvPr/>
        </p:nvGrpSpPr>
        <p:grpSpPr>
          <a:xfrm>
            <a:off x="236520" y="1428840"/>
            <a:ext cx="8670960" cy="2060640"/>
            <a:chOff x="236520" y="1428840"/>
            <a:chExt cx="8670960" cy="2060640"/>
          </a:xfrm>
        </p:grpSpPr>
        <p:graphicFrame>
          <p:nvGraphicFramePr>
            <p:cNvPr id="350" name="Object 7"/>
            <p:cNvGraphicFramePr/>
            <p:nvPr/>
          </p:nvGraphicFramePr>
          <p:xfrm>
            <a:off x="236520" y="1428840"/>
            <a:ext cx="8670960" cy="2060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51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36520" y="1428840"/>
                      <a:ext cx="8670960" cy="206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2" name="AutoShape 8"/>
            <p:cNvSpPr/>
            <p:nvPr/>
          </p:nvSpPr>
          <p:spPr>
            <a:xfrm>
              <a:off x="2732040" y="2057400"/>
              <a:ext cx="74520" cy="533520"/>
            </a:xfrm>
            <a:custGeom>
              <a:avLst/>
              <a:gdLst>
                <a:gd name="textAreaLeft" fmla="*/ 21960 w 74520"/>
                <a:gd name="textAreaRight" fmla="*/ 74880 w 74520"/>
                <a:gd name="textAreaTop" fmla="*/ 21960 h 533520"/>
                <a:gd name="textAreaBottom" fmla="*/ 51156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AutoShape 9"/>
            <p:cNvSpPr/>
            <p:nvPr/>
          </p:nvSpPr>
          <p:spPr>
            <a:xfrm>
              <a:off x="3759120" y="2022480"/>
              <a:ext cx="76320" cy="533520"/>
            </a:xfrm>
            <a:custGeom>
              <a:avLst/>
              <a:gdLst>
                <a:gd name="textAreaLeft" fmla="*/ 0 w 76320"/>
                <a:gd name="textAreaRight" fmla="*/ 53640 w 76320"/>
                <a:gd name="textAreaTop" fmla="*/ 21960 h 533520"/>
                <a:gd name="textAreaBottom" fmla="*/ 51156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AutoShape 10"/>
            <p:cNvSpPr/>
            <p:nvPr/>
          </p:nvSpPr>
          <p:spPr>
            <a:xfrm>
              <a:off x="5130720" y="1946160"/>
              <a:ext cx="76320" cy="83844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34920 h 838440"/>
                <a:gd name="textAreaBottom" fmla="*/ 80352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AutoShape 11"/>
            <p:cNvSpPr/>
            <p:nvPr/>
          </p:nvSpPr>
          <p:spPr>
            <a:xfrm>
              <a:off x="6172200" y="1959120"/>
              <a:ext cx="76320" cy="799920"/>
            </a:xfrm>
            <a:custGeom>
              <a:avLst/>
              <a:gdLst>
                <a:gd name="textAreaLeft" fmla="*/ 0 w 76320"/>
                <a:gd name="textAreaRight" fmla="*/ 53640 w 76320"/>
                <a:gd name="textAreaTop" fmla="*/ 33120 h 799920"/>
                <a:gd name="textAreaBottom" fmla="*/ 766800 h 79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AutoShape 12"/>
            <p:cNvSpPr/>
            <p:nvPr/>
          </p:nvSpPr>
          <p:spPr>
            <a:xfrm>
              <a:off x="6883560" y="1946160"/>
              <a:ext cx="75960" cy="914400"/>
            </a:xfrm>
            <a:custGeom>
              <a:avLst/>
              <a:gdLst>
                <a:gd name="textAreaLeft" fmla="*/ 22320 w 75960"/>
                <a:gd name="textAreaRight" fmla="*/ 76320 w 75960"/>
                <a:gd name="textAreaTop" fmla="*/ 37800 h 914400"/>
                <a:gd name="textAreaBottom" fmla="*/ 8766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AutoShape 13"/>
            <p:cNvSpPr/>
            <p:nvPr/>
          </p:nvSpPr>
          <p:spPr>
            <a:xfrm>
              <a:off x="7696080" y="1946160"/>
              <a:ext cx="76320" cy="914400"/>
            </a:xfrm>
            <a:custGeom>
              <a:avLst/>
              <a:gdLst>
                <a:gd name="textAreaLeft" fmla="*/ 0 w 76320"/>
                <a:gd name="textAreaRight" fmla="*/ 53640 w 76320"/>
                <a:gd name="textAreaTop" fmla="*/ 37800 h 914400"/>
                <a:gd name="textAreaBottom" fmla="*/ 8766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0" dur="1" fill="hold"/>
                                  <p:tgtEl>
                                    <p:spTgt spid="34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Місце для номера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AB47C-27C0-495A-BF0D-0E7B29DAD5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Suggested Mechanism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60" name="Text Box 3"/>
          <p:cNvSpPr/>
          <p:nvPr/>
        </p:nvSpPr>
        <p:spPr>
          <a:xfrm>
            <a:off x="838080" y="175248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152280" y="1752480"/>
            <a:ext cx="3886200" cy="22291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REAC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O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2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O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CCH(OH)CH(OH)C0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99"/>
                </a:solidFill>
                <a:latin typeface="Comic Sans MS"/>
              </a:rPr>
              <a:t>Co</a:t>
            </a:r>
            <a:r>
              <a:rPr b="1" lang="en-GB" sz="2400" spc="-1" strike="noStrike" baseline="30000">
                <a:solidFill>
                  <a:srgbClr val="ff3399"/>
                </a:solidFill>
                <a:latin typeface="Comic Sans MS"/>
              </a:rPr>
              <a:t>2+</a:t>
            </a:r>
            <a:r>
              <a:rPr b="1" lang="en-GB" sz="2400" spc="-1" strike="noStrike">
                <a:solidFill>
                  <a:srgbClr val="ff3399"/>
                </a:solidFill>
                <a:latin typeface="Comic Sans MS"/>
              </a:rPr>
              <a:t> (pin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7"/>
          <p:cNvSpPr/>
          <p:nvPr/>
        </p:nvSpPr>
        <p:spPr>
          <a:xfrm>
            <a:off x="6019920" y="1752480"/>
            <a:ext cx="2895480" cy="15721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INTERMEDI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cont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cc99"/>
                </a:solidFill>
                <a:latin typeface="Comic Sans MS"/>
              </a:rPr>
              <a:t>Co</a:t>
            </a:r>
            <a:r>
              <a:rPr b="1" lang="en-GB" sz="2400" spc="-1" strike="noStrike" baseline="30000">
                <a:solidFill>
                  <a:srgbClr val="00cc99"/>
                </a:solidFill>
                <a:latin typeface="Comic Sans MS"/>
              </a:rPr>
              <a:t>3+</a:t>
            </a:r>
            <a:r>
              <a:rPr b="1" lang="en-GB" sz="2400" spc="-1" strike="noStrike">
                <a:solidFill>
                  <a:srgbClr val="00cc99"/>
                </a:solidFill>
                <a:latin typeface="Comic Sans MS"/>
              </a:rPr>
              <a:t> (gre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Group 22"/>
          <p:cNvGrpSpPr/>
          <p:nvPr/>
        </p:nvGrpSpPr>
        <p:grpSpPr>
          <a:xfrm>
            <a:off x="4038480" y="2286000"/>
            <a:ext cx="1981440" cy="1659960"/>
            <a:chOff x="4038480" y="2286000"/>
            <a:chExt cx="1981440" cy="1659960"/>
          </a:xfrm>
        </p:grpSpPr>
        <p:sp>
          <p:nvSpPr>
            <p:cNvPr id="364" name="Line 5"/>
            <p:cNvSpPr/>
            <p:nvPr/>
          </p:nvSpPr>
          <p:spPr>
            <a:xfrm>
              <a:off x="4038480" y="2819520"/>
              <a:ext cx="19814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Text Box 6"/>
            <p:cNvSpPr/>
            <p:nvPr/>
          </p:nvSpPr>
          <p:spPr>
            <a:xfrm>
              <a:off x="4114800" y="228600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3399"/>
                  </a:solidFill>
                  <a:latin typeface="Comic Sans MS"/>
                </a:rPr>
                <a:t>Co</a:t>
              </a:r>
              <a:r>
                <a:rPr b="1" lang="en-GB" sz="2000" spc="-1" strike="noStrike" baseline="30000">
                  <a:solidFill>
                    <a:srgbClr val="ff3399"/>
                  </a:solidFill>
                  <a:latin typeface="Comic Sans MS"/>
                </a:rPr>
                <a:t>2+</a:t>
              </a:r>
              <a:r>
                <a:rPr b="1" lang="en-GB" sz="2000" spc="-1" strike="noStrike">
                  <a:solidFill>
                    <a:srgbClr val="ffff00"/>
                  </a:solidFill>
                  <a:latin typeface="Comic Sans MS"/>
                </a:rPr>
                <a:t> redu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Text Box 8"/>
            <p:cNvSpPr/>
            <p:nvPr/>
          </p:nvSpPr>
          <p:spPr>
            <a:xfrm>
              <a:off x="4114800" y="2895480"/>
              <a:ext cx="1828800" cy="10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Comic Sans MS"/>
                </a:rPr>
                <a:t>H</a:t>
              </a:r>
              <a:r>
                <a:rPr b="1" lang="en-GB" sz="2000" spc="-1" strike="noStrike" baseline="-25000">
                  <a:solidFill>
                    <a:srgbClr val="ffff00"/>
                  </a:solidFill>
                  <a:latin typeface="Comic Sans MS"/>
                </a:rPr>
                <a:t>2</a:t>
              </a:r>
              <a:r>
                <a:rPr b="1" lang="en-GB" sz="2000" spc="-1" strike="noStrike">
                  <a:solidFill>
                    <a:srgbClr val="ffff00"/>
                  </a:solidFill>
                  <a:latin typeface="Comic Sans MS"/>
                </a:rPr>
                <a:t>O</a:t>
              </a:r>
              <a:r>
                <a:rPr b="1" lang="en-GB" sz="2000" spc="-1" strike="noStrike" baseline="-25000">
                  <a:solidFill>
                    <a:srgbClr val="ffff00"/>
                  </a:solidFill>
                  <a:latin typeface="Comic Sans MS"/>
                </a:rPr>
                <a:t>2</a:t>
              </a:r>
              <a:r>
                <a:rPr b="1" lang="en-GB" sz="2000" spc="-1" strike="noStrike">
                  <a:solidFill>
                    <a:srgbClr val="ffff00"/>
                  </a:solidFill>
                  <a:latin typeface="Comic Sans MS"/>
                </a:rPr>
                <a:t> &amp; gets oxidised to </a:t>
              </a:r>
              <a:r>
                <a:rPr b="1" lang="en-GB" sz="2000" spc="-1" strike="noStrike">
                  <a:solidFill>
                    <a:srgbClr val="00cc99"/>
                  </a:solidFill>
                  <a:latin typeface="Comic Sans MS"/>
                </a:rPr>
                <a:t>Co</a:t>
              </a:r>
              <a:r>
                <a:rPr b="1" lang="en-GB" sz="2000" spc="-1" strike="noStrike" baseline="30000">
                  <a:solidFill>
                    <a:srgbClr val="00cc99"/>
                  </a:solidFill>
                  <a:latin typeface="Comic Sans MS"/>
                </a:rPr>
                <a:t>3+</a:t>
              </a:r>
              <a:r>
                <a:rPr b="1" lang="en-GB" sz="2000" spc="-1" strike="noStrike">
                  <a:solidFill>
                    <a:srgbClr val="ffff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Text Box 9"/>
          <p:cNvSpPr/>
          <p:nvPr/>
        </p:nvSpPr>
        <p:spPr>
          <a:xfrm>
            <a:off x="2514600" y="4495680"/>
            <a:ext cx="4114800" cy="1622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CO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, methanoate, H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O</a:t>
            </a:r>
            <a:r>
              <a:rPr b="1" lang="en-GB" sz="2400" spc="-1" strike="noStrike" baseline="-25000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99"/>
                </a:solidFill>
                <a:latin typeface="Comic Sans MS"/>
              </a:rPr>
              <a:t>Co</a:t>
            </a:r>
            <a:r>
              <a:rPr b="1" lang="en-GB" sz="2400" spc="-1" strike="noStrike" baseline="30000">
                <a:solidFill>
                  <a:srgbClr val="ff3399"/>
                </a:solidFill>
                <a:latin typeface="Comic Sans MS"/>
              </a:rPr>
              <a:t>2+</a:t>
            </a:r>
            <a:r>
              <a:rPr b="1" lang="en-GB" sz="2400" spc="-1" strike="noStrike">
                <a:solidFill>
                  <a:srgbClr val="ff3399"/>
                </a:solidFill>
                <a:latin typeface="Comic Sans MS"/>
              </a:rPr>
              <a:t> (pin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Group 20"/>
          <p:cNvGrpSpPr/>
          <p:nvPr/>
        </p:nvGrpSpPr>
        <p:grpSpPr>
          <a:xfrm>
            <a:off x="6629400" y="3314880"/>
            <a:ext cx="2286000" cy="2494800"/>
            <a:chOff x="6629400" y="3314880"/>
            <a:chExt cx="2286000" cy="2494800"/>
          </a:xfrm>
        </p:grpSpPr>
        <p:sp>
          <p:nvSpPr>
            <p:cNvPr id="369" name="Text Box 10"/>
            <p:cNvSpPr/>
            <p:nvPr/>
          </p:nvSpPr>
          <p:spPr>
            <a:xfrm>
              <a:off x="7162920" y="3581280"/>
              <a:ext cx="175248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cc99"/>
                  </a:solidFill>
                  <a:latin typeface="Comic Sans MS"/>
                </a:rPr>
                <a:t>Co</a:t>
              </a:r>
              <a:r>
                <a:rPr b="1" lang="en-GB" sz="2000" spc="-1" strike="noStrike" baseline="30000">
                  <a:solidFill>
                    <a:srgbClr val="00cc99"/>
                  </a:solidFill>
                  <a:latin typeface="Comic Sans MS"/>
                </a:rPr>
                <a:t>3+</a:t>
              </a:r>
              <a:r>
                <a:rPr b="1" lang="en-GB" sz="2000" spc="-1" strike="noStrike">
                  <a:solidFill>
                    <a:srgbClr val="ffff00"/>
                  </a:solidFill>
                  <a:latin typeface="Comic Sans MS"/>
                </a:rPr>
                <a:t> oxidises 2,3-hydroxy- butanoate &amp; gets reduced to</a:t>
              </a:r>
              <a:r>
                <a:rPr b="1" lang="en-GB" sz="20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1" lang="en-GB" sz="2000" spc="-1" strike="noStrike">
                  <a:solidFill>
                    <a:srgbClr val="ff3399"/>
                  </a:solidFill>
                  <a:latin typeface="Comic Sans MS"/>
                </a:rPr>
                <a:t>Co</a:t>
              </a:r>
              <a:r>
                <a:rPr b="1" lang="en-GB" sz="2000" spc="-1" strike="noStrike" baseline="30000">
                  <a:solidFill>
                    <a:srgbClr val="ff3399"/>
                  </a:solidFill>
                  <a:latin typeface="Comic Sans MS"/>
                </a:rPr>
                <a:t>2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12"/>
            <p:cNvSpPr/>
            <p:nvPr/>
          </p:nvSpPr>
          <p:spPr>
            <a:xfrm>
              <a:off x="7086600" y="3314880"/>
              <a:ext cx="0" cy="20574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13"/>
            <p:cNvSpPr/>
            <p:nvPr/>
          </p:nvSpPr>
          <p:spPr>
            <a:xfrm flipH="1">
              <a:off x="6629400" y="5372280"/>
              <a:ext cx="4572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Group 21"/>
          <p:cNvGrpSpPr/>
          <p:nvPr/>
        </p:nvGrpSpPr>
        <p:grpSpPr>
          <a:xfrm>
            <a:off x="533160" y="3886200"/>
            <a:ext cx="1981080" cy="1447920"/>
            <a:chOff x="533160" y="3886200"/>
            <a:chExt cx="1981080" cy="1447920"/>
          </a:xfrm>
        </p:grpSpPr>
        <p:sp>
          <p:nvSpPr>
            <p:cNvPr id="373" name="Line 14"/>
            <p:cNvSpPr/>
            <p:nvPr/>
          </p:nvSpPr>
          <p:spPr>
            <a:xfrm flipH="1">
              <a:off x="533160" y="5334120"/>
              <a:ext cx="198108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5"/>
            <p:cNvSpPr/>
            <p:nvPr/>
          </p:nvSpPr>
          <p:spPr>
            <a:xfrm flipV="1">
              <a:off x="533520" y="3886200"/>
              <a:ext cx="0" cy="14479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Text Box 16"/>
            <p:cNvSpPr/>
            <p:nvPr/>
          </p:nvSpPr>
          <p:spPr>
            <a:xfrm>
              <a:off x="545040" y="4572000"/>
              <a:ext cx="1821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Comic Sans MS"/>
                </a:rPr>
                <a:t>Regener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Comic Sans MS"/>
                </a:rPr>
                <a:t>Cataly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horz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BB4DB-BFD7-4551-9DD1-EB873DD097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1371600" y="57913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4191120" y="39625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3352680" y="396252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1371600" y="1523880"/>
            <a:ext cx="838080" cy="838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1371600" y="32767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1371600" y="46483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830592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7467480" y="1066680"/>
            <a:ext cx="83844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662940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579132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5029200" y="39625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3"/>
          <p:cNvSpPr/>
          <p:nvPr/>
        </p:nvSpPr>
        <p:spPr>
          <a:xfrm>
            <a:off x="4114800" y="23623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4"/>
          <p:cNvSpPr/>
          <p:nvPr/>
        </p:nvSpPr>
        <p:spPr>
          <a:xfrm>
            <a:off x="3276720" y="23623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5"/>
          <p:cNvSpPr/>
          <p:nvPr/>
        </p:nvSpPr>
        <p:spPr>
          <a:xfrm>
            <a:off x="4952880" y="236232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6"/>
          <p:cNvSpPr/>
          <p:nvPr/>
        </p:nvSpPr>
        <p:spPr>
          <a:xfrm>
            <a:off x="4952880" y="1066680"/>
            <a:ext cx="83844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7"/>
          <p:cNvSpPr/>
          <p:nvPr/>
        </p:nvSpPr>
        <p:spPr>
          <a:xfrm flipV="1">
            <a:off x="533520" y="761760"/>
            <a:ext cx="0" cy="5715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541008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9"/>
          <p:cNvSpPr/>
          <p:nvPr/>
        </p:nvSpPr>
        <p:spPr>
          <a:xfrm flipV="1">
            <a:off x="434412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20"/>
          <p:cNvSpPr/>
          <p:nvPr/>
        </p:nvSpPr>
        <p:spPr>
          <a:xfrm>
            <a:off x="609480" y="5943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1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21"/>
          <p:cNvSpPr/>
          <p:nvPr/>
        </p:nvSpPr>
        <p:spPr>
          <a:xfrm>
            <a:off x="685800" y="4800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2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2"/>
          <p:cNvSpPr/>
          <p:nvPr/>
        </p:nvSpPr>
        <p:spPr>
          <a:xfrm>
            <a:off x="685800" y="3429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3"/>
          <p:cNvSpPr/>
          <p:nvPr/>
        </p:nvSpPr>
        <p:spPr>
          <a:xfrm>
            <a:off x="685800" y="1600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4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4"/>
          <p:cNvSpPr/>
          <p:nvPr/>
        </p:nvSpPr>
        <p:spPr>
          <a:xfrm>
            <a:off x="2666880" y="4114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5"/>
          <p:cNvSpPr/>
          <p:nvPr/>
        </p:nvSpPr>
        <p:spPr>
          <a:xfrm>
            <a:off x="2590920" y="2438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26"/>
          <p:cNvSpPr/>
          <p:nvPr/>
        </p:nvSpPr>
        <p:spPr>
          <a:xfrm>
            <a:off x="4267080" y="129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27"/>
          <p:cNvSpPr/>
          <p:nvPr/>
        </p:nvSpPr>
        <p:spPr>
          <a:xfrm>
            <a:off x="3962520" y="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28"/>
          <p:cNvSpPr/>
          <p:nvPr/>
        </p:nvSpPr>
        <p:spPr>
          <a:xfrm>
            <a:off x="3124080" y="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29"/>
          <p:cNvSpPr/>
          <p:nvPr/>
        </p:nvSpPr>
        <p:spPr>
          <a:xfrm>
            <a:off x="4800600" y="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30"/>
          <p:cNvSpPr/>
          <p:nvPr/>
        </p:nvSpPr>
        <p:spPr>
          <a:xfrm>
            <a:off x="0" y="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1"/>
          <p:cNvSpPr/>
          <p:nvPr/>
        </p:nvSpPr>
        <p:spPr>
          <a:xfrm>
            <a:off x="3352680" y="4952880"/>
            <a:ext cx="60962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S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1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2 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2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2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2p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6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3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2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3p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6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3d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1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4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32"/>
          <p:cNvSpPr/>
          <p:nvPr/>
        </p:nvSpPr>
        <p:spPr>
          <a:xfrm flipV="1">
            <a:off x="1600920" y="5943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33"/>
          <p:cNvSpPr/>
          <p:nvPr/>
        </p:nvSpPr>
        <p:spPr>
          <a:xfrm>
            <a:off x="1905120" y="5943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34"/>
          <p:cNvSpPr/>
          <p:nvPr/>
        </p:nvSpPr>
        <p:spPr>
          <a:xfrm flipV="1">
            <a:off x="1600920" y="4800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35"/>
          <p:cNvSpPr/>
          <p:nvPr/>
        </p:nvSpPr>
        <p:spPr>
          <a:xfrm>
            <a:off x="1905120" y="4800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36"/>
          <p:cNvSpPr/>
          <p:nvPr/>
        </p:nvSpPr>
        <p:spPr>
          <a:xfrm flipH="1" flipV="1">
            <a:off x="3581640" y="411480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37"/>
          <p:cNvSpPr/>
          <p:nvPr/>
        </p:nvSpPr>
        <p:spPr>
          <a:xfrm flipV="1">
            <a:off x="525852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38"/>
          <p:cNvSpPr/>
          <p:nvPr/>
        </p:nvSpPr>
        <p:spPr>
          <a:xfrm>
            <a:off x="380988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39"/>
          <p:cNvSpPr/>
          <p:nvPr/>
        </p:nvSpPr>
        <p:spPr>
          <a:xfrm>
            <a:off x="457200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40"/>
          <p:cNvSpPr/>
          <p:nvPr/>
        </p:nvSpPr>
        <p:spPr>
          <a:xfrm>
            <a:off x="548640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41"/>
          <p:cNvSpPr/>
          <p:nvPr/>
        </p:nvSpPr>
        <p:spPr>
          <a:xfrm flipV="1">
            <a:off x="160092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42"/>
          <p:cNvSpPr/>
          <p:nvPr/>
        </p:nvSpPr>
        <p:spPr>
          <a:xfrm>
            <a:off x="190512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43"/>
          <p:cNvSpPr/>
          <p:nvPr/>
        </p:nvSpPr>
        <p:spPr>
          <a:xfrm flipH="1" flipV="1">
            <a:off x="3581640" y="25909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44"/>
          <p:cNvSpPr/>
          <p:nvPr/>
        </p:nvSpPr>
        <p:spPr>
          <a:xfrm flipV="1">
            <a:off x="-913680" y="4038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45"/>
          <p:cNvSpPr/>
          <p:nvPr/>
        </p:nvSpPr>
        <p:spPr>
          <a:xfrm flipV="1">
            <a:off x="434412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46"/>
          <p:cNvSpPr/>
          <p:nvPr/>
        </p:nvSpPr>
        <p:spPr>
          <a:xfrm flipH="1" flipV="1">
            <a:off x="5181840" y="25909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47"/>
          <p:cNvSpPr/>
          <p:nvPr/>
        </p:nvSpPr>
        <p:spPr>
          <a:xfrm>
            <a:off x="2590920" y="152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4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48"/>
          <p:cNvSpPr/>
          <p:nvPr/>
        </p:nvSpPr>
        <p:spPr>
          <a:xfrm>
            <a:off x="380988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49"/>
          <p:cNvSpPr/>
          <p:nvPr/>
        </p:nvSpPr>
        <p:spPr>
          <a:xfrm>
            <a:off x="457200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50"/>
          <p:cNvSpPr/>
          <p:nvPr/>
        </p:nvSpPr>
        <p:spPr>
          <a:xfrm flipV="1">
            <a:off x="1600920" y="1752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51"/>
          <p:cNvSpPr/>
          <p:nvPr/>
        </p:nvSpPr>
        <p:spPr>
          <a:xfrm>
            <a:off x="-609480" y="32004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52"/>
          <p:cNvSpPr/>
          <p:nvPr/>
        </p:nvSpPr>
        <p:spPr>
          <a:xfrm>
            <a:off x="1828800" y="1752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53"/>
          <p:cNvSpPr/>
          <p:nvPr/>
        </p:nvSpPr>
        <p:spPr>
          <a:xfrm flipV="1">
            <a:off x="510624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D558B-4695-4DD7-955B-F2CBA1B7CD5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80880" y="609480"/>
          <a:ext cx="8305920" cy="5727960"/>
        </p:xfrm>
        <a:graphic>
          <a:graphicData uri="http://schemas.openxmlformats.org/drawingml/2006/table">
            <a:tbl>
              <a:tblPr/>
              <a:tblGrid>
                <a:gridCol w="1338480"/>
                <a:gridCol w="598320"/>
                <a:gridCol w="843120"/>
                <a:gridCol w="836640"/>
                <a:gridCol w="838080"/>
                <a:gridCol w="838080"/>
                <a:gridCol w="836640"/>
                <a:gridCol w="839880"/>
                <a:gridCol w="574560"/>
                <a:gridCol w="76212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8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lectronic Arrangemen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l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4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S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[Ar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[Ar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[Ar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C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[Ar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M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[Ar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F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[Ar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[Ar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N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[Ar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C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[Ar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Z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[Ar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30898-0673-4EC1-A7DD-813F3F7C54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Chromium and Copper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Cr and Cu don’t fit the pattern of building up the 3d sub-shell, why?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In the ground state electrons are always arranged to give lowest total energy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lectrons are negatively charged and repel each other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Lower total energy is obtained with e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singly in orbitals rather than if they are paired in an orbital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nergies of 3d and 4s orbitals very close together in Period 4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A8934-4F0C-4FCF-AE04-E93BF28D9C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Chromium and Copper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At Cr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Orbital energies such that putting one 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into each 3d and 4s orbital gives lower energy than having 2 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in the 4s orbital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At Cu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Putting 2 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into the 4s orbital would give a higher energy than filling the  3d orbital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D8FCD-5EF8-464A-A3F0-A1CB74270F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1371600" y="57913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4191120" y="39625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3352680" y="396252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1371600" y="1523880"/>
            <a:ext cx="838080" cy="838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1371600" y="32767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1371600" y="46483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830592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7467480" y="1066680"/>
            <a:ext cx="83844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662940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1"/>
          <p:cNvSpPr/>
          <p:nvPr/>
        </p:nvSpPr>
        <p:spPr>
          <a:xfrm>
            <a:off x="579132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2"/>
          <p:cNvSpPr/>
          <p:nvPr/>
        </p:nvSpPr>
        <p:spPr>
          <a:xfrm>
            <a:off x="5029200" y="39625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3"/>
          <p:cNvSpPr/>
          <p:nvPr/>
        </p:nvSpPr>
        <p:spPr>
          <a:xfrm>
            <a:off x="4114800" y="23623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14"/>
          <p:cNvSpPr/>
          <p:nvPr/>
        </p:nvSpPr>
        <p:spPr>
          <a:xfrm>
            <a:off x="3276720" y="23623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5"/>
          <p:cNvSpPr/>
          <p:nvPr/>
        </p:nvSpPr>
        <p:spPr>
          <a:xfrm>
            <a:off x="4952880" y="236232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6"/>
          <p:cNvSpPr/>
          <p:nvPr/>
        </p:nvSpPr>
        <p:spPr>
          <a:xfrm>
            <a:off x="4952880" y="1066680"/>
            <a:ext cx="83844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7"/>
          <p:cNvSpPr/>
          <p:nvPr/>
        </p:nvSpPr>
        <p:spPr>
          <a:xfrm flipV="1">
            <a:off x="533520" y="761760"/>
            <a:ext cx="0" cy="5715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8"/>
          <p:cNvSpPr/>
          <p:nvPr/>
        </p:nvSpPr>
        <p:spPr>
          <a:xfrm>
            <a:off x="541008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19"/>
          <p:cNvSpPr/>
          <p:nvPr/>
        </p:nvSpPr>
        <p:spPr>
          <a:xfrm flipV="1">
            <a:off x="434412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20"/>
          <p:cNvSpPr/>
          <p:nvPr/>
        </p:nvSpPr>
        <p:spPr>
          <a:xfrm>
            <a:off x="609480" y="5943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1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21"/>
          <p:cNvSpPr/>
          <p:nvPr/>
        </p:nvSpPr>
        <p:spPr>
          <a:xfrm>
            <a:off x="685800" y="4800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2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22"/>
          <p:cNvSpPr/>
          <p:nvPr/>
        </p:nvSpPr>
        <p:spPr>
          <a:xfrm>
            <a:off x="685800" y="3429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23"/>
          <p:cNvSpPr/>
          <p:nvPr/>
        </p:nvSpPr>
        <p:spPr>
          <a:xfrm>
            <a:off x="685800" y="1600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4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24"/>
          <p:cNvSpPr/>
          <p:nvPr/>
        </p:nvSpPr>
        <p:spPr>
          <a:xfrm>
            <a:off x="2666880" y="4114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25"/>
          <p:cNvSpPr/>
          <p:nvPr/>
        </p:nvSpPr>
        <p:spPr>
          <a:xfrm>
            <a:off x="2590920" y="2438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26"/>
          <p:cNvSpPr/>
          <p:nvPr/>
        </p:nvSpPr>
        <p:spPr>
          <a:xfrm>
            <a:off x="4267080" y="129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27"/>
          <p:cNvSpPr/>
          <p:nvPr/>
        </p:nvSpPr>
        <p:spPr>
          <a:xfrm>
            <a:off x="3962520" y="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28"/>
          <p:cNvSpPr/>
          <p:nvPr/>
        </p:nvSpPr>
        <p:spPr>
          <a:xfrm>
            <a:off x="3124080" y="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29"/>
          <p:cNvSpPr/>
          <p:nvPr/>
        </p:nvSpPr>
        <p:spPr>
          <a:xfrm>
            <a:off x="4800600" y="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0"/>
          <p:cNvSpPr/>
          <p:nvPr/>
        </p:nvSpPr>
        <p:spPr>
          <a:xfrm>
            <a:off x="0" y="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1"/>
          <p:cNvSpPr/>
          <p:nvPr/>
        </p:nvSpPr>
        <p:spPr>
          <a:xfrm>
            <a:off x="3352680" y="4965840"/>
            <a:ext cx="5486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C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1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2 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2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2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2p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6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3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2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3p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6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3d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5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4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32"/>
          <p:cNvSpPr/>
          <p:nvPr/>
        </p:nvSpPr>
        <p:spPr>
          <a:xfrm flipV="1">
            <a:off x="1600920" y="5943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33"/>
          <p:cNvSpPr/>
          <p:nvPr/>
        </p:nvSpPr>
        <p:spPr>
          <a:xfrm>
            <a:off x="1905120" y="5943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34"/>
          <p:cNvSpPr/>
          <p:nvPr/>
        </p:nvSpPr>
        <p:spPr>
          <a:xfrm flipV="1">
            <a:off x="1600920" y="4800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35"/>
          <p:cNvSpPr/>
          <p:nvPr/>
        </p:nvSpPr>
        <p:spPr>
          <a:xfrm>
            <a:off x="1905120" y="4800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36"/>
          <p:cNvSpPr/>
          <p:nvPr/>
        </p:nvSpPr>
        <p:spPr>
          <a:xfrm flipH="1" flipV="1">
            <a:off x="3581640" y="411480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37"/>
          <p:cNvSpPr/>
          <p:nvPr/>
        </p:nvSpPr>
        <p:spPr>
          <a:xfrm flipV="1">
            <a:off x="525852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38"/>
          <p:cNvSpPr/>
          <p:nvPr/>
        </p:nvSpPr>
        <p:spPr>
          <a:xfrm>
            <a:off x="380988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39"/>
          <p:cNvSpPr/>
          <p:nvPr/>
        </p:nvSpPr>
        <p:spPr>
          <a:xfrm>
            <a:off x="457200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40"/>
          <p:cNvSpPr/>
          <p:nvPr/>
        </p:nvSpPr>
        <p:spPr>
          <a:xfrm>
            <a:off x="548640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41"/>
          <p:cNvSpPr/>
          <p:nvPr/>
        </p:nvSpPr>
        <p:spPr>
          <a:xfrm flipV="1">
            <a:off x="160092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42"/>
          <p:cNvSpPr/>
          <p:nvPr/>
        </p:nvSpPr>
        <p:spPr>
          <a:xfrm>
            <a:off x="190512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43"/>
          <p:cNvSpPr/>
          <p:nvPr/>
        </p:nvSpPr>
        <p:spPr>
          <a:xfrm flipH="1" flipV="1">
            <a:off x="3581640" y="25909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44"/>
          <p:cNvSpPr/>
          <p:nvPr/>
        </p:nvSpPr>
        <p:spPr>
          <a:xfrm flipV="1">
            <a:off x="602064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45"/>
          <p:cNvSpPr/>
          <p:nvPr/>
        </p:nvSpPr>
        <p:spPr>
          <a:xfrm flipV="1">
            <a:off x="434412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46"/>
          <p:cNvSpPr/>
          <p:nvPr/>
        </p:nvSpPr>
        <p:spPr>
          <a:xfrm flipH="1" flipV="1">
            <a:off x="5181840" y="25909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47"/>
          <p:cNvSpPr/>
          <p:nvPr/>
        </p:nvSpPr>
        <p:spPr>
          <a:xfrm>
            <a:off x="2590920" y="152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4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48"/>
          <p:cNvSpPr/>
          <p:nvPr/>
        </p:nvSpPr>
        <p:spPr>
          <a:xfrm>
            <a:off x="380988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49"/>
          <p:cNvSpPr/>
          <p:nvPr/>
        </p:nvSpPr>
        <p:spPr>
          <a:xfrm>
            <a:off x="457200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50"/>
          <p:cNvSpPr/>
          <p:nvPr/>
        </p:nvSpPr>
        <p:spPr>
          <a:xfrm flipV="1">
            <a:off x="1600920" y="1752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51"/>
          <p:cNvSpPr/>
          <p:nvPr/>
        </p:nvSpPr>
        <p:spPr>
          <a:xfrm>
            <a:off x="-609480" y="3124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52"/>
          <p:cNvSpPr/>
          <p:nvPr/>
        </p:nvSpPr>
        <p:spPr>
          <a:xfrm flipV="1">
            <a:off x="510624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53"/>
          <p:cNvSpPr/>
          <p:nvPr/>
        </p:nvSpPr>
        <p:spPr>
          <a:xfrm flipH="1" flipV="1">
            <a:off x="6782040" y="12193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54"/>
          <p:cNvSpPr/>
          <p:nvPr/>
        </p:nvSpPr>
        <p:spPr>
          <a:xfrm flipH="1" flipV="1">
            <a:off x="7696440" y="12193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55"/>
          <p:cNvSpPr/>
          <p:nvPr/>
        </p:nvSpPr>
        <p:spPr>
          <a:xfrm flipV="1">
            <a:off x="853524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08580-6A86-4873-AD68-BFFC17057A5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2"/>
          <p:cNvSpPr/>
          <p:nvPr/>
        </p:nvSpPr>
        <p:spPr>
          <a:xfrm>
            <a:off x="1371600" y="57913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4191120" y="39625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3352680" y="396252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1371600" y="1523880"/>
            <a:ext cx="838080" cy="838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1371600" y="32767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1371600" y="46483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830592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7467480" y="1066680"/>
            <a:ext cx="83844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10"/>
          <p:cNvSpPr/>
          <p:nvPr/>
        </p:nvSpPr>
        <p:spPr>
          <a:xfrm>
            <a:off x="662940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11"/>
          <p:cNvSpPr/>
          <p:nvPr/>
        </p:nvSpPr>
        <p:spPr>
          <a:xfrm>
            <a:off x="579132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12"/>
          <p:cNvSpPr/>
          <p:nvPr/>
        </p:nvSpPr>
        <p:spPr>
          <a:xfrm>
            <a:off x="5029200" y="39625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13"/>
          <p:cNvSpPr/>
          <p:nvPr/>
        </p:nvSpPr>
        <p:spPr>
          <a:xfrm>
            <a:off x="4114800" y="23623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14"/>
          <p:cNvSpPr/>
          <p:nvPr/>
        </p:nvSpPr>
        <p:spPr>
          <a:xfrm>
            <a:off x="3276720" y="23623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15"/>
          <p:cNvSpPr/>
          <p:nvPr/>
        </p:nvSpPr>
        <p:spPr>
          <a:xfrm>
            <a:off x="4952880" y="236232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16"/>
          <p:cNvSpPr/>
          <p:nvPr/>
        </p:nvSpPr>
        <p:spPr>
          <a:xfrm>
            <a:off x="4952880" y="1066680"/>
            <a:ext cx="83844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17"/>
          <p:cNvSpPr/>
          <p:nvPr/>
        </p:nvSpPr>
        <p:spPr>
          <a:xfrm flipV="1">
            <a:off x="533520" y="761760"/>
            <a:ext cx="0" cy="5715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18"/>
          <p:cNvSpPr/>
          <p:nvPr/>
        </p:nvSpPr>
        <p:spPr>
          <a:xfrm>
            <a:off x="541008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19"/>
          <p:cNvSpPr/>
          <p:nvPr/>
        </p:nvSpPr>
        <p:spPr>
          <a:xfrm flipV="1">
            <a:off x="434412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20"/>
          <p:cNvSpPr/>
          <p:nvPr/>
        </p:nvSpPr>
        <p:spPr>
          <a:xfrm>
            <a:off x="609480" y="5943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1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21"/>
          <p:cNvSpPr/>
          <p:nvPr/>
        </p:nvSpPr>
        <p:spPr>
          <a:xfrm>
            <a:off x="685800" y="4800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2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22"/>
          <p:cNvSpPr/>
          <p:nvPr/>
        </p:nvSpPr>
        <p:spPr>
          <a:xfrm>
            <a:off x="685800" y="3429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23"/>
          <p:cNvSpPr/>
          <p:nvPr/>
        </p:nvSpPr>
        <p:spPr>
          <a:xfrm>
            <a:off x="685800" y="1600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4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4"/>
          <p:cNvSpPr/>
          <p:nvPr/>
        </p:nvSpPr>
        <p:spPr>
          <a:xfrm>
            <a:off x="2666880" y="4114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25"/>
          <p:cNvSpPr/>
          <p:nvPr/>
        </p:nvSpPr>
        <p:spPr>
          <a:xfrm>
            <a:off x="2590920" y="2438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26"/>
          <p:cNvSpPr/>
          <p:nvPr/>
        </p:nvSpPr>
        <p:spPr>
          <a:xfrm>
            <a:off x="4267080" y="129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27"/>
          <p:cNvSpPr/>
          <p:nvPr/>
        </p:nvSpPr>
        <p:spPr>
          <a:xfrm>
            <a:off x="3962520" y="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28"/>
          <p:cNvSpPr/>
          <p:nvPr/>
        </p:nvSpPr>
        <p:spPr>
          <a:xfrm>
            <a:off x="3124080" y="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29"/>
          <p:cNvSpPr/>
          <p:nvPr/>
        </p:nvSpPr>
        <p:spPr>
          <a:xfrm>
            <a:off x="4800600" y="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0"/>
          <p:cNvSpPr/>
          <p:nvPr/>
        </p:nvSpPr>
        <p:spPr>
          <a:xfrm>
            <a:off x="0" y="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1"/>
          <p:cNvSpPr/>
          <p:nvPr/>
        </p:nvSpPr>
        <p:spPr>
          <a:xfrm>
            <a:off x="3352680" y="4965840"/>
            <a:ext cx="5791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C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1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2 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2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2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2p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6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3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2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3p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6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3d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10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4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32"/>
          <p:cNvSpPr/>
          <p:nvPr/>
        </p:nvSpPr>
        <p:spPr>
          <a:xfrm flipV="1">
            <a:off x="1600920" y="5943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33"/>
          <p:cNvSpPr/>
          <p:nvPr/>
        </p:nvSpPr>
        <p:spPr>
          <a:xfrm>
            <a:off x="1905120" y="5943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34"/>
          <p:cNvSpPr/>
          <p:nvPr/>
        </p:nvSpPr>
        <p:spPr>
          <a:xfrm flipV="1">
            <a:off x="1600920" y="4800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35"/>
          <p:cNvSpPr/>
          <p:nvPr/>
        </p:nvSpPr>
        <p:spPr>
          <a:xfrm>
            <a:off x="1905120" y="4800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36"/>
          <p:cNvSpPr/>
          <p:nvPr/>
        </p:nvSpPr>
        <p:spPr>
          <a:xfrm flipH="1" flipV="1">
            <a:off x="3581640" y="411480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37"/>
          <p:cNvSpPr/>
          <p:nvPr/>
        </p:nvSpPr>
        <p:spPr>
          <a:xfrm flipV="1">
            <a:off x="525852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38"/>
          <p:cNvSpPr/>
          <p:nvPr/>
        </p:nvSpPr>
        <p:spPr>
          <a:xfrm>
            <a:off x="380988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39"/>
          <p:cNvSpPr/>
          <p:nvPr/>
        </p:nvSpPr>
        <p:spPr>
          <a:xfrm>
            <a:off x="457200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40"/>
          <p:cNvSpPr/>
          <p:nvPr/>
        </p:nvSpPr>
        <p:spPr>
          <a:xfrm>
            <a:off x="548640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41"/>
          <p:cNvSpPr/>
          <p:nvPr/>
        </p:nvSpPr>
        <p:spPr>
          <a:xfrm flipV="1">
            <a:off x="160092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42"/>
          <p:cNvSpPr/>
          <p:nvPr/>
        </p:nvSpPr>
        <p:spPr>
          <a:xfrm>
            <a:off x="190512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43"/>
          <p:cNvSpPr/>
          <p:nvPr/>
        </p:nvSpPr>
        <p:spPr>
          <a:xfrm flipH="1" flipV="1">
            <a:off x="3581640" y="25909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44"/>
          <p:cNvSpPr/>
          <p:nvPr/>
        </p:nvSpPr>
        <p:spPr>
          <a:xfrm flipV="1">
            <a:off x="602064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45"/>
          <p:cNvSpPr/>
          <p:nvPr/>
        </p:nvSpPr>
        <p:spPr>
          <a:xfrm flipV="1">
            <a:off x="434412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46"/>
          <p:cNvSpPr/>
          <p:nvPr/>
        </p:nvSpPr>
        <p:spPr>
          <a:xfrm flipH="1" flipV="1">
            <a:off x="5181840" y="25909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7"/>
          <p:cNvSpPr/>
          <p:nvPr/>
        </p:nvSpPr>
        <p:spPr>
          <a:xfrm>
            <a:off x="2590920" y="152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4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48"/>
          <p:cNvSpPr/>
          <p:nvPr/>
        </p:nvSpPr>
        <p:spPr>
          <a:xfrm>
            <a:off x="380988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49"/>
          <p:cNvSpPr/>
          <p:nvPr/>
        </p:nvSpPr>
        <p:spPr>
          <a:xfrm>
            <a:off x="457200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50"/>
          <p:cNvSpPr/>
          <p:nvPr/>
        </p:nvSpPr>
        <p:spPr>
          <a:xfrm flipV="1">
            <a:off x="1600920" y="1752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51"/>
          <p:cNvSpPr/>
          <p:nvPr/>
        </p:nvSpPr>
        <p:spPr>
          <a:xfrm>
            <a:off x="624852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52"/>
          <p:cNvSpPr/>
          <p:nvPr/>
        </p:nvSpPr>
        <p:spPr>
          <a:xfrm flipV="1">
            <a:off x="510624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53"/>
          <p:cNvSpPr/>
          <p:nvPr/>
        </p:nvSpPr>
        <p:spPr>
          <a:xfrm flipH="1" flipV="1">
            <a:off x="6782040" y="12193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54"/>
          <p:cNvSpPr/>
          <p:nvPr/>
        </p:nvSpPr>
        <p:spPr>
          <a:xfrm flipH="1" flipV="1">
            <a:off x="7696440" y="12193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55"/>
          <p:cNvSpPr/>
          <p:nvPr/>
        </p:nvSpPr>
        <p:spPr>
          <a:xfrm flipV="1">
            <a:off x="853524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56"/>
          <p:cNvSpPr/>
          <p:nvPr/>
        </p:nvSpPr>
        <p:spPr>
          <a:xfrm>
            <a:off x="533412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57"/>
          <p:cNvSpPr/>
          <p:nvPr/>
        </p:nvSpPr>
        <p:spPr>
          <a:xfrm>
            <a:off x="-685800" y="35812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58"/>
          <p:cNvSpPr/>
          <p:nvPr/>
        </p:nvSpPr>
        <p:spPr>
          <a:xfrm>
            <a:off x="701028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59"/>
          <p:cNvSpPr/>
          <p:nvPr/>
        </p:nvSpPr>
        <p:spPr>
          <a:xfrm>
            <a:off x="792468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60"/>
          <p:cNvSpPr/>
          <p:nvPr/>
        </p:nvSpPr>
        <p:spPr>
          <a:xfrm>
            <a:off x="876312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8T21:54:40Z</dcterms:created>
  <dc:creator>Andrew Harris</dc:creator>
  <dc:description/>
  <dc:language>en-US</dc:language>
  <cp:lastModifiedBy>RomaK</cp:lastModifiedBy>
  <dcterms:modified xsi:type="dcterms:W3CDTF">2015-09-02T06:04:00Z</dcterms:modified>
  <cp:revision>48</cp:revision>
  <dc:subject/>
  <dc:title>The d block: </dc:title>
</cp:coreProperties>
</file>