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C3BA-BB39-4B3A-85FD-06631230F7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 consists of three horizontal series in periods 4, 5 &amp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elements in each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is “different” from oth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lectronic configurations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within a group in the d block are less sharp than in s &amp; p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ies across a period ar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 consists of three horizontal series in periods 4, 5 &amp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elements in each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is “different” from oth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lectronic configurations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within a group in the d block are less sharp than in s &amp; p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ies across a period ar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 [TM’s] have characteristic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loured compounds, variable oxidation 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due to presence of an inner incomplete 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rom both inner d sub-shell and outer s sub-shell can be involved in compoun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 [TM’s] have characteristic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loured compounds, variable oxidation 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due to presence of an inner incomplete 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rom both inner d sub-shell and outer s sub-shell can be involved in compoun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d block elements have incomplete d sub-sh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Zn has e.c. of  [Ar]3d104s2, the Zn2+ ion ([Ar] 3d10) is not a typical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 Sc forms Sc3+ which has the stable e.c of Ar. Sc3+ has no 3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d block elements have incomplete d sub-sh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Zn has e.c. of  [Ar]3d104s2, the Zn2+ ion ([Ar] 3d10) is not a typical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 Sc forms Sc3+ which has the stable e.c of Ar. Sc3+ has no 3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reason, a transition metal is defined as being an element which forms at least one ion with a partially filled sub-shell of 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riod 4 only Ti-Cu are TM’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when d block elements form ions the s electrons are lo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reason, a transition metal is defined as being an element which forms at least one ion with a partially filled sub-shell of 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riod 4 only Ti-Cu are TM’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when d block elements form ions the s electrons are lo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re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imilar to each other but different from s block metals eg Na and 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TM’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me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m and 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 to be hard and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ensile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good mechan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re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imilar to each other but different from s block metals eg Na and 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TM’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me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m and 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 to be hard and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ensile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good mechan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derive from strong metall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release e- into the pool of mobile electrons from both outer and inner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metallic bonds formed between the mobile pool and the +ve metal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s widespread use of T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ys very important: inhibits slip in crystal lattice usually results in increased hardness and reduced mall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derive from strong metall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release e- into the pool of mobile electrons from both outer and inner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metallic bonds formed between the mobile pool and the +ve metal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s widespread use of T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ys very important: inhibits slip in crystal lattice usually results in increased hardness and reduced mall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of Alloying on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of Alloying on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Chem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chemical properties of the TM’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mpounds in a variety of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 of the elements and thei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tendency to form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loured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Chem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chemical properties of the TM’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mpounds in a variety of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 of the elements and thei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tendency to form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loured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riable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M’s show a great variety of oxidation states cf s block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compare successive ionisation enthalpies (Hi) for Ca and V as fol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2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2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3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3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4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show a great variety of oxidation states cf s block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are successive ionisation enthalpies (Hi) for Ca and V as fol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4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a &amp; V always lose the 4s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(1) &amp; Hi(2) relatively low as corresponds to removing outer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ncrease in Hi(3) &amp; Hi(4) cf Hi(2) due to difficulty in removing 3p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 increase from Hi(1) to Hi(4) as removing 4s then 3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a &amp; V always lose the 4s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(1) &amp; Hi(2) relatively low as corresponds to removing outer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ncrease in Hi(3) &amp; Hi(4) cf Hi(2) due to difficulty in removing 3p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 increase from Hi(1) to Hi(4) as removing 4s then 3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1st row of the d block (Sc to Zn) each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1 more electron and 1 mor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“additional” electron enters the 3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configuration for all the period 4 transition elements is that of 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2s22p63s2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1st row of the d block (Sc to Zn) each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1 more electron and 1 mor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“additional” electron enters the 3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configuration for all the period 4 transition elements is that of 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2s22p63s2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OS’s in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1 only important for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s sum of Hi(1) + Hi(2) low enough for 2e- to be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2, where 4s e- lost shown by all except for Sc and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3, shown by all except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OS’s in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1 only important for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s sum of Hi(1) + Hi(2) low enough for 2e- to be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2, where 4s e- lost shown by all except for Sc and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3, shown by all except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f OS’s shown by an element increases from Sc to 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of these elements highest OS is equal to no. of 3d and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n decrease in no. of OS’s shown by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OS shown becomes lower and less 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increasing nuclear charge binds 3d e- more strongly, hence harder to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f OS’s shown by an element increases from Sc to 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of these elements highest OS is equal to no. of 3d and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n decrease in no. of OS’s shown by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OS shown becomes lower and less 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increasing nuclear charge binds 3d e- more strongly, hence harder to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wer OS’s found in simple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. compounds containing Cr3+, Mn2+, Fe3+, Cu2+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M’s in higher OS’s usually covalently bound to electronegative element such as O or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 VO3-, vanadate(V) ion; MnO4-, manganate(VII) 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e ions with high OS’s such as V5+ &amp; Mn7+ are no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OS’s found in simple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mpounds containing Cr3+, Mn2+, Fe3+, Cu2+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in higher OS’s usually covalently bound to electronegative element such as O or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 VO3-, vanadate(V) ion; MnO4-, manganate(VII) 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ions with high OS’s such as V5+ &amp; Mn7+ are no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from one OS to another is a 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different OS’s can be predicted by looking at Standard Electrode Potenti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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from one OS to another is a 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different OS’s can be predicted by looking at Standard Electrode Potenti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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OS’s become less stable relative to lower ones on moving from left to right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containing TM’s in high OS’s tend to be oxidising agents e.g MnO4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TM’s in low OS’s are often reducing agents e.g V2+ &amp; Fe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OS’s become less stable relative to lower ones on moving from left to right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containing TM’s in high OS’s tend to be oxidising agents e.g MnO4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TM’s in low OS’s are often reducing agents e.g V2+ &amp; Fe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+2 state with respect to +3 state increases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ompounds early in the series, +2 state highly redu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V2+(aq) &amp; Cr2+(aq) strong reducing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in series +2 stable, +3 state highly oxid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3+ is a strong oxidising agent, Ni3+ &amp; Cu3+ do not exist in aqu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+2 state with respect to +3 state increases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ompounds early in the series, +2 state highly redu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V2+(aq) &amp; Cr2+(aq) strong reducing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in series +2 stable, +3 state highly oxid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3+ is a strong oxidising agent, Ni3+ &amp; Cu3+ do not exist in aqu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nd their compounds effective and important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ly and biologicall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people in the know” bel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s provide reaction pathway with lower EA than uncatalysed reaction (see CI 10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3d and 4s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change 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factors which make TM’s such good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nd their compounds effective and important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ly and biologicall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people in the know” bel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s provide reaction pathway with lower EA than uncatalysed reaction (see CI 10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3d and 4s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change 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factors which make TM’s such good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different phase from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solid TM catalyst with reactants in liquid or gas 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3d and 4s e- of atoms on metal surface to from weak bonds to the react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action has occurred on TM surface, these bonds can break to releas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example is hydrogenation of alkenes using Ni or Pt cataly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different phase from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solid TM catalyst with reactants in liquid or gas 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3d and 4s e- of atoms on metal surface to from weak bonds to the react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action has occurred on TM surface, these bonds can break to releas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example is hydrogenation of alkenes using Ni or Pt cataly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same phase a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reaction takes place in aqueou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aqueous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inv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ion forming intermediate compound with ome or more of the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then breaks down to form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same phase a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reaction takes place in aqueou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aqueous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inv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ion forming intermediate compound with ome or more of the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then breaks down to form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reaction is that used in Activity SS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3-dihydroxybutanoate ion with hydrogen pe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atalysed by Co2+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reaction is that used in Activity SS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3-dihydroxybutanoate ion with hydrogen pe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atalysed by Co2+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2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2CCH(OH)CH(OH)C0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3+ 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, methanoate,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2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2CCH(OH)CH(OH)C0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3+ 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, methanoate,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1 4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1 4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and Cu don’t fit the pattern of building up the 3d sub-shell,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ound state electrons are always arranged to give lowest tot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total energy is obtained with e- singly in orbitals rather than if they are paired in an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 of 3d and 4s orbitals very close together in Perio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and Cu don’t fit the pattern of building up the 3d sub-shell,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ound state electrons are always arranged to give lowest tot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total energy is obtained with e- singly in orbitals rather than if they are paired in an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 of 3d and 4s orbitals very close together in Perio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energies such that putting one e- into each 3d and 4s orbital gives lower energy than having 2 e- in the 4s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2 e- into the 4s orbital would give a higher energy than filling the  3d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energies such that putting one e- into each 3d and 4s orbital gives lower energy than having 2 e- in the 4s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2 e- into the 4s orbital would give a higher energy than filling the  3d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5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5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10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10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261-3403-4D7B-BF85-8176EAA3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6A4-0888-4BF3-AAF1-9FC5F4BC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8B5B-9E9D-476F-88B4-954E738D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A2CE-FB15-4FB9-971E-E42E0DEC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97B-B0EE-49F1-A8D6-ED7CFEA7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3D1C-A626-49C5-A05C-E1364D85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2AB0-44BB-489C-A066-E4DD609D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4EC-7258-46E8-8042-27BAF98A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4B6-ADBC-4239-898C-D29ED6DC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8B0E-6408-4DC2-8A83-F31EED9D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E5C9-6C08-4309-86DE-0C22080E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2F3-EDBF-4F43-869F-23814630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S CI 11.5 The d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FF82-7426-4D84-B616-6E11C4F763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5EA2-A5E0-4173-A9D5-FCCBA4E9B2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The d block: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he d block consists of three horizontal series in periods 4, 5 &amp; 6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10 elements in each ser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hemistry is “different” from other eleme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pecial electronic configurations importa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fferences within a group in the d block are less sharp than in s &amp; p block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imilarities across a period are greater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0DDF-4AC9-4FA7-B25D-4DF620D650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ransition metals [TM’s] have characteristic properties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. coloured compounds, variable oxidation state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se are due to presence of an inner incomplete d sub-shel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lectrons from both inner d sub-shell and outer s sub-shell can be involved in compound format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C3D7-9113-4183-BC76-FD7D13033C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Not all d block elements have incomplete d sub-shells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.g. Zn has e.c. of  [Ar]3d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, the Zn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on ([Ar] 3d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) is not a typical TM 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imilarly Sc forms Sc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which has the stable e.c of Ar. Sc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has no 3d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70CB-829D-40F9-8DE7-1A4183D6F1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For this reason, </a:t>
            </a:r>
            <a:r>
              <a:rPr b="1" i="1" lang="en-GB" sz="3200" spc="-1" strike="noStrike">
                <a:solidFill>
                  <a:srgbClr val="ffff00"/>
                </a:solidFill>
                <a:latin typeface="Comic Sans MS"/>
              </a:rPr>
              <a:t>a transition metal is defined as being an element which forms at least one ion with a partially filled sub-shell of d electrons.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 period 4 only Ti-Cu are TM’s!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ote that when d block elements form ions the s electrons are lost firs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4195-51D6-4A6F-ACB5-8D90505E4B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are TM’s like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are meta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y are similar to each other but different from s block metals eg Na and Mg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roperties of TM’s 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ense metal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high T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and T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Tend to be hard and durable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high tensile strength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good mechanical propertie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8624-5C66-4119-941D-5C0B96CEE1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are TM’s like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roperties derive from strong </a:t>
            </a: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metallic bonding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can release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the pool of mobile electrons from both outer and inner shel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trong metallic bonds formed between the mobile pool and the +ve metal ion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ables widespread use of TMs!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lloys very important: inhibits slip in crystal lattice usually results in increased hardness and reduced malleabilit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4536-CC81-46A4-BBCB-587C104602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Effect of Alloying on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1558800" y="1828800"/>
            <a:ext cx="6024600" cy="4043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DEAE-3B68-49EA-BCB0-9CAEF668EB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TM Chemical Properti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ypical chemical properties of the TM’s ar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mation of compounds in a variety of oxidation stat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tic activity of the elements and their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trong tendency to form complex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 CI 11.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mation of coloured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 CI 11.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0FF4-7390-451D-80BC-D07337CD58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Variable Oxidation Stat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M’s show a great variety of oxidation states cf s block metal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f compare successive ionisation enthalpies (</a:t>
            </a:r>
            <a:r>
              <a:rPr b="1" lang="en-GB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32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) for Ca and V as follow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1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2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3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4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4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82CE-0429-4726-B988-9DF7C1CE68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GB" sz="4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 for Ca and V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735120" y="1981080"/>
          <a:ext cx="7672320" cy="4116600"/>
        </p:xfrm>
        <a:graphic>
          <a:graphicData uri="http://schemas.openxmlformats.org/drawingml/2006/table">
            <a:tbl>
              <a:tblPr/>
              <a:tblGrid>
                <a:gridCol w="2388960"/>
                <a:gridCol w="1320840"/>
                <a:gridCol w="1319400"/>
                <a:gridCol w="1295280"/>
                <a:gridCol w="1347840"/>
              </a:tblGrid>
              <a:tr h="10339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Ionisation Enthal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kJ mol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-1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a [Ar]4s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5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1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9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 [Ar]3d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s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4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8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5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701F-95DE-46C4-AC82-088F317C04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GB" sz="4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 for Ca and V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Both Ca &amp; V always lose the 4s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 Ca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1) &amp;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2) relatively low as corresponds to removing outer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p increase in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3) &amp;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4) cf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2) due to difficulty in removing 3p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 Sc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Gradual increase from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1) to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4) as removing 4s then 3d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1EF5-7512-4E87-BA73-9A10F53AA5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Electronic Configuration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cross the 1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st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row of the d block (Sc to Zn) each element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as 1 more electron and 1 more prot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ach “additional” electron enters the 3d sub-shel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core configuration for all the period 4 transition elements is that of 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21F6-5EE8-4FA1-9FA0-441FCBCEB5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 the following tabl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ost important OS’s in box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1 only important for Cu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 all others sum of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1) +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2) low enough for 2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to be removed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2, where 4s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lost shown by all except for Sc and Ti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3, shown by all except Z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576C-40DD-4A2E-B30D-F002C45017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85800" y="1981080"/>
          <a:ext cx="7954920" cy="4394160"/>
        </p:xfrm>
        <a:graphic>
          <a:graphicData uri="http://schemas.openxmlformats.org/drawingml/2006/table">
            <a:tbl>
              <a:tblPr/>
              <a:tblGrid>
                <a:gridCol w="603360"/>
                <a:gridCol w="218880"/>
                <a:gridCol w="584640"/>
                <a:gridCol w="218880"/>
                <a:gridCol w="586080"/>
                <a:gridCol w="218880"/>
                <a:gridCol w="586440"/>
                <a:gridCol w="218880"/>
                <a:gridCol w="673560"/>
                <a:gridCol w="218880"/>
                <a:gridCol w="589680"/>
                <a:gridCol w="218880"/>
                <a:gridCol w="584640"/>
                <a:gridCol w="218880"/>
                <a:gridCol w="586080"/>
                <a:gridCol w="218880"/>
                <a:gridCol w="586080"/>
                <a:gridCol w="218880"/>
                <a:gridCol w="60444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4CF8-B920-4B86-8F58-517750CFD6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o of OS’s shown by an element increases from Sc to M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n each of these elements highest OS is equal to no. of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fter Mn decrease in no. of OS’s shown by an eleme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ighest OS shown becomes lower and less stable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ms increasing nuclear charge binds 3d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more strongly, hence harder to remove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2848-CCCB-4040-9D36-74EDEE7952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 genera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Lower OS’s found in simple ionic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. compounds containing C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n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F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Cu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ion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in higher OS’s usually covalently bound to electronegative element such as O or F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 V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vanadate(V) ion; Mn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anganate(VII) ion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imple ions with high OS’s such as V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5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&amp; Mn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7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are not formed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5FEA-E1E5-4ED8-8608-18139E2EC7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hange from one OS to another is a redox reaction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Relative stability of different OS’s can be predicted by looking at Standard Electrode Potentials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valu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9001-6501-447D-9667-0125594BEE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General trend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igher OS’s become less stable relative to lower ones on moving from left to right across the ser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ounds containing TM’s in high OS’s tend to be oxidising agents e.g MnO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ounds with TM’s in low OS’s are often reducing agents e.g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&amp; F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576C-7EAB-4D95-A6C0-9A11FD9441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General trends (continued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Relative stability of +2 state with respect to +3 state increases across the serie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For compounds early in the series, +2 state highly reducing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E.g. V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(aq) &amp; Cr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(aq) strong reducing agents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ater in series +2 stable, +3 state highly oxidising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E.g. Co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is a strong oxidising agent, Ni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&amp; Cu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do not exist in aqueous solution.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DF62-53E1-4E17-8F36-CC72745F88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atalytic Activity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and their compounds effective and important catalys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Industrially and biologically!!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“people in the know” belie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atalysts provide reaction pathway with lower E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than uncatalysed reaction (see CI 10.5)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nce again,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vailability of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bility to change O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ong factors which make TM’s such good catalyst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727F-0A6F-4072-BB38-87C1EABF01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eter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st in different phase from reacta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Usually means solid TM catalyst with reactants in liquid or gas phase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can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use the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of atoms on metal surface to from weak bonds to the reactants.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nce reaction has occurred on TM surface, these bonds can break to release product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mportant example is hydrogenation of alkenes using Ni or Pt catalyst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Місце для номера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08A7-21FB-458B-BB06-E4706D0B2F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eter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838080" y="1281240"/>
            <a:ext cx="2630520" cy="1385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2630520" cy="1557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"/>
          <p:cNvPicPr/>
          <p:nvPr/>
        </p:nvPicPr>
        <p:blipFill>
          <a:blip r:embed="rId3"/>
          <a:stretch/>
        </p:blipFill>
        <p:spPr>
          <a:xfrm>
            <a:off x="838080" y="4800600"/>
            <a:ext cx="2587680" cy="1585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"/>
          <p:cNvPicPr/>
          <p:nvPr/>
        </p:nvPicPr>
        <p:blipFill>
          <a:blip r:embed="rId4"/>
          <a:stretch/>
        </p:blipFill>
        <p:spPr>
          <a:xfrm>
            <a:off x="6019920" y="1208160"/>
            <a:ext cx="2601720" cy="1687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"/>
          <p:cNvPicPr/>
          <p:nvPr/>
        </p:nvPicPr>
        <p:blipFill>
          <a:blip r:embed="rId5"/>
          <a:stretch/>
        </p:blipFill>
        <p:spPr>
          <a:xfrm>
            <a:off x="5943600" y="3200400"/>
            <a:ext cx="2630520" cy="204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5D73-DD1C-4C28-825B-B11B8A2FDD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1"/>
          <p:cNvSpPr/>
          <p:nvPr/>
        </p:nvSpPr>
        <p:spPr>
          <a:xfrm>
            <a:off x="3352680" y="4838760"/>
            <a:ext cx="5257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4"/>
          <p:cNvSpPr/>
          <p:nvPr/>
        </p:nvSpPr>
        <p:spPr>
          <a:xfrm flipV="1">
            <a:off x="-9136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D8E1-65CE-44C5-B48E-BD0BB7A6F5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om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atalyst in same phase as reactant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Usually means reaction takes place in aqueous phas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st aqueous TM 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Usually involve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 ion forming </a:t>
            </a: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intermediate compound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with ome or more of the reacta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termediate then breaks down to form produc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E45E-45DD-4DF7-9545-EED0DAD46F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om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bove reaction is that used in Activity SS5.2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2,3-dihydroxybutanoate ion with hydrogen peroxid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action catalysed by Co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49" name="Group 15"/>
          <p:cNvGrpSpPr/>
          <p:nvPr/>
        </p:nvGrpSpPr>
        <p:grpSpPr>
          <a:xfrm>
            <a:off x="236520" y="1428840"/>
            <a:ext cx="8670960" cy="2060640"/>
            <a:chOff x="236520" y="1428840"/>
            <a:chExt cx="8670960" cy="2060640"/>
          </a:xfrm>
        </p:grpSpPr>
        <p:graphicFrame>
          <p:nvGraphicFramePr>
            <p:cNvPr id="350" name="Object 7"/>
            <p:cNvGraphicFramePr/>
            <p:nvPr/>
          </p:nvGraphicFramePr>
          <p:xfrm>
            <a:off x="236520" y="1428840"/>
            <a:ext cx="8670960" cy="2060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520" y="1428840"/>
                      <a:ext cx="8670960" cy="20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2" name="AutoShape 8"/>
            <p:cNvSpPr/>
            <p:nvPr/>
          </p:nvSpPr>
          <p:spPr>
            <a:xfrm>
              <a:off x="2732040" y="2057400"/>
              <a:ext cx="74520" cy="533520"/>
            </a:xfrm>
            <a:custGeom>
              <a:avLst/>
              <a:gdLst>
                <a:gd name="textAreaLeft" fmla="*/ 21960 w 74520"/>
                <a:gd name="textAreaRight" fmla="*/ 74880 w 745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9"/>
            <p:cNvSpPr/>
            <p:nvPr/>
          </p:nvSpPr>
          <p:spPr>
            <a:xfrm>
              <a:off x="3759120" y="2022480"/>
              <a:ext cx="76320" cy="5335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10"/>
            <p:cNvSpPr/>
            <p:nvPr/>
          </p:nvSpPr>
          <p:spPr>
            <a:xfrm>
              <a:off x="5130720" y="1946160"/>
              <a:ext cx="76320" cy="83844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34920 h 838440"/>
                <a:gd name="textAreaBottom" fmla="*/ 8035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utoShape 11"/>
            <p:cNvSpPr/>
            <p:nvPr/>
          </p:nvSpPr>
          <p:spPr>
            <a:xfrm>
              <a:off x="6172200" y="1959120"/>
              <a:ext cx="76320" cy="7999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3120 h 799920"/>
                <a:gd name="textAreaBottom" fmla="*/ 76680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12"/>
            <p:cNvSpPr/>
            <p:nvPr/>
          </p:nvSpPr>
          <p:spPr>
            <a:xfrm>
              <a:off x="6883560" y="194616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13"/>
            <p:cNvSpPr/>
            <p:nvPr/>
          </p:nvSpPr>
          <p:spPr>
            <a:xfrm>
              <a:off x="7696080" y="194616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3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Місце для номера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4BC9-2965-4A2D-A593-16956EB3B6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uggested Mechanism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838080" y="17524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52280" y="1752480"/>
            <a:ext cx="3886200" cy="2229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REAC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CH(OH)CH(OH)C0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ff3399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 (p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6019920" y="1752480"/>
            <a:ext cx="2895480" cy="1572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INTER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ont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00cc99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 (gr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Group 22"/>
          <p:cNvGrpSpPr/>
          <p:nvPr/>
        </p:nvGrpSpPr>
        <p:grpSpPr>
          <a:xfrm>
            <a:off x="4038480" y="2286000"/>
            <a:ext cx="1981440" cy="1659960"/>
            <a:chOff x="4038480" y="2286000"/>
            <a:chExt cx="1981440" cy="1659960"/>
          </a:xfrm>
        </p:grpSpPr>
        <p:sp>
          <p:nvSpPr>
            <p:cNvPr id="364" name="Line 5"/>
            <p:cNvSpPr/>
            <p:nvPr/>
          </p:nvSpPr>
          <p:spPr>
            <a:xfrm>
              <a:off x="4038480" y="2819520"/>
              <a:ext cx="198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6"/>
            <p:cNvSpPr/>
            <p:nvPr/>
          </p:nvSpPr>
          <p:spPr>
            <a:xfrm>
              <a:off x="4114800" y="22860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ff3399"/>
                  </a:solidFill>
                  <a:latin typeface="Comic Sans MS"/>
                </a:rPr>
                <a:t>2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redu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8"/>
            <p:cNvSpPr/>
            <p:nvPr/>
          </p:nvSpPr>
          <p:spPr>
            <a:xfrm>
              <a:off x="4114800" y="2895480"/>
              <a:ext cx="182880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H</a:t>
              </a:r>
              <a:r>
                <a:rPr b="1" lang="en-GB" sz="2000" spc="-1" strike="noStrike" baseline="-25000">
                  <a:solidFill>
                    <a:srgbClr val="ffff00"/>
                  </a:solidFill>
                  <a:latin typeface="Comic Sans MS"/>
                </a:rPr>
                <a:t>2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O</a:t>
              </a:r>
              <a:r>
                <a:rPr b="1" lang="en-GB" sz="2000" spc="-1" strike="noStrike" baseline="-25000">
                  <a:solidFill>
                    <a:srgbClr val="ffff00"/>
                  </a:solidFill>
                  <a:latin typeface="Comic Sans MS"/>
                </a:rPr>
                <a:t>2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&amp; gets oxidised to </a:t>
              </a:r>
              <a:r>
                <a:rPr b="1" lang="en-GB" sz="2000" spc="-1" strike="noStrike">
                  <a:solidFill>
                    <a:srgbClr val="00cc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00cc99"/>
                  </a:solidFill>
                  <a:latin typeface="Comic Sans MS"/>
                </a:rPr>
                <a:t>3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 Box 9"/>
          <p:cNvSpPr/>
          <p:nvPr/>
        </p:nvSpPr>
        <p:spPr>
          <a:xfrm>
            <a:off x="2514600" y="4495680"/>
            <a:ext cx="4114800" cy="1622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ethanoate, 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ff3399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 (p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Group 20"/>
          <p:cNvGrpSpPr/>
          <p:nvPr/>
        </p:nvGrpSpPr>
        <p:grpSpPr>
          <a:xfrm>
            <a:off x="6629400" y="3314880"/>
            <a:ext cx="2286000" cy="2494800"/>
            <a:chOff x="6629400" y="3314880"/>
            <a:chExt cx="2286000" cy="2494800"/>
          </a:xfrm>
        </p:grpSpPr>
        <p:sp>
          <p:nvSpPr>
            <p:cNvPr id="369" name="Text Box 10"/>
            <p:cNvSpPr/>
            <p:nvPr/>
          </p:nvSpPr>
          <p:spPr>
            <a:xfrm>
              <a:off x="7162920" y="3581280"/>
              <a:ext cx="17524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cc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00cc99"/>
                  </a:solidFill>
                  <a:latin typeface="Comic Sans MS"/>
                </a:rPr>
                <a:t>3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oxidises 2,3-hydroxy- butanoate &amp; gets reduced to</a:t>
              </a:r>
              <a:r>
                <a:rPr b="1" lang="en-GB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lang="en-GB" sz="2000" spc="-1" strike="noStrike">
                  <a:solidFill>
                    <a:srgbClr val="ff33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ff3399"/>
                  </a:solidFill>
                  <a:latin typeface="Comic Sans MS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12"/>
            <p:cNvSpPr/>
            <p:nvPr/>
          </p:nvSpPr>
          <p:spPr>
            <a:xfrm>
              <a:off x="7086600" y="3314880"/>
              <a:ext cx="0" cy="205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3"/>
            <p:cNvSpPr/>
            <p:nvPr/>
          </p:nvSpPr>
          <p:spPr>
            <a:xfrm flipH="1">
              <a:off x="6629400" y="5372280"/>
              <a:ext cx="457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21"/>
          <p:cNvGrpSpPr/>
          <p:nvPr/>
        </p:nvGrpSpPr>
        <p:grpSpPr>
          <a:xfrm>
            <a:off x="533160" y="3886200"/>
            <a:ext cx="1981080" cy="1447920"/>
            <a:chOff x="533160" y="3886200"/>
            <a:chExt cx="1981080" cy="1447920"/>
          </a:xfrm>
        </p:grpSpPr>
        <p:sp>
          <p:nvSpPr>
            <p:cNvPr id="373" name="Line 14"/>
            <p:cNvSpPr/>
            <p:nvPr/>
          </p:nvSpPr>
          <p:spPr>
            <a:xfrm flipH="1">
              <a:off x="533160" y="5334120"/>
              <a:ext cx="19810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5"/>
            <p:cNvSpPr/>
            <p:nvPr/>
          </p:nvSpPr>
          <p:spPr>
            <a:xfrm flipV="1">
              <a:off x="533520" y="3886200"/>
              <a:ext cx="0" cy="1447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6"/>
            <p:cNvSpPr/>
            <p:nvPr/>
          </p:nvSpPr>
          <p:spPr>
            <a:xfrm>
              <a:off x="545040" y="4572000"/>
              <a:ext cx="182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Regen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Cataly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B959-472E-4028-8AC5-4F527D8C5A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3352680" y="4952880"/>
            <a:ext cx="6096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44"/>
          <p:cNvSpPr/>
          <p:nvPr/>
        </p:nvSpPr>
        <p:spPr>
          <a:xfrm flipV="1">
            <a:off x="-9136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51"/>
          <p:cNvSpPr/>
          <p:nvPr/>
        </p:nvSpPr>
        <p:spPr>
          <a:xfrm>
            <a:off x="-609480" y="3200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52"/>
          <p:cNvSpPr/>
          <p:nvPr/>
        </p:nvSpPr>
        <p:spPr>
          <a:xfrm>
            <a:off x="182880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3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4D0C-CB48-42D7-8454-416074606D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0880" y="609480"/>
          <a:ext cx="8305920" cy="5727960"/>
        </p:xfrm>
        <a:graphic>
          <a:graphicData uri="http://schemas.openxmlformats.org/drawingml/2006/table">
            <a:tbl>
              <a:tblPr/>
              <a:tblGrid>
                <a:gridCol w="1338480"/>
                <a:gridCol w="598320"/>
                <a:gridCol w="843120"/>
                <a:gridCol w="836640"/>
                <a:gridCol w="838080"/>
                <a:gridCol w="838080"/>
                <a:gridCol w="836640"/>
                <a:gridCol w="839880"/>
                <a:gridCol w="574560"/>
                <a:gridCol w="7621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lectronic Arrange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Z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2774-28EF-4B84-9C24-222726B7E1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hromium and Copper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r and Cu don’t fit the pattern of building up the 3d sub-shell, why?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n the ground state electrons are always arranged to give lowest total energ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lectrons are negatively charged and repel each other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ower total energy is obtained with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singly in orbitals rather than if they are paired in an orbital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ies of 3d and 4s orbitals very close together in Period 4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E625-7B8C-4C87-AED4-2F8F6BC1A8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hromium and Copper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t Cr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rbital energies such that putting one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each 3d and 4s orbital gives lower energy than having 2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 the 4s orbita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t Cu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utting 2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the 4s orbital would give a higher energy than filling the  3d orbita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3EB0-CD7D-46CE-AC02-4F49D46799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1"/>
          <p:cNvSpPr/>
          <p:nvPr/>
        </p:nvSpPr>
        <p:spPr>
          <a:xfrm>
            <a:off x="3352680" y="4965840"/>
            <a:ext cx="5486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5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44"/>
          <p:cNvSpPr/>
          <p:nvPr/>
        </p:nvSpPr>
        <p:spPr>
          <a:xfrm flipV="1">
            <a:off x="60206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51"/>
          <p:cNvSpPr/>
          <p:nvPr/>
        </p:nvSpPr>
        <p:spPr>
          <a:xfrm>
            <a:off x="-609480" y="312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2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3"/>
          <p:cNvSpPr/>
          <p:nvPr/>
        </p:nvSpPr>
        <p:spPr>
          <a:xfrm flipH="1" flipV="1">
            <a:off x="67820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54"/>
          <p:cNvSpPr/>
          <p:nvPr/>
        </p:nvSpPr>
        <p:spPr>
          <a:xfrm flipH="1" flipV="1">
            <a:off x="76964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5"/>
          <p:cNvSpPr/>
          <p:nvPr/>
        </p:nvSpPr>
        <p:spPr>
          <a:xfrm flipV="1">
            <a:off x="8535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DB6E-27CB-4CCD-A772-D6A5DED1CF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3352680" y="4965840"/>
            <a:ext cx="5791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0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44"/>
          <p:cNvSpPr/>
          <p:nvPr/>
        </p:nvSpPr>
        <p:spPr>
          <a:xfrm flipV="1">
            <a:off x="60206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51"/>
          <p:cNvSpPr/>
          <p:nvPr/>
        </p:nvSpPr>
        <p:spPr>
          <a:xfrm>
            <a:off x="62485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52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53"/>
          <p:cNvSpPr/>
          <p:nvPr/>
        </p:nvSpPr>
        <p:spPr>
          <a:xfrm flipH="1" flipV="1">
            <a:off x="67820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54"/>
          <p:cNvSpPr/>
          <p:nvPr/>
        </p:nvSpPr>
        <p:spPr>
          <a:xfrm flipH="1" flipV="1">
            <a:off x="76964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55"/>
          <p:cNvSpPr/>
          <p:nvPr/>
        </p:nvSpPr>
        <p:spPr>
          <a:xfrm flipV="1">
            <a:off x="8535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56"/>
          <p:cNvSpPr/>
          <p:nvPr/>
        </p:nvSpPr>
        <p:spPr>
          <a:xfrm>
            <a:off x="5334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57"/>
          <p:cNvSpPr/>
          <p:nvPr/>
        </p:nvSpPr>
        <p:spPr>
          <a:xfrm>
            <a:off x="-685800" y="3581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58"/>
          <p:cNvSpPr/>
          <p:nvPr/>
        </p:nvSpPr>
        <p:spPr>
          <a:xfrm>
            <a:off x="70102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59"/>
          <p:cNvSpPr/>
          <p:nvPr/>
        </p:nvSpPr>
        <p:spPr>
          <a:xfrm>
            <a:off x="79246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60"/>
          <p:cNvSpPr/>
          <p:nvPr/>
        </p:nvSpPr>
        <p:spPr>
          <a:xfrm>
            <a:off x="8763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8T21:54:40Z</dcterms:created>
  <dc:creator>Andrew Harris</dc:creator>
  <dc:description/>
  <dc:language>en-US</dc:language>
  <cp:lastModifiedBy>RomaK</cp:lastModifiedBy>
  <dcterms:modified xsi:type="dcterms:W3CDTF">2015-09-02T06:04:00Z</dcterms:modified>
  <cp:revision>48</cp:revision>
  <dc:subject/>
  <dc:title>The d block: </dc:title>
</cp:coreProperties>
</file>