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200-AE44-4159-8456-93B1012E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F72-90E6-446F-B95A-B39E7435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9BA-979D-4ECB-9302-8A972E4A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A5E-A151-4401-B8AC-BB50794D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F5F-E68E-4A9C-B6DD-1CD873EA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64C-843B-4883-9926-FE2F1D3B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A24-7DA5-455D-B5D5-05B15AC6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1EF-2EF3-4BDA-9DAC-194E9412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FCE-C1DF-4F2A-A08C-68075A21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9FD-AAA7-42F7-A5EB-C21C92E6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E36-C467-43DC-BAD3-32C4EB9D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DC3-402B-4A07-924B-F940BEBF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LecturePLUS  Timberl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CE28-84B2-4CFC-840C-7F98A56344D7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9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2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RomaK</cp:lastModifiedBy>
  <dcterms:modified xsi:type="dcterms:W3CDTF">2015-09-02T06:03:23Z</dcterms:modified>
  <cp:revision>11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