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EE47-EE65-48DB-B673-0F1A08A210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1.50 mol of KClO3 decomposes. How many grams of O2 will be produced? [k = 39, Cl = 35.5, O = 1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teps…Get Your 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the answer in moles and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. [Simple Arithmeti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given a mass in the problem, you will need to convert this to moles first. 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5 mol x 32.0 g/mol = 72.0 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produce 2.75 mol of KCl. How many grams of KClO3 would be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O3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7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ss: 2.75mol X 122.55 g/m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 grams zooo zimp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mass-mass problem to the penultimat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Volum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mol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of moles =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remember a similar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ar volume is the volume occupied by one mole of ideal gas at STP. Its value is: 22.4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lculate the volume of carbon dioxide formed at STP in ‘dm3' by the complete thermal decomposition of 3.125 g of pure calcium carbonate (Relative atomic mass of Ca=40, C=12, O=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luti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the mass to mo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ar mass of CaCO3 = 40 + 12 + (16 x 3) = 100gmol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e = mass/mola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125/100 = 0.031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toichiomet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is the quantitative study of reactants and products in a chemical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er the equ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3125mo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03125mol  o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 to volume [slide 1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(0.03125 x 22.4)d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0.7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Should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: Amount of reac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much of products can be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A + 2B           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0.0 grams of A and sufficient B, how many grams of C can be pro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ratio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mass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and interpreting equations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between grams and m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is type of problem is often called "mass-mas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volved in Solving Mass-Mass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 chemical equation corre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given substance, convert the mass given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molar proportion (two molar ratios set equal to each oth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unknown substance, convert the moles just calculated to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 ratio converts moles of one compound in a balanced chemical equation into moles of another comp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between magnesium and oxygen to form magnesium oxide. ( firewor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g(s) + O2(g)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MgO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N2 + 3 H2 ---&gt; 2 NH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mole ratios for N2 to H2 and NH3 to H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 can of butane lighter fluid contains 1.20 moles of butane (C4H10). Calculate the number of moles of carbon dioxide given off when this butane is bur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ol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 practice question 2) abo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4H10  +  13O2                8CO2    +    10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4H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4      [ bas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         :                  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[ probl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cross-multiplication, X = 4.8 mols of CO2 given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331-4257-4938-8CAE-EA2199F8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BB6-13A6-4182-9AAC-83A9BA29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F2B-224E-4B35-B211-5092340A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4C4-1FB4-46E3-A67D-23831D12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0565-7FA5-42FF-B391-4BB65D03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398D-2E73-4627-92B2-B8825B01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B39B-ED17-4B96-8B9C-B75891A4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C8C0-6358-444C-B390-BCB68789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79F5-EC07-4FA4-81B7-8A984DA6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467E-8B33-46CF-BD2F-11F7EB13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59CA-5090-4918-A3D3-00B4132C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BD5-CF19-4EB2-9069-48CE2EDA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5746-0FE6-4BFE-9843-5AF8C32F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0623-79A7-41C8-AC30-0E5D56FE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4EF2-2929-4FE9-9B06-58FFA5B6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1085-579D-4835-B76C-C54C8208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D757-F69D-4265-8DEA-39FE5B8C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A54-52E5-4E6D-A6A1-A78C99BF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47B-ED9B-489D-A99A-F0B1883A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629-F638-4B68-9DAC-C8C90046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F3E-4556-4E13-BF23-B7DB8087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CCC-B7E2-4C17-BBC3-FDD9BC97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BD5-B4FB-40AB-9355-7F95AA5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A25-DC9C-4079-B1B7-43FA8BA8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6864-F41A-41A5-92CB-7395139878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673C-D124-491A-9588-5B1C411DB0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250560" y="1120680"/>
            <a:ext cx="10178640" cy="21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STOICHIOMETRY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ass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oblem 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 1.50 mol of KCl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decomposes. How many grams of 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ill be produced? [k = 39, Cl = 35.5, O = 16]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2 KCl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2 KCl + 3 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533760" y="6248520"/>
            <a:ext cx="60948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Three steps…Get Your Correct Answer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Use mole rati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Get the answer in moles and th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Convert to Mass. [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Simple Arithmetic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Hello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If you are given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a mass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 in the problem, you will need to convert this to moles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first. O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Arial"/>
              </a:rPr>
              <a:t>Let’s go!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 KCl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2 KCl + 3 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 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.50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X = 2.25m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Comic Sans MS"/>
              </a:rPr>
              <a:t>Convert to m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2.25 mol x 32.0 g/mol = 72.0 gra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Cool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ry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e want to produce 2.75 mol of KCl. How many grams of KCl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would be requir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l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3    :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    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= 2.75m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 mass: 2.75mol X 122.55 g/mo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337 grams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zooo zimple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ass-Mass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blem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moles of the substance just solved for into gra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Just follow mass-mass problem to the penultimate level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9440" y="905760"/>
            <a:ext cx="778932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Mass-Volume</a:t>
            </a:r>
            <a:r>
              <a:rPr b="1" lang="en-US" sz="24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Problem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 Black"/>
              </a:rPr>
              <a:t>Like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Convert moles of the substance just solved for into Vol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0440" y="11386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nversion of mole to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lum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No of moles =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Molar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Can you remember a similar equat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867280" y="4267080"/>
            <a:ext cx="2362320" cy="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 Black"/>
              </a:rPr>
              <a:t>Molar</a:t>
            </a:r>
            <a:r>
              <a:rPr b="0" lang="en-US" sz="6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3366"/>
                </a:solidFill>
                <a:latin typeface="Arial Black"/>
              </a:rPr>
              <a:t>volum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The molar volume is the volume occupied by one mole of ideal gas at STP. Its value is: </a:t>
            </a:r>
            <a:r>
              <a:rPr b="1" lang="en-US" sz="4800" spc="-1" strike="noStrike">
                <a:solidFill>
                  <a:srgbClr val="ff5050"/>
                </a:solidFill>
                <a:latin typeface="Comic Sans MS"/>
              </a:rPr>
              <a:t>22.4dm</a:t>
            </a:r>
            <a:r>
              <a:rPr b="1" lang="en-US" sz="48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80520" y="2576160"/>
            <a:ext cx="7344360" cy="399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alculate the volume of carbon dioxide formed at STP in ‘d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' by the complete thermal decomposition of 3.125 g of pure calcium carbonate (Relative atomic mass of Ca=40, C=12, O=16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vert the mass to mo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ar mass of Ca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0 + 12 + (16 x 3) = 100gmo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le = mass/molar m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.125/100 = 0.03125m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stoichiometry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toichiometry is the quantitative study of reactants and products in a chemical reactio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s per the equati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ole ratio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  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roblem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0.03125mol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X = 0.03125mol  of 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Convert mole to volume [slide 1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Volume = (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Comic Sans MS"/>
              </a:rPr>
              <a:t>0.03125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x 22.4)d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0.7dm</a:t>
            </a:r>
            <a:r>
              <a:rPr b="1" lang="en-US" sz="32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666880" y="3057480"/>
            <a:ext cx="4043520" cy="447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You Should Ex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iven :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mount of reac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ow much of products can be 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ampl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 A + 2B           3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iven 20.0 grams of A and sufficient B, how many grams of C can be produc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800600" y="4572000"/>
            <a:ext cx="838080" cy="0"/>
          </a:xfrm>
          <a:prstGeom prst="line">
            <a:avLst/>
          </a:prstGeom>
          <a:ln cap="sq"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 will need to 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ratio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mass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lancing and interpreting equations,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versions between grams and mo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te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is type of problem is often called "mass-mass.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s Involved in Solving Mass-Mass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ichiometry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lance the chemical equation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given substance, convert the mass given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 a molar proportion (two molar ratios set equal to each oth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unknown substance, convert the moles just calculated to m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Mole Ratios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mole ratio converts moles of one compound in a balanced chemical equation into moles of another compound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ion between magnesium and oxygen to form magnesium oxide. ( firework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g(s) + O2(g)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2 MgO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le Rati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548160" y="4267080"/>
            <a:ext cx="990360" cy="0"/>
          </a:xfrm>
          <a:prstGeom prst="line">
            <a:avLst/>
          </a:prstGeom>
          <a:ln cap="sq"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)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+ 3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---&gt; 2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Write the mole ratios for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and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) A can of butane lighter fluid contains 1.20 moles of butane (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). Calculate the number of moles of carbon dioxide given off when this butane is burn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ol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9067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the  practice question 2) abo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ation of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13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  10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l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4      [ base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2          :                  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[ problem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cross-multiplication, X =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4.8 m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886120" y="3429000"/>
            <a:ext cx="79056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09:52:20Z</dcterms:created>
  <dc:creator>Science Dept</dc:creator>
  <dc:description/>
  <dc:language>en-US</dc:language>
  <cp:lastModifiedBy>RomaK</cp:lastModifiedBy>
  <dcterms:modified xsi:type="dcterms:W3CDTF">2015-09-02T06:02:56Z</dcterms:modified>
  <cp:revision>52</cp:revision>
  <dc:subject/>
  <dc:title>STOICHIOMETRY</dc:title>
</cp:coreProperties>
</file>