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A88-91AC-4991-87FC-6896FB7843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OICHI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1.50 mol of KClO3 decomposes. How many grams of O2 will be produced? [k = 39, Cl = 35.5, O = 1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teps…Get Your Correct 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the answer in moles and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. [Simple Arithmeti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given a mass in the problem, you will need to convert this to moles first. O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KClO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KCl + 3 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5 mol x 32.0 g/mol = 72.0 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ant to produce 2.75 mol of KCl. How many grams of KClO3 would be requir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O3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2.7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ss: 2.75mol X 122.55 g/m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 grams zooo zimp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Mass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mass-mass problem to the penultimat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-Volum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steps involved in solving thes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you are working with a properly balanced eq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grams of the substance given in the problem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s of the substance just solved for into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 of mole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of moles =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remember a similar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lar volume is the volume occupied by one mole of ideal gas at STP. Its value is: 22.4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lculate the volume of carbon dioxide formed at STP in ‘dm3' by the complete thermal decomposition of 3.125 g of pure calcium carbonate (Relative atomic mass of Ca=40, C=12, O=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lutio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vert the mass to mo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ar mass of CaCO3 = 40 + 12 + (16 x 3) = 100gmol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le = mass/mola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125/100 = 0.03125m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toichiomet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is the quantitative study of reactants and products in a chemical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per the equ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3125mol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.03125mol  o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mole to volume [slide 1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 = (0.03125 x 22.4)dm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0.7d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You Should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: Amount of reac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much of products can be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A + 2B           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0.0 grams of A and sufficient B, how many grams of C can be pro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e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ratio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ar mass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and interpreting equations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between grams and mo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is type of problem is often called "mass-mas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volved in Solving Mass-Mass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ichiometry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 chemical equation correct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given substance, convert the mass given to mo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molar proportion (two molar ratios set equal to each oth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molar mass of the unknown substance, convert the moles just calculated to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 ratio converts moles of one compound in a balanced chemical equation into moles of another comp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between magnesium and oxygen to form magnesium oxide. ( firewor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g(s) + O2(g)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 MgO(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N2 + 3 H2 ---&gt; 2 NH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mole ratios for N2 to H2 and NH3 to H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A can of butane lighter fluid contains 1.20 moles of butane (C4H10). Calculate the number of moles of carbon dioxide given off when this butane is bur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-Mol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 practice question 2) abo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C4H10  +  13O2                8CO2    +    10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4H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4      [ bas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         :                  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[ probl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cross-multiplication, X = 4.8 mols of CO2 given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D3B-CC8E-412D-9BAA-64B92B49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BB9-B2D8-4C49-BC6E-0085498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4E0-DE19-4082-9752-3E0D5FC6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67F-06D2-454A-A848-33A21B9C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7F49-CBF0-4FB1-8327-366F2EAB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E640-E0BB-48C4-BCA9-91F80BD5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8BE-B812-4CF8-BA7C-B01F81C6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CF1-A0CF-4CA4-862F-6F723764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61F-E2BF-47EE-A630-919E768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82A2-7057-4826-865D-0479B918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0935-E885-4813-958E-BD0AAE2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F9B-6508-4104-838B-F3AD1F0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8DD2-AE01-4F5B-8E9D-DEEF567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1D94-1205-43A3-A6B5-9EA7C93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9204-89A6-4FD6-A8DF-E7DBE90B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2AAE-F94F-4D2E-AD7F-412ED4A5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902-C326-46D0-A30A-49470086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70F-4DE4-428F-994D-BDA3A9F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E5E-C89F-411B-B592-7B5E30A0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516-1C29-49D0-B678-A79E0F00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66E-5917-486C-A428-7E74A528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BEE-51FC-43CB-BBD3-971D4B5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7022-7487-4536-B75C-DBBDA74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D77-A339-4AE6-A4F5-D28A291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D7A1-CBE2-4696-81FB-B47AA337E9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824-23EE-4610-8731-FE81C2834E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250560" y="1120680"/>
            <a:ext cx="10178640" cy="21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STOICHIOMETRY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ass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Problem 1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 1.50 mol of KCl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decomposes. How many grams of O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will be produced? [k = 39, Cl = 35.5, O = 16]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2 KCl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171cf7"/>
                </a:solidFill>
                <a:latin typeface="Arial"/>
              </a:rPr>
              <a:t> 2 KCl + 3 O</a:t>
            </a:r>
            <a:r>
              <a:rPr b="1" lang="en-US" sz="4400" spc="-1" strike="noStrike" baseline="-25000">
                <a:solidFill>
                  <a:srgbClr val="171cf7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533760" y="6248520"/>
            <a:ext cx="60948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4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48520" y="8488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Three steps…Get Your Correct Answer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4382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Use mole rati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Get the answer in moles and th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Convert to Mass. [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Simple Arithmetic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Hello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If you are given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a mass</a:t>
            </a:r>
            <a:r>
              <a:rPr b="1" lang="en-US" sz="3200" spc="-1" strike="noStrike">
                <a:solidFill>
                  <a:srgbClr val="171cf7"/>
                </a:solidFill>
                <a:latin typeface="Comic Sans MS"/>
              </a:rPr>
              <a:t> in the problem, you will need to convert this to moles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first. O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66"/>
                </a:solidFill>
                <a:latin typeface="Arial"/>
              </a:rPr>
              <a:t>Let’s go!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 KCl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2 KCl + 3 O</a:t>
            </a:r>
            <a:r>
              <a:rPr b="1" lang="en-US" sz="4000" spc="-1" strike="noStrike" baseline="-25000">
                <a:solidFill>
                  <a:srgbClr val="171cf7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 3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1.50 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: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  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cf7"/>
                </a:solidFill>
                <a:latin typeface="Comic Sans MS"/>
              </a:rPr>
              <a:t>X = 2.25m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6633"/>
                </a:solidFill>
                <a:uFillTx/>
                <a:latin typeface="Comic Sans MS"/>
              </a:rPr>
              <a:t>Convert to m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.25 mol x 32.0 g/mol = 72.0 gra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Cool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ry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We want to produce 2.75 mol of KCl. How many grams of KCl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would be requir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l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3    :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KC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    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7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 = 2.75m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 mass: 2.75mol X 122.55 g/mo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337 grams </a:t>
            </a: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zooo zimple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8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Mass-Mass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blem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moles of the substance just solved for into gra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Just follow mass-mass problem to the penultimate level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9440" y="905760"/>
            <a:ext cx="7789320" cy="93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Mass-Volume</a:t>
            </a:r>
            <a:r>
              <a:rPr b="1" lang="en-US" sz="2400" spc="-1" strike="noStrike">
                <a:solidFill>
                  <a:srgbClr val="006666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6666"/>
                </a:solidFill>
                <a:latin typeface="Arial Black"/>
              </a:rPr>
              <a:t>Problem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 Black"/>
              </a:rPr>
              <a:t>Like thi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ere are four steps involved in solving these proble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ake sure you are working with a properly balanced eq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vert grams of the substance given in the problem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struct two ratios - one from the problem and one from the equation and set them equal. Solve for "x," which is usually found in the ratio from the proble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Convert moles of the substance just solved for into Volu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10440" y="11386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nversion of mole to 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volum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No of moles =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Molar volume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Can you remember a similar equat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5867280" y="4267080"/>
            <a:ext cx="2362320" cy="0"/>
          </a:xfrm>
          <a:prstGeom prst="line">
            <a:avLst/>
          </a:prstGeom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 Black"/>
              </a:rPr>
              <a:t>Molar</a:t>
            </a:r>
            <a:r>
              <a:rPr b="0" lang="en-US" sz="6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6600" spc="-1" strike="noStrike">
                <a:solidFill>
                  <a:srgbClr val="003366"/>
                </a:solidFill>
                <a:latin typeface="Arial Black"/>
              </a:rPr>
              <a:t>volume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The molar volume is the volume occupied by one mole of ideal gas at STP. Its value is: </a:t>
            </a:r>
            <a:r>
              <a:rPr b="1" lang="en-US" sz="4800" spc="-1" strike="noStrike">
                <a:solidFill>
                  <a:srgbClr val="ff5050"/>
                </a:solidFill>
                <a:latin typeface="Comic Sans MS"/>
              </a:rPr>
              <a:t>22.4dm</a:t>
            </a:r>
            <a:r>
              <a:rPr b="1" lang="en-US" sz="48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80520" y="2576160"/>
            <a:ext cx="7344360" cy="399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alculate the volume of carbon dioxide formed at STP in ‘dm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' by the complete thermal decomposition of 3.125 g of pure calcium carbonate (Relative atomic mass of Ca=40, C=12, O=16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luti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vert the mass to mo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olar mass of Ca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omic Sans MS"/>
              </a:rPr>
              <a:t>3 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40 + 12 + (16 x 3) = 100gmo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Comic Sans MS"/>
              </a:rPr>
              <a:t>-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Mole = mass/molar m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.125/100 = 0.03125m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stoichiometry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Stoichiometry is the quantitative study of reactants and products in a chemical reactio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s per the equati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ole ratio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  :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roblem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0.03125mol 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X = 0.03125mol  of C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Convert mole to volume [slide 17]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Volume = (</a:t>
            </a:r>
            <a:r>
              <a:rPr b="1" lang="en-US" sz="4400" spc="-1" strike="noStrike" baseline="-25000">
                <a:solidFill>
                  <a:srgbClr val="0000ff"/>
                </a:solidFill>
                <a:latin typeface="Comic Sans MS"/>
              </a:rPr>
              <a:t>0.03125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x 22.4)d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0.7dm</a:t>
            </a:r>
            <a:r>
              <a:rPr b="1" lang="en-US" sz="3200" spc="-1" strike="noStrike" baseline="30000">
                <a:solidFill>
                  <a:srgbClr val="ff5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472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666880" y="3057480"/>
            <a:ext cx="4043520" cy="447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You Should Expe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iven :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mount of reac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es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ow much of products can be 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xampl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 A + 2B           3C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Given 20.0 grams of A and sufficient B, how many grams of C can be produc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800600" y="4572000"/>
            <a:ext cx="838080" cy="0"/>
          </a:xfrm>
          <a:prstGeom prst="line">
            <a:avLst/>
          </a:prstGeom>
          <a:ln cap="sq" w="28440">
            <a:solidFill>
              <a:srgbClr val="00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you ne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610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You will need to 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ratio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molar mass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balancing and interpreting equations,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onversions between grams and mo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Note: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is type of problem is often called "mass-mass."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48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eps Involved in Solving Mass-Mass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ichiometry Probl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alance the chemical equation correct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given substance, convert the mass given to mol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 a molar proportion (two molar ratios set equal to each oth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ing the molar mass of the unknown substance, convert the moles just calculated to m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Mole Ratios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A mole ratio converts moles of one compound in a balanced chemical equation into moles of another compound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880" y="2361960"/>
            <a:ext cx="9144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ction between magnesium and oxygen to form magnesium oxide. ( firework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Mg(s) + O2(g)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2 MgO(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ole Rati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3548160" y="4267080"/>
            <a:ext cx="990360" cy="0"/>
          </a:xfrm>
          <a:prstGeom prst="line">
            <a:avLst/>
          </a:prstGeom>
          <a:ln cap="sq"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)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+ 3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---&gt; 2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Write the mole ratios for N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and N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to 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) A can of butane lighter fluid contains 1.20 moles of butane (C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). Calculate the number of moles of carbon dioxide given off when this butane is burn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Practice Problem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Mole-Mole Problems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9067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ing the  practice question 2) abov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quation of re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13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    10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le rat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4      [ bases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2          :                  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[ problem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cross-multiplication, X = 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4.8 mo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f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iven 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886120" y="3429000"/>
            <a:ext cx="79056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09:52:20Z</dcterms:created>
  <dc:creator>Science Dept</dc:creator>
  <dc:description/>
  <dc:language>en-US</dc:language>
  <cp:lastModifiedBy>RomaK</cp:lastModifiedBy>
  <dcterms:modified xsi:type="dcterms:W3CDTF">2015-09-02T06:02:56Z</dcterms:modified>
  <cp:revision>52</cp:revision>
  <dc:subject/>
  <dc:title>STOICHIOMETRY</dc:title>
</cp:coreProperties>
</file>