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D46E-5D9A-4532-A495-9292F5AA2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1.50 mol of KClO3 decomposes. How many grams of O2 will be produced? [k = 39, Cl = 35.5, O = 1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teps…Get Your 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the answer in moles and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. [Simple Arithmeti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given a mass in the problem, you will need to convert this to moles first. 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5 mol x 32.0 g/mol = 72.0 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produce 2.75 mol of KCl. How many grams of KClO3 would be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O3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7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ss: 2.75mol X 122.55 g/m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 grams zooo zimp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mass-mass problem to the penultimat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Volum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mol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of moles =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remember a similar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ar volume is the volume occupied by one mole of ideal gas at STP. Its value is: 22.4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lculate the volume of carbon dioxide formed at STP in ‘dm3' by the complete thermal decomposition of 3.125 g of pure calcium carbonate (Relative atomic mass of Ca=40, C=12, O=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luti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the mass to mo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ar mass of CaCO3 = 40 + 12 + (16 x 3) = 100gmol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e = mass/mola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125/100 = 0.031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toichiomet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is the quantitative study of reactants and products in a chemical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er the equ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3125mo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03125mol  o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 to volume [slide 1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(0.03125 x 22.4)d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0.7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Should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: Amount of reac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much of products can be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A + 2B           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0.0 grams of A and sufficient B, how many grams of C can be pro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ratio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mass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and interpreting equations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between grams and m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is type of problem is often called "mass-mas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volved in Solving Mass-Mass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 chemical equation corre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given substance, convert the mass given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molar proportion (two molar ratios set equal to each oth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unknown substance, convert the moles just calculated to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 ratio converts moles of one compound in a balanced chemical equation into moles of another comp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between magnesium and oxygen to form magnesium oxide. ( firewor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g(s) + O2(g)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MgO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N2 + 3 H2 ---&gt; 2 NH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mole ratios for N2 to H2 and NH3 to 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 can of butane lighter fluid contains 1.20 moles of butane (C4H10). Calculate the number of moles of carbon dioxide given off when this butane is bur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ol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 practice question 2) abo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4H10  +  13O2                8CO2    +    10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4H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4      [ bas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         :                  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[ probl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cross-multiplication, X = 4.8 mols of CO2 given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572-4146-44AC-ACBC-8AE4834B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1B8-73E2-47F2-820F-0254AF59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DE8-6C07-4F59-B311-334639EF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F41-A331-41F1-83B2-8D820999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D377-4E36-4F6A-9AC7-8181D0A8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EFFF-12F4-4A8E-B0FC-64B9C475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08D3-ECC4-4BFD-845A-38932F28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99E6-F121-47AB-BBE9-37F44685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85B6-CCD1-411B-8E04-22A7096A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F38-F911-4F33-A90A-61F3E141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0C55-CC85-4E37-944E-BBD7CD84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FAA-6E26-4ACC-B42C-6DAFA12C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E2EE-B7B7-4CD6-A28A-66494682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E942-6C62-4492-909C-B80C82D2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8E44-893D-4B39-92AB-C77F12D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4556-5BA2-49F4-8A71-A8694EA7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E9BA-7130-4665-8B96-8CA1B5B9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5AC-6296-4FB8-8E3F-638975BB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BC8-A61F-42C6-9AB4-44783BA3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A19-C469-4A2A-98CD-FC8A4483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FBE-E816-4CF3-BAFD-76D274AC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CA9-97A1-4C56-961E-0ECB7926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55C-9DD7-4325-BA4F-5CBC068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125-6DAA-4E1D-AC5E-4E033F3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172B-6C06-4E6A-9A42-6E0A939642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1663-0026-42C6-851E-D1AB05C942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250560" y="1120680"/>
            <a:ext cx="10178640" cy="21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STOICHIOMETRY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ass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 1.50 mol of KCl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decomposes. How many grams of 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ill be produced? [k = 39, Cl = 35.5, O = 16]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2 KCl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2 KCl + 3 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533760" y="6248520"/>
            <a:ext cx="60948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Three steps…Get Your Correct Answe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Use mole rati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Get the answer in moles and th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Convert to Mass. [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Simple Arithmetic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Hello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If you are given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a mass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 in the problem, you will need to convert this to moles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first. O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Arial"/>
              </a:rPr>
              <a:t>Let’s go!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 KCl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2 KCl + 3 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 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.50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X = 2.25m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Comic Sans MS"/>
              </a:rPr>
              <a:t>Convert to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.25 mol x 32.0 g/mol = 72.0 gra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Cool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ry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e want to produce 2.75 mol of KCl. How many grams of KCl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would be requir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l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3    :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    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= 2.75m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 mass: 2.75mol X 122.55 g/mo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337 grams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zooo zimple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ss-Mass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blem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moles of the substance just solved for into gra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Just follow mass-mass problem to the penultimate level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9440" y="905760"/>
            <a:ext cx="778932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Mass-Volume</a:t>
            </a:r>
            <a:r>
              <a:rPr b="1" lang="en-US" sz="24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Problem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 Black"/>
              </a:rPr>
              <a:t>Like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Convert moles of the substance just solved for into Vol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0440" y="11386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nversion of mole to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lum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No of moles =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Molar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Can you remember a similar equat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867280" y="4267080"/>
            <a:ext cx="23623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 Black"/>
              </a:rPr>
              <a:t>Molar</a:t>
            </a:r>
            <a:r>
              <a:rPr b="0" lang="en-US" sz="6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3366"/>
                </a:solidFill>
                <a:latin typeface="Arial Black"/>
              </a:rPr>
              <a:t>volum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 molar volume is the volume occupied by one mole of ideal gas at STP. Its value is: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22.4dm</a:t>
            </a:r>
            <a:r>
              <a:rPr b="1" lang="en-US" sz="48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80520" y="2576160"/>
            <a:ext cx="7344360" cy="399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alculate the volume of carbon dioxide formed at STP in ‘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' by the complete thermal decomposition of 3.125 g of pure calcium carbonate (Relative atomic mass of Ca=40, C=12, O=16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vert the mass to mo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ar mass of Ca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0 + 12 + (16 x 3) = 100gmo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le = mass/molar m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125/100 = 0.03125m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stoichiometry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toichiometry is the quantitative study of reactants and products in a chemical reactio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 per the equati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ole ratio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roblem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0.03125mol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X = 0.03125mol  of 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Convert mole to volume [slide 1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Volume = (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Comic Sans MS"/>
              </a:rPr>
              <a:t>0.03125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x 22.4)d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0.7dm</a:t>
            </a:r>
            <a:r>
              <a:rPr b="1" lang="en-US" sz="32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666880" y="3057480"/>
            <a:ext cx="4043520" cy="44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You Should Ex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iven :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mount of reac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ow much of products can be 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ampl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 A + 2B           3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iven 20.0 grams of A and sufficient B, how many grams of C can be produc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800600" y="4572000"/>
            <a:ext cx="838080" cy="0"/>
          </a:xfrm>
          <a:prstGeom prst="line">
            <a:avLst/>
          </a:prstGeom>
          <a:ln cap="sq"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 will need to 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ratio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mass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lancing and interpreting equations,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versions between grams and mo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is type of problem is often called "mass-mass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s Involved in Solving Mass-Mass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ichiometry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ance the chemical equation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given substance, convert the mass given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 a molar proportion (two molar ratios set equal to each oth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unknown substance, convert the moles just calculated to m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Mole Ratios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mole ratio converts moles of one compound in a balanced chemical equation into moles of another compound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ion between magnesium and oxygen to form magnesium oxide. ( firework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g(s) + O2(g)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2 MgO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le Rati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548160" y="4267080"/>
            <a:ext cx="990360" cy="0"/>
          </a:xfrm>
          <a:prstGeom prst="line">
            <a:avLst/>
          </a:prstGeom>
          <a:ln cap="sq"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)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+ 3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---&gt; 2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rite the mole ratios for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and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) A can of butane lighter fluid contains 1.20 moles of butane (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). Calculate the number of moles of carbon dioxide given off when this butane is burn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ol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9067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the  practice question 2) abo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ation of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1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  10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l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4      [ base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2          :                  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[ problem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cross-multiplication, X =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4.8 m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886120" y="3429000"/>
            <a:ext cx="79056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09:52:20Z</dcterms:created>
  <dc:creator>Science Dept</dc:creator>
  <dc:description/>
  <dc:language>en-US</dc:language>
  <cp:lastModifiedBy>RomaK</cp:lastModifiedBy>
  <dcterms:modified xsi:type="dcterms:W3CDTF">2015-09-02T06:02:56Z</dcterms:modified>
  <cp:revision>52</cp:revision>
  <dc:subject/>
  <dc:title>STOICHIOMETRY</dc:title>
</cp:coreProperties>
</file>