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RESOURCE 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ALI. BLL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F172-09B0-4744-B4AB-A6CADD520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S &amp;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UTION OF SODIUM CHLORID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 a homogeneous mixture containing particles the size of a typical ion or covalent molecule. (0.1–2.0 nm in dia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: a homogeneous mixture containing particles with diameters in the range 2–5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 are mixtures with even larger particles, but they are not considered true solutions because they separate upon st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: the dissolved substance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: the major component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is saturated when no additional solute can be dissolved at a particular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persaturated solution can form when more than the equilibrium amount of solute is dissolved at an elevated temperature, and then the supersaturated solution is slowly coo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saturated solution is formed when more of the solute can dissolve in it at a particular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solute per unit solvent required to form a saturated solution is called the solute's Solu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quids are completely soluble in each other they are said to be Misc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is effected by Temperature. With increase in temperature solubility of most of the substances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gases become less soluble in water as the temperatur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GASE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OF COMMON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200-A4D5-431C-9060-57403E2A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B925-6E47-4FCD-BCC3-77EECA94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4E6-8F1F-4954-8D6F-6DECA69F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A5F-C527-4377-BEFE-B0188335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799B6-A645-4485-A06E-AA79EA9B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C5BFE-78D9-443E-B511-8CABE070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9740D-ED23-46B0-A48B-CC9ABAC9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76538-5410-4E15-B492-7F877E81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B2988-79AC-4406-A84E-523878CC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5AD51-662C-437C-9D32-1BE2E392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B99FA-834C-4AE2-8634-04E2B1BE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78A-2FEE-401D-9AFC-60E746A1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AD51F-FD65-42D9-BB8C-C5FF800F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D4111-427A-4C06-B6AB-2DBD013A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A090B-46AA-43D9-990D-B4D2A19F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2BAE2-50CF-4AFA-A694-E5496B57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05743-75BE-4F6E-BD46-D4FADB7B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F18-B22A-4EAF-A6C3-674DECAD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D87-0E97-4AD4-99EE-FD09F214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204-8106-41D4-BFF7-C7EB1FF6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3B4-C926-4F81-9C96-A4D1C6B1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C8C-03FB-4602-AFEB-38A2419F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792-79BD-4439-82F6-DF98125D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E79-0484-4AD2-83E4-20F170CC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CA90-1C3A-47F3-8661-CFC1893265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DE22-5468-426C-A63A-95EE2C89D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3E0C-8AD1-4626-9EEA-1AF22E48FB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92B3-7F8D-4507-B9F7-215ACCE7928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SOLUTIONS &amp; SOLUBILITIES</a:t>
            </a:r>
            <a:endParaRPr b="0" lang="en-US" sz="40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61189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7AD7-30BF-4CBF-B5D9-BA10D88C1A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-1-5-"/>
          <p:cNvPicPr/>
          <p:nvPr/>
        </p:nvPicPr>
        <p:blipFill>
          <a:blip r:embed="rId1"/>
          <a:srcRect l="0" t="9828" r="0" b="0"/>
          <a:stretch/>
        </p:blipFill>
        <p:spPr>
          <a:xfrm>
            <a:off x="1600200" y="1143000"/>
            <a:ext cx="6161040" cy="5040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ISSOLUTION OF SODIUM CHLORIDE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27A4-112E-4289-9B42-BD296857CE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DONATED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UHAMMAD 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o www.worldofteaching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9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0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21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216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C454-4094-47F9-8DA6-A656A125BD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TERMS 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ion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the size of a typical ion or covalent molecule. (0.1–2.0 nm in diame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Colloid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with diameters in the range 2–500 n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uspensions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re mixtures with even larger particles, but they are not considered true solutions because they separate upon stan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e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dissolved substance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vent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major component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4714-33E0-4EA6-B6F3-D4EB8F88FF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solution i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when no additional solute can be dissolved at a particular tempera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upersaturated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tion can form when more than the equilibrium amount of solute is dissolved at an elevated temperature, and then the supersaturated solution is slowly coo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n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Un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solution is formed when more of the solute can dissolve in it at a particular 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  <p:sndAc>
      <p:stSnd>
        <p:snd r:embed="rId1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023D-6E8D-468D-B6C4-EA92ECED88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KINDS OF SOLUTION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02" name="Picture 4" descr="table11_1"/>
          <p:cNvPicPr/>
          <p:nvPr/>
        </p:nvPicPr>
        <p:blipFill>
          <a:blip r:embed="rId1"/>
          <a:srcRect l="0" t="12549" r="0" b="0"/>
          <a:stretch/>
        </p:blipFill>
        <p:spPr>
          <a:xfrm>
            <a:off x="228600" y="1447920"/>
            <a:ext cx="8915400" cy="47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5C53-7A8C-42C4-9865-C07E37D286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380880" y="304920"/>
          <a:ext cx="845820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BB85-4621-4F35-B499-19ECB5BDC7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SOLUBILITY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The amount of solute per unit solvent required to form a saturated solution is called the solute'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olu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When two liquids are completely soluble in each other they are said to be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Miscible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bility is effected by Temperature. With increase in temperature solubility of most of the substances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Most gases become less soluble in water as the temperature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0D06-284C-4CDA-BAF6-8DB07FF065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SALT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5" name="Picture 4" descr="aabjvkya"/>
          <p:cNvPicPr/>
          <p:nvPr/>
        </p:nvPicPr>
        <p:blipFill>
          <a:blip r:embed="rId1"/>
          <a:stretch/>
        </p:blipFill>
        <p:spPr>
          <a:xfrm>
            <a:off x="914400" y="1143000"/>
            <a:ext cx="7450200" cy="50799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EE28-0F08-4F6A-8117-72D7E97D67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GASE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9" name="Picture 4" descr="aabjvkza"/>
          <p:cNvPicPr/>
          <p:nvPr/>
        </p:nvPicPr>
        <p:blipFill>
          <a:blip r:embed="rId1"/>
          <a:stretch/>
        </p:blipFill>
        <p:spPr>
          <a:xfrm>
            <a:off x="1295280" y="1066680"/>
            <a:ext cx="678996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304920" y="5562720"/>
            <a:ext cx="883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F44F-444D-4CEE-9A52-5280445957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OLUBILITY OF COMMON IONS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0" t="4317" r="0" b="0"/>
          <a:stretch/>
        </p:blipFill>
        <p:spPr>
          <a:xfrm>
            <a:off x="457200" y="1295280"/>
            <a:ext cx="8305920" cy="4572000"/>
          </a:xfrm>
          <a:prstGeom prst="rect">
            <a:avLst/>
          </a:prstGeom>
          <a:ln w="38160">
            <a:solidFill>
              <a:srgbClr val="ff00ff"/>
            </a:solidFill>
            <a:prstDash val="lgDashDot"/>
            <a:miter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9:07:06Z</dcterms:created>
  <dc:creator>MOHAMMAD ALI</dc:creator>
  <dc:description/>
  <dc:language>en-US</dc:language>
  <cp:lastModifiedBy>RomaK</cp:lastModifiedBy>
  <dcterms:modified xsi:type="dcterms:W3CDTF">2015-09-02T06:02:49Z</dcterms:modified>
  <cp:revision>34</cp:revision>
  <dc:subject/>
  <dc:title>SOLUTIONS &amp; SOLUBILITIES</dc:title>
</cp:coreProperties>
</file>