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4F8D-E91B-403B-9111-8048922DEB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are 3 types of rock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, metamorphic and sedimentary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rocks have air bubbles because of the way they are form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cks such as Millstone Grit have these properties and are otherwise known as Sedimentary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ther rocks don’t have air bubbles, these tend to have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rystals have a more jagged form (meaning they fit together more easily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is means there’s less air bubbles therefore its a denser roc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c and Igneous rocks have these properti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3 types of r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, metamorphic and sediment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ocks have air bubbles because of the way they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such as Millstone Grit have these properties and are otherwise known as Sedimentary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ocks don’t have air bubbles, these tend to have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have a more jagged form (meaning they fit together more easi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ere’s less air bubbles therefore its a denser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c and Igneous rocks have thes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sm means "changed form"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anges occur because of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eat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ssur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sm means "changed form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ccur because of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w metamorphic rocks chang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y a sedimentary rock is pushed down towards the earth’s man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magma heats it up and changes its structu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lso the pressure can take part in this proces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pressure comes from rocks above and they get pushed dow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 the texture, mineral structure and physical properties all chang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wever, they have the same because they have the same chemical compound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etamorphic rocks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 a sedimentary rock is pushed down towards the earth’s man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ma heats it up and changes its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the pressure can take part in thi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comes from rocks above and they get pushed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texture, mineral structure and physical properties al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have the same because they have the same chemical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dimentary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or thousands, even millions of years, little pieces of our earth have been erod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roken down and worn away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y wind and wate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se little bits of our earth are washed downstream where they settle to the bottom of the rivers, lakes, and ocean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yer after layer of eroded earth is deposited on top of each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ousands, even millions of years, little pieces of our earth have been ero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down and worn aw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ind and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ittle bits of our earth are washed downstream where they settle to the bottom of the rivers, lakes, and oce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after layer of eroded earth is deposited on top of ea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ntinued 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se layers are pressed down more and more through time, until the bottom layers slowly turn into rock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weight of all the layers squeezes out most of the water from the sedimen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emicals in the water cement the bits of sand and mud togeth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new sedimentary rock has formed 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ayers are pressed down more and more through time, until the bottom layers slowly turn into ro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ight of all the layers squeezes out most of the water from the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in the water cement the bits of sand and mu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sedimentary rock has formed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 rocks are formed 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en molten rock (magma) is pushed up from beneath the earth’s cru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t cools to form solid rock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contain crystals and they are har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are two types of igneous roc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trusive and extrus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 rocks are form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lten rock (magma) is pushed up from beneath the earth’s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ols to form solid ro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crystals and they are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igneous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sive and extru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ntinued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trusive igneous rocks have cooled slowly in the earth’s cru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have large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usive igneous rocks cool quickl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have small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sive igneous rocks have cooled slowly in the earth’s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large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usive igneous rocks cool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small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sented by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ntoinette 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Kaily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oinett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ily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275-6A8A-4548-9C03-70A17108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BA2-A477-4460-B45B-E764D180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E58-F9AC-4935-836B-BF1BE156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B2FD-8AA9-410F-893D-87D37231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CC53-AC84-4127-9557-F59B1D09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0467-D51F-4A9A-9F08-C224899F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1571-044A-4D3A-AE9F-E9A4CCB4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0E3E-E08E-4CEA-A5B3-A46F07EA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B3AB-4C7F-4A21-8A20-3CF52305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D133-5579-489F-9BB6-CB5DF92D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B6E0-B52D-4ECB-B5CA-CDEDA341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DD9-132E-43C8-9D05-33C1F907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0D0D-ECCA-4353-8856-F432F56C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70D2-7063-4631-8C52-8FFAD981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89CC-1CA2-4F01-AFED-0648423E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7F3A-9D92-42D8-85B0-B7FD60C4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B9C9-1E29-48E9-B0B8-BBC98343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91F-3DFE-449F-AF4A-DBCEA868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715-E625-4B15-A439-D168FC71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9D8-F7DC-47D0-82FB-04455B41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0BC-EDF4-4940-A0D1-14B831FF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4AE7-E3FB-431F-9A6E-0B1032B5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2FF-C2F8-4639-B19A-B1970E7F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322-A021-4DB4-BA40-5F023165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8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9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10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11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21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22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23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DFC7-76E2-4D6F-AD94-668D5B9C8B4A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5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6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7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8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1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2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4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7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8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19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F6C6-9396-48CE-88E5-B1EA50AC6375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Rock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There are </a:t>
            </a:r>
            <a:r>
              <a:rPr b="1" lang="en-GB" sz="2000" spc="-1" strike="noStrike">
                <a:solidFill>
                  <a:srgbClr val="eaeaea"/>
                </a:solidFill>
                <a:latin typeface="Kristen ITC"/>
              </a:rPr>
              <a:t>3 types</a:t>
            </a: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 of rock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Igneous, metamorphic and sedimentary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Some rocks have air bubbles because of the way they are formed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 </a:t>
            </a: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Rocks such as Millstone Grit have these properties and are otherwise known as Sedimentary Rock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Other rocks don’t have air bubbles, these tend to have crystal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Crystals have a more jagged form (meaning they fit together more easily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This means there’s less air bubbles therefore its a denser roc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Metamorphic and Igneous rocks have these properti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Metamorph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Metamorphism means "changed form"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 Changes occur because of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Hea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Pressur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1034" descr="meta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How metamorphic rocks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Say a sedimentary rock is pushed down towards the earth’s mant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 magma heats it up and changes its stru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Also the pressure can take part in this proces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 pressure comes from rocks above and they get pushed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So the texture, mineral structure and physical properties all ch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However, they have the same because they have the same chemical compound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Sedimentary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For thousands, even millions of years, little pieces of our earth have been erod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broken down and worn away</a:t>
            </a:r>
            <a:br>
              <a:rPr sz="2000"/>
            </a:b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by wind and wate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These little bits of our earth are washed downstream where they settle to the bottom of the rivers, lakes, and oceans</a:t>
            </a:r>
            <a:r>
              <a:rPr b="1" lang="en-GB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Layer after layer of eroded earth is deposited on top of each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5704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704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9" descr="SEDIANIM.GIF (205851 bytes)"/>
          <p:cNvPicPr/>
          <p:nvPr/>
        </p:nvPicPr>
        <p:blipFill>
          <a:blip r:embed="rId1"/>
          <a:stretch/>
        </p:blipFill>
        <p:spPr>
          <a:xfrm>
            <a:off x="901800" y="1981080"/>
            <a:ext cx="337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ntinued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These layers are pressed down more and more through time, until the bottom layers slowly turn into rock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The weight of all the layers squeezes out most of the water from the sedi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Chemicals in the water cement the bits of sand and mud toge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A new sedimentary rock has formed 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Kristen ITC"/>
              </a:rPr>
              <a:t>Igneous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Igneous rocks are formed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When molten rock (magma) is pushed up from beneath the earth’s cru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It cools to form solid rock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eaeaea"/>
                </a:solidFill>
                <a:uFillTx/>
                <a:latin typeface="Kristen ITC"/>
              </a:rPr>
              <a:t>Proper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y contain crystals and they are h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re are two types of igneous ro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Kristen ITC"/>
              </a:rPr>
              <a:t>Intrusive and extrusi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Continued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Intrusive igneous rocks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cooled slowly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in the earth’s cru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y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large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cry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Extrusive igneous rocks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cool quick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y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small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cry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8" descr="granite1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resented by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Kristen ITC"/>
              </a:rPr>
              <a:t>Antoinette a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Kristen ITC"/>
              </a:rPr>
              <a:t>Kaily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8:56:49Z</dcterms:created>
  <dc:creator>A User</dc:creator>
  <dc:description/>
  <dc:language>en-US</dc:language>
  <cp:lastModifiedBy>RomaK</cp:lastModifiedBy>
  <dcterms:modified xsi:type="dcterms:W3CDTF">2015-09-02T06:02:30Z</dcterms:modified>
  <cp:revision>12</cp:revision>
  <dc:subject/>
  <dc:title>Rocks</dc:title>
</cp:coreProperties>
</file>