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32E3-0CFA-41D1-98CE-A00248C2F4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162-779D-4D35-8690-B3650C0D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B1C-7248-490C-8431-D16A3A10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2E8B-C22E-4C31-B22C-0757AA03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467-8A10-49DD-B8D0-960A22AD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FD3-7C19-4664-B69F-FDBFED11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FD0-9087-431B-B694-83D4B082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8B8-7407-4A67-A5A7-614CADFF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A058-892D-44A9-ACB0-853135C0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885-3F66-4DEF-B258-88FA7736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E4A-359C-4AFE-9F8B-BFD97371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98C-DF40-4FFB-92BD-730C8B62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C23-9A8D-461D-9D3F-FA64FF75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C5D6-A2E4-4701-B96F-A2D8EE7C8C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Redox Reac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03640" y="378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50920" y="234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57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C in C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2124000" y="4292640"/>
            <a:ext cx="3168720" cy="220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Mg in MgCl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1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1"/>
          <p:cNvSpPr/>
          <p:nvPr/>
        </p:nvSpPr>
        <p:spPr>
          <a:xfrm>
            <a:off x="179280" y="3645000"/>
            <a:ext cx="39610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j0288976"/>
          <p:cNvPicPr/>
          <p:nvPr/>
        </p:nvPicPr>
        <p:blipFill>
          <a:blip r:embed="rId1"/>
          <a:stretch/>
        </p:blipFill>
        <p:spPr>
          <a:xfrm>
            <a:off x="3247920" y="4313160"/>
            <a:ext cx="2260800" cy="14922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5"/>
          <p:cNvSpPr/>
          <p:nvPr/>
        </p:nvSpPr>
        <p:spPr>
          <a:xfrm>
            <a:off x="755640" y="299736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-324000" y="3860640"/>
            <a:ext cx="4211640" cy="28101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437080" y="306864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5329080" y="3716280"/>
            <a:ext cx="4211640" cy="28098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if we look at some examples , we get the following name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manganate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Cl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chlorate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sphorus(V) oxydichloro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dihydrogenphosphate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dichromate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948360" y="4005360"/>
            <a:ext cx="2195640" cy="24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any 3 in Question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thofjuly-1_e0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6012000"/>
          </a:xfrm>
          <a:prstGeom prst="rect">
            <a:avLst/>
          </a:prstGeom>
          <a:ln w="0">
            <a:noFill/>
          </a:ln>
        </p:spPr>
      </p:pic>
      <p:pic>
        <p:nvPicPr>
          <p:cNvPr id="165" name="Chee1673.wav" descr=""/>
          <p:cNvPicPr/>
          <p:nvPr/>
        </p:nvPicPr>
        <p:blipFill>
          <a:blip r:embed="rId2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258920" y="1989000"/>
            <a:ext cx="66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Comic Sans MS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612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4 Experi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urning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pper in silver nitrat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lorine solution and potassium iodid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ploding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50920" y="4221000"/>
            <a:ext cx="8893080" cy="2592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2Mg(s) + O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2MgO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078709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052640"/>
            <a:ext cx="1446120" cy="2152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1116000" y="144360"/>
            <a:ext cx="3456000" cy="1197000"/>
          </a:xfrm>
          <a:prstGeom prst="cloudCallout">
            <a:avLst>
              <a:gd name="adj1" fmla="val -52754"/>
              <a:gd name="adj2" fmla="val 34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354560" y="2565360"/>
            <a:ext cx="30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995480" y="328464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g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Mg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835280" y="509436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  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324000" y="3789360"/>
            <a:ext cx="2663640" cy="280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885080" y="357192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356000" y="530064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0" y="342900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34920" y="522936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(s) + 2Ag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+ 2Ag(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Ag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9144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Cu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88976"/>
          <p:cNvPicPr/>
          <p:nvPr/>
        </p:nvPicPr>
        <p:blipFill>
          <a:blip r:embed="rId1"/>
          <a:stretch/>
        </p:blipFill>
        <p:spPr>
          <a:xfrm>
            <a:off x="5148360" y="1628640"/>
            <a:ext cx="2260440" cy="1492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1042920" y="1413000"/>
            <a:ext cx="3529080" cy="107928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068720" y="530064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77080" y="378936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116000" y="1484280"/>
            <a:ext cx="3529080" cy="107964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79280" y="3645000"/>
            <a:ext cx="3168720" cy="863640"/>
          </a:xfrm>
          <a:prstGeom prst="rightArrow">
            <a:avLst>
              <a:gd name="adj1" fmla="val 50000"/>
              <a:gd name="adj2" fmla="val 9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79280" y="5084640"/>
            <a:ext cx="3059280" cy="863640"/>
          </a:xfrm>
          <a:prstGeom prst="rightArrow">
            <a:avLst>
              <a:gd name="adj1" fmla="val 50000"/>
              <a:gd name="adj2" fmla="val 885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oxidation number of an atom in an element is zero.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.g. Mg in Mg, O in O</a:t>
            </a:r>
            <a:r>
              <a:rPr b="1" lang="en-GB" sz="3200" spc="-1" strike="noStrike" baseline="-25000">
                <a:solidFill>
                  <a:srgbClr val="ffffff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41:51Z</dcterms:created>
  <dc:creator>Administrator</dc:creator>
  <dc:description/>
  <dc:language>en-US</dc:language>
  <cp:lastModifiedBy>RomaK</cp:lastModifiedBy>
  <dcterms:modified xsi:type="dcterms:W3CDTF">2015-09-02T06:01:26Z</dcterms:modified>
  <cp:revision>14</cp:revision>
  <dc:subject/>
  <dc:title>Redox Reactions.</dc:title>
</cp:coreProperties>
</file>