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CF0C-891F-4491-A008-40AD865C9E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24C-11CA-487F-8E6F-EFFA8147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D62-530D-4739-A2DA-4A916351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038-012E-490C-98FB-4B1EA054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BCC-01F2-4518-BCA0-E288440C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6C7-A4E7-4200-A7AC-101A2EBC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C56-CF09-40FC-9D73-0A7D2DBA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A08-76C5-4AFB-B5F6-E6936C53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8A52-1FB4-49D4-A4F9-3DE1E433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DBB3-FCE2-4A9E-A781-03E97E53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2597-DE63-4911-9B7C-15373EA2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683D-5FB0-476B-836B-801EF22F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E5D-B528-4143-93F5-02D896A4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0C7E-0137-4D40-9EE3-28FBD49CCB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Redox Reac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203640" y="378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50920" y="234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57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C in C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8"/>
          <p:cNvSpPr/>
          <p:nvPr/>
        </p:nvSpPr>
        <p:spPr>
          <a:xfrm>
            <a:off x="2124000" y="4292640"/>
            <a:ext cx="3168720" cy="2205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Mg in MgCl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21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21"/>
          <p:cNvSpPr/>
          <p:nvPr/>
        </p:nvSpPr>
        <p:spPr>
          <a:xfrm>
            <a:off x="179280" y="3645000"/>
            <a:ext cx="396108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j0288976"/>
          <p:cNvPicPr/>
          <p:nvPr/>
        </p:nvPicPr>
        <p:blipFill>
          <a:blip r:embed="rId1"/>
          <a:stretch/>
        </p:blipFill>
        <p:spPr>
          <a:xfrm>
            <a:off x="3247920" y="4313160"/>
            <a:ext cx="2260800" cy="14922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5"/>
          <p:cNvSpPr/>
          <p:nvPr/>
        </p:nvSpPr>
        <p:spPr>
          <a:xfrm>
            <a:off x="755640" y="299736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-324000" y="3860640"/>
            <a:ext cx="4211640" cy="28101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5437080" y="306864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5329080" y="3716280"/>
            <a:ext cx="4211640" cy="28098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7640" y="1483920"/>
            <a:ext cx="7777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if we look at some examples , we get the following names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manganate(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Cl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chlorate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sphorus(V) oxydichloroflu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dihydrogenphosphate(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dichromate(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6948360" y="4005360"/>
            <a:ext cx="2195640" cy="2448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any 3 in Question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4thofjuly-1_e0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6012000"/>
          </a:xfrm>
          <a:prstGeom prst="rect">
            <a:avLst/>
          </a:prstGeom>
          <a:ln w="0">
            <a:noFill/>
          </a:ln>
        </p:spPr>
      </p:pic>
      <p:pic>
        <p:nvPicPr>
          <p:cNvPr id="165" name="Chee1673.wav" descr=""/>
          <p:cNvPicPr/>
          <p:nvPr/>
        </p:nvPicPr>
        <p:blipFill>
          <a:blip r:embed="rId2"/>
          <a:stretch/>
        </p:blipFill>
        <p:spPr>
          <a:xfrm>
            <a:off x="838836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1258920" y="1989000"/>
            <a:ext cx="662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Comic Sans MS"/>
              </a:rPr>
              <a:t>Well do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612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4 Experi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urning 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pper in silver nitrat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lorine solution and potassium iodid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ploding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50920" y="4221000"/>
            <a:ext cx="8893080" cy="2592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41264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2Mg(s) + O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2MgO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j0078709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052640"/>
            <a:ext cx="1446120" cy="21524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/>
          <p:cNvSpPr/>
          <p:nvPr/>
        </p:nvSpPr>
        <p:spPr>
          <a:xfrm>
            <a:off x="1116000" y="144360"/>
            <a:ext cx="3456000" cy="1197000"/>
          </a:xfrm>
          <a:prstGeom prst="cloudCallout">
            <a:avLst>
              <a:gd name="adj1" fmla="val -52754"/>
              <a:gd name="adj2" fmla="val 34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354560" y="2565360"/>
            <a:ext cx="30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995480" y="328464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g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Mg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835280" y="509436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  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324000" y="3789360"/>
            <a:ext cx="2663640" cy="2808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885080" y="357192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356000" y="530064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"/>
          <p:cNvSpPr/>
          <p:nvPr/>
        </p:nvSpPr>
        <p:spPr>
          <a:xfrm>
            <a:off x="0" y="342900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34920" y="522936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(s) + 2Ag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Cu(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+ 2Ag(s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Ag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91440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Cu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j0288976"/>
          <p:cNvPicPr/>
          <p:nvPr/>
        </p:nvPicPr>
        <p:blipFill>
          <a:blip r:embed="rId1"/>
          <a:stretch/>
        </p:blipFill>
        <p:spPr>
          <a:xfrm>
            <a:off x="5148360" y="1628640"/>
            <a:ext cx="2260440" cy="14925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/>
          <p:cNvSpPr/>
          <p:nvPr/>
        </p:nvSpPr>
        <p:spPr>
          <a:xfrm>
            <a:off x="1042920" y="1413000"/>
            <a:ext cx="3529080" cy="107928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068720" y="530064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877080" y="378936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116000" y="1484280"/>
            <a:ext cx="3529080" cy="107964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179280" y="3645000"/>
            <a:ext cx="3168720" cy="863640"/>
          </a:xfrm>
          <a:prstGeom prst="rightArrow">
            <a:avLst>
              <a:gd name="adj1" fmla="val 50000"/>
              <a:gd name="adj2" fmla="val 91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179280" y="5084640"/>
            <a:ext cx="3059280" cy="863640"/>
          </a:xfrm>
          <a:prstGeom prst="rightArrow">
            <a:avLst>
              <a:gd name="adj1" fmla="val 50000"/>
              <a:gd name="adj2" fmla="val 885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6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8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oxidation number of an atom in an element is zero.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.g. Mg in Mg, O in O</a:t>
            </a:r>
            <a:r>
              <a:rPr b="1" lang="en-GB" sz="3200" spc="-1" strike="noStrike" baseline="-25000">
                <a:solidFill>
                  <a:srgbClr val="ffffff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41:51Z</dcterms:created>
  <dc:creator>Administrator</dc:creator>
  <dc:description/>
  <dc:language>en-US</dc:language>
  <cp:lastModifiedBy>RomaK</cp:lastModifiedBy>
  <dcterms:modified xsi:type="dcterms:W3CDTF">2015-09-02T06:01:26Z</dcterms:modified>
  <cp:revision>14</cp:revision>
  <dc:subject/>
  <dc:title>Redox Reactions.</dc:title>
</cp:coreProperties>
</file>