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EE95-1886-4BB4-9223-D058F04F57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ox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C in CO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Mg in MgCl2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 compound add up to zero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3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O4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S in S2-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s of  atoms in an ion add up to the charge on the ion.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state of N in NH4+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we look at some examples , we get the following na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MnO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manganate(V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Cl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lorate(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l2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us(V) oxydichlorofluo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H2PO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dihydrogenphosphate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Cr2O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dichromate(V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any 3 in Question 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don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Experi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in silver nitrat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lorine solution and potassium iodide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oding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g(s) + O2(g)  2MgO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          Mg2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           O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(s) + 2AgNO3(aq)  Cu(NO3 )2(aq) + 2Ag(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+                     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                 Cu2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ised – loss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– gain of e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Question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(g) + ½ O2(g)  H2O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+ or OH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of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idatio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idation number of an atom in an element is zero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g in Mg, O in O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480-4CD7-4B5F-8CB7-C886D2E3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533-11AD-4714-811A-C2D9840E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5D7-2497-4CC3-B3D3-81765C22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6A5-D473-4F01-BBED-D697DB43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FBAA-6D14-460E-946F-8F2E6B415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718E-1472-4EB7-A467-D9D443A8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D87B-5B37-4437-B1D1-FEAB450E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4F0-9903-4D08-8A08-B5F96245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4C11-4BD8-486A-ABD1-C0F55BFB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FCF-52F0-4D88-8467-68CB1194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5FC8-3BF8-4554-826A-5242F40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DBE7-2FD7-4B5A-84B0-906263C1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4C34-4718-4EDF-BD31-4D686F3873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Redox Reaction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03640" y="378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50920" y="2349360"/>
            <a:ext cx="5940360" cy="2664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57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C in C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4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8"/>
          <p:cNvSpPr/>
          <p:nvPr/>
        </p:nvSpPr>
        <p:spPr>
          <a:xfrm>
            <a:off x="2124000" y="4292640"/>
            <a:ext cx="3168720" cy="2205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t the +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3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Mg in MgCl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 compound add up to zero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3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1"/>
          <p:cNvSpPr/>
          <p:nvPr/>
        </p:nvSpPr>
        <p:spPr>
          <a:xfrm>
            <a:off x="179280" y="3645000"/>
            <a:ext cx="3961080" cy="261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O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– 8 = 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 = +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7" name="Text Box 21"/>
          <p:cNvSpPr/>
          <p:nvPr/>
        </p:nvSpPr>
        <p:spPr>
          <a:xfrm>
            <a:off x="179280" y="3645000"/>
            <a:ext cx="396108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S in S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267920"/>
            <a:ext cx="4038480" cy="211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The oxidation numbers of  atoms in an ion add up to the charge on the ion. 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64832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2" name="Text Box 21"/>
          <p:cNvSpPr/>
          <p:nvPr/>
        </p:nvSpPr>
        <p:spPr>
          <a:xfrm>
            <a:off x="179280" y="3645000"/>
            <a:ext cx="3961080" cy="113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state of N in NH</a:t>
            </a:r>
            <a:r>
              <a:rPr b="1" lang="en-GB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2"/>
          <p:cNvSpPr/>
          <p:nvPr/>
        </p:nvSpPr>
        <p:spPr>
          <a:xfrm>
            <a:off x="1187280" y="4869000"/>
            <a:ext cx="2808360" cy="1989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4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7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796000" y="1413000"/>
            <a:ext cx="11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+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1476360" y="1432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58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348000" y="24400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324000" y="2421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95280" y="1413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j0288976"/>
          <p:cNvPicPr/>
          <p:nvPr/>
        </p:nvPicPr>
        <p:blipFill>
          <a:blip r:embed="rId1"/>
          <a:stretch/>
        </p:blipFill>
        <p:spPr>
          <a:xfrm>
            <a:off x="3247920" y="4313160"/>
            <a:ext cx="2260800" cy="14922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15"/>
          <p:cNvSpPr/>
          <p:nvPr/>
        </p:nvSpPr>
        <p:spPr>
          <a:xfrm>
            <a:off x="755640" y="299736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7"/>
          <p:cNvSpPr/>
          <p:nvPr/>
        </p:nvSpPr>
        <p:spPr>
          <a:xfrm>
            <a:off x="-324000" y="3860640"/>
            <a:ext cx="4211640" cy="28101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 –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8"/>
          <p:cNvSpPr/>
          <p:nvPr/>
        </p:nvSpPr>
        <p:spPr>
          <a:xfrm>
            <a:off x="5437080" y="3068640"/>
            <a:ext cx="2664000" cy="1152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9"/>
          <p:cNvSpPr/>
          <p:nvPr/>
        </p:nvSpPr>
        <p:spPr>
          <a:xfrm>
            <a:off x="5329080" y="3716280"/>
            <a:ext cx="4211640" cy="28098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 – de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 oxid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xidation Numbers and na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77770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void any confusion when an element can have several oxidation numbers, the oxidation number is usually mentioned in the compound’s name. 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names like “elementate(X)”, the number refers to “element” and not the associated oxy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 if we look at some examples , we get the following names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Mn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manganate(V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Cl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chlorate(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Cl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sphorus(V) oxydichlorofluor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aH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dium dihydrogenphosphate(I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tassium dichromate(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6948360" y="4005360"/>
            <a:ext cx="2195640" cy="244800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c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any 3 in Question 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4thofjuly-1_e0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6012000"/>
          </a:xfrm>
          <a:prstGeom prst="rect">
            <a:avLst/>
          </a:prstGeom>
          <a:ln w="0">
            <a:noFill/>
          </a:ln>
        </p:spPr>
      </p:pic>
      <p:pic>
        <p:nvPicPr>
          <p:cNvPr id="165" name="Chee1673.wav" descr=""/>
          <p:cNvPicPr/>
          <p:nvPr/>
        </p:nvPicPr>
        <p:blipFill>
          <a:blip r:embed="rId2"/>
          <a:stretch/>
        </p:blipFill>
        <p:spPr>
          <a:xfrm>
            <a:off x="8388360" y="5661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58920" y="1989000"/>
            <a:ext cx="662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ffff"/>
                </a:solidFill>
                <a:latin typeface="Comic Sans MS"/>
              </a:rPr>
              <a:t>Well don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612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4 Experime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urning magne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pper in silver nitrat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hlorine solution and potassium iodide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ploding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250920" y="4221000"/>
            <a:ext cx="8893080" cy="259272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ord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alanced symbol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19280" y="141264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2Mg(s) + O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(g)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2MgO(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j0078709"/>
          <p:cNvPicPr/>
          <p:nvPr/>
        </p:nvPicPr>
        <p:blipFill>
          <a:blip r:embed="rId1">
            <a:grayscl/>
          </a:blip>
          <a:stretch/>
        </p:blipFill>
        <p:spPr>
          <a:xfrm>
            <a:off x="250920" y="1052640"/>
            <a:ext cx="1446120" cy="21524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1116000" y="144360"/>
            <a:ext cx="3456000" cy="1197000"/>
          </a:xfrm>
          <a:prstGeom prst="cloudCallout">
            <a:avLst>
              <a:gd name="adj1" fmla="val -52754"/>
              <a:gd name="adj2" fmla="val 34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gains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354560" y="2565360"/>
            <a:ext cx="309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ust be a redox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1995480" y="328464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Mg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Mg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835280" y="5094360"/>
            <a:ext cx="711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           </a:t>
            </a:r>
            <a:r>
              <a:rPr b="1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GB" sz="4400" spc="-1" strike="noStrike" baseline="30000">
                <a:solidFill>
                  <a:srgbClr val="ffffff"/>
                </a:solidFill>
                <a:latin typeface="Arial"/>
              </a:rPr>
              <a:t>2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0"/>
          <p:cNvSpPr/>
          <p:nvPr/>
        </p:nvSpPr>
        <p:spPr>
          <a:xfrm>
            <a:off x="324000" y="3789360"/>
            <a:ext cx="2663640" cy="2808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ut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/>
          <p:cNvSpPr/>
          <p:nvPr/>
        </p:nvSpPr>
        <p:spPr>
          <a:xfrm>
            <a:off x="7885080" y="357192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2"/>
          <p:cNvSpPr/>
          <p:nvPr/>
        </p:nvSpPr>
        <p:spPr>
          <a:xfrm>
            <a:off x="4356000" y="53006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8"/>
          <p:cNvSpPr/>
          <p:nvPr/>
        </p:nvSpPr>
        <p:spPr>
          <a:xfrm>
            <a:off x="0" y="342900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>
            <a:off x="34920" y="5229360"/>
            <a:ext cx="3419640" cy="863640"/>
          </a:xfrm>
          <a:prstGeom prst="rightArrow">
            <a:avLst>
              <a:gd name="adj1" fmla="val 50000"/>
              <a:gd name="adj2" fmla="val 989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(s) + 2Ag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Cu(NO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(aq) + 2Ag(s)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g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   Ag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914400" y="342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u           </a:t>
            </a:r>
            <a:r>
              <a:rPr b="1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     Cu</a:t>
            </a:r>
            <a:r>
              <a:rPr b="1" lang="en-GB" sz="2800" spc="-1" strike="noStrike" baseline="30000">
                <a:solidFill>
                  <a:srgbClr val="ffffff"/>
                </a:solidFill>
                <a:latin typeface="Arial"/>
              </a:rPr>
              <a:t>2+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j0288976"/>
          <p:cNvPicPr/>
          <p:nvPr/>
        </p:nvPicPr>
        <p:blipFill>
          <a:blip r:embed="rId1"/>
          <a:stretch/>
        </p:blipFill>
        <p:spPr>
          <a:xfrm>
            <a:off x="5148360" y="1628640"/>
            <a:ext cx="2260440" cy="14925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8"/>
          <p:cNvSpPr/>
          <p:nvPr/>
        </p:nvSpPr>
        <p:spPr>
          <a:xfrm>
            <a:off x="1042920" y="1413000"/>
            <a:ext cx="3529080" cy="107928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lete the half-e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068720" y="530064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6877080" y="378936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+2e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1116000" y="1484280"/>
            <a:ext cx="3529080" cy="1079640"/>
          </a:xfrm>
          <a:prstGeom prst="wedgeRoundRectCallout">
            <a:avLst>
              <a:gd name="adj1" fmla="val 78162"/>
              <a:gd name="adj2" fmla="val 113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xidi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duc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79280" y="3645000"/>
            <a:ext cx="3168720" cy="863640"/>
          </a:xfrm>
          <a:prstGeom prst="rightArrow">
            <a:avLst>
              <a:gd name="adj1" fmla="val 50000"/>
              <a:gd name="adj2" fmla="val 917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xidised – loss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179280" y="5084640"/>
            <a:ext cx="3059280" cy="863640"/>
          </a:xfrm>
          <a:prstGeom prst="rightArrow">
            <a:avLst>
              <a:gd name="adj1" fmla="val 50000"/>
              <a:gd name="adj2" fmla="val 885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duced – gain of e</a:t>
            </a:r>
            <a:r>
              <a:rPr b="1" lang="en-GB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Try Question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 + ½ O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(g)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4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(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j0078721"/>
          <p:cNvPicPr/>
          <p:nvPr/>
        </p:nvPicPr>
        <p:blipFill>
          <a:blip r:embed="rId1"/>
          <a:stretch/>
        </p:blipFill>
        <p:spPr>
          <a:xfrm flipH="1">
            <a:off x="468360" y="1628640"/>
            <a:ext cx="968400" cy="3934080"/>
          </a:xfrm>
          <a:prstGeom prst="rect">
            <a:avLst/>
          </a:prstGeom>
          <a:ln w="0">
            <a:noFill/>
          </a:ln>
        </p:spPr>
      </p:pic>
      <p:sp>
        <p:nvSpPr>
          <p:cNvPr id="84" name="AutoShape 6"/>
          <p:cNvSpPr/>
          <p:nvPr/>
        </p:nvSpPr>
        <p:spPr>
          <a:xfrm>
            <a:off x="5292720" y="141300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valen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5292720" y="3573360"/>
            <a:ext cx="385128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 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r O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403280" y="3068640"/>
            <a:ext cx="4498920" cy="2592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ed a n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GC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250920" y="1484280"/>
            <a:ext cx="4140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Oxida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572000" y="1484280"/>
            <a:ext cx="439272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 u="sng">
                <a:solidFill>
                  <a:srgbClr val="ffffff"/>
                </a:solidFill>
                <a:uFillTx/>
                <a:latin typeface="Arial"/>
              </a:rPr>
              <a:t>Reduction</a:t>
            </a: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Loss of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Gain of elec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4572000" y="1557360"/>
            <a:ext cx="0" cy="5157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0" y="407664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105440" y="4149720"/>
            <a:ext cx="4859280" cy="2781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creas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xid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Oxidation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oxidation number of an atom in an element is zero. 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.g. Mg in Mg, O in O</a:t>
            </a:r>
            <a:r>
              <a:rPr b="1" lang="en-GB" sz="3200" spc="-1" strike="noStrike" baseline="-25000">
                <a:solidFill>
                  <a:srgbClr val="ffffff"/>
                </a:solidFill>
                <a:latin typeface="Arial"/>
              </a:rPr>
              <a:t>2.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22:41:51Z</dcterms:created>
  <dc:creator>Administrator</dc:creator>
  <dc:description/>
  <dc:language>en-US</dc:language>
  <cp:lastModifiedBy>RomaK</cp:lastModifiedBy>
  <dcterms:modified xsi:type="dcterms:W3CDTF">2015-09-02T06:01:26Z</dcterms:modified>
  <cp:revision>14</cp:revision>
  <dc:subject/>
  <dc:title>Redox Reactions.</dc:title>
</cp:coreProperties>
</file>