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whoosh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4A4-5B91-4D23-9626-F47FD1FB5D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68A-77EA-48E5-8AFA-0E337253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508-86C9-4C10-B1F7-20F648A7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39B-D3BF-47F7-A8B6-0A5718B6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C18-D5DA-4D18-976F-B3A05EA3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75C5-DF67-4D5E-9BB3-0D1FEB6A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971A-3DF1-41FF-B411-0C85A6F3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DFD4-C4A2-49C0-83D2-2A4E1CB1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823E-983F-43DE-83A4-F3F7550C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908B-ED9F-4CA8-9F19-C4BBDC8A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7AF4-732D-41A4-8EBE-C63F6A97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7D7C-59FD-423F-9897-209629B0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080-C857-4B85-91DE-35963DD4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B2E5-2765-4B21-ADD0-7F11060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BFD5-6DD5-4266-B29D-1CCE2BCB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23D0-99B8-47A8-B6E5-71AC64F3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E2EB-C6EF-4C9B-91B8-A5EDB2E9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0E24-4769-43BA-8D95-333A71C6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8AB-0BFB-4FFB-91CC-7E40DE86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963-5F2E-4D4F-975C-2FCB740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D35-51AC-44CF-BD8D-15193398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15B-5156-4406-B818-99965658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504-4F7D-4C68-A2AC-59B02F6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9D0-4E0C-4BAB-8670-562BA604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390-B6FC-4FF6-90DD-9C50226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02FA-E9F8-4B21-8C71-4B21CED04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A176-525F-466C-8A9C-D7D1B841F9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actions and Equations La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s A, B, &amp;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pring 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th Shadr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mistry 10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685800" y="263052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the word equations by predicting the products, use the information you gathered by observation to help in th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to include the state of the substance for the reactants and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equations for th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may go finish Part D of the lab instructions.  You will need the solubility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AG00567_"/>
          <p:cNvPicPr/>
          <p:nvPr/>
        </p:nvPicPr>
        <p:blipFill>
          <a:blip r:embed="rId3"/>
          <a:stretch/>
        </p:blipFill>
        <p:spPr>
          <a:xfrm>
            <a:off x="4687920" y="1981080"/>
            <a:ext cx="37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serve 7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dentify and write formulas for the reactants and products of tho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alance the equations for th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Mg ribbon is ash-lik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Litmus test indicates a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Solid turns white, steam comes from t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Solid turns blue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1 Fe nai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in Cu a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olution ha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d from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 color to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ce157"/>
                </a:solidFill>
                <a:latin typeface="Comic Sans MS"/>
              </a:rPr>
              <a:t>greenis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MVC-002S"/>
          <p:cNvPicPr/>
          <p:nvPr/>
        </p:nvPicPr>
        <p:blipFill>
          <a:blip r:embed="rId1"/>
          <a:srcRect l="22004" t="0" r="10004" b="0"/>
          <a:stretch/>
        </p:blipFill>
        <p:spPr>
          <a:xfrm>
            <a:off x="5410080" y="19051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2 Cu meta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with Ag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the solu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beginning to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on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ghtly </a:t>
            </a:r>
            <a:r>
              <a:rPr b="0" lang="en-US" sz="2800" spc="-1" strike="noStrike">
                <a:solidFill>
                  <a:srgbClr val="2663a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MVC-003S"/>
          <p:cNvPicPr/>
          <p:nvPr/>
        </p:nvPicPr>
        <p:blipFill>
          <a:blip r:embed="rId2"/>
          <a:srcRect l="18000" t="0" r="12000" b="9094"/>
          <a:stretch/>
        </p:blipFill>
        <p:spPr>
          <a:xfrm>
            <a:off x="4648320" y="20574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MVC-006S"/>
          <p:cNvPicPr/>
          <p:nvPr/>
        </p:nvPicPr>
        <p:blipFill>
          <a:blip r:embed="rId1"/>
          <a:srcRect l="39024" t="8906" r="14752" b="0"/>
          <a:stretch/>
        </p:blipFill>
        <p:spPr>
          <a:xfrm>
            <a:off x="5014800" y="1905120"/>
            <a:ext cx="3227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1: Magnesium plus oxygen yield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2: A1 product plus water yield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1: Copper (II) Sulfate Pentahydrate is heated to yield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2 Anhydrous Copper (II) Sulfate plus water yields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1  Iron plus Copper (II) Sulf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2  Copper plus Silver Nitr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3  Magnesium plus Hydrochloric Acid yields…  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5:17:32Z</dcterms:created>
  <dc:creator>Graves County High School</dc:creator>
  <dc:description/>
  <dc:language>en-US</dc:language>
  <cp:lastModifiedBy>RomaK</cp:lastModifiedBy>
  <dcterms:modified xsi:type="dcterms:W3CDTF">2015-09-02T06:01:30Z</dcterms:modified>
  <cp:revision>11</cp:revision>
  <dc:subject/>
  <dc:title>Reactions and Equations Spring 2003</dc:title>
</cp:coreProperties>
</file>